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AD33-428B-4813-8464-B045E4CF0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BCDD-705E-4AA3-A3DA-570279D67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B9BB-4900-479E-A3AE-AF43D9C84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71F1-B6E0-4817-AF90-7E508EDD7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BEE2-FA17-4B30-8897-C52AAE660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7C3E-F454-4419-ACC7-E3EE605DE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5619-E082-4D14-8365-44BBA5E69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8D0B-6CF2-47F3-AA20-7F3498EBC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710C-1573-4311-BFB4-1D1B63661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2076-90BD-4AA1-BEF6-1A8AF74F9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833C-3991-4972-9892-94F069E19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9CD0-C2B3-4055-90AD-FE0DE812C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C76BE-2384-44CD-99E7-75F2CCA642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Эталонная модель доступа к объекту содерж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труктура пак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71640" y="1519200"/>
            <a:ext cx="708660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Файл манифе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lt;manifest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organizations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&lt;organization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item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item identifierref=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RES_1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gt;…&lt;/item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item&gt; … &lt;/item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item&gt; … &lt;/item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/item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&lt;/organization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/organizations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resources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&lt;resource identifier=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RES_1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type=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webcontent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dlcp:scormType=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sco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"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ref="Lesson1/Module1/sco1.htm"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&gt; … &lt;/resource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/resources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&lt;/manifest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реда выполн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26920" y="1413000"/>
            <a:ext cx="7445520" cy="50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нтерфейс прикладных програм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895400" y="1484280"/>
            <a:ext cx="5353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ерево деятель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373040" y="1500120"/>
            <a:ext cx="651204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Учебная деятель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067200" y="1809720"/>
            <a:ext cx="300960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Управление навигаци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247760" y="1176480"/>
            <a:ext cx="6648480" cy="45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Управление навигаци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300320" y="1581120"/>
            <a:ext cx="654336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сходные материалы (http://www.adlnet.gov/Scorm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кет документ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мер среды выпол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имеры паке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реда выполн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187280" y="1341360"/>
            <a:ext cx="6840720" cy="50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нициатива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D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ициатив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vanced Distributed Learn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оздана для объединения усилий высших учебных заведений и коммерческих предприятий по созданию стандартов в сфере дистанционного обуч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ндарт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OR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arable Content Object Reference Mode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определяет структуру учебных материалов и интерфейс среды выполн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озможности стандар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ступность: способность определять местонахождение и получить доступ к учебным компонентам из точки удаленного доступа и поставить их многим другим точкам удаленного доступ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даптируемость: способность адаптировать учебную программу согласно индивидуальным потребностям и потребностям организац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ффективность: способность увеличивать эффективность и производительность, сокращая время и затраты на доставку инструк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лговечность: способность соответствовать новым технологиям без дополнительной и дорогостоящей доработ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роперабильность: способность использовать учебные материалы вне зависимости от платформы, на которой они созда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можность многократного использования: способность использовать материалы в разных приложениях и контекст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азделы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CORM 200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 Aggregation Model (CA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-Time Environment (R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quencing and Navigation (SN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азделы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CORM 200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6200" y="1639800"/>
            <a:ext cx="8929800" cy="44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earning Management Systems (LMS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6600" y="1746360"/>
            <a:ext cx="896940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ss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12920" y="1484280"/>
            <a:ext cx="48070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harable Content Object (SCO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8748720" cy="42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бъединение содерж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041480" y="1739880"/>
            <a:ext cx="691524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9T00:21:57Z</dcterms:created>
  <dc:creator>Owner</dc:creator>
  <dc:description/>
  <dc:language>en-US</dc:language>
  <cp:lastModifiedBy>lav</cp:lastModifiedBy>
  <dcterms:modified xsi:type="dcterms:W3CDTF">2007-04-16T05:23:55Z</dcterms:modified>
  <cp:revision>50</cp:revision>
  <dc:subject/>
  <dc:title>Структура электронных образовательных ресурсов</dc:title>
</cp:coreProperties>
</file>