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6BE8-EC03-45EB-9CC6-3EB57AFC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8041-CFB3-44C0-80FC-5003C612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4D57-08FF-4569-B485-D11B11542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5249-9006-4B5E-BBE6-D8E1F04D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BA3-AC9F-4929-A784-9E547BEE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1B9-C36B-43E6-A97D-F97B5422B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69D0-B609-4CFF-A6AB-8EB32617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441B-015F-40E9-8BDE-EB5A81D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4254-AECD-4724-B4E0-D3FFAAAE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E1BD-9738-4030-A88B-42FB3EF0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567-6D1A-43C3-8847-8EB619B0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6EEE-70DD-40C5-9046-A70E391C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D2F0-9EC1-4820-8455-D452856F3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учебно-методический комплек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мпоненты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бы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ициализация моду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вершение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сло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запусков сценария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ичество времени, прошедшее с момента начала обуч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редыдущих попыт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цент набранных баллов по результатам последней попыт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чение переменной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менение значения переменной кур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ход в новое со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пуск сцен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492360" y="2003400"/>
          <a:ext cx="185112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2003400"/>
                    <a:ext cx="185112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16000" y="2419200"/>
          <a:ext cx="87487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2419200"/>
                    <a:ext cx="87487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619280" y="1359000"/>
          <a:ext cx="5905440" cy="50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359000"/>
                    <a:ext cx="59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личество состоя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оват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ллельное прохождени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ттестаций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сценарие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й ресур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конспек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уровни изложения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формационные страницы и кад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активные мультимедиа элемен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менты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поиска информ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стема составления глосса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формационн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зентации к лекц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е копии печатных из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мпьютерные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е те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формы тестовых зад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личные виды сценариев диалог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ртуальная лаборатор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имитационного модел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граммные средства проверки результатов работы сту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ппаратные средства центров удаленного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й комплекс (УМК) – это совокупность учебно-методических материалов, необходимых и достаточных для организации учебного процесса по дисциплине и способствующих эффективному освоению студентами учебного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лектронный практик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практически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к лабораторным занят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я на курсовую рабо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авила формирования оценки за сценар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63640" y="1719360"/>
          <a:ext cx="5643720" cy="41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719360"/>
                    <a:ext cx="5643720" cy="41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остав электронного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чая программа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аптивные обучающие диало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ртуальные лаборатории и тренаж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оретические и справочны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одические пособия и рекоменд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ы элементов УМ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консп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ая энциклопед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туальная лаборатор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те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лектронный практику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электронного УМ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332000" y="1312920"/>
          <a:ext cx="6480000" cy="50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12920"/>
                    <a:ext cx="648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омпон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таданн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главление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рево переменных кур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исок возможных состоя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имер оглавления курс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1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1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ма №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учите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циклопед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троль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ID=2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ID=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рево переменных 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28800" y="1992240"/>
          <a:ext cx="7232400" cy="309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1992240"/>
                    <a:ext cx="7232400" cy="30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нятие состоя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яние в курсе характеризует текущий результат обучения и позволяет определить список доступных обучающемуся сценариев, а также правила изменения переменных курса в зависимости о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процента набранных балл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затраченног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количества использованных попыт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44:48Z</dcterms:modified>
  <cp:revision>26</cp:revision>
  <dc:subject/>
  <dc:title>Структура электронных образовательных ресурсов</dc:title>
</cp:coreProperties>
</file>