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910-74F8-4A74-9A3B-95548C45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B389-09E4-4EAB-9CEA-E1098697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BAF9-67C4-4A2C-A563-4E5E14B8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97F-37FC-4CD3-820F-E09B0A51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A9F-3EBF-4953-86B5-8066AD98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54D1-6FE8-42BB-ABBD-2E7ACFA4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6AE2-2E4B-47D8-BAA2-03670100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EC4-E658-4720-A547-52E7DF7D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08D-C479-442F-805F-272A5BA2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D40-86FD-408C-8881-D501D38C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2826-266F-458E-892B-358254D7A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3398-8A18-4B44-9BBA-B7FDBD6B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6526-243D-4D9E-9A83-C2CF83790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частники процесса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95440" y="1633680"/>
          <a:ext cx="6151680" cy="445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1633680"/>
                    <a:ext cx="615168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группы пользователей систе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учающий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ью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дминистрат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классы сущностей БД ИО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ы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о-методические матери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уппы пользователей и их 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истическа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спределение пра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группам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признаку владения объек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сновные модули систем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учение и  аттест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ое общ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лектронный журн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сис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УМ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дминистрирование учебного проце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иды отчето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рав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ат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нитор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ы обуч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ланирование, организация и сопровождение учебного процесса в систем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87440"/>
            <a:ext cx="8229600" cy="41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базы данных учебно-методически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ормирование учебных пла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начение обучающихся и тьюторов на учебные пл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едение обучения и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ксация результатов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Общие треб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ультимедийнос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а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н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ультимедий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льтимедиа обеспечивает реалистичное представление изучаемых объек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нтерак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актив дает возможность оказывать воздействия на изучаемые объекты и получать ответные реак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оделин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нг реализует реакции, характерные для изучаемых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ммуникатив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муникативность – возможность непосредственного общения, оперативность представления информации, удаленный контроль состояния объекта исследов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изводитель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изводительность – повышение эффективности учебной деятельности благодаря автоматизации нетворческих, рутинных операци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ппаратная 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92360" y="1413000"/>
          <a:ext cx="5603760" cy="47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13000"/>
                    <a:ext cx="5603760" cy="47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руктура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бразовательного процес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учение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ование навы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нтроль успеваем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00:21:57Z</dcterms:created>
  <dc:creator>Owner</dc:creator>
  <dc:description/>
  <dc:language>en-US</dc:language>
  <cp:lastModifiedBy>support</cp:lastModifiedBy>
  <dcterms:modified xsi:type="dcterms:W3CDTF">2008-03-31T09:20:47Z</dcterms:modified>
  <cp:revision>14</cp:revision>
  <dc:subject/>
  <dc:title>Структура электронных образовательных ресурсов</dc:title>
</cp:coreProperties>
</file>