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F045-312A-444C-8E5B-A94758F5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1C8-9D9C-4FA3-8644-CF8EDD0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837E-A329-47B8-B541-5AFE1D965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A84D-0163-4629-B722-CE8FD96B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12E-AD9D-4D9B-A9ED-04E93AF4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DF7-78B0-4025-BC06-F3EC6982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45BE-91A7-460A-A3D4-45D4E55F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FFDB-5BAB-48EC-AEA0-F9B2261A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A7D-3867-4E99-A825-D3A7718B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0F6-6A0E-45A0-817F-F8933FBA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3E4-36C3-4142-8C12-E7057749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A594-ED66-426B-924A-FF7D9240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9C63-9B80-4802-8688-4DBA703FE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ые 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тр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го обучени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нтр дистанционного обучения (ЦДО) - отдельное подразделение, представительство или филиал учреждения системы ДО, осуществляющее административную, учебно-методическую, информационную и техническую поддержку образовательного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-образовательная среда системы ДО (ИОС СДО) – согласованная совокупность учебных материалов, средств их разработки, хранения, передачи и доступа к ним,   используемая в дистанционных технологиях обучени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ноним: система управления обу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анционное обучение (ДО) – обучение, при котором все или большая часть учебных процедур осуществляется с использованием современных информационных и телекоммуникационных технологий при территориальной разобщенности преподавателя и студент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л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дивидуализ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нсификация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ивизация аттест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ое 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ое образование – образование, реализуемое посредством  дистанционного обу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истанционная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ехнология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танционная технология обучения - совокупность методов и средств обучения и администрирования учебных процедур, обеспечивающих проведение учебного процесса на расстоянии на основе использования современных    информационных и телекоммуникационных технолог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хнологии обу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ейс-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В-технолог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етев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бинированная 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98480" y="1809720"/>
          <a:ext cx="754704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8480" y="1809720"/>
                    <a:ext cx="754704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истема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разовательная система, обеспечивающая получение образования  с помощью дистанционных технологий обучения. Включает в себя: кадровый состав администрации и технических специалистов, профессорско-преподавательский состав, учебные материалы и продукты, методики обучения и средства доставки знаний обучающимся, объединенные организационно, методически и технически с целью проведения дистанционного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Учреждение системы ДО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реждение системы ДО - образовательное учреждение  или объединение образовательных учреждений, обеспечивающее функционирование системы Д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4T21:43:22Z</dcterms:created>
  <dc:creator>Owner</dc:creator>
  <dc:description/>
  <dc:language>en-US</dc:language>
  <cp:lastModifiedBy>Owner</cp:lastModifiedBy>
  <dcterms:modified xsi:type="dcterms:W3CDTF">2008-03-31T01:59:14Z</dcterms:modified>
  <cp:revision>14</cp:revision>
  <dc:subject/>
  <dc:title>Дистанционные технологии обучения</dc:title>
</cp:coreProperties>
</file>