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C2E5-7DB3-4905-896F-3B5EC5A46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3AE2-8BAB-4E88-82EB-5AC89F4C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EB98-691A-4F3A-BF78-AA3E2FA81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7118-B8B3-4168-ADF6-84A909768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311E-C63D-44A7-AA56-D1FC6BDEC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5D29-71FF-404B-BF23-9FA2C981E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A3FD-6E96-42B8-BB79-8F7B56538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0B73-F55A-4A54-B95A-AABDBD278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C02E-FBA3-4851-B362-A43EF628E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FD3E-81AD-4B3C-8DEB-0E6E3D2D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87B4-32A3-4DDE-963B-4A01F6C2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9A46-CACA-4118-BE80-A34A8EE8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0A528-A246-4FF3-9F0B-931C342D1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Эталонная модель доступа к объекту содерж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труктура пак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71640" y="1519200"/>
            <a:ext cx="708660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Файл манифе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lt;manifest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organizations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&lt;organization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item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item identifierref=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RES_1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gt;…&lt;/item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item&gt; … &lt;/item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item&gt; … &lt;/item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/item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&lt;/organization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/organizations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resources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&lt;resource identifier=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RES_1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type=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webcontent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dlcp:scormType=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sco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ref="Lesson1/Module1/sco1.htm"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&gt; … &lt;/resource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/resources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lt;/manifest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реда выпол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744552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нтерфейс прикладных програм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895400" y="1484280"/>
            <a:ext cx="5353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ерево деятель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373040" y="1500120"/>
            <a:ext cx="651204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Учебная деяте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67200" y="1809720"/>
            <a:ext cx="30096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Управление навигаци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247760" y="1176480"/>
            <a:ext cx="6648480" cy="45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Управление навигаци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300320" y="1581120"/>
            <a:ext cx="654336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сходные материалы (http://www.adlnet.gov/Scor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кет документ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мер среды выпол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меры паке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реда выпол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187280" y="1341360"/>
            <a:ext cx="684072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нициатива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D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ициатив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anced Distributed Lear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оздана для объединения усилий высших учебных заведений и коммерческих предприятий по созданию стандартов в сфере дистанционного обуч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ндарт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O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arable Content Object Reference Mode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определяет структуру учебных материалов и интерфейс среды выпол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озможности стандар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ступность: способность определять местонахождение и получить доступ к учебным компонентам из точки удаленного доступа и поставить их многим другим точкам удаленного доступ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аптируемость: способность адаптировать учебную программу согласно индивидуальным потребностям и потребностям организа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ффективность: способность увеличивать эффективность и производительность, сокращая время и затраты на доставку инструк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лговечность: способность соответствовать новым технологиям без дополнительной и дорогостоящей дорабо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роперабильность: способность использовать учебные материалы вне зависимости от платформы, на которой они созд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ость многократного использования: способность использовать материалы в разных приложениях и контекст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азделы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CORM 200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 Aggregation Model (CA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-Time Environment (R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quencing and Navigation (S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азделы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CORM 200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6200" y="1639800"/>
            <a:ext cx="8929800" cy="44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earning Management Systems (LMS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6600" y="1746360"/>
            <a:ext cx="896940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s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12920" y="1484280"/>
            <a:ext cx="48070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harable Content Object (SCO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8748720" cy="42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бъединение содерж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041480" y="1739880"/>
            <a:ext cx="691524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9T00:21:57Z</dcterms:created>
  <dc:creator>Owner</dc:creator>
  <dc:description/>
  <dc:language>en-US</dc:language>
  <cp:lastModifiedBy>lav</cp:lastModifiedBy>
  <dcterms:modified xsi:type="dcterms:W3CDTF">2007-04-16T05:23:55Z</dcterms:modified>
  <cp:revision>50</cp:revision>
  <dc:subject/>
  <dc:title>Структура электронных образовательных ресурсов</dc:title>
</cp:coreProperties>
</file>