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C02A-645D-42EA-8FDE-891E2F19B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47AB-4BF6-496C-BB42-E3FCF68F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F4EB-2E88-44DB-BD94-632965766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661C-3B66-492B-8AF6-EA19B0813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8136-8D70-40F6-8F32-DA446E81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4CEC-B1B6-49EC-8443-8B3B58F8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92D5-FCB3-4DD7-BBF3-D0C1EF8B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3C05-DC0E-4105-8F9C-A44B5467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F374-4158-481C-B0E3-790515FC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5B7B-1CD1-4A34-8D22-31ED3DB7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0CC6-C36B-4679-9D88-F5398FA5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9F59-99AB-4333-90EC-1141FB69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76EA-1930-4F0A-8A4A-FEB1F66BC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лектронный учебно-методический комплек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мпоненты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бы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ициализация моду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вершение сцена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сло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ичество запусков сценария с момента начала обу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ичество времени, прошедшее с момента начала обу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цент набранных баллов по результатам предыдущих попыт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цент набранных баллов по результатам последней попыт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чение переменной кур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йст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ение значения переменной кур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ход в новое состоя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уск сцена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492360" y="2003400"/>
          <a:ext cx="1851120" cy="32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003400"/>
                    <a:ext cx="1851120" cy="32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16000" y="2419200"/>
          <a:ext cx="8748720" cy="20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2419200"/>
                    <a:ext cx="8748720" cy="20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619280" y="1359000"/>
          <a:ext cx="5905440" cy="50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359000"/>
                    <a:ext cx="590544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личество состоя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довательное прохождени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ттестаций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ллельное прохождени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ттестаций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иды сценарие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нный консп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формационный ресур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нный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ртуальная лабора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нный практику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лектронные конспе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личные уровни изложения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формационные страницы и кад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терактивные мультимедиа элемен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менты имитационного моделир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стема поиска информ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стема составления глосс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нформационн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зентации к лекци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нные копии печатных из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ьютерные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лектронные тес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личные формы тестовых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личные виды сценариев диалог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иртуальная лаборато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ные средства имитационного моделир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ные средства проверки результатов работы студ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ппаратные средства центров удаленного досту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чебно-методический комплек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бно-методический комплекс (УМК) – это совокупность учебно-методических материалов, необходимых и достаточных для организации учебного процесса по дисциплине и способствующих эффективному освоению студентами учебного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лектронный практик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ния к практическим заняти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ния к лабораторным заняти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ния на курсовую работ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авила формирования оценки за сценар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763640" y="1719360"/>
          <a:ext cx="5643720" cy="41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719360"/>
                    <a:ext cx="5643720" cy="41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став электронного УМ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чая программа дисципл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даптивные обучающие диал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трольно-измерительные матери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ртуальные лаборатории и тренаж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оретические и справочные матери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одические пособия и рекоменд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ы элементов УМ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ый консп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ый тью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ая энциклопед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ртуальная лаборатор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ый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ый практику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руктура электронного УМ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332000" y="1312920"/>
          <a:ext cx="6480000" cy="50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312920"/>
                    <a:ext cx="6480000" cy="50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новные компон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адан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главление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рево переменных кур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исок возможных состоя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 оглавления курс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№1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ID=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учитель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ID=1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нциклопед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ID=1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ID=1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№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ID=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учитель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ID=2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нциклопед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ID=2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ID=2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ID=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ерево переменных кур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28800" y="1992240"/>
          <a:ext cx="7232400" cy="30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1992240"/>
                    <a:ext cx="7232400" cy="30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нятие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ояние в курсе характеризует текущий результат обучения и позволяет определить список доступных обучающемуся сценариев, а также правила изменения переменных курса в зависимости о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процента набранных балл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затраченного време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количества использованных попыт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00:21:57Z</dcterms:created>
  <dc:creator>Owner</dc:creator>
  <dc:description/>
  <dc:language>en-US</dc:language>
  <cp:lastModifiedBy>support</cp:lastModifiedBy>
  <dcterms:modified xsi:type="dcterms:W3CDTF">2008-03-31T09:44:48Z</dcterms:modified>
  <cp:revision>26</cp:revision>
  <dc:subject/>
  <dc:title>Структура электронных образовательных ресурсов</dc:title>
</cp:coreProperties>
</file>