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4FA-C8B6-4DEC-9B51-E0CDC4B9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CA5-D42A-4B77-9C17-AA1C5897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338-0347-44CD-82C0-23613E11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450-7B5E-4FBC-B11A-52F93C90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862-9C42-4066-92AD-5D2A2521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956-8CCF-4E59-A1FA-F8C07F9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1B0-3692-42AC-9E9E-FD37A74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7FF-EFE2-4A06-9871-8800B4FD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16C-ACA2-4ABD-80D8-577F639A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D99-CA20-46E5-AC64-497360C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E04-4A30-405B-9DDE-028E373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EF3-7453-4D0E-B1A1-87B14C9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8B16-76EA-4478-BAF3-14BBFBA5A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астники процесса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5440" y="1633680"/>
          <a:ext cx="61516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633680"/>
                    <a:ext cx="61516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группы пользователей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лассы сущностей БД И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пользователей и их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спределение пр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руппам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знаку владения объек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модули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и  аттес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чеб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че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, организация и сопровождение учебного процесса в сис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зы данных учебно-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чебных пл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обучающихся и тьюторов на 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обучения и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ация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щ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имеди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льтимедиа обеспечивает реалистичное представление изучаем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 дает возможность оказывать воздействия на изучаемые объекты и получать ответные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реализует реакции, характерные для изучаем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 – возможность непосредственного общения, оперативность представления информации, удаленный контроль состояния объекта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– повышение эффективности учебной деятельности благодаря автоматизации нетворческих, рутинных опер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ппара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413000"/>
          <a:ext cx="5603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5603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усп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20:47Z</dcterms:modified>
  <cp:revision>14</cp:revision>
  <dc:subject/>
  <dc:title>Структура электронных образовательных ресурсов</dc:title>
</cp:coreProperties>
</file>