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93A-E2B2-4BEA-98EB-78BAE438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F68-739F-433E-BC30-F3226180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BD9-22D1-476A-8F2E-72488DDB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37C-D2B6-44B5-BAE5-9768F9DB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F3E-7B00-416D-9C2A-048C7340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044-8B75-421D-9080-7E0FF002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0E4-D74A-4DC3-A04E-82356C59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46D8-D193-46B6-B78F-530B3FFD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AA8-9D68-4162-B393-B46D6155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B78-34E1-46A0-9670-2BDC82D6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C15-3BD4-425F-BA90-38ABFA1B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2F0-2A38-4A15-906B-40552157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1A02-8588-4BC1-B872-1DE114843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станционные технологии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нтр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ого обуч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 дистанционного обучения (ЦДО) - отдельное подразделение, представительство или филиал учреждения системы ДО, осуществляющее административную, учебно-методическую, информационную и техническую поддержку образовательного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 (ИОС СДО) – согласованная совокупность учебных материалов, средств их разработки, хранения, передачи и доступа к ним,   используемая в дистанционных технологиях обучения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оним: система управления обу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станцион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танционное обучение (ДО) – обучение, при котором все или большая часть учебных процедур осуществляется с использованием современных информационных и телекоммуникационных технологий при территориальной разобщенности преподавателя и студ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видуализация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нсификация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ктивизация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ое 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танционное образование – образование, реализуемое посредством  дистанционного обу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ая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хнология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танционная технология обучения - совокупность методов и средств обучения и администрирования учебных процедур, обеспечивающих проведение учебного процесса на расстоянии на основе использования современных    информационных и телекоммуникационных технолог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хнологии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ейс-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-технолог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ая 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мбинированная 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98480" y="1809720"/>
          <a:ext cx="75470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1809720"/>
                    <a:ext cx="75470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стема Д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тельная система, обеспечивающая получение образования  с помощью дистанционных технологий обучения. Включает в себя: кадровый состав администрации и технических специалистов, профессорско-преподавательский состав, учебные материалы и продукты, методики обучения и средства доставки знаний обучающимся, объединенные организационно, методически и технически с целью проведения дистанционного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реждение системы Д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реждение системы ДО - образовательное учреждение  или объединение образовательных учреждений, обеспечивающее функционирование системы 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1:43:22Z</dcterms:created>
  <dc:creator>Owner</dc:creator>
  <dc:description/>
  <dc:language>en-US</dc:language>
  <cp:lastModifiedBy>Owner</cp:lastModifiedBy>
  <dcterms:modified xsi:type="dcterms:W3CDTF">2008-03-31T01:59:14Z</dcterms:modified>
  <cp:revision>14</cp:revision>
  <dc:subject/>
  <dc:title>Дистанционные технологии обучения</dc:title>
</cp:coreProperties>
</file>