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5503-4549-440D-89C5-707A98B03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D545-C50F-40D7-82AB-BDAE9358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C437-EAB0-475F-9926-54ED18A6D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B2FE-5954-4922-9D87-DE3423704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36F0-53DD-4031-91FB-4C6ECA68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C65E-B9F0-43DB-A6E1-26CF3B90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3A5C-0601-470E-AE31-7C8DD821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5922-5101-4EFC-A12C-90EE6F5F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326C-C321-4FCB-8AC4-95D3C2ED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17F9-1396-413C-810D-E961F141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FAA5-7A9A-4B15-B089-610D2BE6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B7DE-F9F2-406C-833B-5B446214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C998-070B-4456-9765-36E938C56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истанционные технологии обу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Центр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истанционного обуч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нтр дистанционного обучения (ЦДО) - отдельное подразделение, представительство или филиал учреждения системы ДО, осуществляющее административную, учебно-методическую, информационную и техническую поддержку образовательного процес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нформационно-образовательная среда системы Д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о-образовательная среда системы ДО (ИОС СДО) – согласованная совокупность учебных материалов, средств их разработки, хранения, передачи и доступа к ним,   используемая в дистанционных технологиях обучения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оним: система управления обуч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истанционное обу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станционное обучение (ДО) – обучение, при котором все или большая часть учебных процедур осуществляется с использованием современных информационных и телекоммуникационных технологий при территориальной разобщенности преподавателя и студен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Цел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дивидуализация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тенсификация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ективизация аттес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истанционное образ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танционное образование – образование, реализуемое посредством  дистанционного обуч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истанционная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ехнология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танционная технология обучения - совокупность методов и средств обучения и администрирования учебных процедур, обеспечивающих проведение учебного процесса на расстоянии на основе использования современных    информационных и телекоммуникационных технолог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хнологии обу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ейс-техн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В-технолог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тевая техн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мбинированная техноло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98480" y="1809720"/>
          <a:ext cx="754704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480" y="1809720"/>
                    <a:ext cx="754704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истема Д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овательная система, обеспечивающая получение образования  с помощью дистанционных технологий обучения. Включает в себя: кадровый состав администрации и технических специалистов, профессорско-преподавательский состав, учебные материалы и продукты, методики обучения и средства доставки знаний обучающимся, объединенные организационно, методически и технически с целью проведения дистанционного обуч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чреждение системы Д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реждение системы ДО - образовательное учреждение  или объединение образовательных учреждений, обеспечивающее функционирование системы Д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21:43:22Z</dcterms:created>
  <dc:creator>Owner</dc:creator>
  <dc:description/>
  <dc:language>en-US</dc:language>
  <cp:lastModifiedBy>Owner</cp:lastModifiedBy>
  <dcterms:modified xsi:type="dcterms:W3CDTF">2008-03-31T01:59:14Z</dcterms:modified>
  <cp:revision>14</cp:revision>
  <dc:subject/>
  <dc:title>Дистанционные технологии обучения</dc:title>
</cp:coreProperties>
</file>