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F9BB-6419-45E8-B348-A182FCE84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EE03-261F-4471-BFDB-54294091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5273-F0CD-44B2-B038-C77C08C59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FA62-ADDD-4DA5-BAF8-C9CB59D6A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E40B-98D9-4AA1-8F8F-2FD7CFA1F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C57C-4C76-443C-B1C6-73A3F43C6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2C32-FB3D-49AA-AA5C-6E32BA525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BA92-2ABA-4A40-93DB-EF39C9836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9ED9-9ABE-4157-9A69-3AD748567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1B04-24C6-412C-BCC3-215842EF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2E04-16CD-422D-85C1-55A23A8E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1E10-41E6-43AC-AC40-A9B957FF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A6BAE-C844-4895-A6D5-02F3F11FD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лектронный учебно-методический комплекс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омпоненты состоя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бы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ициализация моду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вершение сценар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слов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личество запусков сценария с момента начала обуч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личество времени, прошедшее с момента начала обуч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цент набранных баллов по результатам предыдущих попыт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цент набранных баллов по результатам последней попыт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начение переменной кур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йств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менение значения переменной кур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еход в новое состоя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пуск сценар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имер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492360" y="2003400"/>
          <a:ext cx="1851120" cy="322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2003400"/>
                    <a:ext cx="1851120" cy="32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имер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16000" y="2419200"/>
          <a:ext cx="8748720" cy="201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2419200"/>
                    <a:ext cx="8748720" cy="20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имер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619280" y="1359000"/>
          <a:ext cx="5905440" cy="50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359000"/>
                    <a:ext cx="5905440" cy="50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оличество состоя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довательное прохождени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ттестаций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аллельное прохождени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ттестаций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иды сценарие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лектронный конспе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формационный ресур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лектронный те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ртуальная лаборато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лектронный практику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лектронные конспек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личные уровни изложения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формационные страницы и кад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терактивные мультимедиа элемен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лементы имитационного моделиров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истема поиска информа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истема составления глосса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нформационные 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зентации к лекция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лектронные копии печатных изд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мпьютерные пр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лектронные тес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личные формы тестовых зад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личные виды сценариев диалог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иртуальная лаборатор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граммные средства имитационного моделиров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граммные средства проверки результатов работы студ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ппаратные средства центров удаленного досту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Учебно-методический комплек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ебно-методический комплекс (УМК) – это совокупность учебно-методических материалов, необходимых и достаточных для организации учебного процесса по дисциплине и способствующих эффективному освоению студентами учебного матери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лектронный практику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ания к практическим занятия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ания к лабораторным занятия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ания на курсовую работ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авила формирования оценки за сценар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763640" y="1719360"/>
          <a:ext cx="5643720" cy="41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719360"/>
                    <a:ext cx="5643720" cy="41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остав электронного УМ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бочая программа дисципл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даптивные обучающие диало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нтрольно-измерительные материа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ртуальные лаборатории и тренаж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оретические и справочные материа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тодические пособия и рекоменд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имеры элементов УМ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лектронный конспе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лектронный тью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лектронная энциклопед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ртуальная лаборатор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лектронный те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лектронный практику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труктура электронного УМ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332000" y="1312920"/>
          <a:ext cx="6480000" cy="509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312920"/>
                    <a:ext cx="6480000" cy="50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сновные компонен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тадан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главление кур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рево переменных кур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исок возможных состоя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имер оглавления курс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ма №1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ID=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учитель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ID=1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нциклопед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ID=1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ID=1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ма №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ID=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учитель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ID=2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нциклопед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ID=2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ID=2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ID=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ерево переменных кур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928800" y="1992240"/>
          <a:ext cx="7232400" cy="30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800" y="1992240"/>
                    <a:ext cx="7232400" cy="30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нятие состоя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стояние в курсе характеризует текущий результат обучения и позволяет определить список доступных обучающемуся сценариев, а также правила изменения переменных курса в зависимости о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процента набранных балл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затраченного времен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количества использованных попыт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9T00:21:57Z</dcterms:created>
  <dc:creator>Owner</dc:creator>
  <dc:description/>
  <dc:language>en-US</dc:language>
  <cp:lastModifiedBy>support</cp:lastModifiedBy>
  <dcterms:modified xsi:type="dcterms:W3CDTF">2008-03-31T09:44:48Z</dcterms:modified>
  <cp:revision>26</cp:revision>
  <dc:subject/>
  <dc:title>Структура электронных образовательных ресурсов</dc:title>
</cp:coreProperties>
</file>