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A1D-1264-4A88-BC95-3D1DC995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8E1-4EAA-4836-983F-D69626AB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1F8-564D-4D9F-A636-9CB5B879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92B-C3E5-4BA2-A727-B6E298F3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CDB-358E-412A-A203-0A9AAD99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B93-5694-4566-905A-CF95A68A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158-58EC-4373-9554-69C51669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9A6-9C7A-45EE-80DE-CE826539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433-D551-4066-9BFA-F0D32A37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B72-C5D8-4F9C-8C5E-89554644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C08-B06A-4389-8FE8-7BB9A5BA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D73-607E-42A0-8A41-6E5C4E8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ABA9-68BE-4014-8E51-8F4F203F1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астники процесса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95440" y="1633680"/>
          <a:ext cx="61516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633680"/>
                    <a:ext cx="61516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группы пользователей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лассы сущностей БД ИО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ы пользователей и их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спределение пра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руппам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знаку владения объек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модули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и  аттес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ое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чеб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отче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, организация и сопровождение учебного процесса в сис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зы данных учебно-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чебных пл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обучающихся и тьюторов на 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обучения и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ация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щ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имеди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льтимедиа обеспечивает реалистичное представление изучаем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 дает возможность оказывать воздействия на изучаемые объекты и получать ответные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де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реализует реакции, характерные для изучаем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 – возможность непосредственного общения, оперативность представления информации, удаленный контроль состояния объекта исслед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ительность – повышение эффективности учебной деятельности благодаря автоматизации нетворческих, рутинных опер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ппарат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1413000"/>
          <a:ext cx="56037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56037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 усп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20:47Z</dcterms:modified>
  <cp:revision>14</cp:revision>
  <dc:subject/>
  <dc:title>Структура электронных образовательных ресурсов</dc:title>
</cp:coreProperties>
</file>