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2004-DDCC-4D2B-AAA5-326A0769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CD49-0FE0-4828-9463-8E86E993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8E5A-5FD4-40AF-A323-CE4FD648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A277-2867-4E61-9426-EB3412ED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BBEF-0EF2-4D9F-96CB-44989B44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B564-F50E-4BE9-B9DF-2B8286E4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309D-AA42-4864-9C8A-F2F817DC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246F-E631-4987-B3AD-B22479E9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AF22-6943-4709-9E7A-97D712CC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EC0C-F6C1-4C44-8255-9FE00C34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13E9-6078-478F-8F24-48DEFB73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F93C-E700-403E-A5D0-97D64047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5953-1AF4-4F24-98A6-DEF9C4C66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формационно-образовательная среда системы Д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частники процесса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95440" y="1633680"/>
          <a:ext cx="6151680" cy="44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5440" y="1633680"/>
                    <a:ext cx="615168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ые группы пользователей систем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ающи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ью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министр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ые классы сущностей БД ИО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ые пл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о-методические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уппы пользователей и их пр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тистическ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рав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спределение пра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группам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признаку владения объект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ые модули систем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учение и  аттест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тевое 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й жур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министрировани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министрирование УМ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министрирование учебного проце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ды отчет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рав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т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ы обу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ирование, организация и сопровождение учебного процесса в систем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8744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базы данных учебно-методически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учебных пл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начение обучающихся и тьюторов на учебные пл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ние обучения и аттес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ксация результатов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бщие треб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льтимедий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ак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ин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уник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ультимедий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льтимедиа обеспечивает реалистичное представление изучаемых объек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нтеракти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актив дает возможность оказывать воздействия на изучаемые объекты и получать ответные реак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делин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инг реализует реакции, характерные для изучаемых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ммуникати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уникативность – возможность непосредственного общения, оперативность представления информации, удаленный контроль состояния объекта исследов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изводи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зводительность – повышение эффективности учебной деятельности благодаря автоматизации нетворческих, рутинных операц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ппаратная 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92360" y="1413000"/>
          <a:ext cx="5603760" cy="47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413000"/>
                    <a:ext cx="5603760" cy="47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уктура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разовательного проце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учение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нав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троль успевае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00:21:57Z</dcterms:created>
  <dc:creator>Owner</dc:creator>
  <dc:description/>
  <dc:language>en-US</dc:language>
  <cp:lastModifiedBy>support</cp:lastModifiedBy>
  <dcterms:modified xsi:type="dcterms:W3CDTF">2008-03-31T09:20:47Z</dcterms:modified>
  <cp:revision>14</cp:revision>
  <dc:subject/>
  <dc:title>Структура электронных образовательных ресурсов</dc:title>
</cp:coreProperties>
</file>