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942-DF88-4D21-A4D7-735FD678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8110-BE43-41B3-AA76-39CA5093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4A64-E88E-4049-ADBA-EF4943FE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9CD-1B78-4C99-B44E-4D48EAEC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A30-95E6-4666-9794-291E5A7B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611-0679-4A8B-9BA5-866AA895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4597-ACB2-45D6-89C1-6B21AB4B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CE26-214F-4D15-9FAB-B746643A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596-15EF-48E8-997F-1C5B4A9F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D7E-60AB-4D08-962C-EFC970D7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F52D-74A1-47E1-82B1-A67FCC18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4FE-B3CA-4C8F-92E8-9A785C9E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1924-B981-458B-8D7B-603C1E600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й учебно-методический комплек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мпоненты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ициализация моду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вершение сцен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ло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ичество запусков сценария с момента начала 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ичество времени, прошедшее с момента начала 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нт набранных баллов по результатам предыдущих попы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нт набранных баллов по результатам последней попы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чение переменной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й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значения переменной кур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ход в новое состоя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уск сцен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492360" y="2003400"/>
          <a:ext cx="1851120" cy="32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03400"/>
                    <a:ext cx="1851120" cy="32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16000" y="2419200"/>
          <a:ext cx="874872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2419200"/>
                    <a:ext cx="874872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619280" y="1359000"/>
          <a:ext cx="590544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359000"/>
                    <a:ext cx="590544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личество состоя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овательное прохожден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тестаций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ллельное прохожден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тестаций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ды сценарие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кон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онный ресу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ртуальная 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практик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е конспе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ые уровни изложения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онные страницы и кад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активные мультимедиа элемен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 имитационного модел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а поиска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а составления глосс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ации к лекц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е копии печатных из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ьютерные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е те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ые формы тестовых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ые виды сценариев диалог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ртуальная лабора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ные средства имитационного модел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ные средства проверки результатов работы студ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ппаратные средства центров удаленного до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чебно-методический комплек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о-методический комплекс (УМК) – это совокупность учебно-методических материалов, необходимых и достаточных для организации учебного процесса по дисциплине и способствующих эффективному освоению студентами учебн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й практик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я к практическим занят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я к лабораторным занят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я на курсовую рабо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авила формирования оценки за сценар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63640" y="1719360"/>
          <a:ext cx="5643720" cy="41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719360"/>
                    <a:ext cx="564372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электронного УМ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чая программа дисцип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аптивные обучающие диа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трольно-измерительны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ртуальные лаборатории и тренаж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оретические и справочны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ические пособия и рекоменд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ы элементов УМ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кон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тью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ая энциклопед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туальная лаборато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практику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электронного УМ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332000" y="1312920"/>
          <a:ext cx="6480000" cy="50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12920"/>
                    <a:ext cx="6480000" cy="50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компон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ада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главление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рево переменных кур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исок возможных состоя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оглавления ку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№1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D=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учите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1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циклопед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1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№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D=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учите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2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циклопед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2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2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D=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рево переменных 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28800" y="1992240"/>
          <a:ext cx="723240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992240"/>
                    <a:ext cx="72324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нятие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ояние в курсе характеризует текущий результат обучения и позволяет определить список доступных обучающемуся сценариев, а также правила изменения переменных курса в зависимости о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роцента набранных бал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затраченного време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оличества использованных попыт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0:21:57Z</dcterms:created>
  <dc:creator>Owner</dc:creator>
  <dc:description/>
  <dc:language>en-US</dc:language>
  <cp:lastModifiedBy>support</cp:lastModifiedBy>
  <dcterms:modified xsi:type="dcterms:W3CDTF">2008-03-31T09:44:48Z</dcterms:modified>
  <cp:revision>26</cp:revision>
  <dc:subject/>
  <dc:title>Структура электронных образовательных ресурсов</dc:title>
</cp:coreProperties>
</file>