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D34C-CF8E-490C-A134-CEC47899B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BAE6-BF93-4817-8322-6A70797B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3A01-B916-4D0E-A188-E1D10379C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645A-74CE-4804-B902-0453001C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F31C-BDB6-4452-A25F-EC5CB575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8C97-FB41-4A6D-8E65-907D29BF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64EA-6A2B-4F4A-9F31-7C25821C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7465-49BF-4229-A943-3AB95A14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4DC4-A873-437D-A916-785D04D9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5324-6549-40FE-B48A-42384FFD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A5DB-98C6-4CE9-AD09-FEEE4B44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010B-9272-4C9B-ABDD-540963DB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B240-BC33-473E-8D2C-0612C8FB1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талонная модель доступа к объекту содерж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руктура пак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519200"/>
            <a:ext cx="708660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айл манифе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manifest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organizations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lt;organization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item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item identifierref=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RES_1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gt;…&lt;/item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item&gt; … &lt;/item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item&gt; … &lt;/item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/item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lt;/organization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/organizations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resources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lt;resource identifier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ES_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ype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webcontent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dlcp:scormType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sco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ref="Lesson1/Module1/sco1.htm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gt; … &lt;/resourc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/resources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/manifest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реда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44552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нтерфейс прикладных програ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895400" y="1484280"/>
            <a:ext cx="5353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ерево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373040" y="1500120"/>
            <a:ext cx="65120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чебная дея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67200" y="1809720"/>
            <a:ext cx="30096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правление навигаци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247760" y="1176480"/>
            <a:ext cx="664848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правление навигаци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00320" y="1581120"/>
            <a:ext cx="65433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ходные материалы (http://www.adlnet.gov/Scor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кет докумен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р среды выпол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ры пак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реда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84072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ициатива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ициатив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ced Distributed Lear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здана для объединения усилий высших учебных заведений и коммерческих предприятий по созданию стандартов в сфере дистанционного обуч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дар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rable Content Object Reference Mode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определяет структуру учебных материалов и интерфейс среды выпол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зможности станда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упность: способность определять местонахождение и получить доступ к учебным компонентам из точки удаленного доступа и поставить их многим другим точкам удаленного досту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аптируемость: способность адаптировать учебную программу согласно индивидуальным потребностям и потребностям организ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ффективность: способность увеличивать эффективность и производительность, сокращая время и затраты на доставку инстру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говечность: способность соответствовать новым технологиям без дополнительной и дорогостоящей дорабо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операбильность: способность использовать учебные материалы вне зависимости от платформы, на которой они созд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ь многократного использования: способность использовать материалы в разных приложениях и контекс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зделы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ORM 2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 Aggregation Model (C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-Time Environment (R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ing and Navigation (S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зделы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ORM 2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200" y="1639800"/>
            <a:ext cx="892980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arning Management Systems (LMS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6600" y="1746360"/>
            <a:ext cx="896940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12920" y="1484280"/>
            <a:ext cx="4807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harable Content Object (SC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48720" cy="42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бъединение содерж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41480" y="1739880"/>
            <a:ext cx="69152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00:21:57Z</dcterms:created>
  <dc:creator>Owner</dc:creator>
  <dc:description/>
  <dc:language>en-US</dc:language>
  <cp:lastModifiedBy>lav</cp:lastModifiedBy>
  <dcterms:modified xsi:type="dcterms:W3CDTF">2007-04-16T05:23:55Z</dcterms:modified>
  <cp:revision>50</cp:revision>
  <dc:subject/>
  <dc:title>Структура электронных образовательных ресурсов</dc:title>
</cp:coreProperties>
</file>