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98EB-8678-4226-97C7-C9D5CECD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742-2178-45FE-A6C7-16B3182B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442-B26D-4F81-93F9-DCBF9CA1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D40-0728-493D-BF02-3380C258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01F-43A9-4830-BABC-3559697E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CCA-993C-4652-9A63-E465B706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BA0-47F2-45E0-9ECD-AB310679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5EF-6FC7-432C-A7E4-BF67FF7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939-F694-4634-A695-F16075F1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AB8-F1B1-4901-BF3E-75B6BAB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622-64F5-4DB0-9CDA-D4B8CE6A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6EF-15FC-4879-937D-A5626CCC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5D9D-22D0-44E1-BD2A-C52DD9BB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алонная модель доступа к объекту содерж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уктура па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519200"/>
            <a:ext cx="70866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 маниф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 identifierref=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gt;…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/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resource identifier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ebconten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dlcp:scorm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ref="Lesson1/Module1/sco1.htm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… &lt;/resour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/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455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фейс прикладных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95400" y="1484280"/>
            <a:ext cx="535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рево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3040" y="1500120"/>
            <a:ext cx="65120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67200" y="1809720"/>
            <a:ext cx="3009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47760" y="1176480"/>
            <a:ext cx="66484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00320" y="1581120"/>
            <a:ext cx="6543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ходные материалы (http://www.adlnet.gov/Sc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кет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 среды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Distributed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на для объединения усилий высших учебных заведений и коммерческих предприятий по созданию стандартов в сфере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Content Object Reference Mo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определяет структуру учебных материалов и интерфейс среды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можности станд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: способность определять местонахождение и получить доступ к учебным компонентам из точки удаленного доступа и поставить их многим другим точкам удаленного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ируемость: способность адаптировать учебную программу согласно индивидуальным потребностям и потребностям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: способность увеличивать эффективность и производительность, сокращая время и затраты на доставку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сть: способность соответствовать новым технологиям без дополнительной и дорогостоящей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операбильность: способность использовать учебные материалы вне зависимости от платформы, на которой они созд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многократного использования: способность использовать материалы в разных приложениях и контек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Aggregation Model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Time Environment (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and Navigation (S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200" y="1639800"/>
            <a:ext cx="89298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Management Systems (LM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600" y="1746360"/>
            <a:ext cx="896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12920" y="1484280"/>
            <a:ext cx="480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able Content Object (S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4872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ъединение содерж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1480" y="1739880"/>
            <a:ext cx="6915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lav</cp:lastModifiedBy>
  <dcterms:modified xsi:type="dcterms:W3CDTF">2007-04-16T05:23:55Z</dcterms:modified>
  <cp:revision>50</cp:revision>
  <dc:subject/>
  <dc:title>Структура электронных образовательных ресурсов</dc:title>
</cp:coreProperties>
</file>