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60A-1492-4F10-859C-DDE9119C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B5A-5A0F-41A7-BF77-99932298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9C9-A3F2-4387-9503-75A600B4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D5F-4028-46CF-BB32-C7771D6D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97C-7ACB-4258-802C-67933E6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DC3-C090-473B-9CDB-8476BD86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637-10DE-49CF-8B2B-604F5E7D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9EE-1748-466F-A46F-52DE0C21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431-CE69-41C7-9F27-EB10B8A1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225-27FF-460F-9B1A-C406749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B32-B012-44E9-A51D-E4CB767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46E-CEDA-49AA-A4B9-7EC8C06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FFFB-4203-42CE-94CD-6AC514A87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астники процесса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5440" y="1633680"/>
          <a:ext cx="61516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633680"/>
                    <a:ext cx="61516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группы пользователей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лассы сущностей БД И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пользователей и их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спределение пр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руппам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знаку владения объек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модули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и  аттес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чеб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че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, организация и сопровождение учебного процесса в сис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зы данных учебно-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чебных пл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обучающихся и тьюторов на 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обучения и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ация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щ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имеди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льтимедиа обеспечивает реалистичное представление изучаем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 дает возможность оказывать воздействия на изучаемые объекты и получать ответные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реализует реакции, характерные для изучаем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 – возможность непосредственного общения, оперативность представления информации, удаленный контроль состояния объекта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– повышение эффективности учебной деятельности благодаря автоматизации нетворческих, рутинных опер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ппара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413000"/>
          <a:ext cx="5603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5603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усп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20:47Z</dcterms:modified>
  <cp:revision>14</cp:revision>
  <dc:subject/>
  <dc:title>Структура электронных образовательных ресурсов</dc:title>
</cp:coreProperties>
</file>