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0C3A-4595-4840-BCAA-7E898FF47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F05B-9AFA-4DFC-9264-41311315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C420-8444-4369-ADC2-6952D9E22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5401-1EC7-4F91-8B13-A6BC7B9F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D948-8C24-4623-8502-2BD6E220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94C9-F867-4966-B04D-D055324E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EFCD-4888-4815-ABD7-15E4E902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3570-A903-41AE-B40B-5A93ECFD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A6DF-A713-4A99-BB58-9FFFC717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6352-DEA7-46F2-A5DB-9EC5EE2D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6E40-B596-4EE4-AC3D-751E76BD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8A6F-F8A7-4FD9-A952-AD7E862A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16E7-7342-495B-9555-72E0F33C6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истанционные технологии обу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ентр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станционного обуч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тр дистанционного обучения (ЦДО) - отдельное подразделение, представительство или филиал учреждения системы ДО, осуществляющее административную, учебно-методическую, информационную и техническую поддержку образовательного процес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нформационно-образовательная среда системы Д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о-образовательная среда системы ДО (ИОС СДО) – согласованная совокупность учебных материалов, средств их разработки, хранения, передачи и доступа к ним,   используемая в дистанционных технологиях обучения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оним: система управления обуч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истанционное обу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танционное обучение (ДО) – обучение, при котором все или большая часть учебных процедур осуществляется с использованием современных информационных и телекоммуникационных технологий при территориальной разобщенности преподавателя и студен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ел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дивидуализация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нсификация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ективизация аттес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станционное образ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танционное образование – образование, реализуемое посредством  дистанционного обуч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станционная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хнология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танционная технология обучения - совокупность методов и средств обучения и администрирования учебных процедур, обеспечивающих проведение учебного процесса на расстоянии на основе использования современных    информационных и телекоммуникационных технолог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хнологии обу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ейс-тех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В-технолог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тевая тех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мбинированная техн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98480" y="1809720"/>
          <a:ext cx="754704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480" y="1809720"/>
                    <a:ext cx="754704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истема Д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ательная система, обеспечивающая получение образования  с помощью дистанционных технологий обучения. Включает в себя: кадровый состав администрации и технических специалистов, профессорско-преподавательский состав, учебные материалы и продукты, методики обучения и средства доставки знаний обучающимся, объединенные организационно, методически и технически с целью проведения дистанционного обуч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чреждение системы Д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реждение системы ДО - образовательное учреждение  или объединение образовательных учреждений, обеспечивающее функционирование системы Д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21:43:22Z</dcterms:created>
  <dc:creator>Owner</dc:creator>
  <dc:description/>
  <dc:language>en-US</dc:language>
  <cp:lastModifiedBy>Owner</cp:lastModifiedBy>
  <dcterms:modified xsi:type="dcterms:W3CDTF">2008-03-31T01:59:14Z</dcterms:modified>
  <cp:revision>14</cp:revision>
  <dc:subject/>
  <dc:title>Дистанционные технологии обучения</dc:title>
</cp:coreProperties>
</file>