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B19-0B30-436B-8900-AE99892A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3F81-21B9-4AEF-B4BF-DB877015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06E-AFB0-43EE-BE8F-DCEF8DBD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B0E3-C731-4C0C-A51E-CEF6FA89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AAB3-6481-436A-A1FA-F3B94C2A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5EC-137F-4605-AEE1-DABAEA06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4DC-3098-45F3-8898-222A4BED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CF81-BABA-4267-BC07-A83332D6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FDA3-14A3-4E33-9027-63A5BBBA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2EDB-75A8-43F4-91BC-163330BA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0E1-968E-43C1-A12E-FD50617F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9281-1CD6-4C7D-B329-BDD6CC8D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ADB9-0C6B-4CB1-9D97-BC3B5D85C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формационно-образовательная среда системы 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астники процесса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95440" y="1633680"/>
          <a:ext cx="6151680" cy="44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5440" y="1633680"/>
                    <a:ext cx="615168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группы пользователей систе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ающи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ью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министр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классы сущностей БД ИО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ые пл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о-методически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ппы пользователей и их п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тистическ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ав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спределение пра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группам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признаку владения объек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модули систе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ение и  аттес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тевое 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жур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ировани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ирование УМ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ирование учебного проце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ды отчет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ав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т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ы обу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ирование, организация и сопровождение учебного процесса в систем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744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базы данных учебно-методически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учебных пл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начение обучающихся и тьюторов на учебные пл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обучения и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ксация результатов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щие треб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льтимедий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а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н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ультимедий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льтимедиа обеспечивает реалистичное представление изучаемых объе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нтеракти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актив дает возможность оказывать воздействия на изучаемые объекты и получать ответные реак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дел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нг реализует реакции, характерные для изучаемых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ммуникати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тивность – возможность непосредственного общения, оперативность представления информации, удаленный контроль состояния объекта исследо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изводи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одительность – повышение эффективности учебной деятельности благодаря автоматизации нетворческих, рутинных опера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ппаратная 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92360" y="1413000"/>
          <a:ext cx="5603760" cy="47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413000"/>
                    <a:ext cx="560376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тельн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чение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нав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троль успевае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0:21:57Z</dcterms:created>
  <dc:creator>Owner</dc:creator>
  <dc:description/>
  <dc:language>en-US</dc:language>
  <cp:lastModifiedBy>support</cp:lastModifiedBy>
  <dcterms:modified xsi:type="dcterms:W3CDTF">2008-03-31T09:20:47Z</dcterms:modified>
  <cp:revision>14</cp:revision>
  <dc:subject/>
  <dc:title>Структура электронных образовательных ресурсов</dc:title>
</cp:coreProperties>
</file>