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2628-31E7-46E5-A807-8C460A72F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7E31-A066-4751-86A9-EE105142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51B7-53DD-4FA0-BF28-AE299F3C4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43D1-22D9-4E4D-84D4-B2468E495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4CDE-A669-4B72-95FD-FF753B50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564F-D4BC-4606-B5EA-9DB320DE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FFB1-9EF5-4D4C-ACFE-EC1046EE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9D31-DD32-434B-B278-DD01788C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C2C1-F029-4EAB-9A8E-722025F4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94BE-12D4-45DC-8289-D07B098E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E2B9-83C3-44D8-B775-9E3B5D77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921F-6B98-41B4-9FCC-5333EF80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3F56-98D5-47A2-A3A4-6869EDF57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талонная модель доступа к объекту содерж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труктура пак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519200"/>
            <a:ext cx="708660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айл манифе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manifest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organizations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lt;organization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item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item identifierref=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RES_1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gt;…&lt;/item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item&gt; … &lt;/item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item&gt; … &lt;/item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/item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lt;/organization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/organizations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resources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lt;resource identifier=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ES_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ype=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webcontent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dlcp:scormType=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sco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ref="Lesson1/Module1/sco1.htm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gt; … &lt;/resourc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/resources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/manifest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реда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44552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нтерфейс прикладных програм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895400" y="1484280"/>
            <a:ext cx="5353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ерево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373040" y="1500120"/>
            <a:ext cx="65120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чебная деяте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67200" y="1809720"/>
            <a:ext cx="30096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правление навигаци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247760" y="1176480"/>
            <a:ext cx="664848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правление навигаци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00320" y="1581120"/>
            <a:ext cx="65433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сходные материалы (http://www.adlnet.gov/Scor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кет докумен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р среды выпол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ры пак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реда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84072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ициатива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ициатив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ced Distributed Lear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здана для объединения усилий высших учебных заведений и коммерческих предприятий по созданию стандартов в сфере дистанционного обуч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дар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arable Content Object Reference Mode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определяет структуру учебных материалов и интерфейс среды выпол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зможности станда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упность: способность определять местонахождение и получить доступ к учебным компонентам из точки удаленного доступа и поставить их многим другим точкам удаленного досту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аптируемость: способность адаптировать учебную программу согласно индивидуальным потребностям и потребностям организ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ффективность: способность увеличивать эффективность и производительность, сокращая время и затраты на доставку инстру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говечность: способность соответствовать новым технологиям без дополнительной и дорогостоящей дорабо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операбильность: способность использовать учебные материалы вне зависимости от платформы, на которой они созд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сть многократного использования: способность использовать материалы в разных приложениях и контекс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зделы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ORM 2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 Aggregation Model (C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-Time Environment (R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ing and Navigation (S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зделы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ORM 2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200" y="1639800"/>
            <a:ext cx="892980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arning Management Systems (LMS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6600" y="1746360"/>
            <a:ext cx="896940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s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12920" y="1484280"/>
            <a:ext cx="4807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harable Content Object (SC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48720" cy="42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бъединение содерж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41480" y="1739880"/>
            <a:ext cx="69152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00:21:57Z</dcterms:created>
  <dc:creator>Owner</dc:creator>
  <dc:description/>
  <dc:language>en-US</dc:language>
  <cp:lastModifiedBy>lav</cp:lastModifiedBy>
  <dcterms:modified xsi:type="dcterms:W3CDTF">2007-04-16T05:23:55Z</dcterms:modified>
  <cp:revision>50</cp:revision>
  <dc:subject/>
  <dc:title>Структура электронных образовательных ресурсов</dc:title>
</cp:coreProperties>
</file>