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3D1A-38A1-43C5-A06F-7625863B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FE11-209B-4F80-8E38-C27749EF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4035-85DE-4EC9-A66A-29C9349E4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5E08-1F8E-4833-9CE1-A964F07C5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5FE3-0AC0-420D-BE00-25493653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860A-6737-4C43-9A06-9BD32047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11D4-D3EA-4C1C-97C5-333BFD81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F405-CD19-4A0C-AFA6-26854362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032B-7225-433D-B0BC-EF6402A2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B3BE-A023-4930-980A-313BA8C4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F251-C54B-4630-B37A-7BEDEEFE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3870-8F51-4FCB-82F5-A3FF615E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2C2F-C95E-4EF9-BE04-DCB68D151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истанционные технологии обу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ентр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станционного обуч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тр дистанционного обучения (ЦДО) - отдельное подразделение, представительство или филиал учреждения системы ДО, осуществляющее административную, учебно-методическую, информационную и техническую поддержку образовательного процес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нформационно-образовательная среда системы Д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о-образовательная среда системы ДО (ИОС СДО) – согласованная совокупность учебных материалов, средств их разработки, хранения, передачи и доступа к ним,   используемая в дистанционных технологиях обучения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оним: система управления обуч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истанционное обу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танционное обучение (ДО) – обучение, при котором все или большая часть учебных процедур осуществляется с использованием современных информационных и телекоммуникационных технологий при территориальной разобщенности преподавателя и студен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ел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дивидуализация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нсификация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ективизация аттес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станционное образ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танционное образование – образование, реализуемое посредством  дистанционного обуч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станционная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ехнология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танционная технология обучения - совокупность методов и средств обучения и администрирования учебных процедур, обеспечивающих проведение учебного процесса на расстоянии на основе использования современных    информационных и телекоммуникационных технолог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хнологии обу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ейс-тех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В-технолог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тевая тех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мбинированная техн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98480" y="1809720"/>
          <a:ext cx="754704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480" y="1809720"/>
                    <a:ext cx="754704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истема Д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овательная система, обеспечивающая получение образования  с помощью дистанционных технологий обучения. Включает в себя: кадровый состав администрации и технических специалистов, профессорско-преподавательский состав, учебные материалы и продукты, методики обучения и средства доставки знаний обучающимся, объединенные организационно, методически и технически с целью проведения дистанционного обуч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чреждение системы Д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реждение системы ДО - образовательное учреждение  или объединение образовательных учреждений, обеспечивающее функционирование системы Д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21:43:22Z</dcterms:created>
  <dc:creator>Owner</dc:creator>
  <dc:description/>
  <dc:language>en-US</dc:language>
  <cp:lastModifiedBy>Owner</cp:lastModifiedBy>
  <dcterms:modified xsi:type="dcterms:W3CDTF">2008-03-31T01:59:14Z</dcterms:modified>
  <cp:revision>14</cp:revision>
  <dc:subject/>
  <dc:title>Дистанционные технологии обучения</dc:title>
</cp:coreProperties>
</file>