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1043-AD61-4A41-B1B1-30DBAC91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3DB1-FF8F-4284-92CA-0B0BA354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4E72-812D-4A0A-BCD3-48DE1016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2990-6661-4FCA-BAE6-D8E24188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FFF-8CD4-4F18-96B5-4863E50A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CFDF-6045-4176-8374-15287FFD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4243-45D2-4A19-8BCC-E9FAF8B1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59F-1874-44CE-9DA5-64A51DC4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0277-FD25-42D3-913E-B7DD1D93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3640-4261-41F8-90EF-BF3147ED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D856-301E-4F98-9034-EE185947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961F-DA72-4195-A539-E3D6E750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D644-B590-40FE-A2FA-58F90A6BA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истанционные технологии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нтр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станционного обуч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 дистанционного обучения (ЦДО) - отдельное подразделение, представительство или филиал учреждения системы ДО, осуществляющее административную, учебно-методическую, информационную и техническую поддержку образовательного проце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формационно-образовательная среда системы Д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-образовательная среда системы ДО (ИОС СДО) – согласованная совокупность учебных материалов, средств их разработки, хранения, передачи и доступа к ним,   используемая в дистанционных технологиях обучения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оним: система управления обуч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истанционное обу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танционное обучение (ДО) – обучение, при котором все или большая часть учебных процедур осуществляется с использованием современных информационных и телекоммуникационных технологий при территориальной разобщенности преподавателя и студен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л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видуализация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нсификация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ктивизация аттес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станционное обра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танционное образование – образование, реализуемое посредством  дистанционного обуч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станционная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хнология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танционная технология обучения - совокупность методов и средств обучения и администрирования учебных процедур, обеспечивающих проведение учебного процесса на расстоянии на основе использования современных    информационных и телекоммуникационных технолог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хнологии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ейс-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В-технолог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тевая 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мбинированная тех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98480" y="1809720"/>
          <a:ext cx="754704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1809720"/>
                    <a:ext cx="754704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истема Д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тельная система, обеспечивающая получение образования  с помощью дистанционных технологий обучения. Включает в себя: кадровый состав администрации и технических специалистов, профессорско-преподавательский состав, учебные материалы и продукты, методики обучения и средства доставки знаний обучающимся, объединенные организационно, методически и технически с целью проведения дистанционного обу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чреждение системы Д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реждение системы ДО - образовательное учреждение  или объединение образовательных учреждений, обеспечивающее функционирование системы Д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21:43:22Z</dcterms:created>
  <dc:creator>Owner</dc:creator>
  <dc:description/>
  <dc:language>en-US</dc:language>
  <cp:lastModifiedBy>Owner</cp:lastModifiedBy>
  <dcterms:modified xsi:type="dcterms:W3CDTF">2008-03-31T01:59:14Z</dcterms:modified>
  <cp:revision>14</cp:revision>
  <dc:subject/>
  <dc:title>Дистанционные технологии обучения</dc:title>
</cp:coreProperties>
</file>