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lvl="1" marL="952560" indent="-282600">
              <a:spcBef>
                <a:spcPts val="499"/>
              </a:spcBef>
              <a:buClr>
                <a:srgbClr val="0066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lvl="2" marL="1343160" indent="-187560">
              <a:spcBef>
                <a:spcPts val="499"/>
              </a:spcBef>
              <a:buClr>
                <a:srgbClr val="0066cc"/>
              </a:buClr>
              <a:buFont typeface="Verdana"/>
              <a:buChar char="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lvl="3" marL="1728720" indent="-195120">
              <a:spcBef>
                <a:spcPts val="499"/>
              </a:spcBef>
              <a:buClr>
                <a:srgbClr val="0066cc"/>
              </a:buClr>
              <a:buFont typeface="Verdana"/>
              <a:buChar char="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lvl="4" marL="2112840" indent="-193680">
              <a:spcBef>
                <a:spcPts val="499"/>
              </a:spcBef>
              <a:buClr>
                <a:srgbClr val="0066cc"/>
              </a:buClr>
              <a:buFont typeface="Verdana"/>
              <a:buChar char="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lvl="5" marL="2112840" indent="-193680">
              <a:spcBef>
                <a:spcPts val="499"/>
              </a:spcBef>
              <a:buClr>
                <a:srgbClr val="000000"/>
              </a:buClr>
              <a:buFont typeface="Verdana"/>
              <a:buChar char="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lvl="6" marL="2112840" indent="-193680">
              <a:spcBef>
                <a:spcPts val="499"/>
              </a:spcBef>
              <a:buClr>
                <a:srgbClr val="000000"/>
              </a:buClr>
              <a:buFont typeface="Verdana"/>
              <a:buChar char="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42636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66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Tahoma"/>
              </a:rPr>
              <a:t>© Центр дистанционного обучения, 200</a:t>
            </a:r>
            <a:r>
              <a:rPr b="0" lang="en-US" sz="1100" spc="-1" strike="noStrike">
                <a:solidFill>
                  <a:srgbClr val="0066cc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320"/>
            <a:ext cx="7848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cc"/>
                </a:solidFill>
                <a:latin typeface="Verdana"/>
              </a:rPr>
              <a:t>Санкт-Петербургский Государственный Университет Информационных Технологий, Механики и Опти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320"/>
            <a:ext cx="7848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cc"/>
                </a:solidFill>
                <a:latin typeface="Verdana"/>
              </a:rPr>
              <a:t>Санкт-Петербургский Государственный Университет Информационных Технологий, Механики и Опти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ftr" idx="2"/>
          </p:nvPr>
        </p:nvSpPr>
        <p:spPr>
          <a:xfrm>
            <a:off x="5790960" y="642636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66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Tahoma"/>
              </a:rPr>
              <a:t>© Центр дистанционного обучения, 200</a:t>
            </a:r>
            <a:r>
              <a:rPr b="0" lang="en-US" sz="1100" spc="-1" strike="noStrike">
                <a:solidFill>
                  <a:srgbClr val="0066cc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66cc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66cc"/>
              </a:solidFill>
              <a:latin typeface="Verdana"/>
            </a:endParaRPr>
          </a:p>
          <a:p>
            <a:pPr lvl="2" marL="914400" indent="241200" algn="ctr">
              <a:spcBef>
                <a:spcPts val="400"/>
              </a:spcBef>
              <a:buClr>
                <a:srgbClr val="0066cc"/>
              </a:buClr>
              <a:buFont typeface="Verdana"/>
              <a:buChar char="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Verdana"/>
            </a:endParaRPr>
          </a:p>
          <a:p>
            <a:pPr lvl="3" marL="1371600" indent="162000" algn="ctr">
              <a:spcBef>
                <a:spcPts val="349"/>
              </a:spcBef>
              <a:buClr>
                <a:srgbClr val="0066cc"/>
              </a:buClr>
              <a:buFont typeface="Verdana"/>
              <a:buChar char="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lvl="4" marL="1828800" indent="90360" algn="ctr">
              <a:spcBef>
                <a:spcPts val="349"/>
              </a:spcBef>
              <a:buClr>
                <a:srgbClr val="0066cc"/>
              </a:buClr>
              <a:buFont typeface="Verdana"/>
              <a:buChar char="¦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lvl="5" marL="1828800" indent="90360">
              <a:spcBef>
                <a:spcPts val="349"/>
              </a:spcBef>
              <a:buClr>
                <a:srgbClr val="000000"/>
              </a:buClr>
              <a:buFont typeface="Verdana"/>
              <a:buChar char="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lvl="6" marL="1828800" indent="90360">
              <a:spcBef>
                <a:spcPts val="349"/>
              </a:spcBef>
              <a:buClr>
                <a:srgbClr val="000000"/>
              </a:buClr>
              <a:buFont typeface="Verdana"/>
              <a:buChar char="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cc"/>
                </a:solidFill>
                <a:latin typeface="Verdana"/>
              </a:rPr>
              <a:t>Курсовая работа</a:t>
            </a:r>
            <a:endParaRPr b="0" lang="en-US" sz="3400" spc="-1" strike="noStrike">
              <a:solidFill>
                <a:srgbClr val="0066cc"/>
              </a:solidFill>
              <a:latin typeface="Verdana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cc"/>
                </a:solidFill>
                <a:latin typeface="Verdana"/>
              </a:rPr>
              <a:t>Разработка виртуальных лабораторий в среде </a:t>
            </a:r>
            <a:r>
              <a:rPr b="0" lang="en-US" sz="3400" spc="-1" strike="noStrike">
                <a:solidFill>
                  <a:srgbClr val="0066cc"/>
                </a:solidFill>
                <a:latin typeface="Verdana"/>
              </a:rPr>
              <a:t>AcademicNT</a:t>
            </a:r>
            <a:endParaRPr b="0" lang="en-US" sz="3400" spc="-1" strike="noStrike">
              <a:solidFill>
                <a:srgbClr val="0066cc"/>
              </a:solidFill>
              <a:latin typeface="Verdana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927080" y="2130480"/>
          <a:ext cx="528804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7080" y="2130480"/>
                    <a:ext cx="528804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84360" y="1341360"/>
            <a:ext cx="7775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Verdana"/>
              </a:rPr>
              <a:t>Диаграмма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685800" y="1981080"/>
          <a:ext cx="7772400" cy="4100760"/>
        </p:xfrm>
        <a:graphic>
          <a:graphicData uri="http://schemas.openxmlformats.org/drawingml/2006/table">
            <a:tbl>
              <a:tblPr/>
              <a:tblGrid>
                <a:gridCol w="4317840"/>
                <a:gridCol w="345456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Набор инструментальных средств разработки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JD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http://java.sun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Интегрированная среда разработки 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NetBeans IDE 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http://www.netbeans.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Пакет для разработки проверяющих серверов виртуальных лабораторий системы ДО Academic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http://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de</a:t>
                      </a: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ifmo</a:t>
                      </a: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Техническое руководство по разработке учебно-методического комплекса для системы дистанционного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http://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de</a:t>
                      </a: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ifmo</a:t>
                      </a: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66cc"/>
                          </a:solidFill>
                          <a:latin typeface="Verdana"/>
                        </a:rPr>
                        <a:t>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Verdana"/>
              </a:rPr>
              <a:t>Инструменты и технические руководства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Verdana"/>
              </a:rPr>
              <a:t>Интерфейс для реализации лабораторного стенда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* Интерфейс для реализации лабораторного стенда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public interface Console{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* метод, вызываемый при отправке 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* на сервер ответа пользователя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* @return ответ пользователя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public String getResults();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Интерфейс для реализации лабораторной установки</a:t>
            </a:r>
            <a:endParaRPr b="0" lang="en-US" sz="1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/**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 Интерфейс для реализации лабораторной установки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public interface Processor{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/**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 метод инициализации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 @param code ответ пользователя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public void init( String code );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/**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 метод, вызываемый для проверки тестового набора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 @param input эталонный набор входных данных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 @param output эталонный набор выходных данных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 @return признак успешного выполнения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public boolean run( String input, String output ) throws Exception;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  <a:p>
            <a:pPr marL="38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cc"/>
                </a:solidFill>
                <a:latin typeface="Verdana"/>
              </a:rPr>
              <a:t>Этапы выполнения курсовой работы</a:t>
            </a:r>
            <a:endParaRPr b="0" lang="en-US" sz="19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Анализ и уточнение задания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Сценарий работы пользователя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Разработка архитектуры программного кода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Описание формата ответа и тестовых наборов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Программирование виртуального стенда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Программирование проверяющего сервера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Разработка заданий и тестовых наборов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Тестирование и документирование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  <a:p>
            <a:pPr marL="385920" indent="-29556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Оформление пояснительной записки</a:t>
            </a:r>
            <a:endParaRPr b="0" lang="en-US" sz="2000" spc="-1" strike="noStrike">
              <a:solidFill>
                <a:srgbClr val="0066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5:01:41Z</dcterms:created>
  <dc:creator>support</dc:creator>
  <dc:description/>
  <dc:language>en-US</dc:language>
  <cp:lastModifiedBy>Owner</cp:lastModifiedBy>
  <dcterms:modified xsi:type="dcterms:W3CDTF">2008-10-26T23:02:12Z</dcterms:modified>
  <cp:revision>35</cp:revision>
  <dc:subject/>
  <dc:title>Создание многопользовательских ИС как результат обучения информатике студентов  IT-специальностей</dc:title>
</cp:coreProperties>
</file>