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940-E62F-48A4-8B2C-A065BE93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AE7-40F7-4895-BD4E-48A835BC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4B8-6F7D-4281-A465-F7C2C4EC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111-7B6D-4191-9626-AC6B2731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AD4-FF39-4751-9796-27ECBAA4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A2D-5253-4FA5-95B4-8596673B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E68-16DC-440A-BAA5-DEAC376C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16A-75D1-4286-BEEF-73DFC065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933-6DAE-4822-9C87-44667BDD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447-DC11-443D-B9BA-F37B8F2F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031-06DA-457D-90A7-B7F4E4E8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3DE-AC9A-40A0-B02E-E555E321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57B2-2DA3-4A61-86B0-2C1383780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й учебно-методический комплек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мпоненты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ициализация моду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ршение сцен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ло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запусков сценария с момента начала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времени, прошедшее с момента начала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нт набранных баллов по результатам предыдущих попы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нт набранных баллов по результатам последней попы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ение переменной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значения переменной кур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 в новое состоя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уск сцен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492360" y="2003400"/>
          <a:ext cx="185112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03400"/>
                    <a:ext cx="185112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6000" y="2419200"/>
          <a:ext cx="87487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419200"/>
                    <a:ext cx="87487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19280" y="1359000"/>
          <a:ext cx="590544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59000"/>
                    <a:ext cx="59054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личество состоя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ьное прохожд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ций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ьное прохожд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ций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сценари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ый рес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туальн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практ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консп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уровни излож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ые страницы и кад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активные мультимедиа эле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имитационного моде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поиска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составления глосс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и к лекц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е копии печатных из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те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формы тестовы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виды сценариев диалог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ртуальная лабора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ные средства имитационного моде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ные средства проверки результатов работы студ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ппаратные средства центров удаленного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ебно-методический компле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о-методический комплекс (УМК) – это совокупность учебно-методических материалов, необходимых и достаточных для организации учебного процесса по дисциплине и способствующих эффективному освоению студентами учеб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й практи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к практическим занят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к лабораторным занят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на курсовую рабо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ила формирования оценки за сцен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63640" y="1719360"/>
          <a:ext cx="564372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19360"/>
                    <a:ext cx="564372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электронного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чая программа дисцип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аптивные обучающие диа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ьно-измеритель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туальные лаборатории и тренаж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оретические и справоч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ические пособия и 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ы элементов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тью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туальная лабора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практику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электронного УМ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32000" y="1312920"/>
          <a:ext cx="6480000" cy="50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12920"/>
                    <a:ext cx="648000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компон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ад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лавление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о переменных кур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сок возможных состоя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оглавления ку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№1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учите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№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учите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рево переменных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28800" y="1992240"/>
          <a:ext cx="72324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992240"/>
                    <a:ext cx="72324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нятие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яние в курсе характеризует текущий результат обучения и позволяет определить список доступных обучающемуся сценариев, а также правила изменения переменных курса в зависимости о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оцента набранных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затраченного врем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оличества использованных попы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support</cp:lastModifiedBy>
  <dcterms:modified xsi:type="dcterms:W3CDTF">2008-03-31T09:44:48Z</dcterms:modified>
  <cp:revision>26</cp:revision>
  <dc:subject/>
  <dc:title>Структура электронных образовательных ресурсов</dc:title>
</cp:coreProperties>
</file>