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8FA-A04D-4077-A7E5-8D59726F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CF7-B61F-46B7-95A3-CF8A159A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B5B-2251-4E81-890D-00513740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FF1-A0F3-4F01-9034-98301160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0D6-D045-4134-86BC-8600F2EC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079-2679-4C33-8DAA-DE538C50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571F-7CC8-4F75-85E7-FE5C7E4A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BF4-99E2-4E9A-9DCE-08AE6C4D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773-144B-4263-AF16-99DDE187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530-5D27-4753-B973-B75214E2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700-D1D8-4D6A-B316-F63C67A6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B97-1BC1-4D47-B901-E6CB3DD6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AD67-0F6E-4818-B874-D92825539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алонная модель доступа к объекту содерж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уктура па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519200"/>
            <a:ext cx="70866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 маниф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manifes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organization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organiza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 identifierref=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RES_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gt;…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… 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… 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/organiza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/organization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resourc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resource identifier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_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ype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ebconten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dlcp:scormType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ref="Lesson1/Module1/sco1.htm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gt; … &lt;/resourc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/resourc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/manifes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ед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455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терфейс прикладных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95400" y="1484280"/>
            <a:ext cx="5353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ерево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3040" y="1500120"/>
            <a:ext cx="65120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еб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67200" y="1809720"/>
            <a:ext cx="3009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вление навигац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47760" y="1176480"/>
            <a:ext cx="66484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вление навигац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00320" y="1581120"/>
            <a:ext cx="65433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ходные материалы (http://www.adlnet.gov/Scor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кет докум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 среды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ы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ед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8407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ициатив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ициати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Distributed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здана для объединения усилий высших учебных заведений и коммерческих предприятий по созданию стандартов в сфере дистанционного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able Content Object Reference Mod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определяет структуру учебных материалов и интерфейс среды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зможности станд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: способность определять местонахождение и получить доступ к учебным компонентам из точки удаленного доступа и поставить их многим другим точкам удаленного дост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ируемость: способность адаптировать учебную программу согласно индивидуальным потребностям и потребностям организ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ь: способность увеличивать эффективность и производительность, сокращая время и затраты на доставку и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ечность: способность соответствовать новым технологиям без дополнительной и дорогостоящей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операбильность: способность использовать учебные материалы вне зависимости от платформы, на которой они созд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многократного использования: способность использовать материалы в разных приложениях и контекс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ел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M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Aggregation Model (C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-Time Environment (R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ing and Navigation (S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ел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M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200" y="1639800"/>
            <a:ext cx="892980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arning Management Systems (LM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600" y="1746360"/>
            <a:ext cx="89694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12920" y="1484280"/>
            <a:ext cx="4807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arable Content Object (SC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4872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ъединение содерж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1480" y="1739880"/>
            <a:ext cx="69152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lav</cp:lastModifiedBy>
  <dcterms:modified xsi:type="dcterms:W3CDTF">2007-04-16T05:23:55Z</dcterms:modified>
  <cp:revision>50</cp:revision>
  <dc:subject/>
  <dc:title>Структура электронных образовательных ресурсов</dc:title>
</cp:coreProperties>
</file>