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2FA6-7647-41D3-A882-3796B8BE3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1E33-0CCD-44A1-80A0-10BD466E8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6057-3E9B-4536-86EE-101B5E4CD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68EA-8754-4932-8B1A-87A4D43A0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0CE4-77EE-4A39-ACBC-1FA6B2F9D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BCEC-FD55-43C0-A780-BE408E7CA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15C3-67B7-473C-A9BE-410B97D25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8659-6522-4C8F-853B-493E5D45E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C345-84B4-4D4E-9745-3167AD302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F122-ACB2-4A17-984E-CE236897A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A660-B3AD-45D8-90CF-A163A6291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4B67-1245-4B84-9D07-458349302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2D686-37B7-458E-9D4B-3259735202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ланирование экспериментов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Эффекты взаимодейств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345960" y="1685880"/>
          <a:ext cx="8298000" cy="471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5960" y="1685880"/>
                    <a:ext cx="8298000" cy="47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716040" y="1747800"/>
          <a:ext cx="7818120" cy="2595600"/>
        </p:xfrm>
        <a:graphic>
          <a:graphicData uri="http://schemas.openxmlformats.org/drawingml/2006/table">
            <a:tbl>
              <a:tblPr/>
              <a:tblGrid>
                <a:gridCol w="1954080"/>
                <a:gridCol w="1878120"/>
                <a:gridCol w="2031840"/>
                <a:gridCol w="195408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кл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"/>
          <p:cNvSpPr/>
          <p:nvPr/>
        </p:nvSpPr>
        <p:spPr>
          <a:xfrm>
            <a:off x="908280" y="4714920"/>
            <a:ext cx="3003120" cy="15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(-3+4-1+2)/2=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(-3-4+1+2)/2=-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(3-4-1+2)/2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робные факторные план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азрешающей способность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ДФП называется число, которое гарантирует, что эффекты не смешиваются, если сумма их факторов строго меньше данного числа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робные факторные план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304920" y="1676520"/>
          <a:ext cx="8458200" cy="4841640"/>
        </p:xfrm>
        <a:graphic>
          <a:graphicData uri="http://schemas.openxmlformats.org/drawingml/2006/table">
            <a:tbl>
              <a:tblPr/>
              <a:tblGrid>
                <a:gridCol w="1111320"/>
                <a:gridCol w="2306520"/>
                <a:gridCol w="2648160"/>
                <a:gridCol w="2392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=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4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=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5-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=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=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5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=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6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=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=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=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6-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=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=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робный факторный план 2</a:t>
            </a:r>
            <a:r>
              <a:rPr b="1" lang="en-US" sz="4400" spc="-1" strike="noStrike" baseline="30000">
                <a:solidFill>
                  <a:srgbClr val="000000"/>
                </a:solidFill>
                <a:latin typeface="Times New Roman"/>
              </a:rPr>
              <a:t>3-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5800" y="1981080"/>
          <a:ext cx="7772400" cy="2595600"/>
        </p:xfrm>
        <a:graphic>
          <a:graphicData uri="http://schemas.openxmlformats.org/drawingml/2006/table">
            <a:tbl>
              <a:tblPr/>
              <a:tblGrid>
                <a:gridCol w="1554120"/>
                <a:gridCol w="1494000"/>
                <a:gridCol w="1616040"/>
                <a:gridCol w="1554120"/>
                <a:gridCol w="155412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кл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85800" y="1981080"/>
          <a:ext cx="7772400" cy="2595600"/>
        </p:xfrm>
        <a:graphic>
          <a:graphicData uri="http://schemas.openxmlformats.org/drawingml/2006/table">
            <a:tbl>
              <a:tblPr/>
              <a:tblGrid>
                <a:gridCol w="1554120"/>
                <a:gridCol w="1494000"/>
                <a:gridCol w="1616040"/>
                <a:gridCol w="1554120"/>
                <a:gridCol w="155412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кл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900000" y="4765680"/>
            <a:ext cx="3519720" cy="15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(-3+4+3+2)/2=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(-3-4-3+2)/2=-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(3-4+3+2)/2=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иды планирования эксперимент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тратегическое планировани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решает задачу получения необходимой информации о модели, с учетом ограниченных ресурсов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Тактическое планировани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определяет способ проведения каждой серии испытаний модели, предусмотренной планом эксперимента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етод общих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лучайных чисе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914400" y="2209680"/>
          <a:ext cx="7562880" cy="314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209680"/>
                    <a:ext cx="7562880" cy="314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етод дополняющих случайных величин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1066680" y="1981080"/>
                <a:ext cx="6324840" cy="477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m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e>
                        </m:bar>
                      </m:e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m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e>
                        </m:bar>
                      </m:e>
                      <m:e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e>
                        </m:ba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sup>
                        </m:sSubSup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e>
                        </m:bar>
                        <m:r>
                          <m:t xml:space="preserve">,</m:t>
                        </m:r>
                      </m:e>
                      <m:e>
                        <m:r>
                          <m:t xml:space="preserve">M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bSup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)</m:t>
                                </m:r>
                              </m:sup>
                            </m:sSubSup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  <m:e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bSup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2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bSup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bSup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2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bSup>
                              </m:sub>
                            </m:sSub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n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етод контрольных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лучайных величи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838080" y="2247840"/>
                <a:ext cx="7315200" cy="27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/>
                        </m:sSup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M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/>
                            </m:sSup>
                          </m:e>
                        </m:d>
                        <m:r>
                          <m:t xml:space="preserve">=</m:t>
                        </m:r>
                        <m:r>
                          <m:t xml:space="preserve">M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  <m:e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/>
                            </m:sSup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сновные понят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Факто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входные переменные модели и структурные допущ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клик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акци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– выходные показатели работы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етод непрямых оцено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1295280" y="1981080"/>
                <a:ext cx="6324840" cy="420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M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+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ы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факторов и отклик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533520" y="2133720"/>
          <a:ext cx="7924680" cy="4464000"/>
        </p:xfrm>
        <a:graphic>
          <a:graphicData uri="http://schemas.openxmlformats.org/drawingml/2006/table">
            <a:tbl>
              <a:tblPr/>
              <a:tblGrid>
                <a:gridCol w="3962160"/>
                <a:gridCol w="3962520"/>
              </a:tblGrid>
              <a:tr h="81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акто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клик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тенсивность поступления сообще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держка сообще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ительность сообще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пускная способ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исло узлов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эффициент использова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исло ли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ина очеред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иды фактор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33520" y="1828800"/>
          <a:ext cx="8153280" cy="4680000"/>
        </p:xfrm>
        <a:graphic>
          <a:graphicData uri="http://schemas.openxmlformats.org/drawingml/2006/table">
            <a:tbl>
              <a:tblPr/>
              <a:tblGrid>
                <a:gridCol w="4076640"/>
                <a:gridCol w="4076640"/>
              </a:tblGrid>
              <a:tr h="91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фактор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е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ичествен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тенсивность поступления сообще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чествен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сциплина обслужива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правляем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ичество устройст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управляем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тенсивность поступления сообще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одель измерен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80880" y="2068560"/>
          <a:ext cx="8382240" cy="67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068560"/>
                    <a:ext cx="838224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460440" y="3352680"/>
          <a:ext cx="6318360" cy="111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0440" y="3352680"/>
                    <a:ext cx="631836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лан эксперимен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828800" y="2133720"/>
          <a:ext cx="4952880" cy="316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133720"/>
                    <a:ext cx="4952880" cy="31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иды планов эксперимент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лан называетс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лны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есл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лан называетс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робны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ес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лан называетс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имметричны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ес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лан называетс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вномерны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если уровни любого фактора встречаются в плане одинаковое для данного фактора число раз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олный факторный план 2</a:t>
            </a:r>
            <a:r>
              <a:rPr b="1" lang="en-US" sz="4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85800" y="1981080"/>
          <a:ext cx="7772400" cy="4672080"/>
        </p:xfrm>
        <a:graphic>
          <a:graphicData uri="http://schemas.openxmlformats.org/drawingml/2006/table">
            <a:tbl>
              <a:tblPr/>
              <a:tblGrid>
                <a:gridCol w="1554120"/>
                <a:gridCol w="1494000"/>
                <a:gridCol w="1616040"/>
                <a:gridCol w="1554120"/>
                <a:gridCol w="155412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кл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Главные эффек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322200" y="1981080"/>
          <a:ext cx="8516880" cy="366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2200" y="1981080"/>
                    <a:ext cx="8516880" cy="36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23:40Z</dcterms:created>
  <dc:creator>lav</dc:creator>
  <dc:description/>
  <dc:language>en-US</dc:language>
  <cp:lastModifiedBy>support</cp:lastModifiedBy>
  <dcterms:modified xsi:type="dcterms:W3CDTF">2007-05-21T08:24:59Z</dcterms:modified>
  <cp:revision>154</cp:revision>
  <dc:subject/>
  <dc:title>Общие модели  динамических систем</dc:title>
</cp:coreProperties>
</file>