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1BF-45E2-40B5-9D97-A8DB9363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482-264E-4E5A-B594-2928DD98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EBC-59D2-48B0-AF4E-D149D581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298-C2E0-446B-99DD-AB704E00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ED7-4BCD-4940-8687-20D1192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7F7-C7A4-48A8-8FA6-4DC7B979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25E-1DAB-42A8-8F9C-5F65F1B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A6E-90FB-4A75-BF0A-33462A2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E0A-54B7-485C-9250-95541B58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323-8AD8-419F-98F8-630AE891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818-4875-4629-91CF-7C106FE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8F3-5FD4-4D67-A5FD-644FFB9E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29D1-D404-4D12-B913-E00DC542F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массового обслуж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оненты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954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90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6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22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728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05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7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428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50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05320" y="2138400"/>
          <a:ext cx="19810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138400"/>
                    <a:ext cx="1981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4267080"/>
          <a:ext cx="198108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267080"/>
                    <a:ext cx="1981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загрузки устройства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ожид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вки в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пребывания заявки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длина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заявок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523880"/>
          <a:ext cx="58816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881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О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е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поступления следующей 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оконч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уживания текущ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черед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яние устро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обрабо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задерж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5,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4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ой массового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МО) понимают динамическую систему, предназначенную для эффективного обслуживания случайного потока заявок при ограниченных ресурсах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4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Null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е время моде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требований в очере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использования устр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.7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86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44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02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386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44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02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496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428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496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1480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428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ком собы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С) называется последовательность событий, происходящих последовательно в случайные моменты време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1600" y="3581280"/>
          <a:ext cx="6095880" cy="2595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690840" y="34704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3580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1722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82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824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824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82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58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056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392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30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5240" y="5653080"/>
            <a:ext cx="10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4680" y="5148360"/>
            <a:ext cx="10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4480" y="4619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стейшим П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ток, обладающий одновременно свойствами стационарности, ординарности и отсутствия последств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 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остейшего ПС выполняется услов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22480" y="5181480"/>
          <a:ext cx="61372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181480"/>
                    <a:ext cx="61372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46360" y="1981080"/>
          <a:ext cx="528768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981080"/>
                    <a:ext cx="5287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тказами и с ожид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граниченным и неограниченным числом устрой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зные и многофаз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рядоченные и неупорядочен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приорит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интервалов времени между последовательно поступающими заяв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времени обслуживания зая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обслуживающих устр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кость накопителя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источников нагру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Эрланга поряд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произвольного ти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lav</cp:lastModifiedBy>
  <dcterms:modified xsi:type="dcterms:W3CDTF">2006-04-26T17:04:43Z</dcterms:modified>
  <cp:revision>127</cp:revision>
  <dc:subject/>
  <dc:title>Общие модели  динамических систем</dc:title>
</cp:coreProperties>
</file>