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237-6761-4BA1-8C2E-B34A5F9D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1BB-FD02-4DAA-BFC3-762F5D1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E28-1F53-4842-AB51-8E3A7DA2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D85-FF0E-435B-AA16-B7C571C0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928-C8C7-40CB-BF35-5BF631F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B56-A96A-42AF-A3FB-1DB9279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897-A151-45F4-9E68-0EEA064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B86-448F-4F7F-BAFB-EB0E3A1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6E1-F095-4C95-BA38-E7DDFAF7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A81-9B46-449B-ACD9-F3C888F2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C7B-8E1A-4A6F-B1A7-A981DEA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9E8-9E24-4F16-A9F3-4DCFE80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161C-7AFA-4850-891B-E0A365912A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иводимая цепь Мар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ласс состояний включающий в себ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ое 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состояния, с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ющие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ла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ит из одного состоя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это состояние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ощающ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пь Маркова состоит из одного класса существенных сообщающихся состояний, то она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води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вра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ев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ериод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возвращение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 возможно только через кратн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шаг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5400" y="2057400"/>
          <a:ext cx="88963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57400"/>
                    <a:ext cx="88963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ргодическая цепь Марков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пь Марков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год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существует пред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зависит от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приводимая возвратная непериодическая цепь Маркова является эргодическо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815364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1536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7467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прерывны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це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 процесс с непрерывным времене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 марковской цеп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поведение системы после произвольног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только от состояния процесс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не зависит от поведения процесса д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7480" y="1773360"/>
          <a:ext cx="7496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773360"/>
                    <a:ext cx="7496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93640" y="1773360"/>
          <a:ext cx="803448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773360"/>
                    <a:ext cx="803448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9880" y="2590920"/>
            <a:ext cx="1600200" cy="1828800"/>
            <a:chOff x="3809880" y="2590920"/>
            <a:chExt cx="1600200" cy="1828800"/>
          </a:xfrm>
        </p:grpSpPr>
        <p:sp>
          <p:nvSpPr>
            <p:cNvPr id="91" name=""/>
            <p:cNvSpPr/>
            <p:nvPr/>
          </p:nvSpPr>
          <p:spPr>
            <a:xfrm>
              <a:off x="38098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952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71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2720" y="2590920"/>
            <a:ext cx="1600200" cy="1828800"/>
            <a:chOff x="5562720" y="2590920"/>
            <a:chExt cx="1600200" cy="1828800"/>
          </a:xfrm>
        </p:grpSpPr>
        <p:sp>
          <p:nvSpPr>
            <p:cNvPr id="95" name=""/>
            <p:cNvSpPr/>
            <p:nvPr/>
          </p:nvSpPr>
          <p:spPr>
            <a:xfrm>
              <a:off x="556272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64804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000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590920"/>
            <a:ext cx="1600200" cy="1828800"/>
            <a:chOff x="1981080" y="259092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19810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664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53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5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76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512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760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5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376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6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ечные автом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фавит состоян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нальные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0640" y="1981080"/>
          <a:ext cx="7599600" cy="26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81080"/>
                    <a:ext cx="759960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ходных вероят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24040"/>
          <a:ext cx="6705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24040"/>
                    <a:ext cx="6705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риц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ходных вероят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2570040"/>
          <a:ext cx="43434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70040"/>
                    <a:ext cx="4343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ды марковски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значный марковский проц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массового обслуж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990720"/>
          <a:ext cx="56469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6469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716120"/>
          <a:ext cx="81532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6120"/>
                    <a:ext cx="81532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рица переходных вероятностей за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общающиеся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уществен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существенные со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ающими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4-26T11:55:20Z</dcterms:modified>
  <cp:revision>196</cp:revision>
  <dc:subject/>
  <dc:title>Общие модели  динамических систем</dc:title>
</cp:coreProperties>
</file>