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B52-FF30-499F-8E58-9EA7FF23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6E2-5FAE-49E5-AAA6-03BCE10A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573-F62F-4989-8502-8E7BDAA0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1A3-33FA-4024-987F-7247AF7F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D1C-FA8E-492B-8DAA-FE363A31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35E-0969-4AFC-B396-9600FDDC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BD2-30C8-49CA-840A-07621BDD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6DB-F759-4992-A306-420539B3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EBD-91F5-4219-AFDD-D60D5BB0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5DD-44AF-41EC-891F-102293E8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49F-EB5E-4D0A-8DEA-3C165469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F31-6C73-4156-97E1-5504FE0B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429D-E549-4643-89A7-4751E16C7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результатов наблюдений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52520" y="2362320"/>
          <a:ext cx="6210360" cy="27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2362320"/>
                    <a:ext cx="6210360" cy="27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тервальные оце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веритель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вал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исловой характеристик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енеральной совокупности с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верительной вероят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интервал (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со случайными границам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=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который накрывает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вероятностью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ень знач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троение интервальной оценки для среднего знач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6600" y="1828800"/>
          <a:ext cx="787536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828800"/>
                    <a:ext cx="787536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троение интервальной оценки для среднего знач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17480" y="1900080"/>
          <a:ext cx="786132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900080"/>
                    <a:ext cx="786132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97040" y="1692360"/>
          <a:ext cx="7626240" cy="48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1692360"/>
                    <a:ext cx="762624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90720" y="1585800"/>
                <a:ext cx="6400800" cy="40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σ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⇒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спределение Стьюд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19720" y="2438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25780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00400"/>
            <a:ext cx="7467480" cy="1752480"/>
          </a:xfrm>
          <a:custGeom>
            <a:avLst/>
            <a:gdLst/>
            <a:ahLst/>
            <a:rect l="l" t="t" r="r" b="b"/>
            <a:pathLst>
              <a:path w="4224" h="824">
                <a:moveTo>
                  <a:pt x="0" y="824"/>
                </a:moveTo>
                <a:cubicBezTo>
                  <a:pt x="352" y="772"/>
                  <a:pt x="704" y="720"/>
                  <a:pt x="1056" y="584"/>
                </a:cubicBezTo>
                <a:cubicBezTo>
                  <a:pt x="1408" y="448"/>
                  <a:pt x="1760" y="0"/>
                  <a:pt x="2112" y="8"/>
                </a:cubicBezTo>
                <a:cubicBezTo>
                  <a:pt x="2464" y="16"/>
                  <a:pt x="2816" y="496"/>
                  <a:pt x="3168" y="632"/>
                </a:cubicBezTo>
                <a:cubicBezTo>
                  <a:pt x="3520" y="768"/>
                  <a:pt x="3872" y="796"/>
                  <a:pt x="4224" y="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3198960"/>
            <a:ext cx="2897280" cy="9889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Стьюден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,1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133720"/>
            <a:ext cx="2819520" cy="1295280"/>
          </a:xfrm>
          <a:prstGeom prst="wedgeRectCallout">
            <a:avLst>
              <a:gd name="adj1" fmla="val 63680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льное распредел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6480" y="2971800"/>
            <a:ext cx="6476760" cy="2133720"/>
          </a:xfrm>
          <a:custGeom>
            <a:avLst/>
            <a:gdLst/>
            <a:ahLst/>
            <a:rect l="l" t="t" r="r" b="b"/>
            <a:pathLst>
              <a:path w="4224" h="824">
                <a:moveTo>
                  <a:pt x="0" y="824"/>
                </a:moveTo>
                <a:cubicBezTo>
                  <a:pt x="352" y="772"/>
                  <a:pt x="704" y="720"/>
                  <a:pt x="1056" y="584"/>
                </a:cubicBezTo>
                <a:cubicBezTo>
                  <a:pt x="1408" y="448"/>
                  <a:pt x="1760" y="0"/>
                  <a:pt x="2112" y="8"/>
                </a:cubicBezTo>
                <a:cubicBezTo>
                  <a:pt x="2464" y="16"/>
                  <a:pt x="2816" y="496"/>
                  <a:pt x="3168" y="632"/>
                </a:cubicBezTo>
                <a:cubicBezTo>
                  <a:pt x="3520" y="768"/>
                  <a:pt x="3872" y="796"/>
                  <a:pt x="4224" y="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ческие гипотез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ческой гипотез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редположение о виде и свойствах генерального и выборочного распредел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ерием знач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равило проверки статистической гипотез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кой критерия значимос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функция наблюдений, по значениям которой судят о справедливости гипотез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ческие гипотез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ической обла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ритерия называется подмножеств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ений статист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роятность попадания в которое при условии истинности гипотезы равна уровню значим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, 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ластью допустимых знач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атистики критерия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хема проверки гипотез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вигается проверяемая гипотез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ей альтернативна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уровень значимост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0.1, 0.05, 0.01, 0.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статисти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троится критическая обла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область допустимых значен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числяется выборочное значение статис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ипотез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вергается, иначе –приним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возможных значений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неральной совокупностью или пространством выбор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измеренных значений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 случайной величины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бор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выбор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ая функция зависящая от наблюдений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щность крите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щностью критер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вероятность отклонения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ложн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шибка первого 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клонение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вер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шибка второго 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инятие 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лож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гипотез с помощью доверительных интервал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потез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нимается, если построенный доверительный интервал покрывает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 отвергается в противном случае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12760" y="3733920"/>
          <a:ext cx="6491520" cy="27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3733920"/>
                    <a:ext cx="649152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95240" y="1884240"/>
          <a:ext cx="75088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884240"/>
                    <a:ext cx="75088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гист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2014560"/>
          <a:ext cx="838188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14560"/>
                    <a:ext cx="838188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95280" y="1676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2670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2080" y="4205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0200" y="1676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95280" y="1725480"/>
          <a:ext cx="5410440" cy="2541600"/>
        </p:xfrm>
        <a:graphic>
          <a:graphicData uri="http://schemas.openxmlformats.org/drawingml/2006/table">
            <a:tbl>
              <a:tblPr/>
              <a:tblGrid>
                <a:gridCol w="901800"/>
                <a:gridCol w="901800"/>
                <a:gridCol w="901800"/>
                <a:gridCol w="901440"/>
                <a:gridCol w="901800"/>
                <a:gridCol w="901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55920" y="2819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45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30240" y="426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1320" y="4267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3080" y="426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60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880" y="4267080"/>
            <a:ext cx="7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5640" y="3333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4033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705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5197320"/>
          <a:ext cx="7948440" cy="9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97320"/>
                    <a:ext cx="79484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16080" y="1922400"/>
          <a:ext cx="6605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1922400"/>
                    <a:ext cx="6605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73160" y="1905120"/>
          <a:ext cx="679608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905120"/>
                    <a:ext cx="6796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2057400"/>
          <a:ext cx="800100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00100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ариационный ря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риационным ряд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оследовательность элементов выборки, расположенных в неубывающе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имальны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максимальны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лементы выборки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айни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ость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мах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 -2, 3, 2, 3, -1, -4, 0, 1, 2, -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-4, -2, -2, -1, 0, 0, 1, 2, 2, 3, 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-4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чечные оце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чечной оцен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исловой характеристик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енеральной совокупности называется статисти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ближенно равна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оятель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для любог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мещен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41360" y="5638680"/>
          <a:ext cx="16336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5638680"/>
                    <a:ext cx="16336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532240" y="4435560"/>
          <a:ext cx="390204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2240" y="4435560"/>
                    <a:ext cx="39020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430360" y="2882880"/>
          <a:ext cx="3541680" cy="7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0360" y="2882880"/>
                    <a:ext cx="35416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ценки средних значений, дисперсии, корреля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39760" y="2057400"/>
          <a:ext cx="625464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2057400"/>
                    <a:ext cx="625464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довательность случайных чисел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.42, 0.52, 0.33, 0.43, 0.2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.58, 0.76, 0.53, 0.64, 0.2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математического ожидания: 0.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дисперсии: 0.07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е ожидание оценки диспер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22440" y="2379600"/>
          <a:ext cx="7672320" cy="31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379600"/>
                    <a:ext cx="767232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нцип максимального правдопод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52480" y="2492280"/>
          <a:ext cx="541044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492280"/>
                    <a:ext cx="541044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9-03-30T12:45:33Z</dcterms:modified>
  <cp:revision>92</cp:revision>
  <dc:subject/>
  <dc:title>Общие модели  динамических систем</dc:title>
</cp:coreProperties>
</file>