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239-D9F8-4D8F-B634-220FD9CE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F9D-AC20-483C-B5A1-9F3EDBD6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9B0-92A7-40C5-8FFC-FF00D81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4CD-960F-4384-8298-D278ABEA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1D8-1652-499D-B098-56FA25F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240-9935-4460-B62F-FF4514D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D53-1F18-4C82-A4DD-F64DF24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2C1-75E1-4A4B-B83B-F4685215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885-DB3C-4BC5-B604-32786CB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5B8-6A6B-408D-94FC-8287243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278-C4DE-4181-8955-E83F7DC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17F-5D83-4603-81E8-255CC9A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437-7725-4E8F-834D-13B36A42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3520" y="2743200"/>
          <a:ext cx="30844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43200"/>
                    <a:ext cx="3084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2438280"/>
          <a:ext cx="22860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2286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743200"/>
          <a:ext cx="3657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657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ерыв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33480" y="2654280"/>
          <a:ext cx="63817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654280"/>
                    <a:ext cx="63817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14400" y="4343400"/>
          <a:ext cx="533412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53341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независим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2680" y="2565360"/>
          <a:ext cx="5364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565360"/>
                    <a:ext cx="5364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реляция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эффициент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ляция случайных велич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корреляци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819520"/>
          <a:ext cx="78868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88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4648320"/>
          <a:ext cx="20574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648320"/>
                    <a:ext cx="2057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орреля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59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8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05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4196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336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348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372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320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9400" y="1989000"/>
          <a:ext cx="626580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989000"/>
                    <a:ext cx="62658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у из случайных велич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ой функцией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ама случайная величина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ацией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лучайная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данная на подмножеств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ым процессом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астиц, зарегистрированных счетчиком за время наблюд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бания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регулируемого автопилотом летательного аппарат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во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мосферного давл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данном географическом пунк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ого собы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мера того, насколько велика возможность его возникнов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меняется от 0 (вероятность невозможного события) до 1 (вероятность достоверного событ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является более обобщенным понятием случайного собы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йные величины могут бы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крет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ерыв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2514600"/>
          <a:ext cx="4952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952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нтраль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ельная теор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011320"/>
          <a:ext cx="64008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64008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58880" y="1895400"/>
          <a:ext cx="565632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895400"/>
                    <a:ext cx="565632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080" y="1893960"/>
          <a:ext cx="40640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93960"/>
                    <a:ext cx="40640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198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514600"/>
            <a:ext cx="32004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14600"/>
            <a:ext cx="3047760" cy="320040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3505320"/>
          <a:ext cx="15652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505320"/>
                    <a:ext cx="1565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дискретное множество значени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191120"/>
          <a:ext cx="6095880" cy="13460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2502000"/>
          <a:ext cx="335268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02000"/>
                    <a:ext cx="33526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72000"/>
          <a:ext cx="66643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72000"/>
                    <a:ext cx="6664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го ожидания  и дисперс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2209680"/>
          <a:ext cx="556272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562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599000"/>
          <a:ext cx="38941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99000"/>
                    <a:ext cx="3894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любое значение из некоторого интервал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случайная величина характери-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е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тностью вероят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63520" y="2635200"/>
          <a:ext cx="27226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635200"/>
                    <a:ext cx="2722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43000" y="3809880"/>
          <a:ext cx="487692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4876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отность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57400" y="2590920"/>
          <a:ext cx="39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90920"/>
                    <a:ext cx="39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4495680"/>
          <a:ext cx="28954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28954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4267080"/>
          <a:ext cx="63248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324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30360" y="2438280"/>
          <a:ext cx="3973680" cy="13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2438280"/>
                    <a:ext cx="39736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8-03-10T11:19:27Z</dcterms:modified>
  <cp:revision>51</cp:revision>
  <dc:subject/>
  <dc:title>Общие модели  динамических систем</dc:title>
</cp:coreProperties>
</file>