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2959-CDE4-42B1-B701-D3ABBBB1AD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Вход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формализуют воздействия, которые можно прикладывать к систем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Выход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это совокупность всех величин доступных измерен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7B20-AA01-47DB-920E-CD3A6DFDA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4B1E-5911-4015-92FC-41716635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A3AE-6150-4446-A383-7148C1768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4DEA-C532-4982-938E-75809AE35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F7BE-AC83-4D4C-8C3E-D310AB65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5617-A134-47BD-8255-93C92B1A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FFBF-5D42-4496-86CB-2DD2FB9B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9CF8-CB5A-4159-9831-4E298BB9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A837-0916-4164-94D0-4FF5A097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FAFA-29DA-4086-A944-BF023F30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B288-D2DD-41AF-89A8-15B8A51A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A630-ECE1-42A0-AC66-938BF4E9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A668-4126-4AAB-94E6-FA775A786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ирование 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BCAC-79F7-4576-840B-FDD9AD7CE56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Имитационное моделиров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пределение сист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строение концептуальной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лгоритмизация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ограммирование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ценка адекватности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ланирование эксперимент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Экспериментиро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нтерпретация результат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окументирова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8F4C-7DA8-4098-BA30-DCC7B761D6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ормальная модель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349280" y="1989000"/>
          <a:ext cx="6678720" cy="371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9280" y="1989000"/>
                    <a:ext cx="667872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B7A3-61BC-47DA-89C0-8CB0DFFBB8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лассификация модел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атические и динамические моде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искретные и непрерывные моде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етерминированные и стохастические моде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6BB5-CB97-4E0C-8791-323903D923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атические и динамические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дель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тическ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если значение ее выход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момент времен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яется только значением вход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тот же момент време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.е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дель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инамическ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если значение ее выход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момент времен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висит от всего прошлого входного процесс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т.е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10FA-53E5-4700-BEA8-E999292B5F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искретные и непрерыв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дель системы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искретн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прерывн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о входам, выходам и времени, если дискретным или непрерывным являются множества входов, выходов и моментов времени соответственно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 3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{0, 1, 2, 3, 4, 5, …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0}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 4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2)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1)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E4C7-403C-49BC-9112-68B8AC487D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етерминированные и стохастические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етерминированно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называется модель, значение выхода которой однозначно определяется значением входного сигнал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чины возникновения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еопределенносте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грешности и помехи измерени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точность математической моде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полнота информации о параметрах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0AF7-8B75-4F60-BD40-09B279D87C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атематические сх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хемы – непрерывно-детерминированные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хемы – дискретно-детерминированные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хемы – дискретно-стохастические 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хемы – непрерывно-стохастические 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хемы – сетевые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хемы – комбинированные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1CFE-E98E-46C1-AEBE-4997F117A1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епрерывно-детерминированные модел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220760" y="2228760"/>
          <a:ext cx="6126120" cy="32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2228760"/>
                    <a:ext cx="6126120" cy="32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FD6C-7DB8-4E4B-958B-D7C89AC76F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ы 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187280" y="2003400"/>
          <a:ext cx="2953080" cy="22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003400"/>
                    <a:ext cx="2953080" cy="22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4500720" y="2108160"/>
            <a:ext cx="3728880" cy="2356920"/>
            <a:chOff x="4500720" y="2108160"/>
            <a:chExt cx="3728880" cy="2356920"/>
          </a:xfrm>
        </p:grpSpPr>
        <p:sp>
          <p:nvSpPr>
            <p:cNvPr id="112" name=""/>
            <p:cNvSpPr/>
            <p:nvPr/>
          </p:nvSpPr>
          <p:spPr>
            <a:xfrm flipV="1">
              <a:off x="4876920" y="3593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24280" y="4127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00720" y="336564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86400" y="267984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5334120" y="275580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5334120" y="290808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334120" y="306036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5334120" y="321300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0120" y="267984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7620120" y="275580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7620120" y="290808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7620120" y="306036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7620120" y="321300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306072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77120" y="248112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5508720" y="2513160"/>
              <a:ext cx="1012680" cy="54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6521400" y="2513160"/>
              <a:ext cx="1074960" cy="54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18160" y="21081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21440" y="400536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1" name=""/>
          <p:cNvGraphicFramePr/>
          <p:nvPr/>
        </p:nvGraphicFramePr>
        <p:xfrm>
          <a:off x="2700360" y="4724280"/>
          <a:ext cx="3809880" cy="83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4724280"/>
                    <a:ext cx="380988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7A38-0C58-4676-8A0C-2C6184A2078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искретно-детерминированные модел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ечным автомат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 систем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&gt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входной алфавит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внутренний алфавит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выходной алфавит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функция переходов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функция выход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втомат Мил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втомат Мур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1814-C702-433F-8A4D-383F696A29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исте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истемой называется совокупность объектов, функционирующих и взаимодействующих между собой для достижения определенной цел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66EF-08F3-4B16-BB3E-0F4802523C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39640" y="1952640"/>
          <a:ext cx="7993080" cy="169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52640"/>
                    <a:ext cx="7993080" cy="16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1546200" y="4125960"/>
          <a:ext cx="6121440" cy="17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6200" y="4125960"/>
                    <a:ext cx="6121440" cy="17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780D-EEAF-45CA-8183-42BADDD863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искретно-стохастические  модел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0920" y="1981080"/>
            <a:ext cx="791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ероятностным автоматом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ывается систем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входной алфавит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внутренний алфавит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выходной алфавит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множество вероятносте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1,2,…,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}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1,2,…,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1,2,…,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D7CE-01E5-49A7-A9A9-BD50707BCB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187280" y="1847880"/>
          <a:ext cx="6096240" cy="14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7880"/>
                    <a:ext cx="6096240" cy="14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1650960" y="4005360"/>
          <a:ext cx="5657760" cy="13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50960" y="4005360"/>
                    <a:ext cx="565776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10FF-BA3B-42C0-9792-5A739B0745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епрерывно-стохастические  модел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24080" y="2590920"/>
            <a:ext cx="464832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43440" y="30481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52920" y="304812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62760" y="30481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43440" y="38862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52920" y="388620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62760" y="38862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2880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7240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33880" y="4648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 rot="5400000">
            <a:off x="777600" y="1982520"/>
            <a:ext cx="9118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явки на обслужи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05040" y="251460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черед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62440" y="25146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стро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00360" y="5638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тер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 rot="5400000">
            <a:off x="7513920" y="2024640"/>
            <a:ext cx="911880" cy="21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работанные заяв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83080" y="464508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76720" y="5635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каз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02400" y="464508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29040" y="5635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х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71640" y="3141720"/>
            <a:ext cx="1152720" cy="1079280"/>
          </a:xfrm>
          <a:custGeom>
            <a:avLst/>
            <a:gdLst/>
            <a:ahLst/>
            <a:rect l="l" t="t" r="r" b="b"/>
            <a:pathLst>
              <a:path w="726" h="680">
                <a:moveTo>
                  <a:pt x="0" y="0"/>
                </a:moveTo>
                <a:lnTo>
                  <a:pt x="726" y="0"/>
                </a:lnTo>
                <a:lnTo>
                  <a:pt x="726" y="680"/>
                </a:lnTo>
                <a:lnTo>
                  <a:pt x="0" y="6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08360" y="31417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1417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31417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60720" y="31417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3999-DD97-4D3D-B985-DE72E534FC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403280" y="1700280"/>
            <a:ext cx="6193080" cy="4104720"/>
            <a:chOff x="1403280" y="1700280"/>
            <a:chExt cx="6193080" cy="4104720"/>
          </a:xfrm>
        </p:grpSpPr>
        <p:grpSp>
          <p:nvGrpSpPr>
            <p:cNvPr id="174" name=""/>
            <p:cNvGrpSpPr/>
            <p:nvPr/>
          </p:nvGrpSpPr>
          <p:grpSpPr>
            <a:xfrm>
              <a:off x="2556000" y="2349360"/>
              <a:ext cx="606240" cy="648000"/>
              <a:chOff x="2556000" y="2349360"/>
              <a:chExt cx="606240" cy="648000"/>
            </a:xfrm>
          </p:grpSpPr>
          <p:sp>
            <p:nvSpPr>
              <p:cNvPr id="175" name=""/>
              <p:cNvSpPr/>
              <p:nvPr/>
            </p:nvSpPr>
            <p:spPr>
              <a:xfrm rot="16200000">
                <a:off x="2535120" y="2370240"/>
                <a:ext cx="648000" cy="606240"/>
              </a:xfrm>
              <a:custGeom>
                <a:avLst/>
                <a:gdLst/>
                <a:ahLst/>
                <a:rect l="l" t="t" r="r" b="b"/>
                <a:pathLst>
                  <a:path w="726" h="680">
                    <a:moveTo>
                      <a:pt x="0" y="0"/>
                    </a:moveTo>
                    <a:lnTo>
                      <a:pt x="726" y="0"/>
                    </a:lnTo>
                    <a:lnTo>
                      <a:pt x="726" y="680"/>
                    </a:lnTo>
                    <a:lnTo>
                      <a:pt x="0" y="68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556000" y="2470680"/>
                <a:ext cx="60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556000" y="2592360"/>
                <a:ext cx="60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556000" y="2713680"/>
                <a:ext cx="60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556000" y="2835000"/>
                <a:ext cx="60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556000" y="4581360"/>
              <a:ext cx="606240" cy="648000"/>
              <a:chOff x="2556000" y="4581360"/>
              <a:chExt cx="606240" cy="648000"/>
            </a:xfrm>
          </p:grpSpPr>
          <p:sp>
            <p:nvSpPr>
              <p:cNvPr id="181" name=""/>
              <p:cNvSpPr/>
              <p:nvPr/>
            </p:nvSpPr>
            <p:spPr>
              <a:xfrm rot="16200000">
                <a:off x="2535120" y="4602240"/>
                <a:ext cx="648000" cy="606240"/>
              </a:xfrm>
              <a:custGeom>
                <a:avLst/>
                <a:gdLst/>
                <a:ahLst/>
                <a:rect l="l" t="t" r="r" b="b"/>
                <a:pathLst>
                  <a:path w="726" h="680">
                    <a:moveTo>
                      <a:pt x="0" y="0"/>
                    </a:moveTo>
                    <a:lnTo>
                      <a:pt x="726" y="0"/>
                    </a:lnTo>
                    <a:lnTo>
                      <a:pt x="726" y="680"/>
                    </a:lnTo>
                    <a:lnTo>
                      <a:pt x="0" y="68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556000" y="4702680"/>
                <a:ext cx="60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556000" y="4824360"/>
                <a:ext cx="60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556000" y="4945680"/>
                <a:ext cx="60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556000" y="5067000"/>
                <a:ext cx="60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 flipV="1">
              <a:off x="2843280" y="2852280"/>
              <a:ext cx="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556000" y="3429000"/>
              <a:ext cx="576000" cy="576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843280" y="400536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11640" y="1700280"/>
              <a:ext cx="576360" cy="576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43280" y="1989000"/>
              <a:ext cx="1368360" cy="360360"/>
            </a:xfrm>
            <a:custGeom>
              <a:avLst/>
              <a:gdLst/>
              <a:ahLst/>
              <a:rect l="l" t="t" r="r" b="b"/>
              <a:pathLst>
                <a:path w="862" h="227">
                  <a:moveTo>
                    <a:pt x="0" y="227"/>
                  </a:moveTo>
                  <a:lnTo>
                    <a:pt x="0" y="0"/>
                  </a:lnTo>
                  <a:lnTo>
                    <a:pt x="86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03280" y="3141720"/>
              <a:ext cx="1152720" cy="431640"/>
            </a:xfrm>
            <a:custGeom>
              <a:avLst/>
              <a:gdLst/>
              <a:ahLst/>
              <a:rect l="l" t="t" r="r" b="b"/>
              <a:pathLst>
                <a:path w="726" h="272">
                  <a:moveTo>
                    <a:pt x="726" y="272"/>
                  </a:moveTo>
                  <a:lnTo>
                    <a:pt x="454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76360" y="5084640"/>
              <a:ext cx="1224000" cy="432000"/>
            </a:xfrm>
            <a:custGeom>
              <a:avLst/>
              <a:gdLst/>
              <a:ahLst/>
              <a:rect l="l" t="t" r="r" b="b"/>
              <a:pathLst>
                <a:path w="771" h="272">
                  <a:moveTo>
                    <a:pt x="0" y="272"/>
                  </a:moveTo>
                  <a:lnTo>
                    <a:pt x="771" y="272"/>
                  </a:lnTo>
                  <a:lnTo>
                    <a:pt x="77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4212000" y="1988640"/>
              <a:ext cx="3384360" cy="3816360"/>
              <a:chOff x="4212000" y="1988640"/>
              <a:chExt cx="3384360" cy="38163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37400" y="4508280"/>
                <a:ext cx="606600" cy="647640"/>
                <a:chOff x="5837400" y="4508280"/>
                <a:chExt cx="606600" cy="647640"/>
              </a:xfrm>
            </p:grpSpPr>
            <p:sp>
              <p:nvSpPr>
                <p:cNvPr id="195" name=""/>
                <p:cNvSpPr/>
                <p:nvPr/>
              </p:nvSpPr>
              <p:spPr>
                <a:xfrm flipH="1" flipV="1" rot="16200000">
                  <a:off x="5816520" y="4528440"/>
                  <a:ext cx="647640" cy="606600"/>
                </a:xfrm>
                <a:custGeom>
                  <a:avLst/>
                  <a:gdLst/>
                  <a:ahLst/>
                  <a:rect l="l" t="t" r="r" b="b"/>
                  <a:pathLst>
                    <a:path w="726" h="680">
                      <a:moveTo>
                        <a:pt x="0" y="0"/>
                      </a:moveTo>
                      <a:lnTo>
                        <a:pt x="726" y="0"/>
                      </a:lnTo>
                      <a:lnTo>
                        <a:pt x="726" y="680"/>
                      </a:lnTo>
                      <a:lnTo>
                        <a:pt x="0" y="68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H="1">
                  <a:off x="5837400" y="5034600"/>
                  <a:ext cx="606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>
                  <a:off x="5837400" y="4913280"/>
                  <a:ext cx="606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H="1">
                  <a:off x="5837400" y="4791960"/>
                  <a:ext cx="606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>
                  <a:off x="5837400" y="4670640"/>
                  <a:ext cx="606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837400" y="2276280"/>
                <a:ext cx="606600" cy="647640"/>
                <a:chOff x="5837400" y="2276280"/>
                <a:chExt cx="606600" cy="647640"/>
              </a:xfrm>
            </p:grpSpPr>
            <p:sp>
              <p:nvSpPr>
                <p:cNvPr id="201" name=""/>
                <p:cNvSpPr/>
                <p:nvPr/>
              </p:nvSpPr>
              <p:spPr>
                <a:xfrm flipH="1" flipV="1" rot="16200000">
                  <a:off x="5816520" y="2296440"/>
                  <a:ext cx="647640" cy="606600"/>
                </a:xfrm>
                <a:custGeom>
                  <a:avLst/>
                  <a:gdLst/>
                  <a:ahLst/>
                  <a:rect l="l" t="t" r="r" b="b"/>
                  <a:pathLst>
                    <a:path w="726" h="680">
                      <a:moveTo>
                        <a:pt x="0" y="0"/>
                      </a:moveTo>
                      <a:lnTo>
                        <a:pt x="726" y="0"/>
                      </a:lnTo>
                      <a:lnTo>
                        <a:pt x="726" y="680"/>
                      </a:lnTo>
                      <a:lnTo>
                        <a:pt x="0" y="68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H="1">
                  <a:off x="5837400" y="2802600"/>
                  <a:ext cx="606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H="1">
                  <a:off x="5837400" y="2681280"/>
                  <a:ext cx="606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>
                  <a:off x="5837400" y="2559960"/>
                  <a:ext cx="606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>
                  <a:off x="5837400" y="2438640"/>
                  <a:ext cx="606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6" name=""/>
              <p:cNvSpPr/>
              <p:nvPr/>
            </p:nvSpPr>
            <p:spPr>
              <a:xfrm>
                <a:off x="6156720" y="4077720"/>
                <a:ext cx="0" cy="57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flipV="1">
                <a:off x="5867280" y="3499560"/>
                <a:ext cx="576360" cy="576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156720" y="2923920"/>
                <a:ext cx="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 flipV="1">
                <a:off x="4211640" y="5228280"/>
                <a:ext cx="576360" cy="576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 flipV="1">
                <a:off x="4788000" y="5155200"/>
                <a:ext cx="1368360" cy="360360"/>
              </a:xfrm>
              <a:custGeom>
                <a:avLst/>
                <a:gdLst/>
                <a:ahLst/>
                <a:rect l="l" t="t" r="r" b="b"/>
                <a:pathLst>
                  <a:path w="862" h="227">
                    <a:moveTo>
                      <a:pt x="0" y="227"/>
                    </a:moveTo>
                    <a:lnTo>
                      <a:pt x="0" y="0"/>
                    </a:lnTo>
                    <a:lnTo>
                      <a:pt x="86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flipV="1">
                <a:off x="6443640" y="3931560"/>
                <a:ext cx="1152360" cy="432000"/>
              </a:xfrm>
              <a:custGeom>
                <a:avLst/>
                <a:gdLst/>
                <a:ahLst/>
                <a:rect l="l" t="t" r="r" b="b"/>
                <a:pathLst>
                  <a:path w="726" h="272">
                    <a:moveTo>
                      <a:pt x="726" y="272"/>
                    </a:moveTo>
                    <a:lnTo>
                      <a:pt x="454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 flipV="1">
                <a:off x="6299640" y="1988280"/>
                <a:ext cx="1224000" cy="431640"/>
              </a:xfrm>
              <a:custGeom>
                <a:avLst/>
                <a:gdLst/>
                <a:ahLst/>
                <a:rect l="l" t="t" r="r" b="b"/>
                <a:pathLst>
                  <a:path w="771" h="272">
                    <a:moveTo>
                      <a:pt x="0" y="272"/>
                    </a:moveTo>
                    <a:lnTo>
                      <a:pt x="771" y="272"/>
                    </a:lnTo>
                    <a:lnTo>
                      <a:pt x="77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4788000" y="1989000"/>
              <a:ext cx="1224000" cy="432000"/>
            </a:xfrm>
            <a:custGeom>
              <a:avLst/>
              <a:gdLst/>
              <a:ahLst/>
              <a:rect l="l" t="t" r="r" b="b"/>
              <a:pathLst>
                <a:path w="771" h="272">
                  <a:moveTo>
                    <a:pt x="0" y="0"/>
                  </a:moveTo>
                  <a:lnTo>
                    <a:pt x="771" y="0"/>
                  </a:lnTo>
                  <a:lnTo>
                    <a:pt x="771" y="27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2987640" y="5084640"/>
              <a:ext cx="1224000" cy="432000"/>
            </a:xfrm>
            <a:custGeom>
              <a:avLst/>
              <a:gdLst/>
              <a:ahLst/>
              <a:rect l="l" t="t" r="r" b="b"/>
              <a:pathLst>
                <a:path w="771" h="272">
                  <a:moveTo>
                    <a:pt x="0" y="0"/>
                  </a:moveTo>
                  <a:lnTo>
                    <a:pt x="771" y="0"/>
                  </a:lnTo>
                  <a:lnTo>
                    <a:pt x="771" y="27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DD7A-B6C0-44D1-BA13-0DAACBC78AF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етевые моде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етевые модел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исываются системой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&gt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множество позиций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множество переходов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0,1}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входная функция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0,1}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выходная функция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функция разметки се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02C4-D7C9-4DDF-98CA-0A915DDDBFF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124000" y="1506600"/>
          <a:ext cx="5400720" cy="44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506600"/>
                    <a:ext cx="5400720" cy="44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A46E-73D1-458C-9369-5F137B437E0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ая литерату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ветов Б.Я., Яковлев С.А. Моделирование систе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4-е изд. – М.: Высшая школа, 2005. – 343 с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ов Б.Я., Яковлев С.А. Моделирование систем. Практику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е изд. – М.: Высшая школа, 2003. – 295 с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льтон В., Лоу А. Имитационное моделирование. Классик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е изд. – СПб.: Питер; Киев: Издательская групп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HV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004. – 847 с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DE1E-FB03-4311-9F9D-DB17AF02596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ополнительная литерату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дриевский Б.Р., Фрадков А.Л. Элементы математического моделирования в программных среда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5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l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б.: Наука, 2001. – 286 с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оятностные разделы математики / Под ред. Максимова Ю.Д. – СПб.: «Иван Федоров», 2001. – 592 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оль И.М. Метод Монте-Карло. – М.: Наука, 1968. – 64с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FA72-D0C4-4B8C-969D-301200C0658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атематическое опис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стем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задается парой множеств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отношением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множество входов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множество выход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590920" y="4114800"/>
            <a:ext cx="3200400" cy="1066680"/>
            <a:chOff x="2590920" y="4114800"/>
            <a:chExt cx="3200400" cy="1066680"/>
          </a:xfrm>
        </p:grpSpPr>
        <p:sp>
          <p:nvSpPr>
            <p:cNvPr id="55" name=""/>
            <p:cNvSpPr/>
            <p:nvPr/>
          </p:nvSpPr>
          <p:spPr>
            <a:xfrm>
              <a:off x="4038480" y="44197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4191120"/>
              <a:ext cx="1219320" cy="990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90920" y="4648320"/>
              <a:ext cx="99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00600" y="4648320"/>
              <a:ext cx="99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320800" y="41148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668680" y="4114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F327-918F-4937-9473-32D0CCA426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жет быть представлена как отношения между множествам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(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+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[0,+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включающее все  пары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, для которых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т.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5A40-DBEE-40DF-B84F-9FF5DC6F1D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войства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елост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руктурирован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еленаправлен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0" y="2286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2057400"/>
            <a:ext cx="1219320" cy="99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25146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0120" y="251460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140320" y="1981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8820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3505320"/>
            <a:ext cx="533520" cy="510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4267080"/>
            <a:ext cx="533520" cy="510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15200" y="373392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3733920"/>
            <a:ext cx="304920" cy="76176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192" y="0"/>
                </a:moveTo>
                <a:lnTo>
                  <a:pt x="192" y="480"/>
                </a:lnTo>
                <a:lnTo>
                  <a:pt x="0" y="48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373392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31040" y="3733920"/>
            <a:ext cx="350640" cy="76176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192" y="480"/>
                </a:moveTo>
                <a:lnTo>
                  <a:pt x="0" y="48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86400" y="3703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19920" y="3352680"/>
            <a:ext cx="1981080" cy="152424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140320" y="3200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8820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19920" y="5029200"/>
            <a:ext cx="25146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8208-35F0-45FF-8640-4398B708ED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пособы исследования систе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ксперимент с реальной систем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ксперимент с моделью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изическая мод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атематическая мод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налитическое реш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митационное модел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5734-8FF4-4B8B-B918-F2B9CF6CE3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ирование 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оделирование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называется изучение системы по ее модели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одель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называется представление системы в форме удобной для ее изуч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атематическо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нцептуально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называется абстрактная модель, записанная на языке математик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E5AB-07A7-4452-8280-38B19B11D0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налитические моде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налитическими называются модели, использующие алгебраические, дифференциальные и другие уравнения, а также предусматривающие осуществление однозначной вычислительной процедуры, приводящей к их решени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A922-E0E8-4D0A-9CF7-6F3F6D48FF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митационные моде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митационными называются математические модели, воспроизводящие алгоритм функционирования исследуемой системы путем последовательного выполнения большого количества элементарных операц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72F4-C51A-4897-A91B-E1387ED16D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1:35:34Z</dcterms:created>
  <dc:creator>lav</dc:creator>
  <dc:description/>
  <dc:language>en-US</dc:language>
  <cp:lastModifiedBy>support</cp:lastModifiedBy>
  <dcterms:modified xsi:type="dcterms:W3CDTF">2008-03-10T09:12:05Z</dcterms:modified>
  <cp:revision>66</cp:revision>
  <dc:subject/>
  <dc:title>Математическое моделирование</dc:title>
</cp:coreProperties>
</file>