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16D-C52D-4C2A-9299-865BD80A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407-9F59-4B5D-94D4-7B68BA3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DE9-00B0-4379-B4C8-2D906D72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FE3-E4C1-4C9D-B411-C1D0B3C8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33D-B2EF-4309-B087-B82F538F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0FB-63B7-4DFB-9436-431DEA7E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128-505A-4949-9496-DB57478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29B-2AFE-482F-9F3D-C052FDAF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D0D-F298-4545-9BE4-48AD2E0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426-8C78-4E6D-8B1B-6B94B7D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C9C-ECFF-4D2C-8DBD-CFF1310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D4F-9ECD-4D9A-88D5-3C5BAD2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8E42-7C93-4307-BE60-A75E5EDF5E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иводимая цепь Мар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ласс состояний включающий в себ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ественное 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се состояния, с 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ающие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ла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ит из одного состоя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 это состояние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лощающ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пь Маркова состоит из одного класса существенных сообщающихся состояний, то она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иводи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врат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лев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иодичес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 период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ли возвращение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 возможно только через кратно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шаг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5400" y="2057400"/>
          <a:ext cx="889632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2057400"/>
                    <a:ext cx="88963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ргодическая цепь Марков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пь Марков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ргод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существует предел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торый не зависит от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еприводимая возвратная непериодическая цепь Маркова является эргодической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ое рас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752480"/>
          <a:ext cx="815364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15364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1905120"/>
          <a:ext cx="7467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467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прерывны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цеп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ый процесс с непрерывным времене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 марковской цеп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поведение системы после произвольног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только от состояния процесс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не зависит от поведения процесса до момента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7480" y="1773360"/>
          <a:ext cx="74962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773360"/>
                    <a:ext cx="7496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рождения и гиб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93640" y="1773360"/>
          <a:ext cx="8034480" cy="28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773360"/>
                    <a:ext cx="8034480" cy="28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9880" y="2590920"/>
            <a:ext cx="1600200" cy="1828800"/>
            <a:chOff x="3809880" y="2590920"/>
            <a:chExt cx="1600200" cy="1828800"/>
          </a:xfrm>
        </p:grpSpPr>
        <p:sp>
          <p:nvSpPr>
            <p:cNvPr id="91" name=""/>
            <p:cNvSpPr/>
            <p:nvPr/>
          </p:nvSpPr>
          <p:spPr>
            <a:xfrm>
              <a:off x="38098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952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71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2720" y="2590920"/>
            <a:ext cx="1600200" cy="1828800"/>
            <a:chOff x="5562720" y="2590920"/>
            <a:chExt cx="1600200" cy="1828800"/>
          </a:xfrm>
        </p:grpSpPr>
        <p:sp>
          <p:nvSpPr>
            <p:cNvPr id="95" name=""/>
            <p:cNvSpPr/>
            <p:nvPr/>
          </p:nvSpPr>
          <p:spPr>
            <a:xfrm>
              <a:off x="556272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64804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2000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81080" y="2590920"/>
            <a:ext cx="1600200" cy="1828800"/>
            <a:chOff x="1981080" y="2590920"/>
            <a:chExt cx="1600200" cy="1828800"/>
          </a:xfrm>
        </p:grpSpPr>
        <p:sp>
          <p:nvSpPr>
            <p:cNvPr id="99" name=""/>
            <p:cNvSpPr/>
            <p:nvPr/>
          </p:nvSpPr>
          <p:spPr>
            <a:xfrm>
              <a:off x="1981080" y="2590920"/>
              <a:ext cx="16002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066400" y="394308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8360" y="3029040"/>
              <a:ext cx="666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 состоя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88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53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752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1240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0000" y="329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776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512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7600" y="4343400"/>
            <a:ext cx="44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5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3376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86240" y="2133720"/>
            <a:ext cx="43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ечные автом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алфавит состоян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инальные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20640" y="1981080"/>
          <a:ext cx="7599600" cy="26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81080"/>
                    <a:ext cx="759960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рковские процесс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ойства переходных вероят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2624040"/>
          <a:ext cx="670572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24040"/>
                    <a:ext cx="6705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риц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ходных вероят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33720" y="2570040"/>
          <a:ext cx="434340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70040"/>
                    <a:ext cx="434340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иды марковски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скрет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марковская цеп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означный марковский проце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массового обслуж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990720"/>
          <a:ext cx="56469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6469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716120"/>
          <a:ext cx="815328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16120"/>
                    <a:ext cx="81532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трица переходных вероятностей за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аг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общающиеся состоя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ущественное состоя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существенные состоя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бщающими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81080" y="1925640"/>
          <a:ext cx="4648320" cy="36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25640"/>
                    <a:ext cx="46483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4-26T11:55:20Z</dcterms:modified>
  <cp:revision>196</cp:revision>
  <dc:subject/>
  <dc:title>Общие модели  динамических систем</dc:title>
</cp:coreProperties>
</file>