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F99-C263-43D8-8340-9F36B191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9D0-8921-4120-B62F-DA4A9CE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AA9-96CE-4E7A-A542-148E1F70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28E-9173-4E2B-8EEF-8D246A65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900-9677-4DB2-9950-2ECF169D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B56-034E-4214-B920-01FEC2F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C6F-6438-4DFC-90EE-52741BE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F53-CA12-4523-B6E0-656CB67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082-8F07-4BE0-834D-02DD01A9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282-6CFA-4F64-BC6F-963E76ED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8C6-4CFF-4597-B865-C2B497C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871-2110-4007-BDF1-6A5C708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256-21E5-43D5-AF46-645F09DEB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ы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685880"/>
          <a:ext cx="82980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685880"/>
                    <a:ext cx="82980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040" y="1747800"/>
          <a:ext cx="7818120" cy="2595600"/>
        </p:xfrm>
        <a:graphic>
          <a:graphicData uri="http://schemas.openxmlformats.org/drawingml/2006/table">
            <a:tbl>
              <a:tblPr/>
              <a:tblGrid>
                <a:gridCol w="1954080"/>
                <a:gridCol w="1878120"/>
                <a:gridCol w="2031840"/>
                <a:gridCol w="19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08280" y="4714920"/>
            <a:ext cx="300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-1+2)/2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+1+2)/2=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-1+2)/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ющей способност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ФП называется число, которое гарантирует, что эффекты не смешиваются, если сумма их факторов строго меньше данного числ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58200" cy="4841640"/>
        </p:xfrm>
        <a:graphic>
          <a:graphicData uri="http://schemas.openxmlformats.org/drawingml/2006/table">
            <a:tbl>
              <a:tblPr/>
              <a:tblGrid>
                <a:gridCol w="1111320"/>
                <a:gridCol w="2306520"/>
                <a:gridCol w="26481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00000" y="4765680"/>
            <a:ext cx="3519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+3+2)/2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-3+2)/2=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+3+2)/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ирования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шает задачу получения необходимой информации о модели, с учетом ограниченных ресурс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т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пределяет способ проведения каждой серии испытаний модели, предусмотренной планом эксперимент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бщи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209680"/>
          <a:ext cx="756288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75628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дополняющих случайных величи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1981080"/>
                <a:ext cx="632484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контрольны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247840"/>
                <a:ext cx="731520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ходные переменные модели и структурные допу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выходные показатели работы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прямых оц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95280" y="1981080"/>
                <a:ext cx="63248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ов и откл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133720"/>
          <a:ext cx="7924680" cy="4464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ержка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тельность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ускная способ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з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очере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фак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828800"/>
          <a:ext cx="8153280" cy="46800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циплина обслуж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измер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068560"/>
          <a:ext cx="8382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8560"/>
                    <a:ext cx="8382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0440" y="3352680"/>
          <a:ext cx="6318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3352680"/>
                    <a:ext cx="6318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экспери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133720"/>
          <a:ext cx="495288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95288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ов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об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метрич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мер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уровни любого фактора встречаются в плане одинаковое для данного фактора число ра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лав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2200" y="1981080"/>
          <a:ext cx="851688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81080"/>
                    <a:ext cx="85168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5-21T08:24:59Z</dcterms:modified>
  <cp:revision>154</cp:revision>
  <dc:subject/>
  <dc:title>Общие модели  динамических систем</dc:title>
</cp:coreProperties>
</file>