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3A1-4EA1-4E7C-93E9-F32469C1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001-BE6A-402E-83B3-3664D8F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23E-254C-4C4E-BDCA-19C24BF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33D-86C5-402F-AC6A-057D68FF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C02-AFB9-45A3-933E-C7D3DC4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188-96AA-47F9-B4BD-521EFCBF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0CD-4092-4527-B9ED-A8A324A8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26A-52E0-4D81-B49B-52B57262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92D-EC82-445D-A227-3EDCA6C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D90-3FF5-4251-8CBC-C32FAAC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CB1-9C49-437E-9EEB-8169135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0DA-1410-41AD-8205-EBF3E4D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74C1-DF25-4844-A797-095A9422F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25600" y="1882800"/>
          <a:ext cx="79340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882800"/>
                    <a:ext cx="79340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редаточ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3280" y="2276640"/>
          <a:ext cx="86644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276640"/>
                    <a:ext cx="86644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стой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17560" y="1828800"/>
          <a:ext cx="62136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828800"/>
                    <a:ext cx="62136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1828800"/>
            <a:ext cx="5432400" cy="4193640"/>
            <a:chOff x="1981080" y="1828800"/>
            <a:chExt cx="5432400" cy="4193640"/>
          </a:xfrm>
        </p:grpSpPr>
        <p:sp>
          <p:nvSpPr>
            <p:cNvPr id="78" name=""/>
            <p:cNvSpPr/>
            <p:nvPr/>
          </p:nvSpPr>
          <p:spPr>
            <a:xfrm flipV="1">
              <a:off x="2743200" y="205704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5486400"/>
              <a:ext cx="426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93880" y="5562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2946240"/>
              <a:ext cx="4038480" cy="134640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185436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96252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3429000"/>
            <a:ext cx="3110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429000"/>
                      <a:ext cx="311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981080" y="2971800"/>
            <a:ext cx="65268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297180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1981080" y="3944880"/>
            <a:ext cx="65268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394488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992240" y="2362320"/>
            <a:ext cx="63036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2240" y="236232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992240" y="4402080"/>
            <a:ext cx="630360" cy="39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2240" y="440208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652840" y="312408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2840" y="41911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767640" y="3276720"/>
            <a:ext cx="6458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67640" y="3276720"/>
                      <a:ext cx="64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743200" y="3301920"/>
              <a:ext cx="3962520" cy="812880"/>
            </a:xfrm>
            <a:custGeom>
              <a:avLst/>
              <a:gdLst/>
              <a:ahLst/>
              <a:rect l="l" t="t" r="r" b="b"/>
              <a:pathLst>
                <a:path w="2496" h="512">
                  <a:moveTo>
                    <a:pt x="0" y="512"/>
                  </a:moveTo>
                  <a:cubicBezTo>
                    <a:pt x="100" y="288"/>
                    <a:pt x="200" y="64"/>
                    <a:pt x="528" y="32"/>
                  </a:cubicBezTo>
                  <a:cubicBezTo>
                    <a:pt x="856" y="0"/>
                    <a:pt x="1640" y="256"/>
                    <a:pt x="1968" y="320"/>
                  </a:cubicBezTo>
                  <a:cubicBezTo>
                    <a:pt x="2296" y="384"/>
                    <a:pt x="2396" y="400"/>
                    <a:pt x="2496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247840"/>
              <a:ext cx="4114800" cy="2743200"/>
            </a:xfrm>
            <a:custGeom>
              <a:avLst/>
              <a:gdLst/>
              <a:ahLst/>
              <a:rect l="l" t="t" r="r" b="b"/>
              <a:pathLst>
                <a:path w="2592" h="1728">
                  <a:moveTo>
                    <a:pt x="0" y="648"/>
                  </a:moveTo>
                  <a:cubicBezTo>
                    <a:pt x="228" y="1188"/>
                    <a:pt x="456" y="1728"/>
                    <a:pt x="816" y="1656"/>
                  </a:cubicBezTo>
                  <a:cubicBezTo>
                    <a:pt x="1176" y="1584"/>
                    <a:pt x="1864" y="432"/>
                    <a:pt x="2160" y="216"/>
                  </a:cubicBezTo>
                  <a:cubicBezTo>
                    <a:pt x="2456" y="0"/>
                    <a:pt x="2524" y="180"/>
                    <a:pt x="2592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362320"/>
              <a:ext cx="4114800" cy="1765080"/>
            </a:xfrm>
            <a:custGeom>
              <a:avLst/>
              <a:gdLst/>
              <a:ahLst/>
              <a:rect l="l" t="t" r="r" b="b"/>
              <a:pathLst>
                <a:path w="2592" h="1112">
                  <a:moveTo>
                    <a:pt x="0" y="720"/>
                  </a:moveTo>
                  <a:cubicBezTo>
                    <a:pt x="188" y="916"/>
                    <a:pt x="376" y="1112"/>
                    <a:pt x="672" y="1008"/>
                  </a:cubicBezTo>
                  <a:cubicBezTo>
                    <a:pt x="968" y="904"/>
                    <a:pt x="1456" y="192"/>
                    <a:pt x="1776" y="96"/>
                  </a:cubicBezTo>
                  <a:cubicBezTo>
                    <a:pt x="2096" y="0"/>
                    <a:pt x="2344" y="216"/>
                    <a:pt x="2592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3467160"/>
              <a:ext cx="4038480" cy="1079280"/>
            </a:xfrm>
            <a:custGeom>
              <a:avLst/>
              <a:gdLst/>
              <a:ahLst/>
              <a:rect l="l" t="t" r="r" b="b"/>
              <a:pathLst>
                <a:path w="2544" h="680">
                  <a:moveTo>
                    <a:pt x="0" y="264"/>
                  </a:moveTo>
                  <a:cubicBezTo>
                    <a:pt x="224" y="472"/>
                    <a:pt x="448" y="680"/>
                    <a:pt x="768" y="648"/>
                  </a:cubicBezTo>
                  <a:cubicBezTo>
                    <a:pt x="1088" y="616"/>
                    <a:pt x="1624" y="144"/>
                    <a:pt x="1920" y="72"/>
                  </a:cubicBezTo>
                  <a:cubicBezTo>
                    <a:pt x="2216" y="0"/>
                    <a:pt x="2380" y="108"/>
                    <a:pt x="2544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систем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ойчи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все собствен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атри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лежат внутри единичного 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5320" y="2146320"/>
          <a:ext cx="5689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146320"/>
                    <a:ext cx="5689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9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8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кторны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хастический проце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9280" y="1989000"/>
          <a:ext cx="602604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9000"/>
                    <a:ext cx="60260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хождение через систему дискретного белого ш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0080" y="2100240"/>
          <a:ext cx="76122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7612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параметров выходной последова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9800" y="2333520"/>
          <a:ext cx="47116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2333520"/>
                    <a:ext cx="47116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орема 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рмальных процесс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205000"/>
          <a:ext cx="7704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04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7360" y="2452680"/>
          <a:ext cx="79660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452680"/>
                    <a:ext cx="7966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дисперсии выходного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1800360"/>
          <a:ext cx="51181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00360"/>
                    <a:ext cx="5118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760" y="2060640"/>
          <a:ext cx="8253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8253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933560"/>
          <a:ext cx="614196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3560"/>
                    <a:ext cx="6141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41240" y="1960560"/>
          <a:ext cx="7804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0560"/>
                    <a:ext cx="7804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альная пло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06400" y="2133720"/>
          <a:ext cx="57326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2133720"/>
                    <a:ext cx="57326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й белый ш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324160"/>
          <a:ext cx="561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24160"/>
                    <a:ext cx="561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2286000"/>
          <a:ext cx="648036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86000"/>
                    <a:ext cx="6480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рреляционное описание случай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8920" y="1758960"/>
          <a:ext cx="59770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8960"/>
                    <a:ext cx="59770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авнения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840" y="1695600"/>
          <a:ext cx="85168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95600"/>
                    <a:ext cx="85168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92200" y="2098800"/>
          <a:ext cx="79596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098800"/>
                    <a:ext cx="795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5-11T09:35:47Z</dcterms:modified>
  <cp:revision>60</cp:revision>
  <dc:subject/>
  <dc:title>Общие модели  динамических систем</dc:title>
</cp:coreProperties>
</file>