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E94-E81E-44C3-A160-0B55EF52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7C3-7BF4-45C2-8A6A-93871AB2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CDB-2021-4465-B4EA-3CB3F84E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770-9250-447D-95E6-CC152134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AAC-1D80-411B-9CCF-8A291836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7CA-0F7A-4EB2-8D2B-F4C40F05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C01-0A24-4954-AF0A-1364F07A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046-4B99-46D6-83B4-161EAA2A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C32-A2EB-431C-87BC-49D48243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F66-07EC-4748-A943-1B9DA11D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886-23FC-423E-87BF-46FF261F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93F-06BF-4F1D-A377-BE3A95A2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915B-389E-4D3F-A836-16E6E01A6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ирование эксперимент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ы взаимодейст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45960" y="1685880"/>
          <a:ext cx="82980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1685880"/>
                    <a:ext cx="82980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16040" y="1747800"/>
          <a:ext cx="7818120" cy="2595600"/>
        </p:xfrm>
        <a:graphic>
          <a:graphicData uri="http://schemas.openxmlformats.org/drawingml/2006/table">
            <a:tbl>
              <a:tblPr/>
              <a:tblGrid>
                <a:gridCol w="1954080"/>
                <a:gridCol w="1878120"/>
                <a:gridCol w="2031840"/>
                <a:gridCol w="19540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908280" y="4714920"/>
            <a:ext cx="30031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+4-1+2)/2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-4+1+2)/2=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3-4-1+2)/2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обные факторные пла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решающей способность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ДФП называется число, которое гарантирует, что эффекты не смешиваются, если сумма их факторов строго меньше данного числ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обные факторные пла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1676520"/>
          <a:ext cx="8458200" cy="4841640"/>
        </p:xfrm>
        <a:graphic>
          <a:graphicData uri="http://schemas.openxmlformats.org/drawingml/2006/table">
            <a:tbl>
              <a:tblPr/>
              <a:tblGrid>
                <a:gridCol w="1111320"/>
                <a:gridCol w="2306520"/>
                <a:gridCol w="2648160"/>
                <a:gridCol w="239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обный факторный план 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3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981080"/>
          <a:ext cx="7772400" cy="259560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616040"/>
                <a:gridCol w="1554120"/>
                <a:gridCol w="15541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981080"/>
          <a:ext cx="7772400" cy="259560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616040"/>
                <a:gridCol w="1554120"/>
                <a:gridCol w="15541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900000" y="4765680"/>
            <a:ext cx="35197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+4+3+2)/2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-4-3+2)/2=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3-4+3+2)/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планирования эксперимен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атегическое планирова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решает задачу получения необходимой информации о модели, с учетом ограниченных ресурс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ктическое планирова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пределяет способ проведения каждой серии испытаний модели, предусмотренной планом эксперимент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общих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чис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14400" y="2209680"/>
          <a:ext cx="7562880" cy="31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7562880" cy="31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дополняющих случайных величи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066680" y="1981080"/>
                <a:ext cx="6324840" cy="477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</m:e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,</m:t>
                        </m:r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контрольных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2247840"/>
                <a:ext cx="7315200" cy="27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ак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входные переменные модели и структурные допу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кли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акц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выходные показатели работы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непрямых оцен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295280" y="1981080"/>
                <a:ext cx="6324840" cy="42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акторов и откл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3520" y="2133720"/>
          <a:ext cx="7924680" cy="4464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поступления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ержка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тельность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пускная способ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узл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 использ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ли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очере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факто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828800"/>
          <a:ext cx="8153280" cy="46800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факто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поступления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циплина обслужи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авля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устрой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правля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поступления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измер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2068560"/>
          <a:ext cx="838224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68560"/>
                    <a:ext cx="83822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60440" y="3352680"/>
          <a:ext cx="631836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440" y="3352680"/>
                    <a:ext cx="631836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 эксперим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828800" y="2133720"/>
          <a:ext cx="495288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33720"/>
                    <a:ext cx="495288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планов эксперимен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об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мметрич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вномер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уровни любого фактора встречаются в плане одинаковое для данного фактора число раз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ый факторный план 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2400" cy="467208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616040"/>
                <a:gridCol w="1554120"/>
                <a:gridCol w="15541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лавные эффек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2200" y="1981080"/>
          <a:ext cx="8516880" cy="36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1981080"/>
                    <a:ext cx="851688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7-05-21T08:24:59Z</dcterms:modified>
  <cp:revision>154</cp:revision>
  <dc:subject/>
  <dc:title>Общие модели  динамических систем</dc:title>
</cp:coreProperties>
</file>