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881-7CAB-40B9-A596-B60E8507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0F4-583D-4BFC-A903-A6231084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6EE-4FCD-4BF8-9FAF-AEEF50C0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315-12D1-487F-9295-DB45BFF4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A7A-7601-453B-87EC-35C8897E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AB3-6A8D-4680-8B10-33EA524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806-9897-4088-A0B5-536ACD35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D68-411F-4F30-A7FA-B357C88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47D-8077-4BE9-BC30-68862C5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B1E-C20A-4F05-BE60-0F28BA3C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DC9-A0B9-46B3-87AF-5BE26D1B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AB5-A9F7-4538-B33F-DF71DF8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F465-6651-4747-8851-C368EF087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результатов наблюдений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52520" y="2362320"/>
          <a:ext cx="6210360" cy="27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362320"/>
                    <a:ext cx="62103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валь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вал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с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ой вероятно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интервал 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со случайными границам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=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который на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вероятностью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6600" y="1828800"/>
          <a:ext cx="78753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828800"/>
                    <a:ext cx="78753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троение интервальной оценки для среднего знач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7480" y="1900080"/>
          <a:ext cx="78613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900080"/>
                    <a:ext cx="78613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97040" y="1692360"/>
          <a:ext cx="7626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692360"/>
                    <a:ext cx="7626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0720" y="1585800"/>
                <a:ext cx="6400800" cy="40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⇒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спределение Стьюд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1972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25780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0400"/>
            <a:ext cx="7467480" cy="175248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198960"/>
            <a:ext cx="2897280" cy="988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Стьюден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,1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133720"/>
            <a:ext cx="2819520" cy="1295280"/>
          </a:xfrm>
          <a:prstGeom prst="wedgeRectCallout">
            <a:avLst>
              <a:gd name="adj1" fmla="val 63680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76480" y="2971800"/>
            <a:ext cx="6476760" cy="2133720"/>
          </a:xfrm>
          <a:custGeom>
            <a:avLst/>
            <a:gdLst/>
            <a:ahLst/>
            <a:rect l="l" t="t" r="r" b="b"/>
            <a:pathLst>
              <a:path w="4224" h="824">
                <a:moveTo>
                  <a:pt x="0" y="824"/>
                </a:moveTo>
                <a:cubicBezTo>
                  <a:pt x="352" y="772"/>
                  <a:pt x="704" y="720"/>
                  <a:pt x="1056" y="584"/>
                </a:cubicBezTo>
                <a:cubicBezTo>
                  <a:pt x="1408" y="448"/>
                  <a:pt x="1760" y="0"/>
                  <a:pt x="2112" y="8"/>
                </a:cubicBezTo>
                <a:cubicBezTo>
                  <a:pt x="2464" y="16"/>
                  <a:pt x="2816" y="496"/>
                  <a:pt x="3168" y="632"/>
                </a:cubicBezTo>
                <a:cubicBezTo>
                  <a:pt x="3520" y="768"/>
                  <a:pt x="3872" y="796"/>
                  <a:pt x="4224" y="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ой гипотез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едположение о виде и свойствах генерального и выборочного распреде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ем знач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равило проверки статистической гипоте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 критерия значим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функция наблюдений, по значениям которой судят о справедливости гипотез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стические гипотез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ической област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ритерия называется под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ений статист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роятность попадания в которое при условии истинности гипотезы равна уровню значимост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астью допустим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атистики критерия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хема проверки гипоте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вигается проверяемая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ей альтернативн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уровень значимост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0.1, 0.05, 0.01, 0.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тист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троится критическая обла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область допустимых значе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числяется выборочное значение статис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ипотез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вергается, иначе –приним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возможных значени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еральной совокупностью или пространство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ожество измеренных значений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 случайной величин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бор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м выбор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ая функция зависящая от наблюдений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сти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щность критер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щностью критер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вероятность отклонения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перв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клонение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вер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шибка второго р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инятие  гипотез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она лож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гипотез с помощью доверительных интервал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тез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нимается, если построенный доверительный интервал покрывает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отвергается в противном случа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12760" y="3733920"/>
          <a:ext cx="649152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3733920"/>
                    <a:ext cx="649152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95240" y="1884240"/>
          <a:ext cx="75088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884240"/>
                    <a:ext cx="75088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гист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2014560"/>
          <a:ext cx="838188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838188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3024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1320" y="4267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3080" y="426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880" y="4267080"/>
            <a:ext cx="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3333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4033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7051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5197320"/>
          <a:ext cx="7948440" cy="9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97320"/>
                    <a:ext cx="7948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6080" y="1922400"/>
          <a:ext cx="6605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1922400"/>
                    <a:ext cx="660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3160" y="1905120"/>
          <a:ext cx="679608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905120"/>
                    <a:ext cx="6796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2057400"/>
          <a:ext cx="800100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ариационный ря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риационным ря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последовательность элементов выборки, расположенных в неубывающе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ы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максимальны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лементы выборки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айни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сть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мах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 -2, 3, 2, 3, -1, -4, 0, 1, 2, -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-4, -2, -2, -1, 0, 0, 1, 2, 2, 3, 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-4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ечные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чечной оцен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числовой характеристик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енеральной совокупности называется статисти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ближенно равна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оятель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для любог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меще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41360" y="5638680"/>
          <a:ext cx="16336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5638680"/>
                    <a:ext cx="16336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32240" y="4435560"/>
          <a:ext cx="39020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4435560"/>
                    <a:ext cx="39020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0360" y="2882880"/>
          <a:ext cx="3541680" cy="7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0360" y="2882880"/>
                    <a:ext cx="3541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и средних значений, дисперсии,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39760" y="2057400"/>
          <a:ext cx="625464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057400"/>
                    <a:ext cx="62546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случайных чисел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42, 0.52, 0.33, 0.43, 0.2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.58, 0.76, 0.53, 0.64, 0.2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математического ожидания: 0.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дисперсии: 0.07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жидание оценки диспер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22440" y="2379600"/>
          <a:ext cx="7672320" cy="31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379600"/>
                    <a:ext cx="7672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 максимального правдопод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52480" y="2492280"/>
          <a:ext cx="541044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92280"/>
                    <a:ext cx="541044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9-03-30T12:45:33Z</dcterms:modified>
  <cp:revision>92</cp:revision>
  <dc:subject/>
  <dc:title>Общие модели  динамических систем</dc:title>
</cp:coreProperties>
</file>