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539-423E-4C6C-B55B-925E73D1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6A07-B47F-4AD4-91B5-4535EF46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2451-0737-4359-B870-94D61933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D5B-E2C4-4CDA-91CB-5D21AC49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807E-DA8A-4235-99EC-E1BB1B8D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AC7-C8D2-4559-B146-8853CB57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550A-A2F8-488E-9DD2-396B4BAC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E8D9-8DCF-463E-91AA-A134AA0E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5248-53D1-469D-AE86-C3ED748B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AEE-C9F7-4680-839E-465A65F1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284A-6CF0-4EF6-8F8E-29A72BBE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BE89-03CC-4B9C-BADA-899F53AA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487B-F9B5-481D-9810-88718D737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дискрет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получить последовательность значени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ой величин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распределением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3987720"/>
          <a:ext cx="6096240" cy="11178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дискрет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60720" indent="-36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вал (0,1) разбивается н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е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длинам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лученные интервалы нумеруются цифрами 1,2,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ординаты точек делени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…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720" indent="-36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ирается стандартно равномерно распределенная случайная величин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строится точ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720" indent="-36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эта точка попадает в интервал с номером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.43, 0.75, 0.11, 0.98, 0.35, 0.64, 0.23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    2,      3,      1,      3,      2,      2,      2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371600" y="1905120"/>
          <a:ext cx="6095880" cy="11174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424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непрерывной случайной величин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нахождения значения непрерывной случайной величин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ной в интервале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 плотностью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решить уравн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случайная величина, которая имеет стандартной равномерное распредел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567240" y="3773520"/>
                <a:ext cx="191916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щая форму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52480" y="2971800"/>
          <a:ext cx="5689800" cy="8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971800"/>
                    <a:ext cx="56898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4800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.43, 0.75, 0.11, 0.98, 0.35, 0.64, 0.23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    2,      3,      1,      3,      2,      2,      2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295280" y="1676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426708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2080" y="42051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0200" y="16765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95280" y="1725480"/>
          <a:ext cx="5410440" cy="2541600"/>
        </p:xfrm>
        <a:graphic>
          <a:graphicData uri="http://schemas.openxmlformats.org/drawingml/2006/table">
            <a:tbl>
              <a:tblPr/>
              <a:tblGrid>
                <a:gridCol w="901800"/>
                <a:gridCol w="901800"/>
                <a:gridCol w="901800"/>
                <a:gridCol w="901440"/>
                <a:gridCol w="901800"/>
                <a:gridCol w="9018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H="1">
            <a:off x="533520" y="426708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20968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81240" y="26337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981240" y="1947960"/>
            <a:ext cx="272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920" y="2819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845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92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419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1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60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404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Неймана для моделирования непрерыв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ая величина определена на конечном интервале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имеет ограниченную плотность вероятност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ираются два значения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лучайной величины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вычисляются величин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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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аче повторяем п.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Неймана для моделирования непрерыв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905120" y="25905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533412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89160" y="5334120"/>
            <a:ext cx="5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22920" y="262080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3962520"/>
            <a:ext cx="3504960" cy="1371600"/>
          </a:xfrm>
          <a:custGeom>
            <a:avLst/>
            <a:gdLst/>
            <a:ahLst/>
            <a:rect l="l" t="t" r="r" b="b"/>
            <a:pathLst>
              <a:path w="2208" h="864">
                <a:moveTo>
                  <a:pt x="0" y="864"/>
                </a:moveTo>
                <a:lnTo>
                  <a:pt x="576" y="0"/>
                </a:lnTo>
                <a:lnTo>
                  <a:pt x="1248" y="0"/>
                </a:lnTo>
                <a:lnTo>
                  <a:pt x="1248" y="384"/>
                </a:lnTo>
                <a:lnTo>
                  <a:pt x="2208" y="384"/>
                </a:lnTo>
                <a:lnTo>
                  <a:pt x="2208" y="864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905120" y="3962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20760" y="36878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29360" y="3352680"/>
            <a:ext cx="9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362320" y="3962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867280" y="3962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3962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45720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41148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5029200"/>
            <a:ext cx="7596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46483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42670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50292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47242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41911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7242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4267080"/>
            <a:ext cx="7596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42670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42670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48006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4952880"/>
            <a:ext cx="7596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5105520"/>
            <a:ext cx="7596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48006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495288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4876920"/>
            <a:ext cx="7596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41148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6483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114800"/>
            <a:ext cx="76320" cy="763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51055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5105520"/>
            <a:ext cx="76320" cy="7596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ирование равномерно распределенной случайной величи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нерируем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вращаем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экспоненциально  распределенной случайной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2860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нерируем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вращаем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особы получения 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изические генераторы (датчики) случайных величи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граммные генераторы  (датчики) псевдослучайных чисе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ирование нормально распределенной случайной величи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676520" y="2819520"/>
                <a:ext cx="5352840" cy="24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γ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nμ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η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ирование нормально распределенной случайной величи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366920" y="3048120"/>
          <a:ext cx="6941880" cy="20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6920" y="3048120"/>
                    <a:ext cx="694188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мещенные и усеченные распределе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514600" y="2514600"/>
                <a:ext cx="3833640" cy="314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коррелированных 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43000" y="2389320"/>
          <a:ext cx="6781680" cy="37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89320"/>
                    <a:ext cx="6781680" cy="37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инейные конгруэнтные генераторы (ЛКГ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8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|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0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оре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КГ имеет полный период, когд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яются следующие услов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-368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являются взаимно простыми числам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-368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лится на простое числ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 тоже делится н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-368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лится 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 тоже делится на 4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+3) (mod 5)=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3) (mod 5)=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3) (mod 5)=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3) (mod 5)=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3) (mod 5)=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= (6•4+3) (mod 5)=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+5) (mod 5)=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= (6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•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+5) (mod 5)=4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ультипликативные  генератор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80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|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оре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льтипликативный генератор име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иод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, когда выполняются следующ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ов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-380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простым числом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160" indent="-380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первообразным корнем по модул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.е. наименьшее целое числ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для которог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лится н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есть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 (mod 5)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5)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5)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5)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= (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 (mod 5)=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 (mod 5)=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(mod 5)=4,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= (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•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 (mod 5)=1.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комендуемые парамет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 = 2 147 483 6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30 360 0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7-03-26T08:18:48Z</dcterms:modified>
  <cp:revision>70</cp:revision>
  <dc:subject/>
  <dc:title>Общие модели  динамических систем</dc:title>
</cp:coreProperties>
</file>