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F6EB-EE9F-40CB-8D92-1CF7D11F6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1BC5-7DEA-42AE-9609-83D22EF4D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9469-2AD9-45B0-A554-3BF6C0896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F74D-B0D2-415A-9F80-EF92A8688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85C0-9629-4B8A-B2F8-50607BEA5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F149-080B-4D9F-937E-BA8219F29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DB9F-E5B1-40C4-8052-1D6C57C0D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9C67-2C83-45E1-A859-26E5DA640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5073-D9B3-455A-BC1F-591519F84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956F-6D38-4F8D-8DE5-B08FF9D71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9C35-527B-4466-B8D0-84191F2D7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04A6-0423-4498-AE3D-31D459A14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D041B-2674-43D4-9795-A49909F2CC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истемы массового обслуживания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Лямин Андрей Владимирови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Компоненты СМ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295280" y="2895480"/>
            <a:ext cx="6705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295280" y="4952880"/>
            <a:ext cx="6705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00200" y="2819520"/>
            <a:ext cx="0" cy="1522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200400" y="2819520"/>
            <a:ext cx="0" cy="1522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267080" y="2819520"/>
            <a:ext cx="0" cy="1522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867280" y="2819520"/>
            <a:ext cx="0" cy="1522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391520" y="2819520"/>
            <a:ext cx="0" cy="1522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905120" y="4876920"/>
            <a:ext cx="0" cy="1522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048120" y="4876920"/>
            <a:ext cx="0" cy="1522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2880" y="4876920"/>
            <a:ext cx="0" cy="1522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943600" y="4876920"/>
            <a:ext cx="0" cy="1522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934320" y="4876920"/>
            <a:ext cx="0" cy="1522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129040" y="2895480"/>
            <a:ext cx="45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00640" y="2895480"/>
            <a:ext cx="45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872240" y="2895480"/>
            <a:ext cx="45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07280" y="2895480"/>
            <a:ext cx="45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270520" y="495288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816720" y="495288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264280" y="495288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255000" y="495288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3505320" y="2138400"/>
          <a:ext cx="1981080" cy="52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138400"/>
                    <a:ext cx="1981080" cy="52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3505320" y="4267080"/>
          <a:ext cx="1981080" cy="528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05320" y="4267080"/>
                    <a:ext cx="1981080" cy="5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Характеристики СМ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эффициент загрузки устройства 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реднее время ожидания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явки в очереди –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реднее время пребывания заявки в системе –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редняя длина очереди –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реднее число заявок в системе –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сновные соотнош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523880" y="1523880"/>
          <a:ext cx="588168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523880"/>
                    <a:ext cx="588168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МО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истемное врем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–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время поступления следующей заявк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–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время окончания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бслуживания текущей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аявк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очередь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состояние устройств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ремя обработк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личество задержек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4514760" y="3340080"/>
          <a:ext cx="114480" cy="17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14760" y="3340080"/>
                    <a:ext cx="114480" cy="1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7724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={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0.4, 1.2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0.5, 1.7, 0.2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={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2.0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0.7, 0.2, 1.1, 3.7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= 0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}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0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;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0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0.4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Nu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= 0.4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}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;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0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1.6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2.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7724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={</a:t>
            </a:r>
            <a:r>
              <a:rPr b="0" lang="en-US" sz="2800" spc="-1" strike="noStrike">
                <a:solidFill>
                  <a:srgbClr val="808080"/>
                </a:solidFill>
                <a:latin typeface="Times New Roman"/>
              </a:rPr>
              <a:t>0.4, 1.2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0.5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1.7, 0.2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={</a:t>
            </a:r>
            <a:r>
              <a:rPr b="0" lang="en-US" sz="2800" spc="-1" strike="noStrike">
                <a:solidFill>
                  <a:srgbClr val="808080"/>
                </a:solidFill>
                <a:latin typeface="Times New Roman"/>
              </a:rPr>
              <a:t>2.0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0.7, 0.2, 1.1, 3.7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= 0.4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}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;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0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1.6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2.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= 1.6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1}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;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.2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2.1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2.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7724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={</a:t>
            </a:r>
            <a:r>
              <a:rPr b="0" lang="en-US" sz="2800" spc="-1" strike="noStrike">
                <a:solidFill>
                  <a:srgbClr val="808080"/>
                </a:solidFill>
                <a:latin typeface="Times New Roman"/>
              </a:rPr>
              <a:t>0.4, 1.2, 0.5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1.7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0.2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={</a:t>
            </a:r>
            <a:r>
              <a:rPr b="0" lang="en-US" sz="2800" spc="-1" strike="noStrike">
                <a:solidFill>
                  <a:srgbClr val="808080"/>
                </a:solidFill>
                <a:latin typeface="Times New Roman"/>
              </a:rPr>
              <a:t>2.0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0.7, 0.2, 1.1, 3.7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= 1.6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1}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;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.2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2.1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2.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= 2.1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1,1}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.5;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.7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3.8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2.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7724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={</a:t>
            </a:r>
            <a:r>
              <a:rPr b="0" lang="en-US" sz="2800" spc="-1" strike="noStrike">
                <a:solidFill>
                  <a:srgbClr val="808080"/>
                </a:solidFill>
                <a:latin typeface="Times New Roman"/>
              </a:rPr>
              <a:t>0.4, 1.2, 0.5, 1.7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0.2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={</a:t>
            </a:r>
            <a:r>
              <a:rPr b="0" lang="en-US" sz="2800" spc="-1" strike="noStrike">
                <a:solidFill>
                  <a:srgbClr val="808080"/>
                </a:solidFill>
                <a:latin typeface="Times New Roman"/>
              </a:rPr>
              <a:t>2.0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0.7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0.2, 1.1, 3.7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= 2.1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1,1}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.5;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.7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3.8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2.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= 2.4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1}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1;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2.0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3.8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3.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7724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={</a:t>
            </a:r>
            <a:r>
              <a:rPr b="0" lang="en-US" sz="2800" spc="-1" strike="noStrike">
                <a:solidFill>
                  <a:srgbClr val="808080"/>
                </a:solidFill>
                <a:latin typeface="Times New Roman"/>
              </a:rPr>
              <a:t>0.4, 1.2, 0.5, 1.7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0.2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={</a:t>
            </a:r>
            <a:r>
              <a:rPr b="0" lang="en-US" sz="2800" spc="-1" strike="noStrike">
                <a:solidFill>
                  <a:srgbClr val="808080"/>
                </a:solidFill>
                <a:latin typeface="Times New Roman"/>
              </a:rPr>
              <a:t>2.0, 0.7,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 0.2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1.1, 3.7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= 2.4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1}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1;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2.0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3.8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3.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= 3.1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}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8;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2.7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3.8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3.3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7724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={</a:t>
            </a:r>
            <a:r>
              <a:rPr b="0" lang="en-US" sz="2800" spc="-1" strike="noStrike">
                <a:solidFill>
                  <a:srgbClr val="808080"/>
                </a:solidFill>
                <a:latin typeface="Times New Roman"/>
              </a:rPr>
              <a:t>0.4, 1.2, 0.5, 1.7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0.2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={</a:t>
            </a:r>
            <a:r>
              <a:rPr b="0" lang="en-US" sz="2800" spc="-1" strike="noStrike">
                <a:solidFill>
                  <a:srgbClr val="808080"/>
                </a:solidFill>
                <a:latin typeface="Times New Roman"/>
              </a:rPr>
              <a:t>2.0, 0.7, 0.2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1.1, 3.7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= 3.1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}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8;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2.7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3.8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3.3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= 3.3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}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0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8;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2.9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3.8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Nu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пределе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д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истемой массового обслуживан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(СМО) понимают динамическую систему, предназначенную для эффективного обслуживания случайного потока заявок при ограниченных ресурсах систем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7724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={</a:t>
            </a:r>
            <a:r>
              <a:rPr b="0" lang="en-US" sz="2800" spc="-1" strike="noStrike">
                <a:solidFill>
                  <a:srgbClr val="808080"/>
                </a:solidFill>
                <a:latin typeface="Times New Roman"/>
              </a:rPr>
              <a:t>0.4, 1.2, 0.5, 1.7,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 0.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={</a:t>
            </a:r>
            <a:r>
              <a:rPr b="0" lang="en-US" sz="2800" spc="-1" strike="noStrike">
                <a:solidFill>
                  <a:srgbClr val="808080"/>
                </a:solidFill>
                <a:latin typeface="Times New Roman"/>
              </a:rPr>
              <a:t>2.0, 0.7, 0.2,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 1.1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3.7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= 3.3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}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0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8;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2.9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3.8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Nu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= 3.8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}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8;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2.9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4.0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4.9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7724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={</a:t>
            </a:r>
            <a:r>
              <a:rPr b="0" lang="en-US" sz="2800" spc="-1" strike="noStrike">
                <a:solidFill>
                  <a:srgbClr val="808080"/>
                </a:solidFill>
                <a:latin typeface="Times New Roman"/>
              </a:rPr>
              <a:t>0.4, 1.2, 0.5, 1.7, 0.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={</a:t>
            </a:r>
            <a:r>
              <a:rPr b="0" lang="en-US" sz="2800" spc="-1" strike="noStrike">
                <a:solidFill>
                  <a:srgbClr val="808080"/>
                </a:solidFill>
                <a:latin typeface="Times New Roman"/>
              </a:rPr>
              <a:t>2.0, 0.7, 0.2, 1.1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3.7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= 3.8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}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8;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2.9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4.0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4.9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= 4.0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1}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8;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3.1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Null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4.9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685800" y="22093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щее время моделирова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4.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реднее число требований в очеред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/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.8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0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.4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эффициент использования устройств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/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1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0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= 0.77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бработка результат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Структура СМ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24080" y="2590920"/>
            <a:ext cx="464832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738680" y="304812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424480" y="304812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110280" y="304812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738680" y="388620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424480" y="388620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110280" y="388620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04960" y="3048120"/>
            <a:ext cx="38124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14800" y="3048120"/>
            <a:ext cx="3808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24280" y="3048120"/>
            <a:ext cx="3808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604960" y="3886200"/>
            <a:ext cx="38124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214800" y="3886200"/>
            <a:ext cx="3808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24280" y="3886200"/>
            <a:ext cx="3808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28800" y="35812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72400" y="35812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46483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 rot="5400000">
            <a:off x="777600" y="1982520"/>
            <a:ext cx="91188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Заявки на обслужива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705040" y="2514600"/>
            <a:ext cx="142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черед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762440" y="251460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Устройст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895480" y="56386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каз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 rot="5400000">
            <a:off x="7513920" y="2024640"/>
            <a:ext cx="911880" cy="21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бработанные заяв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оток событи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током событи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(ПС) называется последовательность событий, происходящих последовательно в случайные моменты времени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371600" y="3581280"/>
          <a:ext cx="6095880" cy="2595600"/>
        </p:xfrm>
        <a:graphic>
          <a:graphicData uri="http://schemas.openxmlformats.org/drawingml/2006/table">
            <a:tbl>
              <a:tblPr/>
              <a:tblGrid>
                <a:gridCol w="1015920"/>
                <a:gridCol w="1015920"/>
                <a:gridCol w="1016280"/>
                <a:gridCol w="1015920"/>
                <a:gridCol w="1015920"/>
                <a:gridCol w="1015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" name=""/>
          <p:cNvSpPr/>
          <p:nvPr/>
        </p:nvSpPr>
        <p:spPr>
          <a:xfrm>
            <a:off x="690840" y="3470400"/>
            <a:ext cx="60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086240" y="57150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371600" y="3580920"/>
            <a:ext cx="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1600" y="6172200"/>
            <a:ext cx="6095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038240" y="5410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038240" y="4952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38240" y="4419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038240" y="3886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15800" y="6172200"/>
            <a:ext cx="354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20560" y="6172200"/>
            <a:ext cx="354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287600" y="6172200"/>
            <a:ext cx="354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263920" y="6172200"/>
            <a:ext cx="354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330600" y="6172200"/>
            <a:ext cx="354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038240" y="5943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71600" y="6172200"/>
            <a:ext cx="2057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405240" y="5653080"/>
            <a:ext cx="1023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414680" y="5148360"/>
            <a:ext cx="1024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24480" y="4619520"/>
            <a:ext cx="2057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остейший поток событи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остейшим ПС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называется поток, обладающий одновременно свойствами стационарности, ординарности и отсутствия последствий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Теорема 1.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ля простейшего ПС выполняется услови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122480" y="5181480"/>
          <a:ext cx="6137280" cy="13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2480" y="5181480"/>
                    <a:ext cx="6137280" cy="13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остейший поток событи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1746360" y="1981080"/>
          <a:ext cx="5287680" cy="387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46360" y="1981080"/>
                    <a:ext cx="5287680" cy="387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Классификация СМ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МО с отказами и с ожидание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МО с ограниченным и неограниченным числом устройств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днофазные и многофазные СМ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порядоченные и неупорядоченные СМ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МО с приоритетам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Обозначение СМ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/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/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– описывает закон распределения интервалов времени между последовательно поступающими заявкам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– описывает закон распределения времени обслуживания заяво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число обслуживающих устройст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мкость накопителя систем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число источников нагруз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Обозначение СМ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 –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экспоненциальное распределе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спределение Эрланга порядка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 –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етерминированное распределе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 –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спределение произвольного тип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4T11:23:40Z</dcterms:created>
  <dc:creator>lav</dc:creator>
  <dc:description/>
  <dc:language>en-US</dc:language>
  <cp:lastModifiedBy>lav</cp:lastModifiedBy>
  <dcterms:modified xsi:type="dcterms:W3CDTF">2006-04-26T17:04:43Z</dcterms:modified>
  <cp:revision>127</cp:revision>
  <dc:subject/>
  <dc:title>Общие модели  динамических систем</dc:title>
</cp:coreProperties>
</file>