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D896-3628-4839-9500-28A2CDEF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D065-6599-4E5C-97F9-97F86A03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BA9F-9EC2-4AD6-861E-02E62A32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5EB9-5DAB-4AE3-B385-9F87FAF7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2FAD-7DD7-4B7D-B66E-71C92809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D3DE-6B5D-4652-B1D8-5E29D8AC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9CE-BE82-4FA6-876E-0B127E73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53FE-C7FC-4A73-89AA-851C35B8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BB4A-903B-4E01-AB1E-2E5FC68A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A29B-2FEA-4D12-8481-84A71944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C37E-21F7-4336-BD6D-B3F007CC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B587-4BD7-47A0-8637-BCD5ACFE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FEB6-F3EE-45CA-B25B-3C742C9AC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ы массового обслужива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мпоненты СМ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289548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952880"/>
            <a:ext cx="6705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28195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0400" y="28195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28195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28195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28195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48769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48769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48769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48769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4876920"/>
            <a:ext cx="0" cy="152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29040" y="28954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0640" y="28954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2240" y="28954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7280" y="28954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70520" y="4952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6720" y="4952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64280" y="4952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55000" y="4952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505320" y="2138400"/>
          <a:ext cx="1981080" cy="5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138400"/>
                    <a:ext cx="198108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505320" y="4267080"/>
          <a:ext cx="1981080" cy="5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4267080"/>
                    <a:ext cx="198108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Характеристики СМ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эффициент загрузки устройства 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ее время ожидан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явки в очереди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ее время пребывания заявки в системе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яя длина очереди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ее число заявок в системе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соотнош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23880" y="1523880"/>
          <a:ext cx="58816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58816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МО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стемное врем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ремя поступления следующей заяв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ремя оконча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служивания текуще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яв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черед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стояние устрой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емя обработ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ичество задерже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0.4, 1.2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5, 1.7, 0.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2.0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7, 0.2, 1.1,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0.4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N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0.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.6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.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0.5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.7, 0.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7, 0.2, 1.1,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0.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.6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.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1.6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2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.1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.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 0.5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1.7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7, 0.2, 1.1,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1.6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2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.1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.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2.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,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7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.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 0.5, 1.7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0.7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2, 1.1,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2.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,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7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.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2.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.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 0.5, 1.7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 0.7,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0.2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.1,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2.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.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3.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7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.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 0.5, 1.7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2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 0.7, 0.2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.1,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3.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7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.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3.3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9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N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стемой массового обслужив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СМО) понимают динамическую систему, предназначенную для эффективного обслуживания случайного потока заявок при ограниченных ресурсах систе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 0.5, 1.7,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0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 0.7, 0.2,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1.1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3.3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9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.8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N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3.8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9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4.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4.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0.4, 1.2, 0.5, 1.7, 0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={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2.0, 0.7, 0.2, 1.1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.7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3.8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9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4.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4.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4.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}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.1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Null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4.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щее время модел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ее число требований в очеред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/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эффициент использования устрой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/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0.7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результа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труктура СМ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24080" y="2590920"/>
            <a:ext cx="46483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38680" y="3048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24480" y="3048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0280" y="3048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3868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2448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1028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04960" y="304812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4800" y="30481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24280" y="30481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04960" y="38862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14800" y="3886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24280" y="3886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880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240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5400000">
            <a:off x="777600" y="1982520"/>
            <a:ext cx="9118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явки на обслужи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05040" y="251460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черед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62440" y="25146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стро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5638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ка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 rot="5400000">
            <a:off x="7513920" y="2024640"/>
            <a:ext cx="911880" cy="21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работанные заяв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ток собы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током событ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ПС) называется последовательность событий, происходящих последовательно в случайные моменты времен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371600" y="3581280"/>
          <a:ext cx="6095880" cy="259560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690840" y="347040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86240" y="5715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371600" y="3580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1722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3824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3824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3824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3824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15800" y="61722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0560" y="61722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87600" y="61722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63920" y="61722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30600" y="61722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3824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617220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05240" y="5653080"/>
            <a:ext cx="10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4680" y="5148360"/>
            <a:ext cx="1024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24480" y="461952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стейший поток собы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стейшим П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поток, обладающий одновременно свойствами стационарности, ординарности и отсутствия последстви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орема 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простейшего ПС выполняется услов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22480" y="5181480"/>
          <a:ext cx="613728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5181480"/>
                    <a:ext cx="613728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стейший поток собы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46360" y="1981080"/>
          <a:ext cx="5287680" cy="38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1981080"/>
                    <a:ext cx="5287680" cy="38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лассификация СМ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О с отказами и с ожидани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О с ограниченным и неограниченным числом устройст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офазные и многофазные СМ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орядоченные и неупорядоченные СМ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О с приоритет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бозначение СМ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описывает закон распределения интервалов времени между последовательно поступающими заявк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описывает закон распределения времени обслуживания заяв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число обслуживающих устройст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мкость накопителя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число источников нагруз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бозначение СМ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поненциальное распреде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ение Эрланга порядк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ерминированное распреде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ение произвольного тип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lav</cp:lastModifiedBy>
  <dcterms:modified xsi:type="dcterms:W3CDTF">2006-04-26T17:04:43Z</dcterms:modified>
  <cp:revision>127</cp:revision>
  <dc:subject/>
  <dc:title>Общие модели  динамических систем</dc:title>
</cp:coreProperties>
</file>