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D536-4CD8-4834-B18F-CABD92C56E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хо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формализуют воздействия, которые можно прикладывать к систе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хо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это совокупность всех величин доступных измер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734-60FB-46AC-826B-F9C86098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F83-22F9-4FCF-B7D6-BE63F1BE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E4C-B477-4D56-B8D4-9712A3B0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804-FA5B-4C0C-A30D-C1246CDF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F17-3C6B-4187-92C4-3E432219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4C1-0DA2-484D-9A2A-DF30946E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602D-9491-4F63-A8BB-E1ED8839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14B-22CA-462C-92A0-307C7695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481-6B2B-4C78-A1C2-BA30B4CC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1868-1040-4A8E-8BC1-45692043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420-B867-41F5-913A-2249E876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D35E-F8AF-4A68-8C7E-38F29059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1D32-D196-417E-92AD-F985E1A37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AC7-EA76-44FF-92D8-13A1A74100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ение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роение концептуальной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лгоритмизация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граммирован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ка адекватности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анирование эксперимен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ксперимент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терпретация результа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кументир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274-1FAF-4F38-8D61-713707AFEB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ормальная модель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49280" y="1989000"/>
          <a:ext cx="667872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9280" y="1989000"/>
                    <a:ext cx="66787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442-2680-4290-BA03-5907ED4040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ификация мод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тические и динамические 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кретные и непрерывные 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рминированные и стохастические 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809-CEFB-4998-BDFD-B029587945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ческие и динамические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значение ее выхо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яется только значением вхо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тот же момент време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.е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нами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значение ее выхо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т от всего прошлого входного процесс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.е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D8E-1018-451E-9391-B0E92BBD52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ые и непреры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системы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крет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рерыв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 входам, выходам и времени, если дискретным или непрерывным являются множества входов, выходов и моментов времени соответственн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0, 1, 2, 3, 4, 5, …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0}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2)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)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93C-1895-450D-A64B-FA32DB3F03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терминированные и стохастические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терминированн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модель, значение выхода которой однозначно определяется значением входного сигна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чины возникновени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определенност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грешности и помехи измере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точность математической мод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полнота информации о параметрах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5F0-8D26-4664-A3DE-99EE0E4CC4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ие сх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непрерывно-детерминированн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дискретно-детерминированн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дискретно-стохастические 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непрерывно-стохастические 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сетев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комбинированн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952-B091-409A-913B-C186CF7099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прерывно-детерминированные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20760" y="2228760"/>
          <a:ext cx="6126120" cy="32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2228760"/>
                    <a:ext cx="612612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DA7-C13C-4075-A33D-5CC23813C2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2003400"/>
          <a:ext cx="295308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003400"/>
                    <a:ext cx="29530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4500720" y="2108160"/>
            <a:ext cx="3728880" cy="2356920"/>
            <a:chOff x="4500720" y="2108160"/>
            <a:chExt cx="3728880" cy="2356920"/>
          </a:xfrm>
        </p:grpSpPr>
        <p:sp>
          <p:nvSpPr>
            <p:cNvPr id="112" name=""/>
            <p:cNvSpPr/>
            <p:nvPr/>
          </p:nvSpPr>
          <p:spPr>
            <a:xfrm flipV="1">
              <a:off x="4876920" y="359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4280" y="4127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00720" y="336564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679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334120" y="27558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334120" y="29080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334120" y="3060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334120" y="32130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2679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620120" y="27558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7620120" y="29080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620120" y="3060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620120" y="32130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30607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4811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508720" y="2513160"/>
              <a:ext cx="101268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6521400" y="2513160"/>
              <a:ext cx="107496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8160" y="21081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21440" y="400536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1" name=""/>
          <p:cNvGraphicFramePr/>
          <p:nvPr/>
        </p:nvGraphicFramePr>
        <p:xfrm>
          <a:off x="2700360" y="4724280"/>
          <a:ext cx="3809880" cy="8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724280"/>
                    <a:ext cx="38098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40E-B875-4961-A073-217E3EDD83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скретно-детерминированные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ечным автомат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систем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нутренни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пере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выход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втомат Ми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втомат Мур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348-41AA-445A-84FC-CFC788F010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стемой называется совокупность объектов, функционирующих и взаимодействующих между собой для достижения определенной цел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1F2-993F-4ABD-8DA1-BD3C7460F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9640" y="1952640"/>
          <a:ext cx="7993080" cy="16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52640"/>
                    <a:ext cx="799308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546200" y="4125960"/>
          <a:ext cx="6121440" cy="17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6200" y="4125960"/>
                    <a:ext cx="612144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C8F-C428-4452-9651-81FBC443C5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скретно-стохастические 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1981080"/>
            <a:ext cx="791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роятностным автомато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систем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нутренни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ой алфавит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вероятност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…,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…,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…,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29B-155A-484C-A17D-4F7952DE64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87280" y="1847880"/>
          <a:ext cx="6096240" cy="14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7880"/>
                    <a:ext cx="609624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650960" y="4005360"/>
          <a:ext cx="56577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0960" y="4005360"/>
                    <a:ext cx="56577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BCA5-45A0-49DB-90E2-CFADCD8208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прерывно-стохастические 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4080" y="2590920"/>
            <a:ext cx="46483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4344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52920" y="30481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276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4344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52920" y="3886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6276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88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724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3388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 rot="5400000">
            <a:off x="777600" y="1982520"/>
            <a:ext cx="911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явки на обслужи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05040" y="25146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62440" y="2514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 rot="5400000">
            <a:off x="7513920" y="2024640"/>
            <a:ext cx="9118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ботанные зая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83080" y="46450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563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ка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02400" y="46450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9040" y="563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1640" y="3141720"/>
            <a:ext cx="1152720" cy="1079280"/>
          </a:xfrm>
          <a:custGeom>
            <a:avLst/>
            <a:gdLst/>
            <a:ahLst/>
            <a:rect l="l" t="t" r="r" b="b"/>
            <a:pathLst>
              <a:path w="726" h="680">
                <a:moveTo>
                  <a:pt x="0" y="0"/>
                </a:moveTo>
                <a:lnTo>
                  <a:pt x="726" y="0"/>
                </a:lnTo>
                <a:lnTo>
                  <a:pt x="726" y="680"/>
                </a:lnTo>
                <a:lnTo>
                  <a:pt x="0" y="6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6072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AAD-DE09-4226-BF61-FE51FD44CA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403280" y="1700280"/>
            <a:ext cx="6193080" cy="4104720"/>
            <a:chOff x="1403280" y="1700280"/>
            <a:chExt cx="6193080" cy="4104720"/>
          </a:xfrm>
        </p:grpSpPr>
        <p:grpSp>
          <p:nvGrpSpPr>
            <p:cNvPr id="174" name=""/>
            <p:cNvGrpSpPr/>
            <p:nvPr/>
          </p:nvGrpSpPr>
          <p:grpSpPr>
            <a:xfrm>
              <a:off x="2556000" y="2349360"/>
              <a:ext cx="606240" cy="648000"/>
              <a:chOff x="2556000" y="2349360"/>
              <a:chExt cx="606240" cy="648000"/>
            </a:xfrm>
          </p:grpSpPr>
          <p:sp>
            <p:nvSpPr>
              <p:cNvPr id="175" name=""/>
              <p:cNvSpPr/>
              <p:nvPr/>
            </p:nvSpPr>
            <p:spPr>
              <a:xfrm rot="16200000">
                <a:off x="2535120" y="2370240"/>
                <a:ext cx="648000" cy="606240"/>
              </a:xfrm>
              <a:custGeom>
                <a:avLst/>
                <a:gdLst/>
                <a:ahLst/>
                <a:rect l="l" t="t" r="r" b="b"/>
                <a:pathLst>
                  <a:path w="726" h="680">
                    <a:moveTo>
                      <a:pt x="0" y="0"/>
                    </a:moveTo>
                    <a:lnTo>
                      <a:pt x="726" y="0"/>
                    </a:lnTo>
                    <a:lnTo>
                      <a:pt x="726" y="680"/>
                    </a:lnTo>
                    <a:lnTo>
                      <a:pt x="0" y="6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56000" y="2470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56000" y="259236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556000" y="2713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6000" y="283500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556000" y="4581360"/>
              <a:ext cx="606240" cy="648000"/>
              <a:chOff x="2556000" y="4581360"/>
              <a:chExt cx="606240" cy="648000"/>
            </a:xfrm>
          </p:grpSpPr>
          <p:sp>
            <p:nvSpPr>
              <p:cNvPr id="181" name=""/>
              <p:cNvSpPr/>
              <p:nvPr/>
            </p:nvSpPr>
            <p:spPr>
              <a:xfrm rot="16200000">
                <a:off x="2535120" y="4602240"/>
                <a:ext cx="648000" cy="606240"/>
              </a:xfrm>
              <a:custGeom>
                <a:avLst/>
                <a:gdLst/>
                <a:ahLst/>
                <a:rect l="l" t="t" r="r" b="b"/>
                <a:pathLst>
                  <a:path w="726" h="680">
                    <a:moveTo>
                      <a:pt x="0" y="0"/>
                    </a:moveTo>
                    <a:lnTo>
                      <a:pt x="726" y="0"/>
                    </a:lnTo>
                    <a:lnTo>
                      <a:pt x="726" y="680"/>
                    </a:lnTo>
                    <a:lnTo>
                      <a:pt x="0" y="6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56000" y="4702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56000" y="482436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56000" y="4945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56000" y="506700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 flipV="1">
              <a:off x="2843280" y="285228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56000" y="3429000"/>
              <a:ext cx="57600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843280" y="400536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11640" y="1700280"/>
              <a:ext cx="57636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43280" y="1989000"/>
              <a:ext cx="1368360" cy="360360"/>
            </a:xfrm>
            <a:custGeom>
              <a:avLst/>
              <a:gdLst/>
              <a:ahLst/>
              <a:rect l="l" t="t" r="r" b="b"/>
              <a:pathLst>
                <a:path w="862" h="227">
                  <a:moveTo>
                    <a:pt x="0" y="227"/>
                  </a:moveTo>
                  <a:lnTo>
                    <a:pt x="0" y="0"/>
                  </a:lnTo>
                  <a:lnTo>
                    <a:pt x="8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03280" y="3141720"/>
              <a:ext cx="1152720" cy="431640"/>
            </a:xfrm>
            <a:custGeom>
              <a:avLst/>
              <a:gdLst/>
              <a:ahLst/>
              <a:rect l="l" t="t" r="r" b="b"/>
              <a:pathLst>
                <a:path w="726" h="272">
                  <a:moveTo>
                    <a:pt x="726" y="272"/>
                  </a:moveTo>
                  <a:lnTo>
                    <a:pt x="45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76360" y="5084640"/>
              <a:ext cx="1224000" cy="432000"/>
            </a:xfrm>
            <a:custGeom>
              <a:avLst/>
              <a:gdLst/>
              <a:ahLst/>
              <a:rect l="l" t="t" r="r" b="b"/>
              <a:pathLst>
                <a:path w="771" h="272">
                  <a:moveTo>
                    <a:pt x="0" y="272"/>
                  </a:moveTo>
                  <a:lnTo>
                    <a:pt x="771" y="272"/>
                  </a:lnTo>
                  <a:lnTo>
                    <a:pt x="7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212000" y="1988640"/>
              <a:ext cx="3384360" cy="3816360"/>
              <a:chOff x="4212000" y="1988640"/>
              <a:chExt cx="3384360" cy="38163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37400" y="4508280"/>
                <a:ext cx="606600" cy="647640"/>
                <a:chOff x="5837400" y="4508280"/>
                <a:chExt cx="606600" cy="647640"/>
              </a:xfrm>
            </p:grpSpPr>
            <p:sp>
              <p:nvSpPr>
                <p:cNvPr id="195" name=""/>
                <p:cNvSpPr/>
                <p:nvPr/>
              </p:nvSpPr>
              <p:spPr>
                <a:xfrm flipH="1" flipV="1" rot="16200000">
                  <a:off x="5816520" y="4528440"/>
                  <a:ext cx="647640" cy="606600"/>
                </a:xfrm>
                <a:custGeom>
                  <a:avLst/>
                  <a:gdLst/>
                  <a:ahLst/>
                  <a:rect l="l" t="t" r="r" b="b"/>
                  <a:pathLst>
                    <a:path w="726" h="680">
                      <a:moveTo>
                        <a:pt x="0" y="0"/>
                      </a:moveTo>
                      <a:lnTo>
                        <a:pt x="726" y="0"/>
                      </a:lnTo>
                      <a:lnTo>
                        <a:pt x="726" y="680"/>
                      </a:lnTo>
                      <a:lnTo>
                        <a:pt x="0" y="68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5837400" y="503460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837400" y="491328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5837400" y="479196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837400" y="467064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837400" y="2276280"/>
                <a:ext cx="606600" cy="647640"/>
                <a:chOff x="5837400" y="2276280"/>
                <a:chExt cx="606600" cy="647640"/>
              </a:xfrm>
            </p:grpSpPr>
            <p:sp>
              <p:nvSpPr>
                <p:cNvPr id="201" name=""/>
                <p:cNvSpPr/>
                <p:nvPr/>
              </p:nvSpPr>
              <p:spPr>
                <a:xfrm flipH="1" flipV="1" rot="16200000">
                  <a:off x="5816520" y="2296440"/>
                  <a:ext cx="647640" cy="606600"/>
                </a:xfrm>
                <a:custGeom>
                  <a:avLst/>
                  <a:gdLst/>
                  <a:ahLst/>
                  <a:rect l="l" t="t" r="r" b="b"/>
                  <a:pathLst>
                    <a:path w="726" h="680">
                      <a:moveTo>
                        <a:pt x="0" y="0"/>
                      </a:moveTo>
                      <a:lnTo>
                        <a:pt x="726" y="0"/>
                      </a:lnTo>
                      <a:lnTo>
                        <a:pt x="726" y="680"/>
                      </a:lnTo>
                      <a:lnTo>
                        <a:pt x="0" y="68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5837400" y="280260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5837400" y="268128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5837400" y="255996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5837400" y="243864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6156720" y="4077720"/>
                <a:ext cx="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5867280" y="3499560"/>
                <a:ext cx="57636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56720" y="292392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4211640" y="5228280"/>
                <a:ext cx="57636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4788000" y="5155200"/>
                <a:ext cx="1368360" cy="360360"/>
              </a:xfrm>
              <a:custGeom>
                <a:avLst/>
                <a:gdLst/>
                <a:ahLst/>
                <a:rect l="l" t="t" r="r" b="b"/>
                <a:pathLst>
                  <a:path w="862" h="227">
                    <a:moveTo>
                      <a:pt x="0" y="227"/>
                    </a:moveTo>
                    <a:lnTo>
                      <a:pt x="0" y="0"/>
                    </a:lnTo>
                    <a:lnTo>
                      <a:pt x="86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6443640" y="3931560"/>
                <a:ext cx="1152360" cy="432000"/>
              </a:xfrm>
              <a:custGeom>
                <a:avLst/>
                <a:gdLst/>
                <a:ahLst/>
                <a:rect l="l" t="t" r="r" b="b"/>
                <a:pathLst>
                  <a:path w="726" h="272">
                    <a:moveTo>
                      <a:pt x="726" y="272"/>
                    </a:moveTo>
                    <a:lnTo>
                      <a:pt x="45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6299640" y="1988280"/>
                <a:ext cx="1224000" cy="431640"/>
              </a:xfrm>
              <a:custGeom>
                <a:avLst/>
                <a:gdLst/>
                <a:ahLst/>
                <a:rect l="l" t="t" r="r" b="b"/>
                <a:pathLst>
                  <a:path w="771" h="272">
                    <a:moveTo>
                      <a:pt x="0" y="272"/>
                    </a:moveTo>
                    <a:lnTo>
                      <a:pt x="771" y="272"/>
                    </a:lnTo>
                    <a:lnTo>
                      <a:pt x="7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88000" y="1989000"/>
              <a:ext cx="1224000" cy="432000"/>
            </a:xfrm>
            <a:custGeom>
              <a:avLst/>
              <a:gdLst/>
              <a:ahLst/>
              <a:rect l="l" t="t" r="r" b="b"/>
              <a:pathLst>
                <a:path w="771" h="272">
                  <a:moveTo>
                    <a:pt x="0" y="0"/>
                  </a:moveTo>
                  <a:lnTo>
                    <a:pt x="771" y="0"/>
                  </a:lnTo>
                  <a:lnTo>
                    <a:pt x="771" y="2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2987640" y="5084640"/>
              <a:ext cx="1224000" cy="432000"/>
            </a:xfrm>
            <a:custGeom>
              <a:avLst/>
              <a:gdLst/>
              <a:ahLst/>
              <a:rect l="l" t="t" r="r" b="b"/>
              <a:pathLst>
                <a:path w="771" h="272">
                  <a:moveTo>
                    <a:pt x="0" y="0"/>
                  </a:moveTo>
                  <a:lnTo>
                    <a:pt x="771" y="0"/>
                  </a:lnTo>
                  <a:lnTo>
                    <a:pt x="771" y="2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DA2-5C83-4D54-BCA0-8DF95F63AF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ые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ые модел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исываются систе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позиций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пере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ая функция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ая функция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разметки 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3E7-A289-4553-A1F1-C7532B74BA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124000" y="1506600"/>
          <a:ext cx="540072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06600"/>
                    <a:ext cx="540072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F09-32D7-4C09-BF15-6A1B349C6E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етов Б.Я., Яковлев С.А. Моделирование сист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-е изд. – М.: Высшая школа, 2005. – 343 с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ов Б.Я., Яковлев С.А. Моделирование систем. Практику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е изд. – М.: Высшая школа, 2003. – 295 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льтон В., Лоу А. Имитационное моделирование. Класси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е изд. – СПб.: Питер; Киев: Издательская групп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H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4. – 847 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12A-382C-408D-9CBB-F677F788E5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дриевский Б.Р., Фрадков А.Л. Элементы математического моделирования в программных среда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l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б.: Наука, 2001. – 286 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оятностные разделы математики / Под ред. Максимова Ю.Д. – СПб.: «Иван Федоров», 2001. – 592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оль И.М. Метод Монте-Карло. – М.: Наука, 1968. – 64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8AB-A466-4D64-B3CE-4044F0AEE2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ое опис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дается парой множеств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ношение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множество в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выход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90920" y="4114800"/>
            <a:ext cx="3200400" cy="1066680"/>
            <a:chOff x="2590920" y="4114800"/>
            <a:chExt cx="3200400" cy="1066680"/>
          </a:xfrm>
        </p:grpSpPr>
        <p:sp>
          <p:nvSpPr>
            <p:cNvPr id="55" name=""/>
            <p:cNvSpPr/>
            <p:nvPr/>
          </p:nvSpPr>
          <p:spPr>
            <a:xfrm>
              <a:off x="403848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4191120"/>
              <a:ext cx="1219320" cy="99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90920" y="464832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46483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20800" y="4114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68680" y="411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B87-B455-43E7-AB7A-7BAF6D4CB2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быть представлена как отношения между множества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0,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ключающее все  пары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для которых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.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5704-963A-42E5-BC7A-02000EE059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ос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уктурирован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енаправлен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286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057400"/>
            <a:ext cx="1219320" cy="99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2514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25146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4032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82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505320"/>
            <a:ext cx="53352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53352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37339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3733920"/>
            <a:ext cx="30492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lnTo>
                  <a:pt x="192" y="480"/>
                </a:lnTo>
                <a:lnTo>
                  <a:pt x="0" y="4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7339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31040" y="3733920"/>
            <a:ext cx="35064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480"/>
                </a:move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86400" y="3703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352680"/>
            <a:ext cx="1981080" cy="15242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40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820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5029200"/>
            <a:ext cx="25146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156-3CF6-46A6-B0A5-617DEC61E8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пособы исследования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еримент с реальной систем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еримент с моделью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из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темат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алитическо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475-B87A-47F7-8759-7C9628BF7E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ирование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изучение системы по ее модел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ь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представление системы в форме удобной для ее изуч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тематическ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нцептуальн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называется абстрактная модель, записанная на языке математи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61A-20F0-454F-831E-30B1E06B67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налитические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алитическими называются модели, использующие алгебраические, дифференциальные и другие уравнения, а также предусматривающие осуществление однозначной вычислительной процедуры, приводящей к их решен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87B-5C57-4612-A28A-A91328A7D8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итационные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итационными называются математические модели, воспроизводящие алгоритм функционирования исследуемой системы путем последовательного выполнения большого количества элементарных опера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E11-B343-496D-A2FA-5F02E7C86C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1:35:34Z</dcterms:created>
  <dc:creator>lav</dc:creator>
  <dc:description/>
  <dc:language>en-US</dc:language>
  <cp:lastModifiedBy>support</cp:lastModifiedBy>
  <dcterms:modified xsi:type="dcterms:W3CDTF">2008-03-10T09:12:05Z</dcterms:modified>
  <cp:revision>66</cp:revision>
  <dc:subject/>
  <dc:title>Математическое моделирование</dc:title>
</cp:coreProperties>
</file>