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133-753E-40AA-AA0C-849037ED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3D1-C936-4E3D-99B7-A3FDBC78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8FD-EFCA-483A-AD83-CFF2DDE4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451-F344-44A1-AFDA-F4F5B9F6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F49-96F4-484E-82D1-2AEBEEBC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638-594A-4F35-A4A7-60F2402A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0BB-48E8-4AED-A7CE-CED47706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231-DEDF-4B8F-A1B3-CB52D04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1E3-0A71-4E2A-8C7E-69F2E4F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D8B-742E-4AEC-BAAD-D459A34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314-7AB5-4C1C-8859-7FD3FF4D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5F6-4E68-4C53-8E67-4F7CBF1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CD2-5C96-4A3B-8BAB-B118F865F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олучить последовательность знач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спределением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987720"/>
          <a:ext cx="6096240" cy="1117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вал (0,1) разбивае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л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енные интервалы нумеруются цифрами 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ы точек 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ндартно равномерно распределенная случайная 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троится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эта точка попадает в интервал с номер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71600" y="1905120"/>
          <a:ext cx="6095880" cy="1117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непрерывной случайной величин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хождения значения непрерыв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ной в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 плотность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решить уравн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случайная величина, которая имеет стандартной равномерное рас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67240" y="3773520"/>
                <a:ext cx="19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971800"/>
          <a:ext cx="56898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56898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533520" y="4267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81240" y="26337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1240" y="1947960"/>
            <a:ext cx="27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9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1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определена на конечном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имеет ограниченную плотность вероят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ются два значен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учайной величины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числяются величи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аче повторяем п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512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334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9160" y="53341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2920" y="26208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962520"/>
            <a:ext cx="350496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lnTo>
                  <a:pt x="576" y="0"/>
                </a:lnTo>
                <a:lnTo>
                  <a:pt x="1248" y="0"/>
                </a:lnTo>
                <a:lnTo>
                  <a:pt x="1248" y="384"/>
                </a:lnTo>
                <a:lnTo>
                  <a:pt x="2208" y="384"/>
                </a:lnTo>
                <a:lnTo>
                  <a:pt x="2208" y="864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0760" y="36878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9360" y="33526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6728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029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952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равномер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экспоненциально  распределен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собы получения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ие генераторы (датчики) случайных величи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ные генераторы  (датчики) псевдослучайных ч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76520" y="2819520"/>
                <a:ext cx="535284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66920" y="3048120"/>
          <a:ext cx="694188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3048120"/>
                    <a:ext cx="694188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щенные и усеченные рас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14600" y="2514600"/>
                <a:ext cx="383364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коррелированн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2389320"/>
          <a:ext cx="6781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89320"/>
                    <a:ext cx="6781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ейные конгруэнтные генераторы (ЛКГ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КГ имеет полный период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ются следующие услов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взаимно простыми числ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простое 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3) (mod 5)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•4+3) (mod 5)=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5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+5) (mod 5)=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икативные  генерато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й генератор име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когда выполняются следу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остым числ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ервообразным корнем по модул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наименьшее цел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4,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1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омендуемые параме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= 2 147 483 6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0 360 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3-26T08:18:48Z</dcterms:modified>
  <cp:revision>70</cp:revision>
  <dc:subject/>
  <dc:title>Общие модели  динамических систем</dc:title>
</cp:coreProperties>
</file>