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976-BF60-4AB3-B763-CE650E58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524-C916-4AE9-8C2B-F2E22D9A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3A1-DE63-4B53-AD2D-2E390FB1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CDB-06ED-4C6F-AEDE-417DA609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8D9-4A69-4AA9-8B1C-2A6A9D3A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765-4B4B-453B-A1F9-1E9DA2C1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FBB-5604-49B3-9197-29138BD0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7A6-36BA-439C-B29A-0107C705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983-EC48-4549-A46F-2738151B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77A-1797-4160-9DCB-0F3F326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ECF-DB0B-4E2B-99A7-4883F71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4EC-7111-4E1C-B668-28FB4400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1C43-6E6E-4B1C-B48E-D9ADA565A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массового обслужи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поненты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8954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90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6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22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728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05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67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428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500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05320" y="2138400"/>
          <a:ext cx="198108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138400"/>
                    <a:ext cx="19810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05320" y="4267080"/>
          <a:ext cx="198108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267080"/>
                    <a:ext cx="19810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загрузки устройства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ожид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явки в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пребывания заявки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длина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заявок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523880"/>
          <a:ext cx="58816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881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МО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ное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поступления следующей 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оконч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луживания текущ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черед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яние устрой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обрабо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задерже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5,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.4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ой массового обслужи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МО) понимают динамическую систему, предназначенную для эффективного обслуживания случайного потока заявок при ограниченных ресурсах сис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4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Null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е время модел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требований в очере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использования устр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0.7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уктура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386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244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02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386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44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02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496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428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0496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1480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2428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оком собы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С) называется последовательность событий, происходящих последовательно в случайные моменты време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1600" y="3581280"/>
          <a:ext cx="6095880" cy="25956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690840" y="34704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240" y="571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3580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1722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382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824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824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82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58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056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7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6392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30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172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5240" y="5653080"/>
            <a:ext cx="10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4680" y="5148360"/>
            <a:ext cx="102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4480" y="46195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стейшим П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ток, обладающий одновременно свойствами стационарности, ординарности и отсутствия последств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 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остейшего ПС выполняется услов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22480" y="5181480"/>
          <a:ext cx="613728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5181480"/>
                    <a:ext cx="613728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46360" y="1981080"/>
          <a:ext cx="528768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981080"/>
                    <a:ext cx="5287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тказами и с ожид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граниченным и неограниченным числом устройст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зные и многофаз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рядоченные и неупорядочен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приорите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интервалов времени между последовательно поступающими заяв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времени обслуживания заяв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обслуживающих устрой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мкость накопителя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источников нагру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Эрланга поряд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рован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произвольного ти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lav</cp:lastModifiedBy>
  <dcterms:modified xsi:type="dcterms:W3CDTF">2006-04-26T17:04:43Z</dcterms:modified>
  <cp:revision>127</cp:revision>
  <dc:subject/>
  <dc:title>Общие модели  динамических систем</dc:title>
</cp:coreProperties>
</file>