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37D-12B7-42EC-B655-0907185B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E3E-5FFB-4BD1-8E4E-13AFECED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CAFD-5A4D-48F8-ABE4-F51253F4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39E-789C-4E1F-AE10-469B9D68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A47-9EC1-4E6E-B2BB-EEAFCD10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CF6-5D36-48A2-8B4C-5D6D41DA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6D8-317E-407F-BE85-2780A847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19FD-C33A-4725-91ED-04A37926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22E8-963D-4A4B-A674-285B848C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DF87-5E6D-4F00-ADC0-4CA313D0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546-F11B-4EF7-B4EC-676EEF6E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E487-20E4-4394-9123-EC00E247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3AEB-C2DC-4A0B-A082-60A05A705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результатов наблюдений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52520" y="2362320"/>
          <a:ext cx="6210360" cy="27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2362320"/>
                    <a:ext cx="6210360" cy="27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тервальные оцен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веритель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ервал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исловой характеристик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енеральной совокупности с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верительной вероятн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интервал (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со случайными границам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=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который накрывает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вероятностью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ровень значи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строение интервальной оценки для среднего знач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6600" y="1828800"/>
          <a:ext cx="787536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1828800"/>
                    <a:ext cx="787536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строение интервальной оценки для среднего знач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17480" y="1900080"/>
          <a:ext cx="786132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900080"/>
                    <a:ext cx="786132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97040" y="1692360"/>
          <a:ext cx="7626240" cy="48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1692360"/>
                    <a:ext cx="762624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5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990720" y="1585800"/>
                <a:ext cx="6400800" cy="40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σ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⇒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σ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аспределение Стьюден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419720" y="24382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25780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200400"/>
            <a:ext cx="7467480" cy="1752480"/>
          </a:xfrm>
          <a:custGeom>
            <a:avLst/>
            <a:gdLst/>
            <a:ahLst/>
            <a:rect l="l" t="t" r="r" b="b"/>
            <a:pathLst>
              <a:path w="4224" h="824">
                <a:moveTo>
                  <a:pt x="0" y="824"/>
                </a:moveTo>
                <a:cubicBezTo>
                  <a:pt x="352" y="772"/>
                  <a:pt x="704" y="720"/>
                  <a:pt x="1056" y="584"/>
                </a:cubicBezTo>
                <a:cubicBezTo>
                  <a:pt x="1408" y="448"/>
                  <a:pt x="1760" y="0"/>
                  <a:pt x="2112" y="8"/>
                </a:cubicBezTo>
                <a:cubicBezTo>
                  <a:pt x="2464" y="16"/>
                  <a:pt x="2816" y="496"/>
                  <a:pt x="3168" y="632"/>
                </a:cubicBezTo>
                <a:cubicBezTo>
                  <a:pt x="3520" y="768"/>
                  <a:pt x="3872" y="796"/>
                  <a:pt x="4224" y="8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3198960"/>
            <a:ext cx="2897280" cy="98892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Стьюдент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,1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133720"/>
            <a:ext cx="2819520" cy="1295280"/>
          </a:xfrm>
          <a:prstGeom prst="wedgeRectCallout">
            <a:avLst>
              <a:gd name="adj1" fmla="val 63680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льное распредел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76480" y="2971800"/>
            <a:ext cx="6476760" cy="2133720"/>
          </a:xfrm>
          <a:custGeom>
            <a:avLst/>
            <a:gdLst/>
            <a:ahLst/>
            <a:rect l="l" t="t" r="r" b="b"/>
            <a:pathLst>
              <a:path w="4224" h="824">
                <a:moveTo>
                  <a:pt x="0" y="824"/>
                </a:moveTo>
                <a:cubicBezTo>
                  <a:pt x="352" y="772"/>
                  <a:pt x="704" y="720"/>
                  <a:pt x="1056" y="584"/>
                </a:cubicBezTo>
                <a:cubicBezTo>
                  <a:pt x="1408" y="448"/>
                  <a:pt x="1760" y="0"/>
                  <a:pt x="2112" y="8"/>
                </a:cubicBezTo>
                <a:cubicBezTo>
                  <a:pt x="2464" y="16"/>
                  <a:pt x="2816" y="496"/>
                  <a:pt x="3168" y="632"/>
                </a:cubicBezTo>
                <a:cubicBezTo>
                  <a:pt x="3520" y="768"/>
                  <a:pt x="3872" y="796"/>
                  <a:pt x="4224" y="8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стические гипотез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истической гипотез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предположение о виде и свойствах генерального и выборочного распредел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итерием значи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правило проверки статистической гипотез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истикой критерия значимост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функция наблюдений, по значениям которой судят о справедливости гипотез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стические гипотез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итической обла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ритерия называется подмножеств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жеств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чений статист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ероятность попадания в которое при условии истинности гипотезы равна уровню значимост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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, т.е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жеств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ластью допустимых знач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атистики критерия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хема проверки гипотез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двигается проверяемая гипотез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ей альтернативна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ирается уровень значимост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0.1, 0.05, 0.01, 0.00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ирается статистик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троится критическая област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область допустимых значени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числяется выборочное значение статис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гипотез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твергается, иначе –принимае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жество возможных значений случайной величин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неральной совокупностью или пространством выбор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жество измеренных значений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 случайной величины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бор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м выбор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ая функция зависящая от наблюдений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исти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щность критер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щностью критер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вероятность отклонения гипотез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гда она ложна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шибка первого ро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тклонение гипотез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гда она вер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шибка второго ро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принятие  гипотез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гда она лож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гипотез с помощью доверительных интервал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ипотез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инимается, если построенный доверительный интервал покрывает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и отвергается в противном случае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12760" y="3733920"/>
          <a:ext cx="6491520" cy="27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3733920"/>
                    <a:ext cx="649152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95240" y="1884240"/>
          <a:ext cx="750888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884240"/>
                    <a:ext cx="750888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гистограм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2014560"/>
          <a:ext cx="838188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14560"/>
                    <a:ext cx="838188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295280" y="1676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26708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2080" y="42051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0200" y="16765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95280" y="1725480"/>
          <a:ext cx="5410440" cy="2541600"/>
        </p:xfrm>
        <a:graphic>
          <a:graphicData uri="http://schemas.openxmlformats.org/drawingml/2006/table">
            <a:tbl>
              <a:tblPr/>
              <a:tblGrid>
                <a:gridCol w="901800"/>
                <a:gridCol w="901800"/>
                <a:gridCol w="901800"/>
                <a:gridCol w="901440"/>
                <a:gridCol w="901800"/>
                <a:gridCol w="9018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655920" y="2819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45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30240" y="426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21320" y="4267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3080" y="426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60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1880" y="4267080"/>
            <a:ext cx="7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3581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95640" y="3333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40338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37051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5197320"/>
          <a:ext cx="7948440" cy="9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197320"/>
                    <a:ext cx="794844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16080" y="1922400"/>
          <a:ext cx="6605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6080" y="1922400"/>
                    <a:ext cx="6605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73160" y="1905120"/>
          <a:ext cx="679608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1905120"/>
                    <a:ext cx="6796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09480" y="2057400"/>
          <a:ext cx="8001000" cy="29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8001000" cy="29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ариационный ря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ариационным ряд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последовательность элементов выборки, расположенных в неубывающем поря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нимальны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максимальны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лементы выборки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айним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ность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мах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, -2, 3, 2, 3, -1, -4, 0, 1, 2, -2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-4, -2, -2, -1, 0, 0, 1, 2, 2, 3, 3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-4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чечные оцен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чечной оцен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исловой характеристик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енеральной совокупности называется статисти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ближенно равная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стоятель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для любог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смещен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41360" y="5638680"/>
          <a:ext cx="16336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5638680"/>
                    <a:ext cx="16336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532240" y="4435560"/>
          <a:ext cx="390204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32240" y="4435560"/>
                    <a:ext cx="39020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430360" y="2882880"/>
          <a:ext cx="3541680" cy="71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0360" y="2882880"/>
                    <a:ext cx="35416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ценки средних значений, дисперсии, корреля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139760" y="2057400"/>
          <a:ext cx="625464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2057400"/>
                    <a:ext cx="625464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довательность случайных чисел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.42, 0.52, 0.33, 0.43, 0.23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.58, 0.76, 0.53, 0.64, 0.2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математического ожидания: 0.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дисперсии: 0.07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ое ожидание оценки диспер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22440" y="2379600"/>
          <a:ext cx="7672320" cy="31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2379600"/>
                    <a:ext cx="7672320" cy="31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нцип максимального правдоподоб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752480" y="2492280"/>
          <a:ext cx="5410440" cy="27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492280"/>
                    <a:ext cx="541044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9-03-30T12:45:33Z</dcterms:modified>
  <cp:revision>92</cp:revision>
  <dc:subject/>
  <dc:title>Общие модели  динамических систем</dc:title>
</cp:coreProperties>
</file>