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EEE8-29DC-4EA5-8558-28D4F5FF59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Вход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формализуют воздействия, которые можно прикладывать к систем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Выход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это совокупность всех величин доступных измерен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C010-075A-44EE-AA82-DD5F9DEB4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F129-282C-472D-98F6-03074EDC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BEE7-91A5-4B19-B96B-D685857A9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D103-4A9C-4E87-BD1E-9EACD7168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F658-D800-47AA-B86E-60A31C95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72D0-DE19-4E54-9D06-58397F53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A5B8-CC84-427A-9614-3CE629F5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FF72-8A44-4B14-9D5C-D88E3604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042B-25BB-4203-8C01-D7A0BE54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E6A8-9447-481D-96F1-A22350D7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94CC-DF96-465C-B9C3-DB2247B4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1AA0-D62A-470E-B13C-5DDE30E6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B1E1-CBA9-4772-972E-BC77E6C8D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рование 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7987-E468-40E4-9DDA-B3DF0AA68F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Имитационное моделиров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пределение сист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строение концептуальной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лгоритмизация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ограммирование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ценка адекватности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ланирование эксперимент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кспериментиро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нтерпретация результат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окументирова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9A1D-6B86-4F9D-AF42-F246D40419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ормальная модель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349280" y="1989000"/>
          <a:ext cx="6678720" cy="371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9280" y="1989000"/>
                    <a:ext cx="667872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0A5E-DD4A-4E1A-B3A8-3C303CE97C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лассификация модел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атические и динамические моде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искретные и непрерывные моде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етерминированные и стохастические моде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5049-C9A5-401C-BF74-142C40E02D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атические и динамические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дель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тическ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если значение ее выход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момент времен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яется только значением вход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тот же момент време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.е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дель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инамическ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если значение ее выход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момент времен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висит от всего прошлого входного процесс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т.е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D2DE-96EC-4D79-B5D5-EA6251CE8E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искретные и непрерыв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дель системы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искретн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прерывн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о входам, выходам и времени, если дискретным или непрерывным являются множества входов, выходов и моментов времени соответственно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 3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{0, 1, 2, 3, 4, 5, …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0}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 4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2)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1)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16AF-6357-4AAE-B9A9-2748E5D0BE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етерминированные и стохастические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етерминированно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называется модель, значение выхода которой однозначно определяется значением входного сигна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чины возникновения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еопределенносте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грешности и помехи измерени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точность математической моде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полнота информации о параметрах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3F30-2CD7-42B7-91CD-B97D5EBA54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тематические сх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хемы – непрерывно-детерминированные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хемы – дискретно-детерминированные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хемы – дискретно-стохастические 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хемы – непрерывно-стохастические 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хемы – сетевые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хемы – комбинированные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E6DD-197C-46DA-9FC0-CD046BA4E2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епрерывно-детерминированные модел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220760" y="2228760"/>
          <a:ext cx="6126120" cy="32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2228760"/>
                    <a:ext cx="6126120" cy="32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E23D-8D0C-4D0B-B4F1-E5A6E67C8F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ы 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87280" y="2003400"/>
          <a:ext cx="2953080" cy="22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003400"/>
                    <a:ext cx="2953080" cy="22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4500720" y="2108160"/>
            <a:ext cx="3728880" cy="2356920"/>
            <a:chOff x="4500720" y="2108160"/>
            <a:chExt cx="3728880" cy="2356920"/>
          </a:xfrm>
        </p:grpSpPr>
        <p:sp>
          <p:nvSpPr>
            <p:cNvPr id="112" name=""/>
            <p:cNvSpPr/>
            <p:nvPr/>
          </p:nvSpPr>
          <p:spPr>
            <a:xfrm flipV="1">
              <a:off x="4876920" y="3593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24280" y="4127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00720" y="336564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86400" y="267984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5334120" y="275580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5334120" y="290808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334120" y="306036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5334120" y="321300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0120" y="267984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7620120" y="275580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7620120" y="290808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7620120" y="306036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7620120" y="321300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306072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77120" y="248112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508720" y="2513160"/>
              <a:ext cx="1012680" cy="54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6521400" y="2513160"/>
              <a:ext cx="1074960" cy="54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18160" y="21081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21440" y="400536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1" name=""/>
          <p:cNvGraphicFramePr/>
          <p:nvPr/>
        </p:nvGraphicFramePr>
        <p:xfrm>
          <a:off x="2700360" y="4724280"/>
          <a:ext cx="3809880" cy="8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4724280"/>
                    <a:ext cx="380988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267D-5E53-4EFC-AB88-9C1A6EAC1C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искретно-детерминированные модел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ечным автомат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систем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&gt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входной алфавит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внутренний алфавит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выходной алфавит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функция переходов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функция выход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втомат Мил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втомат Мур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185B-A9CE-4BBD-B953-ED0200E7E6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исте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истемой называется совокупность объектов, функционирующих и взаимодействующих между собой для достижения определенной цел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D865-18A8-4A34-B076-36C2F3BC03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39640" y="1952640"/>
          <a:ext cx="7993080" cy="169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52640"/>
                    <a:ext cx="7993080" cy="16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1546200" y="4125960"/>
          <a:ext cx="6121440" cy="17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6200" y="4125960"/>
                    <a:ext cx="6121440" cy="17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9BED-D1F4-40EB-A4B6-52B3DB5FED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искретно-стохастические  модел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0920" y="1981080"/>
            <a:ext cx="791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ероятностным автоматом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ывается систем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входной алфавит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внутренний алфавит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выходной алфавит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множество вероятносте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1,2,…,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}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1,2,…,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1,2,…,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C19A-7439-4316-93A9-210612F3F4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187280" y="1847880"/>
          <a:ext cx="6096240" cy="14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7880"/>
                    <a:ext cx="6096240" cy="14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1650960" y="4005360"/>
          <a:ext cx="5657760" cy="13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50960" y="4005360"/>
                    <a:ext cx="565776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FFE1-00D6-463C-8D66-7CADAF2E29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епрерывно-стохастические  модел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24080" y="2590920"/>
            <a:ext cx="464832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43440" y="30481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52920" y="304812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62760" y="30481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43440" y="38862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52920" y="38862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62760" y="38862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2880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7240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33880" y="4648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 rot="5400000">
            <a:off x="777600" y="1982520"/>
            <a:ext cx="9118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явки на обслужи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05040" y="251460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черед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62440" y="25146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стро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00360" y="5638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тер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 rot="5400000">
            <a:off x="7513920" y="2024640"/>
            <a:ext cx="911880" cy="21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работанные заяв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83080" y="464508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76720" y="5635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каз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02400" y="464508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29040" y="5635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х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71640" y="3141720"/>
            <a:ext cx="1152720" cy="1079280"/>
          </a:xfrm>
          <a:custGeom>
            <a:avLst/>
            <a:gdLst/>
            <a:ahLst/>
            <a:rect l="l" t="t" r="r" b="b"/>
            <a:pathLst>
              <a:path w="726" h="680">
                <a:moveTo>
                  <a:pt x="0" y="0"/>
                </a:moveTo>
                <a:lnTo>
                  <a:pt x="726" y="0"/>
                </a:lnTo>
                <a:lnTo>
                  <a:pt x="726" y="680"/>
                </a:lnTo>
                <a:lnTo>
                  <a:pt x="0" y="6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08360" y="31417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1417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31417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60720" y="31417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DBB6-343E-4DEF-BAB1-0BCB0CF4F3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403280" y="1700280"/>
            <a:ext cx="6193080" cy="4104720"/>
            <a:chOff x="1403280" y="1700280"/>
            <a:chExt cx="6193080" cy="4104720"/>
          </a:xfrm>
        </p:grpSpPr>
        <p:grpSp>
          <p:nvGrpSpPr>
            <p:cNvPr id="174" name=""/>
            <p:cNvGrpSpPr/>
            <p:nvPr/>
          </p:nvGrpSpPr>
          <p:grpSpPr>
            <a:xfrm>
              <a:off x="2556000" y="2349360"/>
              <a:ext cx="606240" cy="648000"/>
              <a:chOff x="2556000" y="2349360"/>
              <a:chExt cx="606240" cy="648000"/>
            </a:xfrm>
          </p:grpSpPr>
          <p:sp>
            <p:nvSpPr>
              <p:cNvPr id="175" name=""/>
              <p:cNvSpPr/>
              <p:nvPr/>
            </p:nvSpPr>
            <p:spPr>
              <a:xfrm rot="16200000">
                <a:off x="2535120" y="2370240"/>
                <a:ext cx="648000" cy="606240"/>
              </a:xfrm>
              <a:custGeom>
                <a:avLst/>
                <a:gdLst/>
                <a:ahLst/>
                <a:rect l="l" t="t" r="r" b="b"/>
                <a:pathLst>
                  <a:path w="726" h="680">
                    <a:moveTo>
                      <a:pt x="0" y="0"/>
                    </a:moveTo>
                    <a:lnTo>
                      <a:pt x="726" y="0"/>
                    </a:lnTo>
                    <a:lnTo>
                      <a:pt x="726" y="680"/>
                    </a:lnTo>
                    <a:lnTo>
                      <a:pt x="0" y="68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556000" y="2470680"/>
                <a:ext cx="60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556000" y="2592360"/>
                <a:ext cx="60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556000" y="2713680"/>
                <a:ext cx="60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556000" y="2835000"/>
                <a:ext cx="60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556000" y="4581360"/>
              <a:ext cx="606240" cy="648000"/>
              <a:chOff x="2556000" y="4581360"/>
              <a:chExt cx="606240" cy="648000"/>
            </a:xfrm>
          </p:grpSpPr>
          <p:sp>
            <p:nvSpPr>
              <p:cNvPr id="181" name=""/>
              <p:cNvSpPr/>
              <p:nvPr/>
            </p:nvSpPr>
            <p:spPr>
              <a:xfrm rot="16200000">
                <a:off x="2535120" y="4602240"/>
                <a:ext cx="648000" cy="606240"/>
              </a:xfrm>
              <a:custGeom>
                <a:avLst/>
                <a:gdLst/>
                <a:ahLst/>
                <a:rect l="l" t="t" r="r" b="b"/>
                <a:pathLst>
                  <a:path w="726" h="680">
                    <a:moveTo>
                      <a:pt x="0" y="0"/>
                    </a:moveTo>
                    <a:lnTo>
                      <a:pt x="726" y="0"/>
                    </a:lnTo>
                    <a:lnTo>
                      <a:pt x="726" y="680"/>
                    </a:lnTo>
                    <a:lnTo>
                      <a:pt x="0" y="68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556000" y="4702680"/>
                <a:ext cx="60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556000" y="4824360"/>
                <a:ext cx="60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556000" y="4945680"/>
                <a:ext cx="60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556000" y="5067000"/>
                <a:ext cx="60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 flipV="1">
              <a:off x="2843280" y="2852280"/>
              <a:ext cx="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56000" y="3429000"/>
              <a:ext cx="576000" cy="576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843280" y="400536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11640" y="1700280"/>
              <a:ext cx="576360" cy="576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43280" y="1989000"/>
              <a:ext cx="1368360" cy="360360"/>
            </a:xfrm>
            <a:custGeom>
              <a:avLst/>
              <a:gdLst/>
              <a:ahLst/>
              <a:rect l="l" t="t" r="r" b="b"/>
              <a:pathLst>
                <a:path w="862" h="227">
                  <a:moveTo>
                    <a:pt x="0" y="227"/>
                  </a:moveTo>
                  <a:lnTo>
                    <a:pt x="0" y="0"/>
                  </a:lnTo>
                  <a:lnTo>
                    <a:pt x="86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03280" y="3141720"/>
              <a:ext cx="1152720" cy="431640"/>
            </a:xfrm>
            <a:custGeom>
              <a:avLst/>
              <a:gdLst/>
              <a:ahLst/>
              <a:rect l="l" t="t" r="r" b="b"/>
              <a:pathLst>
                <a:path w="726" h="272">
                  <a:moveTo>
                    <a:pt x="726" y="272"/>
                  </a:moveTo>
                  <a:lnTo>
                    <a:pt x="454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76360" y="5084640"/>
              <a:ext cx="1224000" cy="432000"/>
            </a:xfrm>
            <a:custGeom>
              <a:avLst/>
              <a:gdLst/>
              <a:ahLst/>
              <a:rect l="l" t="t" r="r" b="b"/>
              <a:pathLst>
                <a:path w="771" h="272">
                  <a:moveTo>
                    <a:pt x="0" y="272"/>
                  </a:moveTo>
                  <a:lnTo>
                    <a:pt x="771" y="272"/>
                  </a:lnTo>
                  <a:lnTo>
                    <a:pt x="77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4212000" y="1988640"/>
              <a:ext cx="3384360" cy="3816360"/>
              <a:chOff x="4212000" y="1988640"/>
              <a:chExt cx="3384360" cy="38163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37400" y="4508280"/>
                <a:ext cx="606600" cy="647640"/>
                <a:chOff x="5837400" y="4508280"/>
                <a:chExt cx="606600" cy="647640"/>
              </a:xfrm>
            </p:grpSpPr>
            <p:sp>
              <p:nvSpPr>
                <p:cNvPr id="195" name=""/>
                <p:cNvSpPr/>
                <p:nvPr/>
              </p:nvSpPr>
              <p:spPr>
                <a:xfrm flipH="1" flipV="1" rot="16200000">
                  <a:off x="5816520" y="4528440"/>
                  <a:ext cx="647640" cy="606600"/>
                </a:xfrm>
                <a:custGeom>
                  <a:avLst/>
                  <a:gdLst/>
                  <a:ahLst/>
                  <a:rect l="l" t="t" r="r" b="b"/>
                  <a:pathLst>
                    <a:path w="726" h="680">
                      <a:moveTo>
                        <a:pt x="0" y="0"/>
                      </a:moveTo>
                      <a:lnTo>
                        <a:pt x="726" y="0"/>
                      </a:lnTo>
                      <a:lnTo>
                        <a:pt x="726" y="680"/>
                      </a:lnTo>
                      <a:lnTo>
                        <a:pt x="0" y="68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H="1">
                  <a:off x="5837400" y="5034600"/>
                  <a:ext cx="606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>
                  <a:off x="5837400" y="4913280"/>
                  <a:ext cx="606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H="1">
                  <a:off x="5837400" y="4791960"/>
                  <a:ext cx="606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>
                  <a:off x="5837400" y="4670640"/>
                  <a:ext cx="606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837400" y="2276280"/>
                <a:ext cx="606600" cy="647640"/>
                <a:chOff x="5837400" y="2276280"/>
                <a:chExt cx="606600" cy="647640"/>
              </a:xfrm>
            </p:grpSpPr>
            <p:sp>
              <p:nvSpPr>
                <p:cNvPr id="201" name=""/>
                <p:cNvSpPr/>
                <p:nvPr/>
              </p:nvSpPr>
              <p:spPr>
                <a:xfrm flipH="1" flipV="1" rot="16200000">
                  <a:off x="5816520" y="2296440"/>
                  <a:ext cx="647640" cy="606600"/>
                </a:xfrm>
                <a:custGeom>
                  <a:avLst/>
                  <a:gdLst/>
                  <a:ahLst/>
                  <a:rect l="l" t="t" r="r" b="b"/>
                  <a:pathLst>
                    <a:path w="726" h="680">
                      <a:moveTo>
                        <a:pt x="0" y="0"/>
                      </a:moveTo>
                      <a:lnTo>
                        <a:pt x="726" y="0"/>
                      </a:lnTo>
                      <a:lnTo>
                        <a:pt x="726" y="680"/>
                      </a:lnTo>
                      <a:lnTo>
                        <a:pt x="0" y="68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>
                  <a:off x="5837400" y="2802600"/>
                  <a:ext cx="606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H="1">
                  <a:off x="5837400" y="2681280"/>
                  <a:ext cx="606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>
                  <a:off x="5837400" y="2559960"/>
                  <a:ext cx="606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>
                  <a:off x="5837400" y="2438640"/>
                  <a:ext cx="606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" name=""/>
              <p:cNvSpPr/>
              <p:nvPr/>
            </p:nvSpPr>
            <p:spPr>
              <a:xfrm>
                <a:off x="6156720" y="4077720"/>
                <a:ext cx="0" cy="57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flipV="1">
                <a:off x="5867280" y="3499560"/>
                <a:ext cx="576360" cy="576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156720" y="2923920"/>
                <a:ext cx="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 flipV="1">
                <a:off x="4211640" y="5228280"/>
                <a:ext cx="576360" cy="576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 flipV="1">
                <a:off x="4788000" y="5155200"/>
                <a:ext cx="1368360" cy="360360"/>
              </a:xfrm>
              <a:custGeom>
                <a:avLst/>
                <a:gdLst/>
                <a:ahLst/>
                <a:rect l="l" t="t" r="r" b="b"/>
                <a:pathLst>
                  <a:path w="862" h="227">
                    <a:moveTo>
                      <a:pt x="0" y="227"/>
                    </a:moveTo>
                    <a:lnTo>
                      <a:pt x="0" y="0"/>
                    </a:lnTo>
                    <a:lnTo>
                      <a:pt x="86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flipV="1">
                <a:off x="6443640" y="3931560"/>
                <a:ext cx="1152360" cy="432000"/>
              </a:xfrm>
              <a:custGeom>
                <a:avLst/>
                <a:gdLst/>
                <a:ahLst/>
                <a:rect l="l" t="t" r="r" b="b"/>
                <a:pathLst>
                  <a:path w="726" h="272">
                    <a:moveTo>
                      <a:pt x="726" y="272"/>
                    </a:moveTo>
                    <a:lnTo>
                      <a:pt x="454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 flipV="1">
                <a:off x="6299640" y="1988280"/>
                <a:ext cx="1224000" cy="431640"/>
              </a:xfrm>
              <a:custGeom>
                <a:avLst/>
                <a:gdLst/>
                <a:ahLst/>
                <a:rect l="l" t="t" r="r" b="b"/>
                <a:pathLst>
                  <a:path w="771" h="272">
                    <a:moveTo>
                      <a:pt x="0" y="272"/>
                    </a:moveTo>
                    <a:lnTo>
                      <a:pt x="771" y="272"/>
                    </a:lnTo>
                    <a:lnTo>
                      <a:pt x="77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4788000" y="1989000"/>
              <a:ext cx="1224000" cy="432000"/>
            </a:xfrm>
            <a:custGeom>
              <a:avLst/>
              <a:gdLst/>
              <a:ahLst/>
              <a:rect l="l" t="t" r="r" b="b"/>
              <a:pathLst>
                <a:path w="771" h="272">
                  <a:moveTo>
                    <a:pt x="0" y="0"/>
                  </a:moveTo>
                  <a:lnTo>
                    <a:pt x="771" y="0"/>
                  </a:lnTo>
                  <a:lnTo>
                    <a:pt x="771" y="27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2987640" y="5084640"/>
              <a:ext cx="1224000" cy="432000"/>
            </a:xfrm>
            <a:custGeom>
              <a:avLst/>
              <a:gdLst/>
              <a:ahLst/>
              <a:rect l="l" t="t" r="r" b="b"/>
              <a:pathLst>
                <a:path w="771" h="272">
                  <a:moveTo>
                    <a:pt x="0" y="0"/>
                  </a:moveTo>
                  <a:lnTo>
                    <a:pt x="771" y="0"/>
                  </a:lnTo>
                  <a:lnTo>
                    <a:pt x="771" y="27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FE5B-E105-4EA1-B3CA-B9CA680320F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етевые моде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етевые модел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исываются системой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&gt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множество позиций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множество переходов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0,1}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входная функция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0,1}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выходная функция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функция разметки се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0354-747B-42DE-B500-766E21F7843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124000" y="1506600"/>
          <a:ext cx="5400720" cy="44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506600"/>
                    <a:ext cx="5400720" cy="44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D61A-7A88-4BA2-9EF3-A222D896E0A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ая литерату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ветов Б.Я., Яковлев С.А. Моделирование систе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4-е изд. – М.: Высшая школа, 2005. – 343 с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ов Б.Я., Яковлев С.А. Моделирование систем. Практику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е изд. – М.: Высшая школа, 2003. – 295 с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льтон В., Лоу А. Имитационное моделирование. Классик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е изд. – СПб.: Питер; Киев: Издательская групп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HV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004. – 847 с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95AF-09CC-4AB7-B15E-C7923170E62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ополнительная литерату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дриевский Б.Р., Фрадков А.Л. Элементы математического моделирования в программных среда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5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l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б.: Наука, 2001. – 286 с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оятностные разделы математики / Под ред. Максимова Ю.Д. – СПб.: «Иван Федоров», 2001. – 592 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оль И.М. Метод Монте-Карло. – М.: Наука, 1968. – 64с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BF12-8391-4C3B-8E24-A4F497FECA0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тематическое опис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стем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задается парой множеств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отношением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множество входов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множество выход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590920" y="4114800"/>
            <a:ext cx="3200400" cy="1066680"/>
            <a:chOff x="2590920" y="4114800"/>
            <a:chExt cx="3200400" cy="1066680"/>
          </a:xfrm>
        </p:grpSpPr>
        <p:sp>
          <p:nvSpPr>
            <p:cNvPr id="55" name=""/>
            <p:cNvSpPr/>
            <p:nvPr/>
          </p:nvSpPr>
          <p:spPr>
            <a:xfrm>
              <a:off x="4038480" y="44197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4191120"/>
              <a:ext cx="1219320" cy="990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90920" y="4648320"/>
              <a:ext cx="99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00600" y="4648320"/>
              <a:ext cx="99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320800" y="41148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668680" y="4114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F91A-D9BF-4A57-87EA-8EEBEA68AC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жет быть представлена как отношения между множествам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(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+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[0,+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включающее все  пары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для которых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т.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8931-943C-460D-AF1A-1DEED61375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войства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елост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руктурирован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еленаправлен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0" y="2286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2057400"/>
            <a:ext cx="1219320" cy="99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25146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0120" y="251460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140320" y="1981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8820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3505320"/>
            <a:ext cx="533520" cy="510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4267080"/>
            <a:ext cx="533520" cy="510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373392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3733920"/>
            <a:ext cx="304920" cy="76176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192" y="0"/>
                </a:moveTo>
                <a:lnTo>
                  <a:pt x="192" y="480"/>
                </a:lnTo>
                <a:lnTo>
                  <a:pt x="0" y="48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373392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31040" y="3733920"/>
            <a:ext cx="350640" cy="76176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192" y="480"/>
                </a:moveTo>
                <a:lnTo>
                  <a:pt x="0" y="48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86400" y="3703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19920" y="3352680"/>
            <a:ext cx="1981080" cy="152424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140320" y="3200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8820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19920" y="5029200"/>
            <a:ext cx="25146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C844-9CAB-456A-AE09-7431D09D0E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пособы исследования систе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ксперимент с реальной систем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ксперимент с моделью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изическая мод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атематическая мод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налитическое реш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митационное модел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B468-0252-42FE-B62E-0F4802C3C2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рование 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оделирование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называется изучение системы по ее модели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одель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называется представление системы в форме удобной для ее изуч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атематическо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нцептуально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называется абстрактная модель, записанная на языке математик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AF9E-E495-4F60-825E-A2CB77444E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налитические моде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налитическими называются модели, использующие алгебраические, дифференциальные и другие уравнения, а также предусматривающие осуществление однозначной вычислительной процедуры, приводящей к их решени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F6C4-19CA-465B-BAAA-BCFE3E50EF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митационные моде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митационными называются математические модели, воспроизводящие алгоритм функционирования исследуемой системы путем последовательного выполнения большого количества элементарных операц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D607-BBC6-4AF4-92F1-E0C21E2F14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1:35:34Z</dcterms:created>
  <dc:creator>lav</dc:creator>
  <dc:description/>
  <dc:language>en-US</dc:language>
  <cp:lastModifiedBy>support</cp:lastModifiedBy>
  <dcterms:modified xsi:type="dcterms:W3CDTF">2008-03-10T09:12:05Z</dcterms:modified>
  <cp:revision>66</cp:revision>
  <dc:subject/>
  <dc:title>Математическое моделирование</dc:title>
</cp:coreProperties>
</file>