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455-38DA-455C-B291-1BE0CE14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0A4-DEDB-446E-9953-D089097A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45B-0E46-419A-B623-D645929F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D277-5FD7-4AC4-8B67-D52786B2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AC4-8A72-41B7-A8BB-D709B707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35D8-6C6F-4273-95ED-8B24BF77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D72-BE3C-47FB-8826-70ABCB2B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5EF-B50D-4541-9CA7-07DCBD79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12C0-47B3-4C8D-BF85-517C5558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27A4-CF0E-40FE-9BCE-7878AEE0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57C-E6EF-4A1C-AF17-50E323C8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9E0A-D3BD-44BF-A31F-F4E04855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620B-414F-4B2E-9BFA-EA5B3651F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ланирование эксперимент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ффекты взаимодейств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45960" y="1685880"/>
          <a:ext cx="82980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1685880"/>
                    <a:ext cx="82980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16040" y="1747800"/>
          <a:ext cx="7818120" cy="2595600"/>
        </p:xfrm>
        <a:graphic>
          <a:graphicData uri="http://schemas.openxmlformats.org/drawingml/2006/table">
            <a:tbl>
              <a:tblPr/>
              <a:tblGrid>
                <a:gridCol w="1954080"/>
                <a:gridCol w="1878120"/>
                <a:gridCol w="2031840"/>
                <a:gridCol w="19540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908280" y="4714920"/>
            <a:ext cx="30031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-3+4-1+2)/2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-3-4+1+2)/2=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3-4-1+2)/2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робные факторные пла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решающей способность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ДФП называется число, которое гарантирует, что эффекты не смешиваются, если сумма их факторов строго меньше данного числа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робные факторные пла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04920" y="1676520"/>
          <a:ext cx="8458200" cy="4841640"/>
        </p:xfrm>
        <a:graphic>
          <a:graphicData uri="http://schemas.openxmlformats.org/drawingml/2006/table">
            <a:tbl>
              <a:tblPr/>
              <a:tblGrid>
                <a:gridCol w="1111320"/>
                <a:gridCol w="2306520"/>
                <a:gridCol w="2648160"/>
                <a:gridCol w="239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робный факторный план 2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3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981080"/>
          <a:ext cx="7772400" cy="2595600"/>
        </p:xfrm>
        <a:graphic>
          <a:graphicData uri="http://schemas.openxmlformats.org/drawingml/2006/table">
            <a:tbl>
              <a:tblPr/>
              <a:tblGrid>
                <a:gridCol w="1554120"/>
                <a:gridCol w="1494000"/>
                <a:gridCol w="1616040"/>
                <a:gridCol w="1554120"/>
                <a:gridCol w="155412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1981080"/>
          <a:ext cx="7772400" cy="2595600"/>
        </p:xfrm>
        <a:graphic>
          <a:graphicData uri="http://schemas.openxmlformats.org/drawingml/2006/table">
            <a:tbl>
              <a:tblPr/>
              <a:tblGrid>
                <a:gridCol w="1554120"/>
                <a:gridCol w="1494000"/>
                <a:gridCol w="1616040"/>
                <a:gridCol w="1554120"/>
                <a:gridCol w="155412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900000" y="4765680"/>
            <a:ext cx="35197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-3+4+3+2)/2=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-3-4-3+2)/2=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3-4+3+2)/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планирования эксперимен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ратегическое планирова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решает задачу получения необходимой информации о модели, с учетом ограниченных ресурс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актическое планирова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пределяет способ проведения каждой серии испытаний модели, предусмотренной планом эксперимента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общих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чис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14400" y="2209680"/>
          <a:ext cx="7562880" cy="31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09680"/>
                    <a:ext cx="7562880" cy="31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дополняющих случайных величин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066680" y="1981080"/>
                <a:ext cx="6324840" cy="477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</m:e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  <m:r>
                          <m:t xml:space="preserve">,</m:t>
                        </m:r>
                      </m:e>
                      <m:e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контрольных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38080" y="2247840"/>
                <a:ext cx="7315200" cy="27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акт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входные переменные модели и структурные допу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кли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акц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выходные показатели работы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непрямых оцен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295280" y="1981080"/>
                <a:ext cx="6324840" cy="42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акторов и откл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33520" y="2133720"/>
          <a:ext cx="7924680" cy="446400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нсивность поступления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ержка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тельность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пускная способ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узл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 использ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ли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очеред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факто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3520" y="1828800"/>
          <a:ext cx="8153280" cy="468000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91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факто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нсивность поступления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циплина обслужи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авляе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устрой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правляе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нсивность поступления сообщ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измер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2068560"/>
          <a:ext cx="838224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68560"/>
                    <a:ext cx="83822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60440" y="3352680"/>
          <a:ext cx="6318360" cy="11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0440" y="3352680"/>
                    <a:ext cx="631836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лан эксперимен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828800" y="2133720"/>
          <a:ext cx="4952880" cy="31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133720"/>
                    <a:ext cx="4952880" cy="31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планов эксперимен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роб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мметрич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вномер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уровни любого фактора встречаются в плане одинаковое для данного фактора число раз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лный факторный план 2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1981080"/>
          <a:ext cx="7772400" cy="4672080"/>
        </p:xfrm>
        <a:graphic>
          <a:graphicData uri="http://schemas.openxmlformats.org/drawingml/2006/table">
            <a:tbl>
              <a:tblPr/>
              <a:tblGrid>
                <a:gridCol w="1554120"/>
                <a:gridCol w="1494000"/>
                <a:gridCol w="1616040"/>
                <a:gridCol w="1554120"/>
                <a:gridCol w="155412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лавные эффек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2200" y="1981080"/>
          <a:ext cx="8516880" cy="36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1981080"/>
                    <a:ext cx="8516880" cy="36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7-05-21T08:24:59Z</dcterms:modified>
  <cp:revision>154</cp:revision>
  <dc:subject/>
  <dc:title>Общие модели  динамических систем</dc:title>
</cp:coreProperties>
</file>