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488EE-AF56-472E-B5C2-CEDE94459FB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Входы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формализуют воздействия, которые можно прикладывать к систем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Выходы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– это совокупность всех величин доступных измерени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2D77-8F71-40C9-8E4F-0A381BFAA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8B1B-B289-4F73-A3B2-717DD666B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23B5-E1D4-420C-9690-9E0BFD421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5802-1D6F-4C7A-81DE-784E20522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6CF2-069A-474E-86E6-3D2702198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B4A6-0332-4233-9D81-D604C97A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D773-1F9D-4FC8-B50C-191B13879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BD56-5D3A-486E-92D6-D120D0D66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5C7D-9898-4F42-9C83-28EDABC9C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FA6E-E618-4559-8DBE-6683B799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7E25-240A-489B-9E71-E988D44A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D397-4120-4364-8B92-DF51FFBA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8069D-1B07-484A-8E69-299FCA949C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делирование систе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7708-5DC0-46F9-8D50-FCE8C6A95AD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Имитационное моделирова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пределение систем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строение концептуальной моде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лгоритмизация моде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ограммирование моде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ценка адекватности моде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ланирование эксперименто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Экспериментиров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нтерпретация результато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окументирова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F271-C6CD-48BB-ADC8-6FAA5F4DE8B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Формальная модель систе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349280" y="1989000"/>
          <a:ext cx="6678720" cy="371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9280" y="1989000"/>
                    <a:ext cx="6678720" cy="37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6DBD-9697-40AC-88EB-FF44AD5ED03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лассификация моделе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татические и динамические модел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искретные и непрерывные модел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етерминированные и стохастические модел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6237-FFED-4BB8-B9FE-BEAB16B415D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татические и динамические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дель 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атическ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если значение ее выхода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момент времен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пределяется только значением входа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тот же момент времен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.е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дель 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инамическ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если значение ее выхода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момент времен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висит от всего прошлого входного процесса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т.е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910E-7447-46E7-84AC-731BD073551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искретные и непрерывны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дель системы 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искретн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ли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прерывн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о входам, выходам и времени, если дискретным или непрерывным являются множества входов, выходов и моментов времени соответственно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 3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{0, 1, 2, 3, 4, 5, …}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0}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 4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2)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1)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1071-F0E2-47CC-8D86-E8799EE1293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етерминированные и стохастические систе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етерминированно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называется модель, значение выхода которой однозначно определяется значением входного сигнал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ичины возникновения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еопределенносте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грешности и помехи измерени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еточность математической модел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еполнота информации о параметрах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16D4-CEE0-486B-A3DB-529C694A99A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атематические схе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хемы – непрерывно-детерминированные моде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хемы – дискретно-детерминированные моде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хемы – дискретно-стохастические  моде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хемы – непрерывно-стохастические  моде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хемы – сетевые моде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хемы – комбинированные моде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9BA7-024C-4F1A-84B5-242A957FE1C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Непрерывно-детерминированные модел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220760" y="2228760"/>
          <a:ext cx="6126120" cy="329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2228760"/>
                    <a:ext cx="6126120" cy="32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974B-9780-41CC-B320-8B7318A114D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ы систе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187280" y="2003400"/>
          <a:ext cx="2953080" cy="221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003400"/>
                    <a:ext cx="2953080" cy="22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1" name=""/>
          <p:cNvGrpSpPr/>
          <p:nvPr/>
        </p:nvGrpSpPr>
        <p:grpSpPr>
          <a:xfrm>
            <a:off x="4500720" y="2108160"/>
            <a:ext cx="3728880" cy="2356920"/>
            <a:chOff x="4500720" y="2108160"/>
            <a:chExt cx="3728880" cy="2356920"/>
          </a:xfrm>
        </p:grpSpPr>
        <p:sp>
          <p:nvSpPr>
            <p:cNvPr id="112" name=""/>
            <p:cNvSpPr/>
            <p:nvPr/>
          </p:nvSpPr>
          <p:spPr>
            <a:xfrm flipV="1">
              <a:off x="4876920" y="35938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724280" y="41274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500720" y="3365640"/>
              <a:ext cx="35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486400" y="267984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5334120" y="2755800"/>
              <a:ext cx="1522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5334120" y="290808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5334120" y="306036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5334120" y="3213000"/>
              <a:ext cx="1522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620120" y="267984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7620120" y="2755800"/>
              <a:ext cx="1522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7620120" y="290808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7620120" y="306036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7620120" y="3213000"/>
              <a:ext cx="1522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29200" y="306072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477120" y="248112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5508720" y="2513160"/>
              <a:ext cx="1012680" cy="54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 flipV="1">
              <a:off x="6521400" y="2513160"/>
              <a:ext cx="1074960" cy="54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518160" y="210816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221440" y="4005360"/>
              <a:ext cx="35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31" name=""/>
          <p:cNvGraphicFramePr/>
          <p:nvPr/>
        </p:nvGraphicFramePr>
        <p:xfrm>
          <a:off x="2700360" y="4724280"/>
          <a:ext cx="3809880" cy="83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00360" y="4724280"/>
                    <a:ext cx="380988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7610-2AFE-4C13-B25F-67C8C8058E8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Дискретно-детерминированные модел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нечным автомато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зывается система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&lt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&gt;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где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входной алфавит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внутренний алфавит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выходной алфавит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функция переходов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функция выходов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втомат Мили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втомат Мура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5DE7-A1F3-4F06-8079-2AF55B3C060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истем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истемой называется совокупность объектов, функционирующих и взаимодействующих между собой для достижения определенной цел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1D20-A11E-41D3-BCF6-A89006D9689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систе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539640" y="1952640"/>
          <a:ext cx="7993080" cy="169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952640"/>
                    <a:ext cx="7993080" cy="16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1546200" y="4125960"/>
          <a:ext cx="6121440" cy="175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6200" y="4125960"/>
                    <a:ext cx="6121440" cy="17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FFA6-EDE2-47B5-BF5A-BEAE4203678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Дискретно-стохастические  модел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10920" y="1981080"/>
            <a:ext cx="791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ероятностным автоматом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зывается система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&lt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где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входной алфавит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внутренний алфавит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выходной алфавит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множество вероятносте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1,2,…,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}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1,2,…,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1,2,…,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}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FE53-433F-4ED3-A6D2-C01801DF21E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систе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187280" y="1847880"/>
          <a:ext cx="6096240" cy="14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847880"/>
                    <a:ext cx="6096240" cy="14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1650960" y="4005360"/>
          <a:ext cx="5657760" cy="137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50960" y="4005360"/>
                    <a:ext cx="5657760" cy="13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8C5B-2EB2-4C6D-BC12-244ADB22211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Непрерывно-стохастические  модел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24080" y="2590920"/>
            <a:ext cx="464832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43440" y="304812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52920" y="3048120"/>
            <a:ext cx="3812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62760" y="304812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43440" y="388620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52920" y="3886200"/>
            <a:ext cx="3812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62760" y="388620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28800" y="3581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72400" y="3581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33880" y="4648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 rot="5400000">
            <a:off x="777600" y="1982520"/>
            <a:ext cx="9118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явки на обслужи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05040" y="2514600"/>
            <a:ext cx="14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черед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62440" y="25146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строй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700360" y="56386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тер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 rot="5400000">
            <a:off x="7513920" y="2024640"/>
            <a:ext cx="911880" cy="21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работанные заяв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83080" y="464508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076720" y="5635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каз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02400" y="464508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929040" y="5635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хо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71640" y="3141720"/>
            <a:ext cx="1152720" cy="1079280"/>
          </a:xfrm>
          <a:custGeom>
            <a:avLst/>
            <a:gdLst/>
            <a:ahLst/>
            <a:rect l="l" t="t" r="r" b="b"/>
            <a:pathLst>
              <a:path w="726" h="680">
                <a:moveTo>
                  <a:pt x="0" y="0"/>
                </a:moveTo>
                <a:lnTo>
                  <a:pt x="726" y="0"/>
                </a:lnTo>
                <a:lnTo>
                  <a:pt x="726" y="680"/>
                </a:lnTo>
                <a:lnTo>
                  <a:pt x="0" y="68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708360" y="314172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314172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76720" y="314172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60720" y="314172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1BAA-DBD2-4303-8875-A99390C414B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систе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403280" y="1700280"/>
            <a:ext cx="6193080" cy="4104720"/>
            <a:chOff x="1403280" y="1700280"/>
            <a:chExt cx="6193080" cy="4104720"/>
          </a:xfrm>
        </p:grpSpPr>
        <p:grpSp>
          <p:nvGrpSpPr>
            <p:cNvPr id="174" name=""/>
            <p:cNvGrpSpPr/>
            <p:nvPr/>
          </p:nvGrpSpPr>
          <p:grpSpPr>
            <a:xfrm>
              <a:off x="2556000" y="2349360"/>
              <a:ext cx="606240" cy="648000"/>
              <a:chOff x="2556000" y="2349360"/>
              <a:chExt cx="606240" cy="648000"/>
            </a:xfrm>
          </p:grpSpPr>
          <p:sp>
            <p:nvSpPr>
              <p:cNvPr id="175" name=""/>
              <p:cNvSpPr/>
              <p:nvPr/>
            </p:nvSpPr>
            <p:spPr>
              <a:xfrm rot="16200000">
                <a:off x="2535120" y="2370240"/>
                <a:ext cx="648000" cy="606240"/>
              </a:xfrm>
              <a:custGeom>
                <a:avLst/>
                <a:gdLst/>
                <a:ahLst/>
                <a:rect l="l" t="t" r="r" b="b"/>
                <a:pathLst>
                  <a:path w="726" h="680">
                    <a:moveTo>
                      <a:pt x="0" y="0"/>
                    </a:moveTo>
                    <a:lnTo>
                      <a:pt x="726" y="0"/>
                    </a:lnTo>
                    <a:lnTo>
                      <a:pt x="726" y="680"/>
                    </a:lnTo>
                    <a:lnTo>
                      <a:pt x="0" y="68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556000" y="2470680"/>
                <a:ext cx="606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556000" y="2592360"/>
                <a:ext cx="606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556000" y="2713680"/>
                <a:ext cx="606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556000" y="2835000"/>
                <a:ext cx="606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556000" y="4581360"/>
              <a:ext cx="606240" cy="648000"/>
              <a:chOff x="2556000" y="4581360"/>
              <a:chExt cx="606240" cy="648000"/>
            </a:xfrm>
          </p:grpSpPr>
          <p:sp>
            <p:nvSpPr>
              <p:cNvPr id="181" name=""/>
              <p:cNvSpPr/>
              <p:nvPr/>
            </p:nvSpPr>
            <p:spPr>
              <a:xfrm rot="16200000">
                <a:off x="2535120" y="4602240"/>
                <a:ext cx="648000" cy="606240"/>
              </a:xfrm>
              <a:custGeom>
                <a:avLst/>
                <a:gdLst/>
                <a:ahLst/>
                <a:rect l="l" t="t" r="r" b="b"/>
                <a:pathLst>
                  <a:path w="726" h="680">
                    <a:moveTo>
                      <a:pt x="0" y="0"/>
                    </a:moveTo>
                    <a:lnTo>
                      <a:pt x="726" y="0"/>
                    </a:lnTo>
                    <a:lnTo>
                      <a:pt x="726" y="680"/>
                    </a:lnTo>
                    <a:lnTo>
                      <a:pt x="0" y="68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556000" y="4702680"/>
                <a:ext cx="606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556000" y="4824360"/>
                <a:ext cx="606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556000" y="4945680"/>
                <a:ext cx="606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556000" y="5067000"/>
                <a:ext cx="606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6" name=""/>
            <p:cNvSpPr/>
            <p:nvPr/>
          </p:nvSpPr>
          <p:spPr>
            <a:xfrm flipV="1">
              <a:off x="2843280" y="2852280"/>
              <a:ext cx="0" cy="5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556000" y="3429000"/>
              <a:ext cx="576000" cy="576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2843280" y="4005360"/>
              <a:ext cx="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211640" y="1700280"/>
              <a:ext cx="576360" cy="576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843280" y="1989000"/>
              <a:ext cx="1368360" cy="360360"/>
            </a:xfrm>
            <a:custGeom>
              <a:avLst/>
              <a:gdLst/>
              <a:ahLst/>
              <a:rect l="l" t="t" r="r" b="b"/>
              <a:pathLst>
                <a:path w="862" h="227">
                  <a:moveTo>
                    <a:pt x="0" y="227"/>
                  </a:moveTo>
                  <a:lnTo>
                    <a:pt x="0" y="0"/>
                  </a:lnTo>
                  <a:lnTo>
                    <a:pt x="86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403280" y="3141720"/>
              <a:ext cx="1152720" cy="431640"/>
            </a:xfrm>
            <a:custGeom>
              <a:avLst/>
              <a:gdLst/>
              <a:ahLst/>
              <a:rect l="l" t="t" r="r" b="b"/>
              <a:pathLst>
                <a:path w="726" h="272">
                  <a:moveTo>
                    <a:pt x="726" y="272"/>
                  </a:moveTo>
                  <a:lnTo>
                    <a:pt x="454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476360" y="5084640"/>
              <a:ext cx="1224000" cy="432000"/>
            </a:xfrm>
            <a:custGeom>
              <a:avLst/>
              <a:gdLst/>
              <a:ahLst/>
              <a:rect l="l" t="t" r="r" b="b"/>
              <a:pathLst>
                <a:path w="771" h="272">
                  <a:moveTo>
                    <a:pt x="0" y="272"/>
                  </a:moveTo>
                  <a:lnTo>
                    <a:pt x="771" y="272"/>
                  </a:lnTo>
                  <a:lnTo>
                    <a:pt x="77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4212000" y="1988640"/>
              <a:ext cx="3384360" cy="3816360"/>
              <a:chOff x="4212000" y="1988640"/>
              <a:chExt cx="3384360" cy="38163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37400" y="4508280"/>
                <a:ext cx="606600" cy="647640"/>
                <a:chOff x="5837400" y="4508280"/>
                <a:chExt cx="606600" cy="647640"/>
              </a:xfrm>
            </p:grpSpPr>
            <p:sp>
              <p:nvSpPr>
                <p:cNvPr id="195" name=""/>
                <p:cNvSpPr/>
                <p:nvPr/>
              </p:nvSpPr>
              <p:spPr>
                <a:xfrm flipH="1" flipV="1" rot="16200000">
                  <a:off x="5816520" y="4528440"/>
                  <a:ext cx="647640" cy="606600"/>
                </a:xfrm>
                <a:custGeom>
                  <a:avLst/>
                  <a:gdLst/>
                  <a:ahLst/>
                  <a:rect l="l" t="t" r="r" b="b"/>
                  <a:pathLst>
                    <a:path w="726" h="680">
                      <a:moveTo>
                        <a:pt x="0" y="0"/>
                      </a:moveTo>
                      <a:lnTo>
                        <a:pt x="726" y="0"/>
                      </a:lnTo>
                      <a:lnTo>
                        <a:pt x="726" y="680"/>
                      </a:lnTo>
                      <a:lnTo>
                        <a:pt x="0" y="68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flipH="1">
                  <a:off x="5837400" y="5034600"/>
                  <a:ext cx="606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flipH="1">
                  <a:off x="5837400" y="4913280"/>
                  <a:ext cx="606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flipH="1">
                  <a:off x="5837400" y="4791960"/>
                  <a:ext cx="606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flipH="1">
                  <a:off x="5837400" y="4670640"/>
                  <a:ext cx="606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5837400" y="2276280"/>
                <a:ext cx="606600" cy="647640"/>
                <a:chOff x="5837400" y="2276280"/>
                <a:chExt cx="606600" cy="647640"/>
              </a:xfrm>
            </p:grpSpPr>
            <p:sp>
              <p:nvSpPr>
                <p:cNvPr id="201" name=""/>
                <p:cNvSpPr/>
                <p:nvPr/>
              </p:nvSpPr>
              <p:spPr>
                <a:xfrm flipH="1" flipV="1" rot="16200000">
                  <a:off x="5816520" y="2296440"/>
                  <a:ext cx="647640" cy="606600"/>
                </a:xfrm>
                <a:custGeom>
                  <a:avLst/>
                  <a:gdLst/>
                  <a:ahLst/>
                  <a:rect l="l" t="t" r="r" b="b"/>
                  <a:pathLst>
                    <a:path w="726" h="680">
                      <a:moveTo>
                        <a:pt x="0" y="0"/>
                      </a:moveTo>
                      <a:lnTo>
                        <a:pt x="726" y="0"/>
                      </a:lnTo>
                      <a:lnTo>
                        <a:pt x="726" y="680"/>
                      </a:lnTo>
                      <a:lnTo>
                        <a:pt x="0" y="68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flipH="1">
                  <a:off x="5837400" y="2802600"/>
                  <a:ext cx="606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flipH="1">
                  <a:off x="5837400" y="2681280"/>
                  <a:ext cx="606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flipH="1">
                  <a:off x="5837400" y="2559960"/>
                  <a:ext cx="606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flipH="1">
                  <a:off x="5837400" y="2438640"/>
                  <a:ext cx="606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6" name=""/>
              <p:cNvSpPr/>
              <p:nvPr/>
            </p:nvSpPr>
            <p:spPr>
              <a:xfrm>
                <a:off x="6156720" y="4077720"/>
                <a:ext cx="0" cy="57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 flipV="1">
                <a:off x="5867280" y="3499560"/>
                <a:ext cx="576360" cy="5763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156720" y="2923920"/>
                <a:ext cx="0" cy="57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 flipV="1">
                <a:off x="4211640" y="5228280"/>
                <a:ext cx="576360" cy="5763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 flipV="1">
                <a:off x="4788000" y="5155200"/>
                <a:ext cx="1368360" cy="360360"/>
              </a:xfrm>
              <a:custGeom>
                <a:avLst/>
                <a:gdLst/>
                <a:ahLst/>
                <a:rect l="l" t="t" r="r" b="b"/>
                <a:pathLst>
                  <a:path w="862" h="227">
                    <a:moveTo>
                      <a:pt x="0" y="227"/>
                    </a:moveTo>
                    <a:lnTo>
                      <a:pt x="0" y="0"/>
                    </a:lnTo>
                    <a:lnTo>
                      <a:pt x="86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 flipV="1">
                <a:off x="6443640" y="3931560"/>
                <a:ext cx="1152360" cy="432000"/>
              </a:xfrm>
              <a:custGeom>
                <a:avLst/>
                <a:gdLst/>
                <a:ahLst/>
                <a:rect l="l" t="t" r="r" b="b"/>
                <a:pathLst>
                  <a:path w="726" h="272">
                    <a:moveTo>
                      <a:pt x="726" y="272"/>
                    </a:moveTo>
                    <a:lnTo>
                      <a:pt x="454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 flipV="1">
                <a:off x="6299640" y="1988280"/>
                <a:ext cx="1224000" cy="431640"/>
              </a:xfrm>
              <a:custGeom>
                <a:avLst/>
                <a:gdLst/>
                <a:ahLst/>
                <a:rect l="l" t="t" r="r" b="b"/>
                <a:pathLst>
                  <a:path w="771" h="272">
                    <a:moveTo>
                      <a:pt x="0" y="272"/>
                    </a:moveTo>
                    <a:lnTo>
                      <a:pt x="771" y="272"/>
                    </a:lnTo>
                    <a:lnTo>
                      <a:pt x="77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>
              <a:off x="4788000" y="1989000"/>
              <a:ext cx="1224000" cy="432000"/>
            </a:xfrm>
            <a:custGeom>
              <a:avLst/>
              <a:gdLst/>
              <a:ahLst/>
              <a:rect l="l" t="t" r="r" b="b"/>
              <a:pathLst>
                <a:path w="771" h="272">
                  <a:moveTo>
                    <a:pt x="0" y="0"/>
                  </a:moveTo>
                  <a:lnTo>
                    <a:pt x="771" y="0"/>
                  </a:lnTo>
                  <a:lnTo>
                    <a:pt x="771" y="27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 flipV="1">
              <a:off x="2987640" y="5084640"/>
              <a:ext cx="1224000" cy="432000"/>
            </a:xfrm>
            <a:custGeom>
              <a:avLst/>
              <a:gdLst/>
              <a:ahLst/>
              <a:rect l="l" t="t" r="r" b="b"/>
              <a:pathLst>
                <a:path w="771" h="272">
                  <a:moveTo>
                    <a:pt x="0" y="0"/>
                  </a:moveTo>
                  <a:lnTo>
                    <a:pt x="771" y="0"/>
                  </a:lnTo>
                  <a:lnTo>
                    <a:pt x="771" y="27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3C2E-7E0F-4979-9330-59BD00414A0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етевые модел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етевые модели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писываются системой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&lt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&gt;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где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множество позиций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множество переходов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0,1}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входная функция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0,1}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выходная функция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функция разметки сет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61C8-3730-4540-9D9B-BCFCDCA2638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систе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2124000" y="1506600"/>
          <a:ext cx="5400720" cy="444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506600"/>
                    <a:ext cx="5400720" cy="44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16D1-8B53-406B-96A0-8CF2DBD257E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сновная литерату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ветов Б.Я., Яковлев С.А. Моделирование систе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4-е изд. – М.: Высшая школа, 2005. – 343 с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тов Б.Я., Яковлев С.А. Моделирование систем. Практику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е изд. – М.: Высшая школа, 2003. – 295 с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льтон В., Лоу А. Имитационное моделирование. Классик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е изд. – СПб.: Питер; Киев: Издательская групп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HV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2004. – 847 с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5826-5072-493B-8111-4639F3BC1B0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ополнительная литерату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дриевский Б.Р., Фрадков А.Л. Элементы математического моделирования в программных средах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5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ila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б.: Наука, 2001. – 286 с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роятностные разделы математики / Под ред. Максимова Ю.Д. – СПб.: «Иван Федоров», 2001. – 592 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боль И.М. Метод Монте-Карло. – М.: Наука, 1968. – 64с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1B60-986C-4662-B2E4-74C0B1F9756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атематическое опис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истем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задается парой множеств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отношением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где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множество входов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множество выходов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2590920" y="4114800"/>
            <a:ext cx="3200400" cy="1066680"/>
            <a:chOff x="2590920" y="4114800"/>
            <a:chExt cx="3200400" cy="1066680"/>
          </a:xfrm>
        </p:grpSpPr>
        <p:sp>
          <p:nvSpPr>
            <p:cNvPr id="55" name=""/>
            <p:cNvSpPr/>
            <p:nvPr/>
          </p:nvSpPr>
          <p:spPr>
            <a:xfrm>
              <a:off x="4038480" y="44197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4191120"/>
              <a:ext cx="1219320" cy="990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590920" y="4648320"/>
              <a:ext cx="99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00600" y="4648320"/>
              <a:ext cx="99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320800" y="41148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668680" y="4114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7C1F-59AC-4A6C-889D-069948FADB0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ункция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жет быть представлена как отношения между множествам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(-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+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[0,+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включающее все  пары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, для которых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т.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2E9A-5CDB-4C0F-B885-68A42500DE6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войства систе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Целостнос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руктурированнос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Целенаправленнос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0" y="22860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2057400"/>
            <a:ext cx="1219320" cy="990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10080" y="251460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0120" y="251460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140320" y="19810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88200" y="198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781680" y="3505320"/>
            <a:ext cx="533520" cy="510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81680" y="4267080"/>
            <a:ext cx="533520" cy="510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15200" y="3733920"/>
            <a:ext cx="1219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315200" y="3733920"/>
            <a:ext cx="304920" cy="761760"/>
          </a:xfrm>
          <a:custGeom>
            <a:avLst/>
            <a:gdLst/>
            <a:ahLst/>
            <a:rect l="l" t="t" r="r" b="b"/>
            <a:pathLst>
              <a:path w="192" h="480">
                <a:moveTo>
                  <a:pt x="192" y="0"/>
                </a:moveTo>
                <a:lnTo>
                  <a:pt x="192" y="480"/>
                </a:lnTo>
                <a:lnTo>
                  <a:pt x="0" y="48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3733920"/>
            <a:ext cx="1371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431040" y="3733920"/>
            <a:ext cx="350640" cy="761760"/>
          </a:xfrm>
          <a:custGeom>
            <a:avLst/>
            <a:gdLst/>
            <a:ahLst/>
            <a:rect l="l" t="t" r="r" b="b"/>
            <a:pathLst>
              <a:path w="192" h="480">
                <a:moveTo>
                  <a:pt x="192" y="480"/>
                </a:moveTo>
                <a:lnTo>
                  <a:pt x="0" y="48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386400" y="3703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19920" y="3352680"/>
            <a:ext cx="1981080" cy="152424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140320" y="32004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48820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19920" y="5029200"/>
            <a:ext cx="25146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2051-D1AD-4060-A9CE-F016F931868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Способы исследования систе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Эксперимент с реальной систем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Эксперимент с моделью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Физическая моде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атематическая моде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налитическое реш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митационное моделир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3C8D-43DB-4238-B7B3-D50AC231CAC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делирование систе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оделирование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называется изучение системы по ее модели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одель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называется представление системы в форме удобной для ее изуче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атематическо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онцептуально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называется абстрактная модель, записанная на языке математик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10A3-EF08-4ED1-865F-02C002F185C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Аналитические модел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налитическими называются модели, использующие алгебраические, дифференциальные и другие уравнения, а также предусматривающие осуществление однозначной вычислительной процедуры, приводящей к их решени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7D20-0C92-4F3B-88DB-445F0C72D58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митационные модел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митационными называются математические модели, воспроизводящие алгоритм функционирования исследуемой системы путем последовательного выполнения большого количества элементарных операц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5B98-F5C5-4E96-BEA6-2A5BA270D4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11:35:34Z</dcterms:created>
  <dc:creator>lav</dc:creator>
  <dc:description/>
  <dc:language>en-US</dc:language>
  <cp:lastModifiedBy>support</cp:lastModifiedBy>
  <dcterms:modified xsi:type="dcterms:W3CDTF">2008-03-10T09:12:05Z</dcterms:modified>
  <cp:revision>66</cp:revision>
  <dc:subject/>
  <dc:title>Математическое моделирование</dc:title>
</cp:coreProperties>
</file>