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4078-2C2E-443F-A081-47DD2AB1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21D3-212C-4EE2-955D-CC86D8C5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8177-0FD1-438A-BCBA-C8554BDC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7280-D690-4C43-801E-1370A9AB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3C59-DA38-4D18-8021-D4206DE6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8E68-272B-4DF6-9C6F-C338AFAB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C3F2-BD26-4FA8-AFE6-A513E03B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5E33-4A96-4C9A-8A35-E93FD292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627B-11C6-42E2-A141-58995680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74CA-1B19-4934-99EF-693F3D91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0CFE-0B53-48FC-885B-2878E0BD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63F8-543E-42CA-90B3-21E73D91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8697-28B7-46AB-8E24-06C6311E1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етод Монте-Карл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коны распреде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вномерное распредел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163520" y="2743200"/>
          <a:ext cx="3084480" cy="20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3520" y="2743200"/>
                    <a:ext cx="3084480" cy="20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коны распреде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кспоненциальное распредел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219320" y="2438280"/>
          <a:ext cx="228600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438280"/>
                    <a:ext cx="228600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коны распреде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ормальное распредел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19320" y="2743200"/>
          <a:ext cx="3657600" cy="13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743200"/>
                    <a:ext cx="365760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зависимы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е велич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искретные величин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прерывные величин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933480" y="2654280"/>
          <a:ext cx="6381720" cy="12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3480" y="2654280"/>
                    <a:ext cx="638172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914400" y="4343400"/>
          <a:ext cx="5334120" cy="229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343400"/>
                    <a:ext cx="5334120" cy="22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войства независимых случай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12680" y="2565360"/>
          <a:ext cx="5364360" cy="13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2680" y="2565360"/>
                    <a:ext cx="536436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рреляция и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эффициент корреляци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рреляция случайных величин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эффициент корреляции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5800" y="2819520"/>
          <a:ext cx="788688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19520"/>
                    <a:ext cx="78868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276720" y="4648320"/>
          <a:ext cx="2057400" cy="12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648320"/>
                    <a:ext cx="205740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ценка корреляции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914400" y="25909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4191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75920" y="423216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5800" y="259092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3124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3657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3276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2819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3809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3962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33720" y="2743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2895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29000" y="25909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4191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90520" y="423216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40400" y="259092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148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3200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33920" y="3657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3048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3505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48320" y="2743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3962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141960" y="25909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13360" y="4191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03480" y="423216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53720" y="259092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5636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23200" y="3124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62920" y="3657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3200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6128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8168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2819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ункции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49400" y="1989000"/>
          <a:ext cx="6265800" cy="372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9400" y="1989000"/>
                    <a:ext cx="6265800" cy="37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е процес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. 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Отображе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сопоставляющее каждому элемент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ну из случайных величин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учайной функцией 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Сама случайная величина называетс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чением случайной функ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точк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. 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Отображе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сопоставляющее каждому элемент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числ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лизацией случайной функ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. 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Случайная функци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заданная на подмножеств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словой п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учайным процессом 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ы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х процес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сл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частиц, зарегистрированных счетчиком за время наблюдения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ебания высот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 регулируемого автопилотом летательного аппарата в момент времен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менение во времен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атмосферного давления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данном географическом пункт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е велич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ероятност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лучайного событ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это мера того, насколько велика возможность его возникнов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ероятност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изменяется от 0 (вероятность невозможного события) до 1 (вероятность достоверного события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лучайна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еличи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является более обобщенным понятием случайного событ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лучайные величины могут быт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искретны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прерывны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ационарны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е процес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133720" y="2514600"/>
          <a:ext cx="4952880" cy="24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514600"/>
                    <a:ext cx="4952880" cy="24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Центральна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дельная теорем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371600" y="2011320"/>
          <a:ext cx="6400800" cy="43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11320"/>
                    <a:ext cx="640080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едств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658880" y="1895400"/>
          <a:ext cx="5656320" cy="32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8880" y="1895400"/>
                    <a:ext cx="565632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етод Монте-Карл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270080" y="1893960"/>
          <a:ext cx="406404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080" y="1893960"/>
                    <a:ext cx="406404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990720" y="198072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5715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2514600"/>
            <a:ext cx="32004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176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4028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2514600"/>
            <a:ext cx="3047760" cy="3200400"/>
          </a:xfrm>
          <a:prstGeom prst="irregularSeal2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2819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3048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733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38280" y="4648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4800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4952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3581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339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5486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5486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5410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4800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548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95480" y="3124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4343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5029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4267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4495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8108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62320" y="5410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5562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19320" y="3124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19520" y="4267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5257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76720" y="2819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5791320" y="3505320"/>
          <a:ext cx="1565280" cy="13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3505320"/>
                    <a:ext cx="1565280" cy="13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скретна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ая величин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учайная величин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скрет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она может принимать дискретное множество значений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371600" y="4191120"/>
          <a:ext cx="6095880" cy="13460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3880"/>
                <a:gridCol w="1524240"/>
              </a:tblGrid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Характеристики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скрет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атематическое ожидание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исперс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90920" y="2502000"/>
          <a:ext cx="3352680" cy="13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502000"/>
                    <a:ext cx="3352680" cy="13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392120" y="4572000"/>
          <a:ext cx="666432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72000"/>
                    <a:ext cx="66643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войства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тематического ожидания  и дисперси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914400" y="2209680"/>
          <a:ext cx="556272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09680"/>
                    <a:ext cx="5562720" cy="20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914400" y="4599000"/>
          <a:ext cx="3894120" cy="142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599000"/>
                    <a:ext cx="3894120" cy="14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прерывна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ая велич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учайная величина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прерыв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она может принимать любое значение из некоторого интервала 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прерывная случайная величина характери-зу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ункцией распредел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лотностью вероят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ункция распреде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163520" y="2635200"/>
          <a:ext cx="2722680" cy="4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3520" y="2635200"/>
                    <a:ext cx="272268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1143000" y="3809880"/>
          <a:ext cx="4876920" cy="168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809880"/>
                    <a:ext cx="4876920" cy="16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лотность вероят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57400" y="2590920"/>
          <a:ext cx="393372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7400" y="2590920"/>
                    <a:ext cx="39337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143000" y="4495680"/>
          <a:ext cx="2895480" cy="194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495680"/>
                    <a:ext cx="289548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Характеристики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прерыв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атематическое ожидание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исперс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523880" y="4267080"/>
          <a:ext cx="6324840" cy="13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267080"/>
                    <a:ext cx="632484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2430360" y="2438280"/>
          <a:ext cx="3973680" cy="135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0360" y="2438280"/>
                    <a:ext cx="397368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23:40Z</dcterms:created>
  <dc:creator>lav</dc:creator>
  <dc:description/>
  <dc:language>en-US</dc:language>
  <cp:lastModifiedBy>support</cp:lastModifiedBy>
  <dcterms:modified xsi:type="dcterms:W3CDTF">2008-03-10T11:19:27Z</dcterms:modified>
  <cp:revision>51</cp:revision>
  <dc:subject/>
  <dc:title>Общие модели  динамических систем</dc:title>
</cp:coreProperties>
</file>