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2716-1AD3-4249-8E19-8B920F339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9530-64C9-48AC-AAD8-926A5BD86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B6C9-F08B-41A6-8AF2-945878293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90A2-4197-403A-8436-D766E0F44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9FDC-F261-4F0B-ABC6-AFF0A68C4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2C72-36FF-4AAA-AF2C-BE2B38947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4049-0FC5-4FFE-B07F-9EE3E0452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D342-4F17-48AD-B07C-8FA0CBE2B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B072-FB52-402E-991F-B8AE23F25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73CA-8585-4591-ABFD-10CE9B26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D728-93DD-433F-9660-AD321334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1075-3843-420D-9350-0EDDBB7C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43AA8-9734-43EE-A37B-624CC8B893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делирование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лучайных величи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делирование дискретной случайной величин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1532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обходимо получить последовательность значений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учайной величины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распределением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523880" y="3987720"/>
          <a:ext cx="6096240" cy="111780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i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0" i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делирование дискретной случайной величин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60720" indent="-3607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тервал (0,1) разбивается н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астей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длинам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олученные интервалы нумеруются цифрами 1,2,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Координаты точек деления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0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…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0720" indent="-3607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бирается стандартно равномерно распределенная случайная величина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строится точк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0720" indent="-3607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эта точка попадает в интервал с номером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32763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0.43, 0.75, 0.11, 0.98, 0.35, 0.64, 0.23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     2,      3,      1,      3,      2,      2,      2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371600" y="1905120"/>
          <a:ext cx="6095880" cy="111744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3880"/>
                <a:gridCol w="152424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делирование непрерывной случайной величины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нахождения значения непрерывной случайной величины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пределенной в интервале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 плотностью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обходимо решить уравнени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случайная величина, которая имеет стандартной равномерное распределени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3567240" y="3773520"/>
                <a:ext cx="1919160" cy="11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  <m:r>
                          <m:t xml:space="preserve">=</m:t>
                        </m:r>
                        <m:r>
                          <m:t xml:space="preserve">γ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бщая формул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752480" y="2971800"/>
          <a:ext cx="5689800" cy="87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971800"/>
                    <a:ext cx="568980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4800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0.43, 0.75, 0.11, 0.98, 0.35, 0.64, 0.23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     2,      3,      1,      3,      2,      2,      2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1295280" y="167616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4267080"/>
            <a:ext cx="6782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012080" y="420516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0200" y="167652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295280" y="1725480"/>
          <a:ext cx="5410440" cy="2541600"/>
        </p:xfrm>
        <a:graphic>
          <a:graphicData uri="http://schemas.openxmlformats.org/drawingml/2006/table">
            <a:tbl>
              <a:tblPr/>
              <a:tblGrid>
                <a:gridCol w="901800"/>
                <a:gridCol w="901800"/>
                <a:gridCol w="901800"/>
                <a:gridCol w="901440"/>
                <a:gridCol w="901800"/>
                <a:gridCol w="90180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 flipH="1">
            <a:off x="533520" y="4267080"/>
            <a:ext cx="1676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2209680" y="38098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081240" y="263376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981240" y="1947960"/>
            <a:ext cx="272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5920" y="28195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8452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59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4192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1168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72608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4048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етод Неймана для моделирования непрерывной случайной величин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учайная величина определена на конечном интервале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имеет ограниченную плотность вероятност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&lt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бираются два значения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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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лучайной величины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вычисляются величин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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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о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аче повторяем п.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етод Неймана для моделирования непрерывной случайной величин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1905120" y="259056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3880" y="5334120"/>
            <a:ext cx="5791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689160" y="5334120"/>
            <a:ext cx="56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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22920" y="2620800"/>
            <a:ext cx="61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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62320" y="3962520"/>
            <a:ext cx="3504960" cy="1371600"/>
          </a:xfrm>
          <a:custGeom>
            <a:avLst/>
            <a:gdLst/>
            <a:ahLst/>
            <a:rect l="l" t="t" r="r" b="b"/>
            <a:pathLst>
              <a:path w="2208" h="864">
                <a:moveTo>
                  <a:pt x="0" y="864"/>
                </a:moveTo>
                <a:lnTo>
                  <a:pt x="576" y="0"/>
                </a:lnTo>
                <a:lnTo>
                  <a:pt x="1248" y="0"/>
                </a:lnTo>
                <a:lnTo>
                  <a:pt x="1248" y="384"/>
                </a:lnTo>
                <a:lnTo>
                  <a:pt x="2208" y="384"/>
                </a:lnTo>
                <a:lnTo>
                  <a:pt x="2208" y="864"/>
                </a:lnTo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905120" y="39625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20760" y="368784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29360" y="3352680"/>
            <a:ext cx="94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362320" y="39625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867280" y="39625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39625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4267080"/>
            <a:ext cx="7632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71800" y="4572000"/>
            <a:ext cx="7632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4114800"/>
            <a:ext cx="7632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5029200"/>
            <a:ext cx="7596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400" y="4648320"/>
            <a:ext cx="76320" cy="7596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4267080"/>
            <a:ext cx="7632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52680" y="5029200"/>
            <a:ext cx="7632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657600" y="4724280"/>
            <a:ext cx="7632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86200" y="4191120"/>
            <a:ext cx="76320" cy="7596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38480" y="4724280"/>
            <a:ext cx="7632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19720" y="4267080"/>
            <a:ext cx="7596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4267080"/>
            <a:ext cx="7632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81480" y="4267080"/>
            <a:ext cx="7632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4800600"/>
            <a:ext cx="7632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4120" y="4952880"/>
            <a:ext cx="7596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48320" y="5105520"/>
            <a:ext cx="75960" cy="7596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4800600"/>
            <a:ext cx="7632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952880" y="4952880"/>
            <a:ext cx="7632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19720" y="4876920"/>
            <a:ext cx="75960" cy="7596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638680" y="4114800"/>
            <a:ext cx="7632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4648320"/>
            <a:ext cx="76320" cy="7596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114800"/>
            <a:ext cx="7632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743200" y="5105520"/>
            <a:ext cx="76320" cy="7596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86200" y="5105520"/>
            <a:ext cx="76320" cy="7596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оделирование равномерно распределенной случайной величины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228600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енерируем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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0,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звращаем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делирование экспоненциально  распределенной случайной величин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228600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енерируем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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0,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звращаем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пособы получения случайных величи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физические генераторы (датчики) случайных величин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граммные генераторы  (датчики) псевдослучайных чисел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оделирование нормально распределенной случайной величины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676520" y="2819520"/>
                <a:ext cx="5352840" cy="24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η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γ</m:t>
                                </m:r>
                              </m:sub>
                            </m:sSub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γ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nμ</m:t>
                                    </m:r>
                                  </m:e>
                                  <m:sub>
                                    <m:r>
                                      <m:t xml:space="preserve">γ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η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оделирование нормально распределенной случайной величины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366920" y="3048120"/>
          <a:ext cx="6941880" cy="203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6920" y="3048120"/>
                    <a:ext cx="6941880" cy="20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мещенные и усеченные распределения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514600" y="2514600"/>
                <a:ext cx="3833640" cy="314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делирование коррелированных случайных величи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143000" y="2389320"/>
          <a:ext cx="6781680" cy="370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389320"/>
                    <a:ext cx="6781680" cy="37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Линейные конгруэнтные генераторы (ЛКГ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68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+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(mo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8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|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0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еорем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КГ имеет полный период, когд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полняются следующие услови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8640" indent="-368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являются взаимно простыми числами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8640" indent="-368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лится на простое число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то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1 тоже делится на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8640" indent="-368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лится н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то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1 тоже делится на 4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1981080"/>
            <a:ext cx="86104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4120" indent="-384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+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(mo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5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3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+3) (mod 5)=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3) (mod 5)=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3) (mod 5)=3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3) (mod 5)=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3) (mod 5)=4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 = (6•4+3) (mod 5)=2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981080"/>
            <a:ext cx="86104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4120" indent="-384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+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(mo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5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5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+5) (mod 5)=4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 = (6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•4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+5) (mod 5)=4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ультипликативные  генераторы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80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+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(mo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|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орем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ультипликативный генератор имее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иод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, когда выполняются следующ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слови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160" indent="-3801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является простым числом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160" indent="-3801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является первообразным корнем по модулю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т.е. наименьшее целое число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для которого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1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лится н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есть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1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1981080"/>
            <a:ext cx="86104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4120" indent="-384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+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(mo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5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) (mod 5)=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(mod 5)=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(mod 5)=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(mod 5)=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 = (</a:t>
            </a:r>
            <a:r>
              <a:rPr b="0" lang="ru-RU" sz="3200" spc="-1" strike="noStrike">
                <a:solidFill>
                  <a:srgbClr val="cc33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•</a:t>
            </a:r>
            <a:r>
              <a:rPr b="0" lang="ru-RU" sz="3200" spc="-1" strike="noStrike">
                <a:solidFill>
                  <a:srgbClr val="cc33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) (mod 5)=</a:t>
            </a:r>
            <a:r>
              <a:rPr b="0" lang="ru-RU" sz="3200" spc="-1" strike="noStrike">
                <a:solidFill>
                  <a:srgbClr val="cc33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1981080"/>
            <a:ext cx="86104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4120" indent="-384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+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(mo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5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4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) (mod 5)=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(mod 5)=4,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 = (4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•4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) (mod 5)=1.</a:t>
            </a:r>
            <a:r>
              <a:rPr b="0" lang="ru-RU" sz="32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Рекомендуемые парамет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1 = 2 147 483 64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30 360 0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23:40Z</dcterms:created>
  <dc:creator>lav</dc:creator>
  <dc:description/>
  <dc:language>en-US</dc:language>
  <cp:lastModifiedBy>support</cp:lastModifiedBy>
  <dcterms:modified xsi:type="dcterms:W3CDTF">2007-03-26T08:18:48Z</dcterms:modified>
  <cp:revision>70</cp:revision>
  <dc:subject/>
  <dc:title>Общие модели  динамических систем</dc:title>
</cp:coreProperties>
</file>