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700-A0E5-4293-B372-E1F396CD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FC0-E169-426F-8B52-7872768E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01A-0D7A-477B-9591-44A5E102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87D-DC69-4C21-B0BA-8CB008DC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EA2-65A5-4AE0-A3B6-1673D397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318-BC6C-4F75-B852-D3026605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6BC-7AC6-4900-9B16-92ABF8CE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F8D-978E-4443-8D11-74B2EC07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D19-7990-4DB0-8EDF-3166DE8C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5CC-B64A-4F4B-B343-922833E3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71A-D89E-4C88-8EC3-8D25B5F1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11D-93EE-4B40-B153-043DD08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EEDC-6429-432C-B947-06EEDE2D7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63520" y="2743200"/>
          <a:ext cx="308448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743200"/>
                    <a:ext cx="308448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оненци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19320" y="2438280"/>
          <a:ext cx="22860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2286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оны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ьное распредел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743200"/>
          <a:ext cx="36576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36576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рерывные величи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33480" y="2654280"/>
          <a:ext cx="638172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654280"/>
                    <a:ext cx="638172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14400" y="4343400"/>
          <a:ext cx="5334120" cy="22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343400"/>
                    <a:ext cx="53341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независимых 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12680" y="2565360"/>
          <a:ext cx="536436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565360"/>
                    <a:ext cx="53643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рреляция 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эффициент корреля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реляция случайных величин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корреляции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819520"/>
          <a:ext cx="78868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788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76720" y="4648320"/>
          <a:ext cx="20574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648320"/>
                    <a:ext cx="2057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а корреля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9144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59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8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9052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040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4196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13360" y="4191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3480" y="423216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3720" y="259092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5636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320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6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9400" y="1989000"/>
          <a:ext cx="6265800" cy="37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989000"/>
                    <a:ext cx="62658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у из случайных величи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ой функцией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Сама случайная величина 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ем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поставляющее каждому элемент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лизацией случай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. 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лучайная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данная на подмножеств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вой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чайным процессом 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х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астиц, зарегистрированных счетчиком за время наблюд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бания высот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 регулируемого автопилотом летательного аппарат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ение во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мосферного давлен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данном географическом пунк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велич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ого собы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мера того, насколько велика возможность его возникнов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меняется от 0 (вероятность невозможного события) до 1 (вероятность достоверного события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чай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является более обобщенным понятием случайного событ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учайные величины могут бы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крет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ерывн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ционарн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ые процес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33720" y="2514600"/>
          <a:ext cx="49528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9528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нтраль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ельная теоре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71600" y="2011320"/>
          <a:ext cx="64008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11320"/>
                    <a:ext cx="64008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едств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58880" y="1895400"/>
          <a:ext cx="565632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895400"/>
                    <a:ext cx="565632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Монте-Карл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70080" y="1893960"/>
          <a:ext cx="40640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1893960"/>
                    <a:ext cx="40640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19807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514600"/>
            <a:ext cx="32004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17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0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14600"/>
            <a:ext cx="3047760" cy="3200400"/>
          </a:xfrm>
          <a:prstGeom prst="irregularSeal2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819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410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800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410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5562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791320" y="3505320"/>
          <a:ext cx="15652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505320"/>
                    <a:ext cx="15652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дискретное множество значени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4191120"/>
          <a:ext cx="6095880" cy="13460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90920" y="2502000"/>
          <a:ext cx="335268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02000"/>
                    <a:ext cx="335268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72000"/>
          <a:ext cx="66643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72000"/>
                    <a:ext cx="66643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го ожидания  и дисперс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14400" y="2209680"/>
          <a:ext cx="556272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55627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914400" y="4599000"/>
          <a:ext cx="389412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599000"/>
                    <a:ext cx="3894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лучайная велич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чайная величина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она может принимать любое значение из некоторого интервала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рерывная случайная величина характери-зу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ей 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тностью вероят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я рас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63520" y="2635200"/>
          <a:ext cx="272268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635200"/>
                    <a:ext cx="27226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143000" y="3809880"/>
          <a:ext cx="487692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487692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отность вероя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57400" y="2590920"/>
          <a:ext cx="39337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590920"/>
                    <a:ext cx="3933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143000" y="4495680"/>
          <a:ext cx="289548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95680"/>
                    <a:ext cx="28954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арактеристи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прерыв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е ожи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перс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4267080"/>
          <a:ext cx="632484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267080"/>
                    <a:ext cx="632484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430360" y="2438280"/>
          <a:ext cx="3973680" cy="135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0360" y="2438280"/>
                    <a:ext cx="39736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23:40Z</dcterms:created>
  <dc:creator>lav</dc:creator>
  <dc:description/>
  <dc:language>en-US</dc:language>
  <cp:lastModifiedBy>support</cp:lastModifiedBy>
  <dcterms:modified xsi:type="dcterms:W3CDTF">2008-03-10T11:19:27Z</dcterms:modified>
  <cp:revision>51</cp:revision>
  <dc:subject/>
  <dc:title>Общие модели  динамических систем</dc:title>
</cp:coreProperties>
</file>