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B5D4-AE69-4466-B5DE-E3FE74CB3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8B93-C341-48F0-B2CB-D565EE25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428D-F7CB-4BCE-98BA-D83CFB04F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E01F-3EF8-4086-B403-4DFECB20B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37A3-F940-4BFB-8AB4-F66A182C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4FC6-E972-49AE-A20B-6877303B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E354-CF27-4621-9309-5F16963FD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A7AC-8B45-4DA7-8BA8-CE672777E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BD6D-600E-4E8B-90EA-0EAD0FEBE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B9C4-5270-4758-BEF1-0DBC9FA6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680F-8DC4-4C71-ABE5-B6EB120B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A721-D444-411A-94BC-7672E261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1228C-511B-4D95-95A1-D9386765161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арковские процес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Неприводимая цепь Марков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усть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класс состояний включающий в себ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щественное состояни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все состояния, с ни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общающиес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класс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стоит из одного состояния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то это состояние называ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глощающи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цепь Маркова состоит из одного класса существенных сообщающихся состояний, то она называ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приводимо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ипы состоя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32000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стояни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зыва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звратны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есл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стояни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зыва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улевы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есл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стояни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зыва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иодически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 периодом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если возвращение 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го возможно только через кратно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число шагов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95400" y="2057400"/>
          <a:ext cx="8896320" cy="99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" y="2057400"/>
                    <a:ext cx="8896320" cy="99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981080" y="1925640"/>
          <a:ext cx="4648320" cy="36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925640"/>
                    <a:ext cx="4648320" cy="36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Эргодическая цепь Маркова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епь Маркова 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ргодическ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если существует предел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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который не зависит от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еорема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еприводимая возвратная непериодическая цепь Маркова является эргодической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тационарное распредел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80880" y="1752480"/>
          <a:ext cx="8153640" cy="475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752480"/>
                    <a:ext cx="8153640" cy="47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762120" y="1905120"/>
          <a:ext cx="7467480" cy="401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05120"/>
                    <a:ext cx="7467480" cy="40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Непрерывные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арковские цеп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учайный процесс с непрерывным временем 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прерывной марковской цепью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если поведение системы после произвольного момента времен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висит только от состояния процесса в момент времен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 не зависит от поведения процесса до момента времен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цесс рождения и гибел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17480" y="1773360"/>
          <a:ext cx="7496280" cy="46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1773360"/>
                    <a:ext cx="749628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цесс рождения и гибел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593640" y="1773360"/>
          <a:ext cx="8034480" cy="289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1773360"/>
                    <a:ext cx="8034480" cy="289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3809880" y="2590920"/>
            <a:ext cx="1600200" cy="1828800"/>
            <a:chOff x="3809880" y="2590920"/>
            <a:chExt cx="1600200" cy="1828800"/>
          </a:xfrm>
        </p:grpSpPr>
        <p:sp>
          <p:nvSpPr>
            <p:cNvPr id="91" name=""/>
            <p:cNvSpPr/>
            <p:nvPr/>
          </p:nvSpPr>
          <p:spPr>
            <a:xfrm>
              <a:off x="3809880" y="2590920"/>
              <a:ext cx="1600200" cy="182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95200" y="3943080"/>
              <a:ext cx="66600" cy="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267160" y="3029040"/>
              <a:ext cx="66600" cy="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562720" y="2590920"/>
            <a:ext cx="1600200" cy="1828800"/>
            <a:chOff x="5562720" y="2590920"/>
            <a:chExt cx="1600200" cy="1828800"/>
          </a:xfrm>
        </p:grpSpPr>
        <p:sp>
          <p:nvSpPr>
            <p:cNvPr id="95" name=""/>
            <p:cNvSpPr/>
            <p:nvPr/>
          </p:nvSpPr>
          <p:spPr>
            <a:xfrm>
              <a:off x="5562720" y="2590920"/>
              <a:ext cx="1600200" cy="182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flipV="1">
              <a:off x="5648040" y="3943080"/>
              <a:ext cx="66600" cy="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020000" y="3029040"/>
              <a:ext cx="66600" cy="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1981080" y="2590920"/>
            <a:ext cx="1600200" cy="1828800"/>
            <a:chOff x="1981080" y="2590920"/>
            <a:chExt cx="1600200" cy="1828800"/>
          </a:xfrm>
        </p:grpSpPr>
        <p:sp>
          <p:nvSpPr>
            <p:cNvPr id="99" name=""/>
            <p:cNvSpPr/>
            <p:nvPr/>
          </p:nvSpPr>
          <p:spPr>
            <a:xfrm>
              <a:off x="1981080" y="2590920"/>
              <a:ext cx="1600200" cy="182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 flipV="1">
              <a:off x="2066400" y="3943080"/>
              <a:ext cx="66600" cy="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438360" y="3029040"/>
              <a:ext cx="66600" cy="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Граф состоя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05520" y="3124080"/>
            <a:ext cx="83808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8800" y="3290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781680" y="3124080"/>
            <a:ext cx="83844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15320" y="3290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3880" y="3124080"/>
            <a:ext cx="83844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57520" y="3290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76720" y="3124080"/>
            <a:ext cx="83808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10000" y="3290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97760" y="4343400"/>
            <a:ext cx="44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25120" y="4343400"/>
            <a:ext cx="44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177600" y="4343400"/>
            <a:ext cx="44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95240" y="2133720"/>
            <a:ext cx="43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33760" y="2133720"/>
            <a:ext cx="43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86240" y="2133720"/>
            <a:ext cx="43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нечные автома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ечным автоматом называется система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где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входной алфавит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алфавит состояний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выходной алфавит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функция переходов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функция выход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Финальные вероят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20640" y="1981080"/>
          <a:ext cx="7599600" cy="265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640" y="1981080"/>
                    <a:ext cx="7599600" cy="265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арковские процессы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войства переходных вероятносте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066680" y="2624040"/>
          <a:ext cx="6705720" cy="11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624040"/>
                    <a:ext cx="670572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атрица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ереходных вероятносте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133720" y="2570040"/>
          <a:ext cx="4343400" cy="26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570040"/>
                    <a:ext cx="4343400" cy="26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иды марковских процесс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искретная марковская цеп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прерывная марковская цеп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прерывнозначный марковский процес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истема массового обслужив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523880" y="990720"/>
          <a:ext cx="5646960" cy="57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990720"/>
                    <a:ext cx="5646960" cy="57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57200" y="1716120"/>
          <a:ext cx="8153280" cy="44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16120"/>
                    <a:ext cx="8153280" cy="44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атрица переходных вероятностей за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шаг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ообщающиеся состоя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&gt;0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для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=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то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существенное состоя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&gt;0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&gt;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то существенные состояния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зываю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общающимис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981080" y="1925640"/>
          <a:ext cx="4648320" cy="36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925640"/>
                    <a:ext cx="4648320" cy="36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23:40Z</dcterms:created>
  <dc:creator>lav</dc:creator>
  <dc:description/>
  <dc:language>en-US</dc:language>
  <cp:lastModifiedBy>support</cp:lastModifiedBy>
  <dcterms:modified xsi:type="dcterms:W3CDTF">2007-04-26T11:55:20Z</dcterms:modified>
  <cp:revision>196</cp:revision>
  <dc:subject/>
  <dc:title>Общие модели  динамических систем</dc:title>
</cp:coreProperties>
</file>