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75D-6B60-4146-8D28-9A2F0629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09B-ABDC-4673-B541-8028ED4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9A5-68CC-482A-AA4F-8410D544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7A0-D0C1-4D60-BE5F-6AA4D25C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370-2EAD-4ED0-82DA-85D15401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A4B-0484-4FA0-8761-172EA344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81C-3EB5-443F-A83C-B28BD93A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AC7-F317-4D6E-9F17-9904818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798-7F7F-4DF9-A991-8D39A0AB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A6B-FC75-4383-AAE6-FFFA1856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AAE-DF9B-471C-8E82-21E2A00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1ED-8700-4594-BEDE-8D1F800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386-5041-420B-951F-500496B4B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 наблюдений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52520" y="2362320"/>
          <a:ext cx="6210360" cy="27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362320"/>
                    <a:ext cx="621036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валь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вал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с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ой вероят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интервал 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со случайными границам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=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который на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вероятностью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6600" y="1828800"/>
          <a:ext cx="78753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828800"/>
                    <a:ext cx="78753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7480" y="1900080"/>
          <a:ext cx="786132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900080"/>
                    <a:ext cx="786132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97040" y="1692360"/>
          <a:ext cx="76262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692360"/>
                    <a:ext cx="76262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0720" y="1585800"/>
                <a:ext cx="6400800" cy="40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⇒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спределение Стьюд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1972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2578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0400"/>
            <a:ext cx="7467480" cy="175248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198960"/>
            <a:ext cx="2897280" cy="9889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Стьюд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,1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133720"/>
            <a:ext cx="2819520" cy="1295280"/>
          </a:xfrm>
          <a:prstGeom prst="wedgeRectCallout">
            <a:avLst>
              <a:gd name="adj1" fmla="val 63680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480" y="2971800"/>
            <a:ext cx="6476760" cy="213372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ой гипотез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едположение о виде и свойствах генерального и выборочного распреде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ем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авило проверки статистической гипоте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 критерия значим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функция наблюдений, по значениям которой судят о справедливости гипотез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ической обла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ритерия называется под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й статист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роятность попадания в которое при условии истинности гипотезы равна уровню значим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астью допустим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атистики критерия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хема проверки гипоте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вигается проверяемая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ей альтернативна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уровень значимост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0.1, 0.05, 0.01, 0.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тист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троится критическая обла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область допустимых значен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исляется выборочное значение статис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вергается, иначе –приним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возможных значени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еральной совокупностью или пространство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измеренных значений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 случайной величин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бор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ая функция зависящая от наблюдений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щность крите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щностью критер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вероятность отклонения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перв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клонение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вер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втор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инятие 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гипотез с помощью доверительных интервал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тез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нимается, если построенный доверительный интервал по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отвергается в противном случае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12760" y="3733920"/>
          <a:ext cx="649152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3733920"/>
                    <a:ext cx="649152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95240" y="1884240"/>
          <a:ext cx="75088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884240"/>
                    <a:ext cx="75088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гист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2014560"/>
          <a:ext cx="838188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838188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3024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1320" y="4267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308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880" y="4267080"/>
            <a:ext cx="7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3333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33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705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5197320"/>
          <a:ext cx="7948440" cy="9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97320"/>
                    <a:ext cx="7948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6080" y="1922400"/>
          <a:ext cx="6605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1922400"/>
                    <a:ext cx="660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3160" y="1905120"/>
          <a:ext cx="67960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905120"/>
                    <a:ext cx="6796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2057400"/>
          <a:ext cx="800100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ариационный ря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иационным ря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следовательность элементов выборки, расположенных в неубывающе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ы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максималь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лементы выборки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айни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сть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мах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 -2, 3, 2, 3, -1, -4, 0, 1, 2, -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-4, -2, -2, -1, 0, 0, 1, 2, 2, 3, 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-4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еч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чечной оцен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называется статисти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ближенно равна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оятель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для любог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мещен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1360" y="5638680"/>
          <a:ext cx="16336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5638680"/>
                    <a:ext cx="16336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32240" y="4435560"/>
          <a:ext cx="39020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2240" y="4435560"/>
                    <a:ext cx="39020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430360" y="2882880"/>
          <a:ext cx="3541680" cy="7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0360" y="2882880"/>
                    <a:ext cx="3541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и средних значений, дисперсии,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39760" y="2057400"/>
          <a:ext cx="625464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057400"/>
                    <a:ext cx="625464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случайных чисел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42, 0.52, 0.33, 0.43, 0.2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58, 0.76, 0.53, 0.64, 0.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математического ожидания: 0.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дисперсии: 0.07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жидание оценки диспер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22440" y="2379600"/>
          <a:ext cx="7672320" cy="31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379600"/>
                    <a:ext cx="7672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 максимального правдопод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52480" y="2492280"/>
          <a:ext cx="541044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92280"/>
                    <a:ext cx="541044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3-30T12:45:33Z</dcterms:modified>
  <cp:revision>92</cp:revision>
  <dc:subject/>
  <dc:title>Общие модели  динамических систем</dc:title>
</cp:coreProperties>
</file>