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6B8B-02A1-4CF3-9DCD-7A4B61748D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хо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формализуют воздействия, которые можно прикладывать к систе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хо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это совокупность всех величин доступных изме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3EE-D352-47E5-890A-E9F060CA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DC4-8D12-4478-90B8-D4EB0F52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7A1-B923-4881-BD69-C41111CA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D17-1CC1-4C0D-B4CC-D632DC92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D2F-7638-4566-9BC2-F39D6D8F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541-56DF-4EF4-8357-63E60DDE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056-C300-4416-AE55-A0A52C68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207-79C7-4E93-9A01-E0E5FC52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9F4-AEBB-4F4E-8D13-9B39E454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E23-8D21-4D38-B56B-BF5B674F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8A3-3381-4EE4-8BE4-E1281C64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280-1B13-4C3F-8C9C-5E6C1C91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12F2-3E28-4F30-9D9C-87F433CD3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44B-C027-4FDB-8D33-FD4063551E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ение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роение концептуальной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лгоритмизация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граммирован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адекватности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анирование эксперимен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ксперимент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терпретация результа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кументир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9CF-DC75-4D80-9891-C292C0EAA7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ормальная модель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49280" y="1989000"/>
          <a:ext cx="66787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9280" y="1989000"/>
                    <a:ext cx="66787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C8B-D852-4D99-A95A-DEA54EC3F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мод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тические и динамически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кретные и непрерывны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рминированные и стохастически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4B4-4EEA-43D9-9AC0-68BBF33364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ческие и динамические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значение ее вы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яется только значением в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тот же момент време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нам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значение ее вы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от всего прошлого входного процесс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F2A-7C9E-4D55-B01F-837803CD55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е и непреры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системы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крет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 входам, выходам и времени, если дискретным или непрерывным являются множества входов, выходов и моментов времени соответственн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0, 1, 2, 3, 4, 5, …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}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2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178-0FE8-4904-91FA-A9CB16C2BB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терминированные и стохастические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терминированн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модель, значение выхода которой однозначно определяется значением входного сигн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чины возникновени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определенност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грешности и помехи измере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очность математической мод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полнота информации о параметрах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AB3-714F-46A5-8BA5-596B07E060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ие 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непрерывно-детерм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дискретно-детерм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дискретно-стохастические 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непрерывно-стохастические 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сетев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комб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988-AB09-4343-A7EF-6C3AB727A3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прерывно-детерминированные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20760" y="2228760"/>
          <a:ext cx="6126120" cy="32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228760"/>
                    <a:ext cx="612612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202-B4B2-4B6C-AF10-7F08E857BA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2003400"/>
          <a:ext cx="295308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003400"/>
                    <a:ext cx="29530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4500720" y="2108160"/>
            <a:ext cx="3728880" cy="2356920"/>
            <a:chOff x="4500720" y="2108160"/>
            <a:chExt cx="3728880" cy="2356920"/>
          </a:xfrm>
        </p:grpSpPr>
        <p:sp>
          <p:nvSpPr>
            <p:cNvPr id="112" name=""/>
            <p:cNvSpPr/>
            <p:nvPr/>
          </p:nvSpPr>
          <p:spPr>
            <a:xfrm flipV="1">
              <a:off x="4876920" y="359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280" y="4127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0720" y="336564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67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334120" y="27558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334120" y="2908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334120" y="3060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334120" y="32130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267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620120" y="27558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7620120" y="2908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620120" y="3060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620120" y="32130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30607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4811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508720" y="2513160"/>
              <a:ext cx="101268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6521400" y="2513160"/>
              <a:ext cx="107496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8160" y="2108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21440" y="400536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2700360" y="4724280"/>
          <a:ext cx="380988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724280"/>
                    <a:ext cx="38098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830-05A2-40AC-9A10-D50628C4A5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скретно-детерминированные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чным автомат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нутренни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выход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томат Ми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томат Мур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9D1-7A31-427D-9A0C-D6F68EC69C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ой называется совокупность объектов, функционирующих и взаимодействующих между собой для достижения определенной цел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12E-329B-4FA4-9023-86409827F8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9640" y="1952640"/>
          <a:ext cx="7993080" cy="16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52640"/>
                    <a:ext cx="799308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546200" y="4125960"/>
          <a:ext cx="6121440" cy="17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6200" y="4125960"/>
                    <a:ext cx="612144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32A-1D97-40DF-B5AE-1B5B652ADE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скретно-стохастические 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791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роятностным автомато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нутренни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вероятност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D7C-B8AC-4F45-8DB3-0698CC5D15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7280" y="1847880"/>
          <a:ext cx="6096240" cy="14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7880"/>
                    <a:ext cx="609624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650960" y="4005360"/>
          <a:ext cx="56577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0960" y="4005360"/>
                    <a:ext cx="56577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B621-A8BC-4C77-B2F1-7EA5112B10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прерывно-стохастические 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4080" y="2590920"/>
            <a:ext cx="4648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4344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52920" y="3048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276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4344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52920" y="3886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6276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88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724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3388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 rot="5400000">
            <a:off x="777600" y="1982520"/>
            <a:ext cx="91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явки на обслуж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05040" y="25146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62440" y="2514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 rot="5400000">
            <a:off x="7513920" y="2024640"/>
            <a:ext cx="9118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ботанные зая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4645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563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02400" y="4645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9040" y="563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1640" y="3141720"/>
            <a:ext cx="1152720" cy="1079280"/>
          </a:xfrm>
          <a:custGeom>
            <a:avLst/>
            <a:gdLst/>
            <a:ahLst/>
            <a:rect l="l" t="t" r="r" b="b"/>
            <a:pathLst>
              <a:path w="726" h="680">
                <a:moveTo>
                  <a:pt x="0" y="0"/>
                </a:moveTo>
                <a:lnTo>
                  <a:pt x="726" y="0"/>
                </a:lnTo>
                <a:lnTo>
                  <a:pt x="726" y="680"/>
                </a:lnTo>
                <a:lnTo>
                  <a:pt x="0" y="6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DCE-2AC5-476F-BE46-BD47E0A282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403280" y="1700280"/>
            <a:ext cx="6193080" cy="4104720"/>
            <a:chOff x="1403280" y="1700280"/>
            <a:chExt cx="6193080" cy="4104720"/>
          </a:xfrm>
        </p:grpSpPr>
        <p:grpSp>
          <p:nvGrpSpPr>
            <p:cNvPr id="174" name=""/>
            <p:cNvGrpSpPr/>
            <p:nvPr/>
          </p:nvGrpSpPr>
          <p:grpSpPr>
            <a:xfrm>
              <a:off x="2556000" y="2349360"/>
              <a:ext cx="606240" cy="648000"/>
              <a:chOff x="2556000" y="2349360"/>
              <a:chExt cx="606240" cy="648000"/>
            </a:xfrm>
          </p:grpSpPr>
          <p:sp>
            <p:nvSpPr>
              <p:cNvPr id="175" name=""/>
              <p:cNvSpPr/>
              <p:nvPr/>
            </p:nvSpPr>
            <p:spPr>
              <a:xfrm rot="16200000">
                <a:off x="2535120" y="2370240"/>
                <a:ext cx="648000" cy="606240"/>
              </a:xfrm>
              <a:custGeom>
                <a:avLst/>
                <a:gdLst/>
                <a:ahLst/>
                <a:rect l="l" t="t" r="r" b="b"/>
                <a:pathLst>
                  <a:path w="726" h="680">
                    <a:moveTo>
                      <a:pt x="0" y="0"/>
                    </a:moveTo>
                    <a:lnTo>
                      <a:pt x="726" y="0"/>
                    </a:lnTo>
                    <a:lnTo>
                      <a:pt x="726" y="680"/>
                    </a:lnTo>
                    <a:lnTo>
                      <a:pt x="0" y="6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56000" y="2470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56000" y="259236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556000" y="2713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6000" y="283500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556000" y="4581360"/>
              <a:ext cx="606240" cy="648000"/>
              <a:chOff x="2556000" y="4581360"/>
              <a:chExt cx="606240" cy="648000"/>
            </a:xfrm>
          </p:grpSpPr>
          <p:sp>
            <p:nvSpPr>
              <p:cNvPr id="181" name=""/>
              <p:cNvSpPr/>
              <p:nvPr/>
            </p:nvSpPr>
            <p:spPr>
              <a:xfrm rot="16200000">
                <a:off x="2535120" y="4602240"/>
                <a:ext cx="648000" cy="606240"/>
              </a:xfrm>
              <a:custGeom>
                <a:avLst/>
                <a:gdLst/>
                <a:ahLst/>
                <a:rect l="l" t="t" r="r" b="b"/>
                <a:pathLst>
                  <a:path w="726" h="680">
                    <a:moveTo>
                      <a:pt x="0" y="0"/>
                    </a:moveTo>
                    <a:lnTo>
                      <a:pt x="726" y="0"/>
                    </a:lnTo>
                    <a:lnTo>
                      <a:pt x="726" y="680"/>
                    </a:lnTo>
                    <a:lnTo>
                      <a:pt x="0" y="6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56000" y="4702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56000" y="482436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56000" y="4945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56000" y="506700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flipV="1">
              <a:off x="2843280" y="285228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56000" y="3429000"/>
              <a:ext cx="57600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843280" y="400536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11640" y="1700280"/>
              <a:ext cx="57636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43280" y="1989000"/>
              <a:ext cx="1368360" cy="360360"/>
            </a:xfrm>
            <a:custGeom>
              <a:avLst/>
              <a:gdLst/>
              <a:ahLst/>
              <a:rect l="l" t="t" r="r" b="b"/>
              <a:pathLst>
                <a:path w="862" h="227">
                  <a:moveTo>
                    <a:pt x="0" y="227"/>
                  </a:moveTo>
                  <a:lnTo>
                    <a:pt x="0" y="0"/>
                  </a:lnTo>
                  <a:lnTo>
                    <a:pt x="8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03280" y="3141720"/>
              <a:ext cx="1152720" cy="431640"/>
            </a:xfrm>
            <a:custGeom>
              <a:avLst/>
              <a:gdLst/>
              <a:ahLst/>
              <a:rect l="l" t="t" r="r" b="b"/>
              <a:pathLst>
                <a:path w="726" h="272">
                  <a:moveTo>
                    <a:pt x="726" y="272"/>
                  </a:moveTo>
                  <a:lnTo>
                    <a:pt x="45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76360" y="508464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272"/>
                  </a:moveTo>
                  <a:lnTo>
                    <a:pt x="771" y="272"/>
                  </a:lnTo>
                  <a:lnTo>
                    <a:pt x="7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212000" y="1988640"/>
              <a:ext cx="3384360" cy="3816360"/>
              <a:chOff x="4212000" y="1988640"/>
              <a:chExt cx="3384360" cy="38163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37400" y="4508280"/>
                <a:ext cx="606600" cy="647640"/>
                <a:chOff x="5837400" y="4508280"/>
                <a:chExt cx="606600" cy="647640"/>
              </a:xfrm>
            </p:grpSpPr>
            <p:sp>
              <p:nvSpPr>
                <p:cNvPr id="195" name=""/>
                <p:cNvSpPr/>
                <p:nvPr/>
              </p:nvSpPr>
              <p:spPr>
                <a:xfrm flipH="1" flipV="1" rot="16200000">
                  <a:off x="5816520" y="4528440"/>
                  <a:ext cx="647640" cy="606600"/>
                </a:xfrm>
                <a:custGeom>
                  <a:avLst/>
                  <a:gdLst/>
                  <a:ahLst/>
                  <a:rect l="l" t="t" r="r" b="b"/>
                  <a:pathLst>
                    <a:path w="726" h="680">
                      <a:moveTo>
                        <a:pt x="0" y="0"/>
                      </a:moveTo>
                      <a:lnTo>
                        <a:pt x="726" y="0"/>
                      </a:lnTo>
                      <a:lnTo>
                        <a:pt x="726" y="680"/>
                      </a:lnTo>
                      <a:lnTo>
                        <a:pt x="0" y="68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5837400" y="503460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37400" y="491328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5837400" y="479196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837400" y="467064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837400" y="2276280"/>
                <a:ext cx="606600" cy="647640"/>
                <a:chOff x="5837400" y="2276280"/>
                <a:chExt cx="606600" cy="647640"/>
              </a:xfrm>
            </p:grpSpPr>
            <p:sp>
              <p:nvSpPr>
                <p:cNvPr id="201" name=""/>
                <p:cNvSpPr/>
                <p:nvPr/>
              </p:nvSpPr>
              <p:spPr>
                <a:xfrm flipH="1" flipV="1" rot="16200000">
                  <a:off x="5816520" y="2296440"/>
                  <a:ext cx="647640" cy="606600"/>
                </a:xfrm>
                <a:custGeom>
                  <a:avLst/>
                  <a:gdLst/>
                  <a:ahLst/>
                  <a:rect l="l" t="t" r="r" b="b"/>
                  <a:pathLst>
                    <a:path w="726" h="680">
                      <a:moveTo>
                        <a:pt x="0" y="0"/>
                      </a:moveTo>
                      <a:lnTo>
                        <a:pt x="726" y="0"/>
                      </a:lnTo>
                      <a:lnTo>
                        <a:pt x="726" y="680"/>
                      </a:lnTo>
                      <a:lnTo>
                        <a:pt x="0" y="68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5837400" y="280260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5837400" y="268128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5837400" y="255996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5837400" y="243864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6156720" y="4077720"/>
                <a:ext cx="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5867280" y="3499560"/>
                <a:ext cx="57636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56720" y="292392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4211640" y="5228280"/>
                <a:ext cx="57636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4788000" y="5155200"/>
                <a:ext cx="1368360" cy="360360"/>
              </a:xfrm>
              <a:custGeom>
                <a:avLst/>
                <a:gdLst/>
                <a:ahLst/>
                <a:rect l="l" t="t" r="r" b="b"/>
                <a:pathLst>
                  <a:path w="862" h="227">
                    <a:moveTo>
                      <a:pt x="0" y="227"/>
                    </a:moveTo>
                    <a:lnTo>
                      <a:pt x="0" y="0"/>
                    </a:lnTo>
                    <a:lnTo>
                      <a:pt x="86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6443640" y="3931560"/>
                <a:ext cx="1152360" cy="432000"/>
              </a:xfrm>
              <a:custGeom>
                <a:avLst/>
                <a:gdLst/>
                <a:ahLst/>
                <a:rect l="l" t="t" r="r" b="b"/>
                <a:pathLst>
                  <a:path w="726" h="272">
                    <a:moveTo>
                      <a:pt x="726" y="272"/>
                    </a:moveTo>
                    <a:lnTo>
                      <a:pt x="45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6299640" y="1988280"/>
                <a:ext cx="1224000" cy="431640"/>
              </a:xfrm>
              <a:custGeom>
                <a:avLst/>
                <a:gdLst/>
                <a:ahLst/>
                <a:rect l="l" t="t" r="r" b="b"/>
                <a:pathLst>
                  <a:path w="771" h="272">
                    <a:moveTo>
                      <a:pt x="0" y="272"/>
                    </a:moveTo>
                    <a:lnTo>
                      <a:pt x="771" y="272"/>
                    </a:lnTo>
                    <a:lnTo>
                      <a:pt x="7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88000" y="198900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0"/>
                  </a:moveTo>
                  <a:lnTo>
                    <a:pt x="771" y="0"/>
                  </a:lnTo>
                  <a:lnTo>
                    <a:pt x="771" y="2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2987640" y="508464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0"/>
                  </a:moveTo>
                  <a:lnTo>
                    <a:pt x="771" y="0"/>
                  </a:lnTo>
                  <a:lnTo>
                    <a:pt x="771" y="2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979-D508-45B5-B3F4-384381094D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ы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ые модел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сываются систе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позиций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ая функция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ая функция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разметки 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A4C-8714-4467-86A7-880B2389D0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124000" y="1506600"/>
          <a:ext cx="540072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06600"/>
                    <a:ext cx="540072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E19-A7C1-474D-9554-C3638D7F8F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тов Б.Я., Яковлев С.А. Моделирование сист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-е изд. – М.: Высшая школа, 2005. – 343 с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ов Б.Я., Яковлев С.А. Моделирование систем. Практику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е изд. – М.: Высшая школа, 2003. – 295 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льтон В., Лоу А. Имитационное моделирование. Класси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е изд. – СПб.: Питер; Киев: Издательская групп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H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4. – 847 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EDD-1BB1-4569-8551-40F6667D1A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дриевский Б.Р., Фрадков А.Л. Элементы математического моделирования в программных среда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l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б.: Наука, 2001. – 286 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оятностные разделы математики / Под ред. Максимова Ю.Д. – СПб.: «Иван Федоров», 2001. – 592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оль И.М. Метод Монте-Карло. – М.: Наука, 1968. – 64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EA5-B0D8-44EA-AEB1-D78797D00D8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е опис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дается парой множест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ношени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ножество в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выход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90920" y="4114800"/>
            <a:ext cx="3200400" cy="1066680"/>
            <a:chOff x="2590920" y="4114800"/>
            <a:chExt cx="3200400" cy="1066680"/>
          </a:xfrm>
        </p:grpSpPr>
        <p:sp>
          <p:nvSpPr>
            <p:cNvPr id="55" name=""/>
            <p:cNvSpPr/>
            <p:nvPr/>
          </p:nvSpPr>
          <p:spPr>
            <a:xfrm>
              <a:off x="403848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4191120"/>
              <a:ext cx="1219320" cy="99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0920" y="464832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46483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20800" y="4114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8680" y="411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EB5-CEBE-4CF0-9E7D-C2C2FEFDF7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быть представлена как отношения между множества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0,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ключающее все  пары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для которых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955-E760-4485-A6C7-77F613C6E2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ос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ирова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енаправле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286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057400"/>
            <a:ext cx="1219320" cy="99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514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25146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03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82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505320"/>
            <a:ext cx="53352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53352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37339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373392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lnTo>
                  <a:pt x="192" y="480"/>
                </a:lnTo>
                <a:lnTo>
                  <a:pt x="0" y="4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7339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31040" y="3733920"/>
            <a:ext cx="35064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480"/>
                </a:move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6400" y="3703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352680"/>
            <a:ext cx="1981080" cy="15242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40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820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5029200"/>
            <a:ext cx="25146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9D4-BEE0-42A4-93DD-8D629D6B77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особы исследования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еримент с реальной систем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еримент с моделью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из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темат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алитическ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CD3-AAEF-4488-B766-01D968715B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ирование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изучение системы по ее модел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ь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представление системы в форме удобной для ее изуч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нцептуальн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называется абстрактная модель, записанная на языке математи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270-1CA6-453E-92D9-E5445BAFE0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налитически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литическими называются модели, использующие алгебраические, дифференциальные и другие уравнения, а также предусматривающие осуществление однозначной вычислительной процедуры, приводящей к их реше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3A6-7887-446F-A9F1-1EFD778C46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итационны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итационными называются математические модели, воспроизводящие алгоритм функционирования исследуемой системы путем последовательного выполнения большого количества элементарных опера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BB2-7739-4B41-9F07-B90E5C8A3C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1:35:34Z</dcterms:created>
  <dc:creator>lav</dc:creator>
  <dc:description/>
  <dc:language>en-US</dc:language>
  <cp:lastModifiedBy>support</cp:lastModifiedBy>
  <dcterms:modified xsi:type="dcterms:W3CDTF">2008-03-10T09:12:05Z</dcterms:modified>
  <cp:revision>66</cp:revision>
  <dc:subject/>
  <dc:title>Математическое моделирование</dc:title>
</cp:coreProperties>
</file>