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88E-F9E8-4C55-AE6B-1B96EF80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F66-457B-4D68-AA75-48C3EB1C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D39-D923-450B-9DB0-D5DD5E7A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933-A27C-4CC3-B85E-E11E6F8E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A49-88E2-4A64-A158-9D3174B7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6BF-2B8A-4C1C-B009-3D4AD6FB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79E-42DE-4E85-8DF5-F6BED11B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2BB-F617-4732-B9B2-69122712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D20-01BD-4DCF-B6EF-BD9F9885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01A-1CE2-47F6-9A5D-960737EC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19E-F017-4E39-BD3C-E77E13D0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1F5-C243-467E-B2ED-2C929082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17E9-1221-46D9-B161-53E1A71AA1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иводимая цепь Марк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ласс состояний включающий в себ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енное 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се состояния, с 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ающие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лас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ит из одного состоя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это состояние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лощающ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пь Маркова состоит из одного класса существенных сообщающихся состояний, то она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приводи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врат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лев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иодичес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период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возвращение 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 возможно только через кратно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шаг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5400" y="2057400"/>
          <a:ext cx="889632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057400"/>
                    <a:ext cx="88963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ргодическая цепь Марков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пь Марков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ргод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существует преде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ый не зависит от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приводимая возвратная непериодическая цепь Маркова является эргодической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ое рас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752480"/>
          <a:ext cx="815364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15364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2120" y="1905120"/>
          <a:ext cx="74674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4674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прерывны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цеп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ый процесс с непрерывным времене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 марковской цеп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поведение системы после произвольног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только от состояния процесс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не зависит от поведения процесса д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7480" y="1773360"/>
          <a:ext cx="74962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773360"/>
                    <a:ext cx="7496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93640" y="1773360"/>
          <a:ext cx="8034480" cy="28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773360"/>
                    <a:ext cx="803448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809880" y="2590920"/>
            <a:ext cx="1600200" cy="1828800"/>
            <a:chOff x="3809880" y="2590920"/>
            <a:chExt cx="1600200" cy="1828800"/>
          </a:xfrm>
        </p:grpSpPr>
        <p:sp>
          <p:nvSpPr>
            <p:cNvPr id="91" name=""/>
            <p:cNvSpPr/>
            <p:nvPr/>
          </p:nvSpPr>
          <p:spPr>
            <a:xfrm>
              <a:off x="38098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952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71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62720" y="2590920"/>
            <a:ext cx="1600200" cy="1828800"/>
            <a:chOff x="5562720" y="2590920"/>
            <a:chExt cx="1600200" cy="1828800"/>
          </a:xfrm>
        </p:grpSpPr>
        <p:sp>
          <p:nvSpPr>
            <p:cNvPr id="95" name=""/>
            <p:cNvSpPr/>
            <p:nvPr/>
          </p:nvSpPr>
          <p:spPr>
            <a:xfrm>
              <a:off x="556272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64804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2000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81080" y="2590920"/>
            <a:ext cx="1600200" cy="1828800"/>
            <a:chOff x="1981080" y="2590920"/>
            <a:chExt cx="1600200" cy="1828800"/>
          </a:xfrm>
        </p:grpSpPr>
        <p:sp>
          <p:nvSpPr>
            <p:cNvPr id="99" name=""/>
            <p:cNvSpPr/>
            <p:nvPr/>
          </p:nvSpPr>
          <p:spPr>
            <a:xfrm>
              <a:off x="19810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0664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83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88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53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75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00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776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512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760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5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3376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86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ечные автом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алфавит состоян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инальные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20640" y="1981080"/>
          <a:ext cx="7599600" cy="26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81080"/>
                    <a:ext cx="7599600" cy="26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йства переходных вероят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624040"/>
          <a:ext cx="670572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24040"/>
                    <a:ext cx="67057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риц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ходных вероят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33720" y="2570040"/>
          <a:ext cx="434340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70040"/>
                    <a:ext cx="434340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ды марковски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означный марковский проце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массового обслуж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990720"/>
          <a:ext cx="56469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64696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716120"/>
          <a:ext cx="815328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16120"/>
                    <a:ext cx="81532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трица переходных вероятностей за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а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общающиеся состоя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л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ущественное состоя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существенные состоя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бщающими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4-26T11:55:20Z</dcterms:modified>
  <cp:revision>196</cp:revision>
  <dc:subject/>
  <dc:title>Общие модели  динамических систем</dc:title>
</cp:coreProperties>
</file>