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CB3-5888-4942-85D2-0597056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505-3AB6-4390-8A16-0331F132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190-E4E8-445F-AAE8-D8595807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E1F-1BD6-4B60-B539-4A20C298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470-A6CC-4201-94A2-BF9FCC9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590-B91A-4EC6-B832-3BDB4F39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17E-C0F1-4F46-A51A-655718A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A26-8B5A-4595-AF3C-412FC5B6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1C1-95FD-44FC-82DD-4C4EB668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2C8-DC40-47BF-9B2D-CE71ECE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515-0481-4C29-8589-D0DDD4F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81C-0F5A-43F3-B728-04C4121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8FEA-54A1-41FD-8E98-CE79DD2C53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иводимая цепь Мар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ласс состояний включающий в себ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енное 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се состояния, с 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ющие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ла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ит из одного состоя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это состояние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ощающ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пь Маркова состоит из одного класса существенных сообщающихся состояний, то она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иводи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вра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ев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иодичес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ериод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возвращение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 возможно только через кратно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шаг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5400" y="2057400"/>
          <a:ext cx="88963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57400"/>
                    <a:ext cx="88963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ргодическая цепь Марков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пь Марков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год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существует пред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зависит от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приводимая возвратная непериодическая цепь Маркова является эргодическо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ое рас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752480"/>
          <a:ext cx="815364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15364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905120"/>
          <a:ext cx="7467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467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прерывны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це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ый процесс с непрерывным времене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 марковской цеп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поведение системы после произвольног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только от состояния процесс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не зависит от поведения процесса д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7480" y="1773360"/>
          <a:ext cx="74962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773360"/>
                    <a:ext cx="7496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93640" y="1773360"/>
          <a:ext cx="8034480" cy="28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773360"/>
                    <a:ext cx="803448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9880" y="2590920"/>
            <a:ext cx="1600200" cy="1828800"/>
            <a:chOff x="3809880" y="2590920"/>
            <a:chExt cx="1600200" cy="1828800"/>
          </a:xfrm>
        </p:grpSpPr>
        <p:sp>
          <p:nvSpPr>
            <p:cNvPr id="91" name=""/>
            <p:cNvSpPr/>
            <p:nvPr/>
          </p:nvSpPr>
          <p:spPr>
            <a:xfrm>
              <a:off x="38098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952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71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2720" y="2590920"/>
            <a:ext cx="1600200" cy="1828800"/>
            <a:chOff x="5562720" y="2590920"/>
            <a:chExt cx="1600200" cy="1828800"/>
          </a:xfrm>
        </p:grpSpPr>
        <p:sp>
          <p:nvSpPr>
            <p:cNvPr id="95" name=""/>
            <p:cNvSpPr/>
            <p:nvPr/>
          </p:nvSpPr>
          <p:spPr>
            <a:xfrm>
              <a:off x="556272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64804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000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590920"/>
            <a:ext cx="1600200" cy="1828800"/>
            <a:chOff x="1981080" y="2590920"/>
            <a:chExt cx="1600200" cy="1828800"/>
          </a:xfrm>
        </p:grpSpPr>
        <p:sp>
          <p:nvSpPr>
            <p:cNvPr id="99" name=""/>
            <p:cNvSpPr/>
            <p:nvPr/>
          </p:nvSpPr>
          <p:spPr>
            <a:xfrm>
              <a:off x="19810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664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53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75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776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512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760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5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376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86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ечные автом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алфавит состоян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нальные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0640" y="1981080"/>
          <a:ext cx="7599600" cy="26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81080"/>
                    <a:ext cx="759960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ства переходных вероят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24040"/>
          <a:ext cx="67057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24040"/>
                    <a:ext cx="6705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риц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ходных вероят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33720" y="2570040"/>
          <a:ext cx="43434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70040"/>
                    <a:ext cx="4343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ды марковски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означный марковский проц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массового обслуж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990720"/>
          <a:ext cx="56469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6469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716120"/>
          <a:ext cx="81532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6120"/>
                    <a:ext cx="81532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рица переходных вероятностей за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общающиеся состоя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уществен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существенные состоя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ающими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4-26T11:55:20Z</dcterms:modified>
  <cp:revision>196</cp:revision>
  <dc:subject/>
  <dc:title>Общие модели  динамических систем</dc:title>
</cp:coreProperties>
</file>