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5DE-8D91-4E1F-B644-5816E12D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852-DBE2-4E21-862B-98E495A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A8A-CF5C-4E34-8BCB-E4AE0245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41B-FB8B-402A-8874-00CE8853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C00-272F-4AA9-ADB4-DE549FF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E9D-7488-4477-B0D7-E7BB1CEE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32F-69F9-4E11-99A0-F9760B21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E73-C9DD-4E9B-89E0-E207EA77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653-5281-4C8D-B877-F52D14C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F47-C3A8-4A79-8EB7-DB7EFD8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D94-2534-4A82-8656-2C888A2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B7F-69DC-46F5-AA41-1DA75EC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6CE-DC8B-4B33-9B1D-263254A1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массового обслуж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оненты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954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90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6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22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728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05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7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428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50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05320" y="2138400"/>
          <a:ext cx="19810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8400"/>
                    <a:ext cx="1981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4267080"/>
          <a:ext cx="19810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267080"/>
                    <a:ext cx="1981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загрузки устройства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ожид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вки в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пребывания заявки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длина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заявок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523880"/>
          <a:ext cx="5881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81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О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е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поступления следующей 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уживания текущ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чере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ние устро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обрабо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задерж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4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ой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МО) понимают динамическую систему, предназначенную для эффективного обслуживания случайного потока заявок при ограниченных ресурсах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4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Null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е время моде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требований в очере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использования устр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.7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86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44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02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386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44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02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496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428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49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1480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428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ком собы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) называется последовательность событий, происходящих последовательно в случайные моменты време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581280"/>
          <a:ext cx="6095880" cy="259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90840" y="34704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3580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82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2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58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056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392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0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5240" y="5653080"/>
            <a:ext cx="10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4680" y="5148360"/>
            <a:ext cx="10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4480" y="4619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м П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ток, обладающий одновременно свойствами стационарности, ординарности и отсутствия последств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 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остейшего ПС выполняется усло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22480" y="5181480"/>
          <a:ext cx="61372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181480"/>
                    <a:ext cx="61372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46360" y="1981080"/>
          <a:ext cx="528768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981080"/>
                    <a:ext cx="5287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тказами и с ожид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граниченным и неограниченным числом устрой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зные и многофаз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рядоченные и неупорядочен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приорит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интервалов времени между последовательно поступающими заяв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времени обслуживания зая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обслуживающих устр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кость накопителя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источников нагру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Эрланга поряд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произвольного ти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lav</cp:lastModifiedBy>
  <dcterms:modified xsi:type="dcterms:W3CDTF">2006-04-26T17:04:43Z</dcterms:modified>
  <cp:revision>127</cp:revision>
  <dc:subject/>
  <dc:title>Общие модели  динамических систем</dc:title>
</cp:coreProperties>
</file>