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37F-DCA3-4040-974C-80A6B9A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B8E-E09B-44E4-9592-67E2487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13A-628A-4CFC-B9E5-C0B7A786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4F9-0B0E-496E-B805-8EEBAF1A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47C-3045-4084-82A6-6C5628C1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3A0-0909-48DC-9FB7-8150EC5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0B1-9550-4572-A402-E0DAB4C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9AF-2B85-494A-BBC7-26FBD40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C02-6FEB-47B0-9276-1CA9367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D1E-D6EE-4BA2-AE57-95BFBB8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731-0303-4AE4-A679-58E486E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EE4-F548-4755-9094-A8D45A3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52A1-4B3F-495D-B554-E5494369A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 наблюдений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52520" y="2362320"/>
          <a:ext cx="6210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2320"/>
                    <a:ext cx="6210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валь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ой вероят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интервал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со случайными границам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который на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вероятностью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6600" y="1828800"/>
          <a:ext cx="78753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28800"/>
                    <a:ext cx="78753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7480" y="1900080"/>
          <a:ext cx="78613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900080"/>
                    <a:ext cx="78613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97040" y="1692360"/>
          <a:ext cx="7626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692360"/>
                    <a:ext cx="7626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585800"/>
                <a:ext cx="6400800" cy="40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⇒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спределение Стьюд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197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257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7467480" cy="175248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98960"/>
            <a:ext cx="2897280" cy="988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Стьюд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2819520" cy="1295280"/>
          </a:xfrm>
          <a:prstGeom prst="wedgeRectCallout">
            <a:avLst>
              <a:gd name="adj1" fmla="val 63680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480" y="2971800"/>
            <a:ext cx="6476760" cy="213372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ой гипотез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едположение о виде и свойствах генерального и выборочного рас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ем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авило проверки статистической гипоте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 критерия значим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функция наблюдений, по значениям которой судят о справедливости гипотез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ической обла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итерия называется под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статис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роятность попадания в которое при условии истинности гипотезы равна уровню значим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астью допустим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атистики критерия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хема проверки гипоте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гается проверяемая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й альтернатив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уровень значим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0.1, 0.05, 0.01, 0.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тист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троится критическая обл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ласть допустимых 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ся выборочное значение стат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ргается, иначе –приним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возможных значени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ральной совокупностью или пространство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измеренных значений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случайной величин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ая функция зависящая от наблюдени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щность крите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щностью крите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вероятность отклонения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перв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клонение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вер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втор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нятие 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гипотез с помощью доверительных интервал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ся, если построенный доверительный интервал по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отвергается в противном случа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2760" y="3733920"/>
          <a:ext cx="64915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3733920"/>
                    <a:ext cx="64915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84240"/>
          <a:ext cx="7508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84240"/>
                    <a:ext cx="7508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гист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014560"/>
          <a:ext cx="8381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8381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132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308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426708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333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33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705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5197320"/>
          <a:ext cx="794844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97320"/>
                    <a:ext cx="794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6080" y="1922400"/>
          <a:ext cx="660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22400"/>
                    <a:ext cx="660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3160" y="1905120"/>
          <a:ext cx="6796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05120"/>
                    <a:ext cx="6796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057400"/>
          <a:ext cx="80010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риационный ря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ционным ря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следовательность элементов выборки, расположенных в неубывающе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ы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максималь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ы выборки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айни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ах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-2, 3, 2, 3, -1, -4, 0, 1, 2, -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-4, -2, -2, -1, 0, 0, 1, 2, 2, 3, 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4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еч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чечной оцен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называется статисти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ближенно равна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для люб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ещ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360" y="5638680"/>
          <a:ext cx="16336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5638680"/>
                    <a:ext cx="16336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32240" y="4435560"/>
          <a:ext cx="39020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4435560"/>
                    <a:ext cx="3902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0360" y="2882880"/>
          <a:ext cx="354168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0360" y="2882880"/>
                    <a:ext cx="3541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и средних значений, дисперсии,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39760" y="2057400"/>
          <a:ext cx="6254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057400"/>
                    <a:ext cx="6254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случайных чисе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42, 0.52, 0.33, 0.43, 0.2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58, 0.76, 0.53, 0.64, 0.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атематического ожидания: 0.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сперсии: 0.07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жидание оценки дисп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440" y="2379600"/>
          <a:ext cx="76723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379600"/>
                    <a:ext cx="7672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 максимального правдопод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92280"/>
          <a:ext cx="541044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92280"/>
                    <a:ext cx="5410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3-30T12:45:33Z</dcterms:modified>
  <cp:revision>92</cp:revision>
  <dc:subject/>
  <dc:title>Общие модели  динамических систем</dc:title>
</cp:coreProperties>
</file>