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26A-5E4B-40D4-A8B8-08128F6D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592-D1FD-496A-8366-A5EBA35F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2C2-DB51-452C-8482-396AD9AF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AB4-7A7A-4315-81D3-D83C0664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68D-8934-487C-9D50-222E55A6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E97-1D3A-4E91-989E-FD9E7C78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218-0317-4CA6-8A7E-6174C578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1305-4377-4967-9990-14728CB6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645-6113-4239-9A7C-6CEEE264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C5B-B89D-40E7-80D9-543D6284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CFD1-D981-4B43-BBB0-A70571BD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71E-5036-4A99-9C2B-28950EAF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62E9-42A3-4C77-893D-5D96A15CB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ирование эксперимент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ы взаимодейст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45960" y="1685880"/>
          <a:ext cx="82980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1685880"/>
                    <a:ext cx="82980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16040" y="1747800"/>
          <a:ext cx="7818120" cy="2595600"/>
        </p:xfrm>
        <a:graphic>
          <a:graphicData uri="http://schemas.openxmlformats.org/drawingml/2006/table">
            <a:tbl>
              <a:tblPr/>
              <a:tblGrid>
                <a:gridCol w="1954080"/>
                <a:gridCol w="1878120"/>
                <a:gridCol w="2031840"/>
                <a:gridCol w="19540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908280" y="4714920"/>
            <a:ext cx="30031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+4-1+2)/2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-4+1+2)/2=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3-4-1+2)/2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обные факторные пла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решающей способность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ДФП называется число, которое гарантирует, что эффекты не смешиваются, если сумма их факторов строго меньше данного числ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обные факторные пла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1676520"/>
          <a:ext cx="8458200" cy="4841640"/>
        </p:xfrm>
        <a:graphic>
          <a:graphicData uri="http://schemas.openxmlformats.org/drawingml/2006/table">
            <a:tbl>
              <a:tblPr/>
              <a:tblGrid>
                <a:gridCol w="1111320"/>
                <a:gridCol w="2306520"/>
                <a:gridCol w="2648160"/>
                <a:gridCol w="239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обный факторный план 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3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981080"/>
          <a:ext cx="7772400" cy="259560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616040"/>
                <a:gridCol w="1554120"/>
                <a:gridCol w="15541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981080"/>
          <a:ext cx="7772400" cy="259560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616040"/>
                <a:gridCol w="1554120"/>
                <a:gridCol w="15541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900000" y="4765680"/>
            <a:ext cx="35197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+4+3+2)/2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-4-3+2)/2=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3-4+3+2)/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планирования эксперимен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атегическое планирова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решает задачу получения необходимой информации о модели, с учетом ограниченных ресурс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ктическое планирова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пределяет способ проведения каждой серии испытаний модели, предусмотренной планом эксперимент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общих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чис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14400" y="2209680"/>
          <a:ext cx="7562880" cy="31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7562880" cy="31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дополняющих случайных величи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066680" y="1981080"/>
                <a:ext cx="6324840" cy="477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</m:e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,</m:t>
                        </m:r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контрольных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2247840"/>
                <a:ext cx="7315200" cy="27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ак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входные переменные модели и структурные допу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кли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акц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выходные показатели работы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непрямых оцен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295280" y="1981080"/>
                <a:ext cx="6324840" cy="42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акторов и откл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3520" y="2133720"/>
          <a:ext cx="7924680" cy="4464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поступления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ержка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тельность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пускная способ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узл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 использ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ли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очере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факто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828800"/>
          <a:ext cx="8153280" cy="46800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факто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поступления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циплина обслужи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авля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устрой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правля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поступления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измер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2068560"/>
          <a:ext cx="838224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68560"/>
                    <a:ext cx="83822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60440" y="3352680"/>
          <a:ext cx="631836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440" y="3352680"/>
                    <a:ext cx="631836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 эксперим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828800" y="2133720"/>
          <a:ext cx="495288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33720"/>
                    <a:ext cx="495288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планов эксперимен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об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мметрич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вномер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уровни любого фактора встречаются в плане одинаковое для данного фактора число раз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ый факторный план 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2400" cy="467208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616040"/>
                <a:gridCol w="1554120"/>
                <a:gridCol w="15541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лавные эффек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2200" y="1981080"/>
          <a:ext cx="8516880" cy="36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1981080"/>
                    <a:ext cx="851688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7-05-21T08:24:59Z</dcterms:modified>
  <cp:revision>154</cp:revision>
  <dc:subject/>
  <dc:title>Общие модели  динамических систем</dc:title>
</cp:coreProperties>
</file>