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850-7804-4599-A1D7-82659C28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FF7-9DAD-40A6-8BA1-3000D578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72A-FA79-4D73-B698-633F1F7D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17A-77BA-464A-A32B-D6ED133A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707-B639-4B00-BA6F-64B9B709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0CF-98A4-4B11-B09F-04A628E9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926-2651-4B9A-9DF2-4A71AB41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755-7F6C-43F0-8777-8C305F30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480-337C-48E5-A6A4-17ABB146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CB7-3BD2-48EE-A227-DE225AB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730-3547-433C-9329-8D0AAF5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0EB-C7CD-49E7-9A66-B13F8CA4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36A5-82B5-4CB9-A1BB-299D3FCD5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63520" y="2743200"/>
          <a:ext cx="308448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743200"/>
                    <a:ext cx="308448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2438280"/>
          <a:ext cx="22860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2286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743200"/>
          <a:ext cx="36576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36576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рерыв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33480" y="2654280"/>
          <a:ext cx="63817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654280"/>
                    <a:ext cx="63817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14400" y="4343400"/>
          <a:ext cx="5334120" cy="22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343400"/>
                    <a:ext cx="53341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независим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12680" y="2565360"/>
          <a:ext cx="536436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565360"/>
                    <a:ext cx="53643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рреляция 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эффициент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реляция случайных величи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корреляции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819520"/>
          <a:ext cx="78868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88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76720" y="4648320"/>
          <a:ext cx="20574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648320"/>
                    <a:ext cx="2057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а корреля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9144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59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8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905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04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4196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1336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348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372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5636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320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6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9400" y="1989000"/>
          <a:ext cx="6265800" cy="37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989000"/>
                    <a:ext cx="62658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у из случайных величи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ой функцией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Сама случайная величина 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лизацией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лучайная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данная на подмножеств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вой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ым процессом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астиц, зарегистрированных счетчиком за время наблюд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бания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регулируемого автопилотом летательного аппарат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ение во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мосферного давл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данном географическом пунк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ого собы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мера того, насколько велика возможность его возникнов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меняется от 0 (вероятность невозможного события) до 1 (вероятность достоверного события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является более обобщенным понятием случайного событ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учайные величины могут бы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крет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ерыв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33720" y="2514600"/>
          <a:ext cx="49528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9528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нтраль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ельная теоре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2011320"/>
          <a:ext cx="64008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11320"/>
                    <a:ext cx="64008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едств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58880" y="1895400"/>
          <a:ext cx="565632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895400"/>
                    <a:ext cx="565632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70080" y="1893960"/>
          <a:ext cx="40640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1893960"/>
                    <a:ext cx="40640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1980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514600"/>
            <a:ext cx="32004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17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0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14600"/>
            <a:ext cx="3047760" cy="320040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410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562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791320" y="3505320"/>
          <a:ext cx="15652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505320"/>
                    <a:ext cx="15652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дискретное множество значени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4191120"/>
          <a:ext cx="6095880" cy="13460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90920" y="2502000"/>
          <a:ext cx="335268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02000"/>
                    <a:ext cx="335268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72000"/>
          <a:ext cx="66643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72000"/>
                    <a:ext cx="66643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го ожидания  и дисперс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14400" y="2209680"/>
          <a:ext cx="556272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55627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914400" y="4599000"/>
          <a:ext cx="389412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599000"/>
                    <a:ext cx="3894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любое значение из некоторого интервала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случайная величина характери-зу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ей 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тностью вероят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я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63520" y="2635200"/>
          <a:ext cx="272268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635200"/>
                    <a:ext cx="27226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143000" y="3809880"/>
          <a:ext cx="487692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48769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отность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57400" y="2590920"/>
          <a:ext cx="39337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590920"/>
                    <a:ext cx="3933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143000" y="4495680"/>
          <a:ext cx="289548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95680"/>
                    <a:ext cx="28954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4267080"/>
          <a:ext cx="632484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267080"/>
                    <a:ext cx="63248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430360" y="2438280"/>
          <a:ext cx="3973680" cy="13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0360" y="2438280"/>
                    <a:ext cx="39736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8-03-10T11:19:27Z</dcterms:modified>
  <cp:revision>51</cp:revision>
  <dc:subject/>
  <dc:title>Общие модели  динамических систем</dc:title>
</cp:coreProperties>
</file>