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C43B-57F0-4ACF-AB51-443614EA7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460C-7344-4D1E-AA6A-C3F71FEA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6CFA-C074-487B-9F2C-5899295A0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8EEA-CADA-4D65-AEB6-BEB5487A8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D506-934C-4AFD-B5F8-219D8E9A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B3F6-548C-4082-AD08-D9E3D9AC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7C43-6F38-4222-85A8-DBD1A237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7D7A-07AC-48FF-960A-CE567FA1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5822-D41C-4234-9DE4-7204222F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A758-01C3-49EA-892B-74DD5B2F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8324-87BD-4E1A-BDAC-10192053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226F-9356-4379-A667-D5BB6221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600D-4A76-4CD6-A4EB-1948F33AD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ровани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х велич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рование дискретной случайной величи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обходимо получить последовательность значений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учайной величин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распределением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3880" y="3987720"/>
          <a:ext cx="6096240" cy="111780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рование дискретной случайной величи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60720" indent="-36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тервал (0,1) разбивается н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тей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длинам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олученные интервалы нумеруются цифрами 1,2,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оординаты точек делени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0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…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0720" indent="-36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бирается стандартно равномерно распределенная случайная величина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строится точк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0720" indent="-36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эта точка попадает в интервал с номером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0.43, 0.75, 0.11, 0.98, 0.35, 0.64, 0.23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    2,      3,      1,      3,      2,      2,      2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371600" y="1905120"/>
          <a:ext cx="6095880" cy="11174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3880"/>
                <a:gridCol w="152424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рование непрерывной случайной величин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нахождения значения непрерывной случайной величин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пределенной в интервале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 плотностью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обходимо решить уравн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случайная величина, которая имеет стандартной равномерное распределени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567240" y="3773520"/>
                <a:ext cx="191916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  <m:r>
                          <m:t xml:space="preserve">=</m:t>
                        </m:r>
                        <m:r>
                          <m:t xml:space="preserve">γ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щая форму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752480" y="2971800"/>
          <a:ext cx="5689800" cy="8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971800"/>
                    <a:ext cx="568980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4800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0.43, 0.75, 0.11, 0.98, 0.35, 0.64, 0.23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    2,      3,      1,      3,      2,      2,      2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295280" y="16761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426708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12080" y="420516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0200" y="16765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295280" y="1725480"/>
          <a:ext cx="5410440" cy="2541600"/>
        </p:xfrm>
        <a:graphic>
          <a:graphicData uri="http://schemas.openxmlformats.org/drawingml/2006/table">
            <a:tbl>
              <a:tblPr/>
              <a:tblGrid>
                <a:gridCol w="901800"/>
                <a:gridCol w="901800"/>
                <a:gridCol w="901800"/>
                <a:gridCol w="901440"/>
                <a:gridCol w="901800"/>
                <a:gridCol w="9018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 flipH="1">
            <a:off x="533520" y="426708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209680" y="38098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81240" y="26337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981240" y="1947960"/>
            <a:ext cx="272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920" y="28195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845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59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41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116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260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404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Неймана для моделирования непрерывной случайной величи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учайная величина определена на конечном интервале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имеет ограниченную плотность вероятност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бираются два значения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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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лучайной величины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вычисляются величин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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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аче повторяем п.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Неймана для моделирования непрерывной случайной величи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905120" y="25905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533412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89160" y="5334120"/>
            <a:ext cx="56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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22920" y="262080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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2320" y="3962520"/>
            <a:ext cx="3504960" cy="1371600"/>
          </a:xfrm>
          <a:custGeom>
            <a:avLst/>
            <a:gdLst/>
            <a:ahLst/>
            <a:rect l="l" t="t" r="r" b="b"/>
            <a:pathLst>
              <a:path w="2208" h="864">
                <a:moveTo>
                  <a:pt x="0" y="864"/>
                </a:moveTo>
                <a:lnTo>
                  <a:pt x="576" y="0"/>
                </a:lnTo>
                <a:lnTo>
                  <a:pt x="1248" y="0"/>
                </a:lnTo>
                <a:lnTo>
                  <a:pt x="1248" y="384"/>
                </a:lnTo>
                <a:lnTo>
                  <a:pt x="2208" y="384"/>
                </a:lnTo>
                <a:lnTo>
                  <a:pt x="2208" y="864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905120" y="39625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20760" y="36878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29360" y="3352680"/>
            <a:ext cx="94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362320" y="39625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867280" y="39625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39625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26708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457200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411480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5029200"/>
            <a:ext cx="7596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4648320"/>
            <a:ext cx="76320" cy="7596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426708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502920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57600" y="472428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4191120"/>
            <a:ext cx="76320" cy="7596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72428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4267080"/>
            <a:ext cx="7596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426708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81480" y="426708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480060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4120" y="4952880"/>
            <a:ext cx="7596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5105520"/>
            <a:ext cx="75960" cy="7596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480060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495288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19720" y="4876920"/>
            <a:ext cx="75960" cy="7596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38680" y="411480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4648320"/>
            <a:ext cx="76320" cy="7596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11480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43200" y="5105520"/>
            <a:ext cx="76320" cy="7596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5105520"/>
            <a:ext cx="76320" cy="7596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делирование равномерно распределенной случайной величин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228600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енерируем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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,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звращаем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рование экспоненциально  распределенной случайной величи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228600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енерируем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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,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звращаем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пособы получения случайных велич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физические генераторы (датчики) случайных величин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граммные генераторы  (датчики) псевдослучайных чисел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делирование нормально распределенной случайной величин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676520" y="2819520"/>
                <a:ext cx="5352840" cy="24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η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γ</m:t>
                                </m:r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nμ</m:t>
                                    </m:r>
                                  </m:e>
                                  <m:sub>
                                    <m:r>
                                      <m:t xml:space="preserve">γ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η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делирование нормально распределенной случайной величин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366920" y="3048120"/>
          <a:ext cx="6941880" cy="203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6920" y="3048120"/>
                    <a:ext cx="6941880" cy="20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мещенные и усеченные распределени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514600" y="2514600"/>
                <a:ext cx="3833640" cy="314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рование коррелированных случайных велич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143000" y="2389320"/>
          <a:ext cx="6781680" cy="37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389320"/>
                    <a:ext cx="6781680" cy="37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инейные конгруэнтные генераторы (ЛКГ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68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(mo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8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|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0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оре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КГ имеет полный период, когд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олняются следующие услов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8640" indent="-368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являются взаимно простыми числам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8640" indent="-368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лится на простое число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то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 тоже делится н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8640" indent="-368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лится н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то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 тоже делится на 4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(mo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5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3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+3) (mod 5)=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3) (mod 5)=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3) (mod 5)=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3) (mod 5)=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3) (mod 5)=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= (6•4+3) (mod 5)=2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(mo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5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5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+5) (mod 5)=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= (6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•4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+5) (mod 5)=4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ультипликативные  генератор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80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(mo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|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орем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ультипликативный генератор имее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иод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, когда выполняются следующ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лов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160" indent="-380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является простым числом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160" indent="-380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является первообразным корнем по модулю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.е. наименьшее целое число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для которого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1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лится н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есть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(mo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5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) (mod 5)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(mod 5)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(mod 5)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(mod 5)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= (</a:t>
            </a: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•</a:t>
            </a: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) (mod 5)=</a:t>
            </a: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(mo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5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4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) (mod 5)=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(mod 5)=4,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= (4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•4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) (mod 5)=1.</a:t>
            </a: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екомендуемые парамет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 = 2 147 483 6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30 360 0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23:40Z</dcterms:created>
  <dc:creator>lav</dc:creator>
  <dc:description/>
  <dc:language>en-US</dc:language>
  <cp:lastModifiedBy>support</cp:lastModifiedBy>
  <dcterms:modified xsi:type="dcterms:W3CDTF">2007-03-26T08:18:48Z</dcterms:modified>
  <cp:revision>70</cp:revision>
  <dc:subject/>
  <dc:title>Общие модели  динамических систем</dc:title>
</cp:coreProperties>
</file>