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FBE-6DF2-4C22-933A-8D3BE0DD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FEB-D146-4124-979A-3DF474E9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9E1-653F-4BC2-9A1F-ACC2CA46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BCC-56C0-49E7-8C5F-E4822B7E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166-0A86-40D0-88F3-176A66C3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8AE-AB91-46EA-9307-64664D55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B3F-0E63-4403-9745-A9001528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225-3FAF-4292-AF7A-EBA88D2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9B9-BB8D-4E7C-85B7-BE2D0503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899-BC5F-462A-B20C-4DC1A9EC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159-6874-4E0B-9194-4A87C2AF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573-F65D-41E6-A2B1-EEB9690F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1CFF-7EC7-4BE7-9DAB-8A0E54E87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урав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25600" y="1882800"/>
          <a:ext cx="793404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882800"/>
                    <a:ext cx="793404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ередаточной 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33280" y="2276640"/>
          <a:ext cx="866448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2276640"/>
                    <a:ext cx="86644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стой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17560" y="1828800"/>
          <a:ext cx="62136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828800"/>
                    <a:ext cx="621360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ометрическая интерпрет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81080" y="1828800"/>
            <a:ext cx="5432400" cy="4193640"/>
            <a:chOff x="1981080" y="1828800"/>
            <a:chExt cx="5432400" cy="4193640"/>
          </a:xfrm>
        </p:grpSpPr>
        <p:sp>
          <p:nvSpPr>
            <p:cNvPr id="78" name=""/>
            <p:cNvSpPr/>
            <p:nvPr/>
          </p:nvSpPr>
          <p:spPr>
            <a:xfrm flipV="1">
              <a:off x="2743200" y="205704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2320" y="5486400"/>
              <a:ext cx="426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93880" y="5562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3200" y="2946240"/>
              <a:ext cx="4038480" cy="134640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3200" y="1854360"/>
              <a:ext cx="4038480" cy="134604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3962520"/>
              <a:ext cx="4038480" cy="1346040"/>
            </a:xfrm>
            <a:custGeom>
              <a:avLst/>
              <a:gdLst/>
              <a:ahLst/>
              <a:rect l="l" t="t" r="r" b="b"/>
              <a:pathLst>
                <a:path w="2544" h="848">
                  <a:moveTo>
                    <a:pt x="0" y="448"/>
                  </a:moveTo>
                  <a:cubicBezTo>
                    <a:pt x="232" y="648"/>
                    <a:pt x="464" y="848"/>
                    <a:pt x="768" y="784"/>
                  </a:cubicBezTo>
                  <a:cubicBezTo>
                    <a:pt x="1072" y="720"/>
                    <a:pt x="1528" y="128"/>
                    <a:pt x="1824" y="64"/>
                  </a:cubicBezTo>
                  <a:cubicBezTo>
                    <a:pt x="2120" y="0"/>
                    <a:pt x="2332" y="200"/>
                    <a:pt x="2544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2133720" y="3429000"/>
            <a:ext cx="31104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3429000"/>
                      <a:ext cx="3110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1981080" y="2971800"/>
            <a:ext cx="652680" cy="398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2971800"/>
                      <a:ext cx="652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1981080" y="3944880"/>
            <a:ext cx="652680" cy="398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81080" y="3944880"/>
                      <a:ext cx="65268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1992240" y="2362320"/>
            <a:ext cx="630360" cy="39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92240" y="2362320"/>
                      <a:ext cx="63036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1992240" y="4402080"/>
            <a:ext cx="630360" cy="39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92240" y="4402080"/>
                      <a:ext cx="63036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2652840" y="312408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52840" y="41911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767640" y="3276720"/>
            <a:ext cx="6458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67640" y="3276720"/>
                      <a:ext cx="6458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2743200" y="3301920"/>
              <a:ext cx="3962520" cy="812880"/>
            </a:xfrm>
            <a:custGeom>
              <a:avLst/>
              <a:gdLst/>
              <a:ahLst/>
              <a:rect l="l" t="t" r="r" b="b"/>
              <a:pathLst>
                <a:path w="2496" h="512">
                  <a:moveTo>
                    <a:pt x="0" y="512"/>
                  </a:moveTo>
                  <a:cubicBezTo>
                    <a:pt x="100" y="288"/>
                    <a:pt x="200" y="64"/>
                    <a:pt x="528" y="32"/>
                  </a:cubicBezTo>
                  <a:cubicBezTo>
                    <a:pt x="856" y="0"/>
                    <a:pt x="1640" y="256"/>
                    <a:pt x="1968" y="320"/>
                  </a:cubicBezTo>
                  <a:cubicBezTo>
                    <a:pt x="2296" y="384"/>
                    <a:pt x="2396" y="400"/>
                    <a:pt x="2496" y="4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2247840"/>
              <a:ext cx="4114800" cy="2743200"/>
            </a:xfrm>
            <a:custGeom>
              <a:avLst/>
              <a:gdLst/>
              <a:ahLst/>
              <a:rect l="l" t="t" r="r" b="b"/>
              <a:pathLst>
                <a:path w="2592" h="1728">
                  <a:moveTo>
                    <a:pt x="0" y="648"/>
                  </a:moveTo>
                  <a:cubicBezTo>
                    <a:pt x="228" y="1188"/>
                    <a:pt x="456" y="1728"/>
                    <a:pt x="816" y="1656"/>
                  </a:cubicBezTo>
                  <a:cubicBezTo>
                    <a:pt x="1176" y="1584"/>
                    <a:pt x="1864" y="432"/>
                    <a:pt x="2160" y="216"/>
                  </a:cubicBezTo>
                  <a:cubicBezTo>
                    <a:pt x="2456" y="0"/>
                    <a:pt x="2524" y="180"/>
                    <a:pt x="2592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2362320"/>
              <a:ext cx="4114800" cy="1765080"/>
            </a:xfrm>
            <a:custGeom>
              <a:avLst/>
              <a:gdLst/>
              <a:ahLst/>
              <a:rect l="l" t="t" r="r" b="b"/>
              <a:pathLst>
                <a:path w="2592" h="1112">
                  <a:moveTo>
                    <a:pt x="0" y="720"/>
                  </a:moveTo>
                  <a:cubicBezTo>
                    <a:pt x="188" y="916"/>
                    <a:pt x="376" y="1112"/>
                    <a:pt x="672" y="1008"/>
                  </a:cubicBezTo>
                  <a:cubicBezTo>
                    <a:pt x="968" y="904"/>
                    <a:pt x="1456" y="192"/>
                    <a:pt x="1776" y="96"/>
                  </a:cubicBezTo>
                  <a:cubicBezTo>
                    <a:pt x="2096" y="0"/>
                    <a:pt x="2344" y="216"/>
                    <a:pt x="2592" y="4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3467160"/>
              <a:ext cx="4038480" cy="1079280"/>
            </a:xfrm>
            <a:custGeom>
              <a:avLst/>
              <a:gdLst/>
              <a:ahLst/>
              <a:rect l="l" t="t" r="r" b="b"/>
              <a:pathLst>
                <a:path w="2544" h="680">
                  <a:moveTo>
                    <a:pt x="0" y="264"/>
                  </a:moveTo>
                  <a:cubicBezTo>
                    <a:pt x="224" y="472"/>
                    <a:pt x="448" y="680"/>
                    <a:pt x="768" y="648"/>
                  </a:cubicBezTo>
                  <a:cubicBezTo>
                    <a:pt x="1088" y="616"/>
                    <a:pt x="1624" y="144"/>
                    <a:pt x="1920" y="72"/>
                  </a:cubicBezTo>
                  <a:cubicBezTo>
                    <a:pt x="2216" y="0"/>
                    <a:pt x="2380" y="108"/>
                    <a:pt x="2544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ейной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ретная система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тойчив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все собственные числ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атриц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лежат внутри единичного 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нейной систе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5320" y="2146320"/>
          <a:ext cx="56898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2146320"/>
                    <a:ext cx="5689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9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3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8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.5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0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екторны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охастический процес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19280" y="1989000"/>
          <a:ext cx="602604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89000"/>
                    <a:ext cx="602604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-0.5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1448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15920" y="1636560"/>
            <a:ext cx="6451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охождение через систему дискретного белого ш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30080" y="2100240"/>
          <a:ext cx="761220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2100240"/>
                    <a:ext cx="761220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параметров выходной последова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79800" y="2333520"/>
          <a:ext cx="471168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9800" y="2333520"/>
                    <a:ext cx="471168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еорема о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ормальных процесс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2205000"/>
          <a:ext cx="7704000" cy="32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5000"/>
                    <a:ext cx="7704000" cy="32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кспоненциально коррелированный ш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57360" y="2452680"/>
          <a:ext cx="796608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2452680"/>
                    <a:ext cx="79660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числение дисперсии выходного сигна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08000" y="1800360"/>
          <a:ext cx="511812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800360"/>
                    <a:ext cx="5118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выч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7760" y="2060640"/>
          <a:ext cx="825336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2060640"/>
                    <a:ext cx="82533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выч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03280" y="1933560"/>
          <a:ext cx="614196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33560"/>
                    <a:ext cx="614196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ые процесс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41240" y="1960560"/>
          <a:ext cx="78044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1960560"/>
                    <a:ext cx="78044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ектральная пло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06400" y="2133720"/>
          <a:ext cx="5732640" cy="27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6400" y="2133720"/>
                    <a:ext cx="5732640" cy="27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й белый шу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7640" y="2324160"/>
          <a:ext cx="561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24160"/>
                    <a:ext cx="561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кспоненциально коррелированный шу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87280" y="2286000"/>
          <a:ext cx="6480360" cy="30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86000"/>
                    <a:ext cx="648036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рреляционное описание случайных проце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58920" y="1758960"/>
          <a:ext cx="59770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58960"/>
                    <a:ext cx="59770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равнения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12840" y="1695600"/>
          <a:ext cx="8516880" cy="49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695600"/>
                    <a:ext cx="8516880" cy="49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образ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92200" y="2098800"/>
          <a:ext cx="795960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2098800"/>
                    <a:ext cx="79596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9-05-11T09:35:47Z</dcterms:modified>
  <cp:revision>60</cp:revision>
  <dc:subject/>
  <dc:title>Общие модели  динамических систем</dc:title>
</cp:coreProperties>
</file>