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E849-00A8-4527-83DA-D2CCE2F1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196D-DE8E-41D5-AF4B-C68A5D55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B162-5A31-48CC-B5D0-512CAF7E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45A-E325-496F-AB48-582E0D04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F4B-BF0E-4BFB-B087-8D842AF1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5EF-5329-4CC2-9B03-E4E16D71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118-C9AA-419D-8493-3D284F19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AE5-3919-4B9B-A81D-950B8D32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6220-664E-40F4-A5BE-B21A3B3C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F562-F3E8-471B-9F50-D1BFD3C7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9EC9-BE16-4B69-9672-D216E5C5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8AE4-A14F-4D54-8BF1-1A97F6EB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FD6E-DCEE-4360-B42C-FE9A8088C6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'Ok'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1001111 0110101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, 3, 5, 10, 22, 42, 90, 185, 375, 774, 1605, 3235, 6524, 13936, 28725, 6189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35757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7515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7515, 6788, 101818, 67879, 95031, 95032, 67883, 101827, 33958, 122220, 101898, 34101, 54629, 82151, 103254, 3024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68052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пьютерные виру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мпьютерные вирус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разновидность вредоносных программ, отличительной особенностью которых является способность к размножению (саморепликации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ссификация вирус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поражаемым объект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айлов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рузочн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риптов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тевые черв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поражаемым операционным системам и платформ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D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Microsoft Window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Unix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технологиям используемым вирусо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иморфн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елс-вирус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языку, на котором написан вирус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семблер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окоуровневый язык программировани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зык сценарие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ы защи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здать абсолютно надежный канал связ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овать общедоступный канал связи, но скрыть факт передачи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еганограф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овать общедоступный канал связи, но передавать информацию в таком виде, чтобы восстановить ее мог только адресат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иптограф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щищаемая информ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сударственн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оенн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мерческ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Юридическ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рачебная тай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изнаки защищаемой информа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ется какой-то определенный круг законных пользователей, которые имеют право владеть этой информаци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ются незаконные пользователи, которые стремятся овладеть этой информацией с тем, чтобы обратить ее себе во благо, а законным пользователям во вре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угро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ехват и вскрытие шиф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гентурный способ доступа к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ничтожение или модификация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бор средств защи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вляется ли она для противника более ценной, чем стоимость атак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вляется ли она для вас более ценной, чем стоимость защиты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ульная арифме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mod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тное число к числу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mod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риптография с использованием открытых ключ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... , b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708360" y="1773360"/>
          <a:ext cx="3311640" cy="10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773360"/>
                    <a:ext cx="331164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87280" y="2884320"/>
          <a:ext cx="1584360" cy="104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884320"/>
                    <a:ext cx="158436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70200" y="4869000"/>
          <a:ext cx="4540320" cy="69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0200" y="4869000"/>
                    <a:ext cx="454032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риптография с использованием открытых ключ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ная информация тем или иным способом представляется в двоичной форме и разбивается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азрядные двоичные числ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ждому двоичному числ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...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тавится в соответствие десятичное числ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ое рассчитывается по формуле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 ... + 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ередается получателю сообщения, который определяет числа из последова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уммой которых является результат умножения переданного числа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модулю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дексы найденных чисел из последова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казывают на положение единиц в двоичном числ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тем самым позволяют его восстановит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24:45Z</dcterms:created>
  <dc:creator>lav</dc:creator>
  <dc:description/>
  <dc:language>en-US</dc:language>
  <cp:lastModifiedBy>support</cp:lastModifiedBy>
  <dcterms:modified xsi:type="dcterms:W3CDTF">2009-06-02T10:55:15Z</dcterms:modified>
  <cp:revision>101</cp:revision>
  <dc:subject/>
  <dc:title>Язык структурированных запросов</dc:title>
</cp:coreProperties>
</file>