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2D0-A217-481B-BF38-8AE04708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D1C0-F7D8-46A6-895E-E5D62910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4E44-11FC-40C1-BC51-960AB3F3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1360-87E0-4CD0-A6CB-9E830711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01AC-8FBF-4D43-8897-5EC8B4D3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6F33-47C4-44C2-8F86-37728E10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23AD-1CE5-4856-BE25-4D95E57E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E1D8-9845-4F9A-A992-C3B10EAE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2D2A-A20B-4601-9F0B-ABE2D3EC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884-BCC8-4F47-9F15-0DC40033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94A6-8F8C-4A94-9EAA-30152FDD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E4F1-C31A-4D13-B1DE-E628E872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A4B0-B92B-47A5-BBA1-9BE5AEC4F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ведение в базы данны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аграмм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«Сущность-связь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286000"/>
            <a:ext cx="190512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90800" y="25146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ущ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3654360"/>
            <a:ext cx="144756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6400" y="37908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657600"/>
            <a:ext cx="144792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42000" y="37940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2057400"/>
            <a:ext cx="1371600" cy="1295280"/>
          </a:xfrm>
          <a:prstGeom prst="diamond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71040" y="249876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вяз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3" idx="0"/>
            <a:endCxn id="59" idx="2"/>
          </p:cNvCxnSpPr>
          <p:nvPr/>
        </p:nvCxnSpPr>
        <p:spPr>
          <a:xfrm flipH="1" flipV="1">
            <a:off x="1790280" y="3123720"/>
            <a:ext cx="9151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1" idx="0"/>
            <a:endCxn id="59" idx="2"/>
          </p:cNvCxnSpPr>
          <p:nvPr/>
        </p:nvCxnSpPr>
        <p:spPr>
          <a:xfrm flipV="1">
            <a:off x="799920" y="3123360"/>
            <a:ext cx="99108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59" idx="3"/>
            <a:endCxn id="65" idx="1"/>
          </p:cNvCxnSpPr>
          <p:nvPr/>
        </p:nvCxnSpPr>
        <p:spPr>
          <a:xfrm>
            <a:off x="2743200" y="270468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0" name=""/>
          <p:cNvSpPr/>
          <p:nvPr/>
        </p:nvSpPr>
        <p:spPr>
          <a:xfrm>
            <a:off x="4952880" y="2286000"/>
            <a:ext cx="190512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05600" y="25146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ущ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91520" y="23623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91600" y="24987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91520" y="14479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91600" y="15843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4" idx="2"/>
            <a:endCxn id="70" idx="3"/>
          </p:cNvCxnSpPr>
          <p:nvPr/>
        </p:nvCxnSpPr>
        <p:spPr>
          <a:xfrm flipH="1">
            <a:off x="6857640" y="1792080"/>
            <a:ext cx="534240" cy="9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65" idx="3"/>
            <a:endCxn id="70" idx="1"/>
          </p:cNvCxnSpPr>
          <p:nvPr/>
        </p:nvCxnSpPr>
        <p:spPr>
          <a:xfrm>
            <a:off x="4495680" y="27046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" name=""/>
          <p:cNvCxnSpPr>
            <a:stCxn id="70" idx="3"/>
            <a:endCxn id="72" idx="2"/>
          </p:cNvCxnSpPr>
          <p:nvPr/>
        </p:nvCxnSpPr>
        <p:spPr>
          <a:xfrm>
            <a:off x="6858000" y="2704680"/>
            <a:ext cx="534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" name=""/>
          <p:cNvSpPr/>
          <p:nvPr/>
        </p:nvSpPr>
        <p:spPr>
          <a:xfrm>
            <a:off x="76320" y="48769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6400" y="50133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4876920"/>
            <a:ext cx="144792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81520" y="50133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79" idx="0"/>
            <a:endCxn id="63" idx="3"/>
          </p:cNvCxnSpPr>
          <p:nvPr/>
        </p:nvCxnSpPr>
        <p:spPr>
          <a:xfrm flipV="1">
            <a:off x="799920" y="4244400"/>
            <a:ext cx="1394280" cy="63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81" idx="0"/>
            <a:endCxn id="63" idx="4"/>
          </p:cNvCxnSpPr>
          <p:nvPr/>
        </p:nvCxnSpPr>
        <p:spPr>
          <a:xfrm flipV="1">
            <a:off x="2704680" y="4345920"/>
            <a:ext cx="108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"/>
          <p:cNvSpPr/>
          <p:nvPr/>
        </p:nvSpPr>
        <p:spPr>
          <a:xfrm>
            <a:off x="7391520" y="32767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91600" y="34131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70" idx="3"/>
            <a:endCxn id="85" idx="2"/>
          </p:cNvCxnSpPr>
          <p:nvPr/>
        </p:nvCxnSpPr>
        <p:spPr>
          <a:xfrm>
            <a:off x="6858000" y="2704680"/>
            <a:ext cx="534240" cy="91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4952880" y="5029200"/>
            <a:ext cx="1905120" cy="83808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05600" y="52578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ущ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91520" y="55627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91600" y="56991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46483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491600" y="47847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2"/>
            <a:endCxn id="88" idx="3"/>
          </p:cNvCxnSpPr>
          <p:nvPr/>
        </p:nvCxnSpPr>
        <p:spPr>
          <a:xfrm flipH="1">
            <a:off x="6885720" y="4992480"/>
            <a:ext cx="505800" cy="456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88" idx="3"/>
            <a:endCxn id="90" idx="2"/>
          </p:cNvCxnSpPr>
          <p:nvPr/>
        </p:nvCxnSpPr>
        <p:spPr>
          <a:xfrm>
            <a:off x="6886080" y="5447880"/>
            <a:ext cx="505800" cy="459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>
            <a:off x="5214960" y="3443400"/>
            <a:ext cx="1371600" cy="1295280"/>
          </a:xfrm>
          <a:prstGeom prst="diamond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61920" y="388476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вяз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70" idx="2"/>
            <a:endCxn id="96" idx="0"/>
          </p:cNvCxnSpPr>
          <p:nvPr/>
        </p:nvCxnSpPr>
        <p:spPr>
          <a:xfrm flipH="1">
            <a:off x="5900040" y="3123720"/>
            <a:ext cx="540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96" idx="2"/>
            <a:endCxn id="88" idx="0"/>
          </p:cNvCxnSpPr>
          <p:nvPr/>
        </p:nvCxnSpPr>
        <p:spPr>
          <a:xfrm>
            <a:off x="5900400" y="4766760"/>
            <a:ext cx="5400" cy="23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2743560" y="228600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8480" y="22860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46483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52960" y="3124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286000"/>
            <a:ext cx="190512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27080" y="251460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отрудн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3654360"/>
            <a:ext cx="144756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7160" y="37908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ИД 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3657600"/>
            <a:ext cx="144792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57840" y="379404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от-н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2057400"/>
            <a:ext cx="1371600" cy="1295280"/>
          </a:xfrm>
          <a:prstGeom prst="diamond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19360" y="2498760"/>
            <a:ext cx="6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_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9" idx="0"/>
            <a:endCxn id="105" idx="2"/>
          </p:cNvCxnSpPr>
          <p:nvPr/>
        </p:nvCxnSpPr>
        <p:spPr>
          <a:xfrm flipH="1" flipV="1">
            <a:off x="1790280" y="3123720"/>
            <a:ext cx="9151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07" idx="0"/>
            <a:endCxn id="105" idx="2"/>
          </p:cNvCxnSpPr>
          <p:nvPr/>
        </p:nvCxnSpPr>
        <p:spPr>
          <a:xfrm flipV="1">
            <a:off x="799920" y="3123360"/>
            <a:ext cx="99108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" name=""/>
          <p:cNvCxnSpPr>
            <a:stCxn id="105" idx="3"/>
            <a:endCxn id="111" idx="1"/>
          </p:cNvCxnSpPr>
          <p:nvPr/>
        </p:nvCxnSpPr>
        <p:spPr>
          <a:xfrm>
            <a:off x="2743200" y="270468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4952880" y="2286000"/>
            <a:ext cx="190512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31080" y="251460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лж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3623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12760" y="249876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14479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33520" y="15843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ИД_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2"/>
            <a:endCxn id="116" idx="3"/>
          </p:cNvCxnSpPr>
          <p:nvPr/>
        </p:nvCxnSpPr>
        <p:spPr>
          <a:xfrm flipH="1">
            <a:off x="6857640" y="1792080"/>
            <a:ext cx="534240" cy="9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111" idx="3"/>
            <a:endCxn id="116" idx="1"/>
          </p:cNvCxnSpPr>
          <p:nvPr/>
        </p:nvCxnSpPr>
        <p:spPr>
          <a:xfrm>
            <a:off x="4495680" y="27046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" name=""/>
          <p:cNvCxnSpPr>
            <a:stCxn id="116" idx="3"/>
            <a:endCxn id="118" idx="2"/>
          </p:cNvCxnSpPr>
          <p:nvPr/>
        </p:nvCxnSpPr>
        <p:spPr>
          <a:xfrm>
            <a:off x="6858000" y="2704680"/>
            <a:ext cx="534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76320" y="48769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2000" y="501336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Фамил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4876920"/>
            <a:ext cx="144792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59800" y="501336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5" idx="0"/>
            <a:endCxn id="109" idx="3"/>
          </p:cNvCxnSpPr>
          <p:nvPr/>
        </p:nvCxnSpPr>
        <p:spPr>
          <a:xfrm flipV="1">
            <a:off x="799920" y="4244400"/>
            <a:ext cx="1394280" cy="63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127" idx="0"/>
            <a:endCxn id="109" idx="4"/>
          </p:cNvCxnSpPr>
          <p:nvPr/>
        </p:nvCxnSpPr>
        <p:spPr>
          <a:xfrm flipV="1">
            <a:off x="2704680" y="4345920"/>
            <a:ext cx="108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7391520" y="32767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10400" y="341316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тав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16" idx="3"/>
            <a:endCxn id="131" idx="2"/>
          </p:cNvCxnSpPr>
          <p:nvPr/>
        </p:nvCxnSpPr>
        <p:spPr>
          <a:xfrm>
            <a:off x="6858000" y="2704680"/>
            <a:ext cx="534240" cy="91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4952880" y="5029200"/>
            <a:ext cx="1905120" cy="83808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34920" y="52578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кл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91520" y="4610160"/>
            <a:ext cx="144756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4" idx="3"/>
            <a:endCxn id="136" idx="2"/>
          </p:cNvCxnSpPr>
          <p:nvPr/>
        </p:nvCxnSpPr>
        <p:spPr>
          <a:xfrm flipV="1">
            <a:off x="6886080" y="4953960"/>
            <a:ext cx="505800" cy="494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8" name=""/>
          <p:cNvSpPr/>
          <p:nvPr/>
        </p:nvSpPr>
        <p:spPr>
          <a:xfrm>
            <a:off x="5214960" y="3443400"/>
            <a:ext cx="1371600" cy="1295280"/>
          </a:xfrm>
          <a:prstGeom prst="diamond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47600" y="388476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_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16" idx="2"/>
            <a:endCxn id="138" idx="0"/>
          </p:cNvCxnSpPr>
          <p:nvPr/>
        </p:nvCxnSpPr>
        <p:spPr>
          <a:xfrm flipH="1">
            <a:off x="5900040" y="3123720"/>
            <a:ext cx="540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8" idx="2"/>
            <a:endCxn id="134" idx="0"/>
          </p:cNvCxnSpPr>
          <p:nvPr/>
        </p:nvCxnSpPr>
        <p:spPr>
          <a:xfrm>
            <a:off x="5900400" y="4766760"/>
            <a:ext cx="5400" cy="23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2743560" y="228600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8480" y="22860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46483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52960" y="3124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00880" y="5559480"/>
            <a:ext cx="144792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0560" y="5695920"/>
            <a:ext cx="9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ум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34" idx="3"/>
            <a:endCxn id="146" idx="2"/>
          </p:cNvCxnSpPr>
          <p:nvPr/>
        </p:nvCxnSpPr>
        <p:spPr>
          <a:xfrm>
            <a:off x="6886080" y="5448240"/>
            <a:ext cx="515160" cy="45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9" name=""/>
          <p:cNvSpPr/>
          <p:nvPr/>
        </p:nvSpPr>
        <p:spPr>
          <a:xfrm>
            <a:off x="7716240" y="474660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а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одель данны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совокупность математических объектов и отношений, составляющих абстрактную машину доступа к данным, с которой взаимодействует пользовател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 данны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цептуальная мод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ерархическая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тевая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ляционная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изическая мод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ляционная моде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ы реляционной модели были сформулированы в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97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году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.Ф.Кодд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стать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d E.F. A Relational Model of Data for Large Shared Data Banks // CACM. – June 1970. – 13, #6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тношени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ртеж, атрибу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{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 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 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тепень отношения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 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домен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ртеж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атрибу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,2,3}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,2,3,4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523880" y="3581280"/>
          <a:ext cx="6096240" cy="22860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6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аблица, строка, столбе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нные в ячейках таблицы структурно недели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нные в одном столбце одного тип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ена столбцов уникальн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ждая строка таблицы уникальн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роки и столбцы таблицы размещаются в произвольном порядк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ляционная алгеб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ляционная алгебр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коллекция операций, которые принимают таблицы в качестве операндов и возвращают таблицы в качестве результат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кращ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23880" y="2057400"/>
          <a:ext cx="6096240" cy="40640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т К.Дж. Введение в системы баз данных. – М.: Издательский дом «Вильямс», 2005. – 1328 с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ириллов В.В. Основы проектирования реляционных баз данных. Учебное пособие. - СПб.: ИТМО, 1994. - 90 с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 WHERE A.a &gt; 10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е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523880" y="1955880"/>
          <a:ext cx="6096240" cy="406404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40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.a, A.c, A.f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ъедин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1905120"/>
            <a:ext cx="2590920" cy="2590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52680" y="3200400"/>
            <a:ext cx="2590920" cy="2590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3200400"/>
            <a:ext cx="21337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сеч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1905120"/>
            <a:ext cx="259092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2680" y="3200400"/>
            <a:ext cx="25909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52680" y="3200400"/>
            <a:ext cx="2133720" cy="1295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SEC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аз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1905120"/>
            <a:ext cx="2590920" cy="2590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52680" y="3200400"/>
            <a:ext cx="25909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3200400"/>
            <a:ext cx="2133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U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един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523880" y="2692440"/>
          <a:ext cx="6096240" cy="195588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5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 flipV="1">
            <a:off x="2133720" y="1447920"/>
            <a:ext cx="914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19112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1447920"/>
            <a:ext cx="5335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аза данны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это набор данных, организованный с определенной цел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истема управления базой данны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УБ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эт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программных средст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который управляет доступом к базе данны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A.a, A.b, B.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,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A.a = B.b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извед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523880" y="1955880"/>
          <a:ext cx="6096240" cy="406404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 flipV="1">
            <a:off x="2023920" y="14047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005360" y="149544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14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A.*, B.* FROM A, B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523880" y="1879560"/>
          <a:ext cx="6096240" cy="4064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 flipV="1">
            <a:off x="1890720" y="143352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809880" y="14479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5243400" y="1419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1371600"/>
            <a:ext cx="15242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ISTINCT A.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NOT EXIS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(SELECT X.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NOT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ELECT AX.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X.a=A.a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X.x=X.x)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щ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объект, который может быть идентифицирован некоторым способом, отличающим его от других объектов. Каждая сущность обладает набором атрибутов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трибу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отдельная характеристика сущ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щность состоит из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кземпляр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аждый из которых должен отличаться от другого экземпляра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сущность – «Город», экземпляры сущности «Город» – Пушкин, Павловск, Колпин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яз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яз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это логическая ассоциация, устанавливаемая между сущностя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вязь определяет количество экземпляров данной сущности, которое могут быть связаны с одним экземпляром другой сущ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вязи бывают следующих тип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ин к одном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ин ко многи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ногие ко многи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Страны»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Город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2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Союзы» - «Стран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3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Человек» - «Учетная запись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лю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минимальный набор атрибутов, по значениям которых можно однозначно найти требуемый экземпляр сущ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вичный клю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сущности позволяет идентифицировать ее экземпляры, 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нешни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экземпляры сущности, которая находится в связи с данной сущность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ипы сущност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зависимая сущность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Для определения экземпляра сущности нет необходимости ссылаться на другие сущ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висимая сущность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Для определения экземпляра такой сущности необходимо сослаться на экземпляр независимой сущности, с которой связана зависимая сущнос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аграмм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«Сущность-связь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аграмма «Сущность-связь» разработана в 1976 году Питером Чен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4:30:36Z</dcterms:created>
  <dc:creator>lav</dc:creator>
  <dc:description/>
  <dc:language>en-US</dc:language>
  <cp:lastModifiedBy>support</cp:lastModifiedBy>
  <dcterms:modified xsi:type="dcterms:W3CDTF">2008-01-23T15:28:57Z</dcterms:modified>
  <cp:revision>142</cp:revision>
  <dc:subject/>
  <dc:title>Презентация PowerPoint</dc:title>
</cp:coreProperties>
</file>