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0B436-08D4-4A27-81E7-4A6AD5494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51116-88B5-40DE-A8D6-07AD8F03E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1072E-FE78-4C14-964B-E2C9362F2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E89ED-1F4E-4540-97AE-F9AB18D5E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B5EA8-9863-49AE-8AB6-EE7D2A64F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AEE48-156B-4C21-A1AD-BFE477E45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C267F-FA80-4C96-B77F-D687181C7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30F09-F7B5-4269-83EB-DA731C3F5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A74F9-F126-453E-A808-063FDE14E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23B48-DEEE-4929-BC0E-714C8E6EC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AF062-5064-4AD5-9090-0D670A402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60129-C304-4B70-B61F-39CF3E918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D2266-BA02-4C0A-8DF8-225FC15DA1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Модель взаимодействия открытых систем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Лямин Андрей Владимирови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Топология «Звезда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2057400" y="1523880"/>
            <a:ext cx="4743360" cy="4133880"/>
            <a:chOff x="2057400" y="1523880"/>
            <a:chExt cx="4743360" cy="4133880"/>
          </a:xfrm>
        </p:grpSpPr>
        <p:sp>
          <p:nvSpPr>
            <p:cNvPr id="68" name=""/>
            <p:cNvSpPr/>
            <p:nvPr/>
          </p:nvSpPr>
          <p:spPr>
            <a:xfrm>
              <a:off x="4419720" y="3733920"/>
              <a:ext cx="1245960" cy="153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V="1">
              <a:off x="4419720" y="3174480"/>
              <a:ext cx="1958760" cy="559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H="1" flipV="1">
              <a:off x="4386240" y="1909800"/>
              <a:ext cx="39600" cy="1859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 flipV="1">
              <a:off x="2437920" y="3151080"/>
              <a:ext cx="1971720" cy="588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H="1">
              <a:off x="3122640" y="3743280"/>
              <a:ext cx="1303200" cy="1452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3" name="" descr=""/>
            <p:cNvPicPr/>
            <p:nvPr/>
          </p:nvPicPr>
          <p:blipFill>
            <a:blip r:embed="rId1"/>
            <a:stretch/>
          </p:blipFill>
          <p:spPr>
            <a:xfrm>
              <a:off x="2057400" y="2743200"/>
              <a:ext cx="781200" cy="78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" descr=""/>
            <p:cNvPicPr/>
            <p:nvPr/>
          </p:nvPicPr>
          <p:blipFill>
            <a:blip r:embed="rId2"/>
            <a:stretch/>
          </p:blipFill>
          <p:spPr>
            <a:xfrm>
              <a:off x="2819520" y="4800600"/>
              <a:ext cx="780840" cy="78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" name="" descr=""/>
            <p:cNvPicPr/>
            <p:nvPr/>
          </p:nvPicPr>
          <p:blipFill>
            <a:blip r:embed="rId3"/>
            <a:stretch/>
          </p:blipFill>
          <p:spPr>
            <a:xfrm>
              <a:off x="5257800" y="4876920"/>
              <a:ext cx="781200" cy="78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" name="" descr=""/>
            <p:cNvPicPr/>
            <p:nvPr/>
          </p:nvPicPr>
          <p:blipFill>
            <a:blip r:embed="rId4"/>
            <a:stretch/>
          </p:blipFill>
          <p:spPr>
            <a:xfrm>
              <a:off x="4038480" y="1523880"/>
              <a:ext cx="781200" cy="78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" name="" descr=""/>
            <p:cNvPicPr/>
            <p:nvPr/>
          </p:nvPicPr>
          <p:blipFill>
            <a:blip r:embed="rId5"/>
            <a:stretch/>
          </p:blipFill>
          <p:spPr>
            <a:xfrm>
              <a:off x="6019920" y="2819520"/>
              <a:ext cx="780840" cy="78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" name="" descr=""/>
            <p:cNvPicPr/>
            <p:nvPr/>
          </p:nvPicPr>
          <p:blipFill>
            <a:blip r:embed="rId6"/>
            <a:stretch/>
          </p:blipFill>
          <p:spPr>
            <a:xfrm>
              <a:off x="3886200" y="3581280"/>
              <a:ext cx="1143000" cy="3812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Топология «Кольцо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2647800" y="2266920"/>
            <a:ext cx="3543480" cy="3143160"/>
            <a:chOff x="2647800" y="2266920"/>
            <a:chExt cx="3543480" cy="3143160"/>
          </a:xfrm>
        </p:grpSpPr>
        <p:sp>
          <p:nvSpPr>
            <p:cNvPr id="81" name=""/>
            <p:cNvSpPr/>
            <p:nvPr/>
          </p:nvSpPr>
          <p:spPr>
            <a:xfrm>
              <a:off x="4419720" y="2495520"/>
              <a:ext cx="1371600" cy="1066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 flipH="1">
              <a:off x="2971800" y="2495520"/>
              <a:ext cx="1447920" cy="990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flipH="1">
              <a:off x="5334120" y="3562200"/>
              <a:ext cx="457200" cy="1371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971800" y="3486240"/>
              <a:ext cx="457200" cy="1447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429000" y="4933800"/>
              <a:ext cx="190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6" name="" descr=""/>
            <p:cNvPicPr/>
            <p:nvPr/>
          </p:nvPicPr>
          <p:blipFill>
            <a:blip r:embed="rId1"/>
            <a:stretch/>
          </p:blipFill>
          <p:spPr>
            <a:xfrm>
              <a:off x="4038480" y="2266920"/>
              <a:ext cx="781200" cy="78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" name="" descr=""/>
            <p:cNvPicPr/>
            <p:nvPr/>
          </p:nvPicPr>
          <p:blipFill>
            <a:blip r:embed="rId2"/>
            <a:stretch/>
          </p:blipFill>
          <p:spPr>
            <a:xfrm>
              <a:off x="2647800" y="3105000"/>
              <a:ext cx="781200" cy="78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" name="" descr=""/>
            <p:cNvPicPr/>
            <p:nvPr/>
          </p:nvPicPr>
          <p:blipFill>
            <a:blip r:embed="rId3"/>
            <a:stretch/>
          </p:blipFill>
          <p:spPr>
            <a:xfrm>
              <a:off x="5410080" y="3105000"/>
              <a:ext cx="781200" cy="78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" name="" descr=""/>
            <p:cNvPicPr/>
            <p:nvPr/>
          </p:nvPicPr>
          <p:blipFill>
            <a:blip r:embed="rId4"/>
            <a:stretch/>
          </p:blipFill>
          <p:spPr>
            <a:xfrm>
              <a:off x="4952880" y="4552920"/>
              <a:ext cx="781200" cy="78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" name="" descr=""/>
            <p:cNvPicPr/>
            <p:nvPr/>
          </p:nvPicPr>
          <p:blipFill>
            <a:blip r:embed="rId5"/>
            <a:stretch/>
          </p:blipFill>
          <p:spPr>
            <a:xfrm>
              <a:off x="3048120" y="4629240"/>
              <a:ext cx="780840" cy="7808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Древовидная тополог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828800" y="2286000"/>
            <a:ext cx="5429160" cy="3448080"/>
            <a:chOff x="1828800" y="2286000"/>
            <a:chExt cx="5429160" cy="3448080"/>
          </a:xfrm>
        </p:grpSpPr>
        <p:sp>
          <p:nvSpPr>
            <p:cNvPr id="93" name=""/>
            <p:cNvSpPr/>
            <p:nvPr/>
          </p:nvSpPr>
          <p:spPr>
            <a:xfrm flipH="1">
              <a:off x="3214800" y="2395440"/>
              <a:ext cx="1371600" cy="137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543560" y="2371680"/>
              <a:ext cx="1371600" cy="1371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>
              <a:off x="2205000" y="3841920"/>
              <a:ext cx="906480" cy="1444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233880" y="3828960"/>
              <a:ext cx="709560" cy="1543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>
              <a:off x="5046480" y="3854520"/>
              <a:ext cx="906120" cy="1444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086520" y="3903840"/>
              <a:ext cx="747720" cy="1382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9" name="" descr=""/>
            <p:cNvPicPr/>
            <p:nvPr/>
          </p:nvPicPr>
          <p:blipFill>
            <a:blip r:embed="rId1"/>
            <a:stretch/>
          </p:blipFill>
          <p:spPr>
            <a:xfrm>
              <a:off x="3505320" y="4952880"/>
              <a:ext cx="780840" cy="78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4648320" y="4952880"/>
              <a:ext cx="780840" cy="78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" name="" descr=""/>
            <p:cNvPicPr/>
            <p:nvPr/>
          </p:nvPicPr>
          <p:blipFill>
            <a:blip r:embed="rId3"/>
            <a:stretch/>
          </p:blipFill>
          <p:spPr>
            <a:xfrm>
              <a:off x="6477120" y="4952880"/>
              <a:ext cx="780840" cy="78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" name="" descr=""/>
            <p:cNvPicPr/>
            <p:nvPr/>
          </p:nvPicPr>
          <p:blipFill>
            <a:blip r:embed="rId4"/>
            <a:stretch/>
          </p:blipFill>
          <p:spPr>
            <a:xfrm>
              <a:off x="1828800" y="4933800"/>
              <a:ext cx="781200" cy="78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5"/>
            <a:stretch/>
          </p:blipFill>
          <p:spPr>
            <a:xfrm>
              <a:off x="3962520" y="2286000"/>
              <a:ext cx="1143000" cy="380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6"/>
            <a:stretch/>
          </p:blipFill>
          <p:spPr>
            <a:xfrm>
              <a:off x="2666880" y="3657600"/>
              <a:ext cx="1143000" cy="380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" name="" descr=""/>
            <p:cNvPicPr/>
            <p:nvPr/>
          </p:nvPicPr>
          <p:blipFill>
            <a:blip r:embed="rId7"/>
            <a:stretch/>
          </p:blipFill>
          <p:spPr>
            <a:xfrm>
              <a:off x="5410080" y="3657600"/>
              <a:ext cx="1143000" cy="3808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Смешанная тополог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971640" y="1523880"/>
            <a:ext cx="7962840" cy="4362480"/>
            <a:chOff x="971640" y="1523880"/>
            <a:chExt cx="7962840" cy="4362480"/>
          </a:xfrm>
        </p:grpSpPr>
        <p:sp>
          <p:nvSpPr>
            <p:cNvPr id="108" name=""/>
            <p:cNvSpPr/>
            <p:nvPr/>
          </p:nvSpPr>
          <p:spPr>
            <a:xfrm>
              <a:off x="1450800" y="3108240"/>
              <a:ext cx="4434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flipH="1">
              <a:off x="1655280" y="3070080"/>
              <a:ext cx="885960" cy="773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663560" y="3827520"/>
              <a:ext cx="2300400" cy="222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flipH="1">
              <a:off x="1577880" y="3886200"/>
              <a:ext cx="98640" cy="1576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956040" y="4073400"/>
              <a:ext cx="260280" cy="1428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 flipV="1">
              <a:off x="1561680" y="5454720"/>
              <a:ext cx="2622600" cy="63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834240" y="3745080"/>
              <a:ext cx="1146240" cy="143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flipV="1">
              <a:off x="6786720" y="3139560"/>
              <a:ext cx="1881000" cy="554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flipV="1">
              <a:off x="6781680" y="1905120"/>
              <a:ext cx="0" cy="1828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 flipV="1">
              <a:off x="4802040" y="3096720"/>
              <a:ext cx="1968480" cy="592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5528880" y="3693960"/>
              <a:ext cx="1257480" cy="1413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flipV="1">
              <a:off x="4191120" y="5105520"/>
              <a:ext cx="1371600" cy="45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0" name="" descr=""/>
            <p:cNvPicPr/>
            <p:nvPr/>
          </p:nvPicPr>
          <p:blipFill>
            <a:blip r:embed="rId1"/>
            <a:stretch/>
          </p:blipFill>
          <p:spPr>
            <a:xfrm>
              <a:off x="6172200" y="3581280"/>
              <a:ext cx="1143000" cy="381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" name="" descr=""/>
            <p:cNvPicPr/>
            <p:nvPr/>
          </p:nvPicPr>
          <p:blipFill>
            <a:blip r:embed="rId2"/>
            <a:stretch/>
          </p:blipFill>
          <p:spPr>
            <a:xfrm>
              <a:off x="6324480" y="1523880"/>
              <a:ext cx="781200" cy="78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" name="" descr=""/>
            <p:cNvPicPr/>
            <p:nvPr/>
          </p:nvPicPr>
          <p:blipFill>
            <a:blip r:embed="rId3"/>
            <a:stretch/>
          </p:blipFill>
          <p:spPr>
            <a:xfrm>
              <a:off x="8153280" y="2743200"/>
              <a:ext cx="781200" cy="78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" name="" descr=""/>
            <p:cNvPicPr/>
            <p:nvPr/>
          </p:nvPicPr>
          <p:blipFill>
            <a:blip r:embed="rId4"/>
            <a:stretch/>
          </p:blipFill>
          <p:spPr>
            <a:xfrm>
              <a:off x="7620120" y="4800600"/>
              <a:ext cx="780840" cy="78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" name="" descr=""/>
            <p:cNvPicPr/>
            <p:nvPr/>
          </p:nvPicPr>
          <p:blipFill>
            <a:blip r:embed="rId5"/>
            <a:stretch/>
          </p:blipFill>
          <p:spPr>
            <a:xfrm>
              <a:off x="5181480" y="4724280"/>
              <a:ext cx="781200" cy="78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" name="" descr=""/>
            <p:cNvPicPr/>
            <p:nvPr/>
          </p:nvPicPr>
          <p:blipFill>
            <a:blip r:embed="rId6"/>
            <a:stretch/>
          </p:blipFill>
          <p:spPr>
            <a:xfrm>
              <a:off x="4419720" y="2514600"/>
              <a:ext cx="780840" cy="78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" descr=""/>
            <p:cNvPicPr/>
            <p:nvPr/>
          </p:nvPicPr>
          <p:blipFill>
            <a:blip r:embed="rId7"/>
            <a:stretch/>
          </p:blipFill>
          <p:spPr>
            <a:xfrm>
              <a:off x="5695920" y="2495520"/>
              <a:ext cx="781200" cy="78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" descr=""/>
            <p:cNvPicPr/>
            <p:nvPr/>
          </p:nvPicPr>
          <p:blipFill>
            <a:blip r:embed="rId8"/>
            <a:stretch/>
          </p:blipFill>
          <p:spPr>
            <a:xfrm>
              <a:off x="3276720" y="2514600"/>
              <a:ext cx="780840" cy="78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" name="" descr=""/>
            <p:cNvPicPr/>
            <p:nvPr/>
          </p:nvPicPr>
          <p:blipFill>
            <a:blip r:embed="rId9"/>
            <a:stretch/>
          </p:blipFill>
          <p:spPr>
            <a:xfrm>
              <a:off x="2057400" y="2514600"/>
              <a:ext cx="781200" cy="78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" name="" descr=""/>
            <p:cNvPicPr/>
            <p:nvPr/>
          </p:nvPicPr>
          <p:blipFill>
            <a:blip r:embed="rId10"/>
            <a:stretch/>
          </p:blipFill>
          <p:spPr>
            <a:xfrm>
              <a:off x="971640" y="2514600"/>
              <a:ext cx="780840" cy="78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" name="" descr=""/>
            <p:cNvPicPr/>
            <p:nvPr/>
          </p:nvPicPr>
          <p:blipFill>
            <a:blip r:embed="rId11"/>
            <a:stretch/>
          </p:blipFill>
          <p:spPr>
            <a:xfrm>
              <a:off x="1219320" y="3429000"/>
              <a:ext cx="780840" cy="78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" name="" descr=""/>
            <p:cNvPicPr/>
            <p:nvPr/>
          </p:nvPicPr>
          <p:blipFill>
            <a:blip r:embed="rId12"/>
            <a:stretch/>
          </p:blipFill>
          <p:spPr>
            <a:xfrm>
              <a:off x="3505320" y="3581280"/>
              <a:ext cx="780840" cy="78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" name="" descr=""/>
            <p:cNvPicPr/>
            <p:nvPr/>
          </p:nvPicPr>
          <p:blipFill>
            <a:blip r:embed="rId13"/>
            <a:stretch/>
          </p:blipFill>
          <p:spPr>
            <a:xfrm>
              <a:off x="1219320" y="4952880"/>
              <a:ext cx="780840" cy="78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" descr=""/>
            <p:cNvPicPr/>
            <p:nvPr/>
          </p:nvPicPr>
          <p:blipFill>
            <a:blip r:embed="rId14"/>
            <a:stretch/>
          </p:blipFill>
          <p:spPr>
            <a:xfrm>
              <a:off x="3809880" y="5105520"/>
              <a:ext cx="781200" cy="7808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Частные виды сете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33160" y="1143000"/>
            <a:ext cx="84582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Интернет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это сообщество множества международных и национальных компьютерных сетей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Интранет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-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внутренняя сеть организаци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использующая стандарты, протоколы и технологии Интернет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Экстранет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орпоративная Интранет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Модель взаимодействия  открытых систем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240" y="1752480"/>
            <a:ext cx="84582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одель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заимодействия открытых систем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pen Systems Interconnection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OSI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) подразумевает обеспечение взаимодействия систем по определенным правилам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ткрытая систем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- это любая система, которая построена в соответствии с открытыми спецификациями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одель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SI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азработана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Международной организацией по стандартизаци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S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Модель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S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0" y="976320"/>
          <a:ext cx="9144000" cy="5653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76320"/>
                    <a:ext cx="9144000" cy="565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533520" y="744480"/>
            <a:ext cx="8305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ротокол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это правила, определяющие взаимодействие между системами в рамках одного уровня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" y="2514600"/>
            <a:ext cx="8153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Интерфейс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 это набор функций, который нижележащий уровень предоставляет вышележащему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57200" y="4343400"/>
            <a:ext cx="8364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Стек протоколов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 это набор протоколов разных уровней, достаточный для организации взаимодействия систем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Стеки протоколов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P/I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PX/SP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tBIOS/SM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Соответствие стеков протоколов модели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S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152280" y="2235240"/>
          <a:ext cx="8839440" cy="4013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2235240"/>
                    <a:ext cx="8839440" cy="401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1447920"/>
            <a:ext cx="838188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Компьютерная сеть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uter NetWork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net - сеть, и work - работа)  - это система обмена информацией между компьютерами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3733920"/>
            <a:ext cx="8077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сновная цель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обеспечение пользователям потенциальной возможности доступа к локальным ресурсам всех компьютеров сет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69920" y="609480"/>
            <a:ext cx="504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Основные понят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Требова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1981080"/>
            <a:ext cx="777240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роизводительност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Надежность и безопасност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Расширяемость и масштабируемост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розрачность и управляемость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Совместимость (гетерогенность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85800" y="0"/>
            <a:ext cx="77724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Компьютерные сети классифицируются по следующим признакам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2286000"/>
            <a:ext cx="77724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степень географического распространения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масштаб производственного подразделения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способ управления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структура (топология) связей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685800" y="304920"/>
            <a:ext cx="7772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о степени географического распространения различают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52280" y="2286000"/>
            <a:ext cx="883944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локальные сет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(Local Area Network, LAN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глобальные сет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de Area Network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WAN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городские сети (Metropolitan Area Network, MAN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04920" y="304920"/>
            <a:ext cx="85341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о масштабу производственного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одразделения различают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1981080"/>
            <a:ext cx="777240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сети отделов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сети кампусов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корпоративные сет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457200"/>
            <a:ext cx="81532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о способу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управления различают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сети «Клиент - сервер»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Клиент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 объект (компьютер или программа), запрашивающий некоторые услуг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Сервер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  объект (компьютер или программа), предоставляющий некоторые услуг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одноранговые сет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685800" y="45720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о топологии связей различают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сети с топологией «Общая шина»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сети с топологией «Звезда»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сети с топологией «Кольцо»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сети с древовидной топологией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сети со смешанной топологией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Топология «Общая шина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1523880" y="3048120"/>
            <a:ext cx="6191280" cy="780840"/>
            <a:chOff x="1523880" y="3048120"/>
            <a:chExt cx="6191280" cy="780840"/>
          </a:xfrm>
        </p:grpSpPr>
        <p:sp>
          <p:nvSpPr>
            <p:cNvPr id="60" name=""/>
            <p:cNvSpPr/>
            <p:nvPr/>
          </p:nvSpPr>
          <p:spPr>
            <a:xfrm>
              <a:off x="1925640" y="3657600"/>
              <a:ext cx="5408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1" name="" descr=""/>
            <p:cNvPicPr/>
            <p:nvPr/>
          </p:nvPicPr>
          <p:blipFill>
            <a:blip r:embed="rId1"/>
            <a:stretch/>
          </p:blipFill>
          <p:spPr>
            <a:xfrm>
              <a:off x="1523880" y="3048120"/>
              <a:ext cx="781200" cy="78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" descr=""/>
            <p:cNvPicPr/>
            <p:nvPr/>
          </p:nvPicPr>
          <p:blipFill>
            <a:blip r:embed="rId2"/>
            <a:stretch/>
          </p:blipFill>
          <p:spPr>
            <a:xfrm>
              <a:off x="2895480" y="3048120"/>
              <a:ext cx="781200" cy="78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" descr=""/>
            <p:cNvPicPr/>
            <p:nvPr/>
          </p:nvPicPr>
          <p:blipFill>
            <a:blip r:embed="rId3"/>
            <a:stretch/>
          </p:blipFill>
          <p:spPr>
            <a:xfrm>
              <a:off x="4267080" y="3048120"/>
              <a:ext cx="781200" cy="78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" name="" descr=""/>
            <p:cNvPicPr/>
            <p:nvPr/>
          </p:nvPicPr>
          <p:blipFill>
            <a:blip r:embed="rId4"/>
            <a:stretch/>
          </p:blipFill>
          <p:spPr>
            <a:xfrm>
              <a:off x="5638680" y="3048120"/>
              <a:ext cx="781200" cy="78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" descr=""/>
            <p:cNvPicPr/>
            <p:nvPr/>
          </p:nvPicPr>
          <p:blipFill>
            <a:blip r:embed="rId5"/>
            <a:stretch/>
          </p:blipFill>
          <p:spPr>
            <a:xfrm>
              <a:off x="6934320" y="3048120"/>
              <a:ext cx="780840" cy="7808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9T20:51:30Z</dcterms:created>
  <dc:creator>cde</dc:creator>
  <dc:description/>
  <dc:language>en-US</dc:language>
  <cp:lastModifiedBy>support</cp:lastModifiedBy>
  <dcterms:modified xsi:type="dcterms:W3CDTF">2007-04-17T06:16:54Z</dcterms:modified>
  <cp:revision>5</cp:revision>
  <dc:subject/>
  <dc:title>Компьютерные сети</dc:title>
</cp:coreProperties>
</file>