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E2C9-4806-480D-83DD-5F66B19B8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637D-4DF6-4DB2-94A0-582320EA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01C2-030A-4CC3-BA8C-74941A033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DFE0-679F-412F-9BB2-7FF7F5B9B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452D-0419-4CF5-9B1D-DFA151D5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9F8C-E9C4-4F0C-AE7D-1A60A294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82C5-75AE-4AB2-A3FD-4256CEE1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7C2F-901E-410E-95D3-F41C7ECF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7D81-A188-48E4-8E53-B0D7E27C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4B7C-959D-48B3-B1F0-A31136E9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EC45-1D13-4969-B883-A630E9F9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7434-8B36-4368-88FD-D93E91BE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2441-4AED-44FD-BA1F-1E60150F6A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Алгоритмические машины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 Тьюринга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бстрактна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ьюринга предоставляет среду, в которой могут быть описаны все вычислимые функ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вычислимой по Тьюрингу является функция, которая сопоставляет геделевскому номеру программы значение переменн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ое 0 или 1, в зависимости от того, является данная программа самоостанавливающейся или не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ейший язык программирования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-384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nc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Имя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ec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Имя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il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Имя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0 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{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…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програм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0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{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ec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0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0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{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e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0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n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n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e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0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n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e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e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страктная машина Пос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Машина Поста состоит из ленты и каретки. Лента бесконечна и разделена на секции одинакового размера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В каждую секцию ленты заносится один символ двоичного информации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етка может передвигаться вдоль ленты влево и вправо. Когда она неподвижна, она стоит против ровно одной секции лент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единицу времени, которая называется шагом, каретка может сдвинуться на одну секцию влево или вправ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Формат команды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ы Пос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Формат команды: nKm, гд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 – номе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текущей команд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K – команд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из системы команд машины Пос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m – ссыл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номер команды, которая будет выполняться следующ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команд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ы Поста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,b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 b ]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371600" y="3852720"/>
          <a:ext cx="270000" cy="4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852720"/>
                    <a:ext cx="2700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программы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371600" y="3852720"/>
          <a:ext cx="270000" cy="4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852720"/>
                    <a:ext cx="2700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страктная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а Тьюринга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а Тьюринга состоит из информационной ленты, каретки, лентопротяжного механизма и операционного исполнительного устройств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нта ограничена слева и бесконечна справа. Лента разделена на секции одинакового размер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ждую секцию ленты заносятся символы внешнего алфавита машины Тьюринга A = {a0, a1,... aN}, где а0, как правило, пробе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ционное исполнительное устройство может находиться в одном из дискретных состояний: Q = {q0, q1,...qM} - внутренний алфавит машины Тьюринга или алфавит внутренних состоян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Формат команды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ы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Тьюринг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Формат команды: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q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, гд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  - новое содержание текущей ячейки (новый символ внешнего алфавита, который заносится в текущую ячейку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K  - команда лентопротяжного механизма машины Тьюринга (влево - &lt;, вправо - &gt;, стоп - !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q - новое внутренне состояние машины Тьюринг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програм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371600" y="2362320"/>
            <a:ext cx="6704640" cy="3276000"/>
            <a:chOff x="1371600" y="2362320"/>
            <a:chExt cx="6704640" cy="3276000"/>
          </a:xfrm>
        </p:grpSpPr>
        <p:grpSp>
          <p:nvGrpSpPr>
            <p:cNvPr id="61" name=""/>
            <p:cNvGrpSpPr/>
            <p:nvPr/>
          </p:nvGrpSpPr>
          <p:grpSpPr>
            <a:xfrm>
              <a:off x="1387080" y="2367000"/>
              <a:ext cx="6670080" cy="3265560"/>
              <a:chOff x="1387080" y="2367000"/>
              <a:chExt cx="6670080" cy="326556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1387080" y="2367000"/>
                <a:ext cx="2176560" cy="672120"/>
                <a:chOff x="1387080" y="2367000"/>
                <a:chExt cx="2176560" cy="67212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1613880" y="2367000"/>
                  <a:ext cx="1723680" cy="67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A/Q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387080" y="2367000"/>
                  <a:ext cx="217656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" name=""/>
              <p:cNvGrpSpPr/>
              <p:nvPr/>
            </p:nvGrpSpPr>
            <p:grpSpPr>
              <a:xfrm>
                <a:off x="3564720" y="2367000"/>
                <a:ext cx="2246040" cy="672120"/>
                <a:chOff x="3564720" y="2367000"/>
                <a:chExt cx="2246040" cy="67212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3791520" y="2367000"/>
                  <a:ext cx="1791720" cy="67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Q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3564720" y="2367000"/>
                  <a:ext cx="224604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5812200" y="2367000"/>
                <a:ext cx="2244960" cy="672120"/>
                <a:chOff x="5812200" y="2367000"/>
                <a:chExt cx="2244960" cy="6721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6037920" y="2367000"/>
                  <a:ext cx="1793160" cy="67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Q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5812200" y="2367000"/>
                  <a:ext cx="224496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" name=""/>
              <p:cNvGrpSpPr/>
              <p:nvPr/>
            </p:nvGrpSpPr>
            <p:grpSpPr>
              <a:xfrm>
                <a:off x="1387080" y="3039480"/>
                <a:ext cx="2176560" cy="864000"/>
                <a:chOff x="1387080" y="3039480"/>
                <a:chExt cx="2176560" cy="86400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1613880" y="3039480"/>
                  <a:ext cx="1723680" cy="86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1387080" y="3039480"/>
                  <a:ext cx="2176560" cy="86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3564720" y="3039480"/>
                <a:ext cx="2246040" cy="864000"/>
                <a:chOff x="3564720" y="3039480"/>
                <a:chExt cx="2246040" cy="8640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3791520" y="3039480"/>
                  <a:ext cx="1791720" cy="86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1 &gt;Q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3564720" y="3039480"/>
                  <a:ext cx="2246040" cy="86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5812200" y="3039480"/>
                <a:ext cx="2244960" cy="864000"/>
                <a:chOff x="5812200" y="3039480"/>
                <a:chExt cx="2244960" cy="86400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6037920" y="3039480"/>
                  <a:ext cx="1793160" cy="86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1 &gt;Q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12200" y="3039480"/>
                  <a:ext cx="2244960" cy="86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1387080" y="3903840"/>
                <a:ext cx="2176560" cy="864360"/>
                <a:chOff x="1387080" y="3903840"/>
                <a:chExt cx="2176560" cy="86436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1613880" y="3903840"/>
                  <a:ext cx="1723680" cy="8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1387080" y="3903840"/>
                  <a:ext cx="2176560" cy="86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3564720" y="3903840"/>
                <a:ext cx="2246040" cy="864360"/>
                <a:chOff x="3564720" y="3903840"/>
                <a:chExt cx="2246040" cy="86436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3791520" y="3903840"/>
                  <a:ext cx="1791720" cy="8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0 &gt;Q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3564720" y="3903840"/>
                  <a:ext cx="2246040" cy="86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5812200" y="3903840"/>
                <a:ext cx="2244960" cy="864360"/>
                <a:chOff x="5812200" y="3903840"/>
                <a:chExt cx="2244960" cy="86436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6037920" y="3903840"/>
                  <a:ext cx="1793160" cy="8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0 &gt;Q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812200" y="3903840"/>
                  <a:ext cx="2244960" cy="86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1387080" y="4768560"/>
                <a:ext cx="2176560" cy="864000"/>
                <a:chOff x="1387080" y="4768560"/>
                <a:chExt cx="2176560" cy="86400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1613880" y="4768560"/>
                  <a:ext cx="1723680" cy="86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_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1387080" y="4768560"/>
                  <a:ext cx="2176560" cy="86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3564720" y="4768560"/>
                <a:ext cx="2246040" cy="864000"/>
                <a:chOff x="3564720" y="4768560"/>
                <a:chExt cx="2246040" cy="86400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791520" y="4768560"/>
                  <a:ext cx="1791720" cy="86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_ &gt;Q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564720" y="4768560"/>
                  <a:ext cx="2246040" cy="86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5812200" y="4768560"/>
                <a:ext cx="2244960" cy="864000"/>
                <a:chOff x="5812200" y="4768560"/>
                <a:chExt cx="2244960" cy="86400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6037920" y="4768560"/>
                  <a:ext cx="1793160" cy="86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_ !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Q</a:t>
                  </a:r>
                  <a:r>
                    <a:rPr b="0" lang="ru-RU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812200" y="4768560"/>
                  <a:ext cx="2244960" cy="86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8" name=""/>
            <p:cNvSpPr/>
            <p:nvPr/>
          </p:nvSpPr>
          <p:spPr>
            <a:xfrm>
              <a:off x="1371600" y="2362320"/>
              <a:ext cx="6704640" cy="3276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ычислимые функции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выполняет единственное действие: управляет преобразованием некоторого исходного набора двоичных разрядов, который будем называть входным, в другой набор двоичных разрядов, именуемый выходным. Связь, существующая между этими наборами, называетс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е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кции, для которых отношения между входными и выходными величинами не могут быть определены никаким алгоритмическим методо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называютс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вычислимым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20:39:37Z</dcterms:created>
  <dc:creator>cde</dc:creator>
  <dc:description/>
  <dc:language>en-US</dc:language>
  <cp:lastModifiedBy>Owner</cp:lastModifiedBy>
  <dcterms:modified xsi:type="dcterms:W3CDTF">2009-03-15T15:07:45Z</dcterms:modified>
  <cp:revision>28</cp:revision>
  <dc:subject/>
  <dc:title>Алгоритмы</dc:title>
</cp:coreProperties>
</file>