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295-E383-46DB-9517-61B86152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717-0BB7-415A-B1F4-60036B04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185-A6FF-4643-821E-E4119311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240-A0E8-40E9-9DED-40A7A43F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7BF-0A8F-4387-8F7A-C5885F6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5AF-AF9C-40AC-8EF5-9BB951C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EEA-4323-4FFC-B494-C6BCBBD2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343-14B9-474A-BD6D-E68892CD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CDB-E3DB-4712-B596-21E19577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B6F-AF30-4A89-BB52-80748A3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656-D9DE-40C7-8BF9-23B7399D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426-BE3A-43CB-B1BF-04718BD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436-71F6-4997-9058-0767B43025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жатие данных и 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с проверкой на че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62320" y="2286000"/>
          <a:ext cx="4038480" cy="3014640"/>
        </p:xfrm>
        <a:graphic>
          <a:graphicData uri="http://schemas.openxmlformats.org/drawingml/2006/table">
            <a:tbl>
              <a:tblPr/>
              <a:tblGrid>
                <a:gridCol w="2271600"/>
                <a:gridCol w="1766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овая 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 чет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танция Хемми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 двумя кодовыми комбинациями равна количеству битов, отличающихся в этих комбинац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11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1111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82880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828800"/>
          <a:ext cx="7848360" cy="4673520"/>
        </p:xfrm>
        <a:graphic>
          <a:graphicData uri="http://schemas.openxmlformats.org/drawingml/2006/table">
            <a:tbl>
              <a:tblPr/>
              <a:tblGrid>
                <a:gridCol w="1582560"/>
                <a:gridCol w="1860480"/>
                <a:gridCol w="280512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значает, что из исходных символов можно построить больше комбинаций, чем их применено в данном код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Уменьшение числа используемых комбинаций приводит к повышению помехоустойчив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ияние кодового расстояния на помехозащищеннос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обнаружива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справля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шибка не обнаружи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наруживаются одиноч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равляются одиночные ошибки или обнаруживаются двой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 числа контрольных символ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а кодовой комбин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информацион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контроль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роцесс, обеспечивающий уменьшение объема данных путем сокращения их избыточ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ют сжатия с потерей и без потери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длины сер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11 1111 1111 1111 1111 0000 0000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[20] 0 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 0 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сжатия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я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000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4] 1 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 0000 0000 0000 0000 0000 1111 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тносительного кодиро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1473; 1480; 147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-3; +7;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отно-зависим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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01110011101100011011011011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74320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11001110010110101001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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Лемпеля-З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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ехозащищен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коды, позволяющие обнаружить и исправить ошибки в кодовых комбинац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к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ошиб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и исправлением ошиб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Owner</cp:lastModifiedBy>
  <dcterms:modified xsi:type="dcterms:W3CDTF">2009-03-15T15:01:32Z</dcterms:modified>
  <cp:revision>19</cp:revision>
  <dc:subject/>
  <dc:title>Презентация PowerPoint</dc:title>
</cp:coreProperties>
</file>