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9996-1D61-41CF-87FC-043D79F04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AFE4-6060-4388-8D5F-47C1A960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5233-E280-4B85-A899-FFC4A943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3FFD-024D-4986-9B3C-270672FBC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F78-9D1A-4A19-8833-90EC9A78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E730-E3F4-4121-A94C-DB3455C7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33AA-0D11-4D90-AFD1-072C94FC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76A0-31CE-4BCB-83BA-2806EEB6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DC11-3A4D-472C-98F0-DEC7295A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18E3-FEA2-4058-AB83-6D8C47EA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C99-8053-4202-B653-B61FBD3B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A967-B037-4366-BF21-51B7EBF9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5CF6-60C7-4502-99D9-7495A3EC9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бота с базами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акция на уда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 ON DELETE CASC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62000"/>
          <a:ext cx="7772400" cy="4591080"/>
        </p:xfrm>
        <a:graphic>
          <a:graphicData uri="http://schemas.openxmlformats.org/drawingml/2006/table">
            <a:tbl>
              <a:tblPr/>
              <a:tblGrid>
                <a:gridCol w="2362320"/>
                <a:gridCol w="541008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MBER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щественное число с точность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плоть до 38 цифр (общим количеством цифр) и масштабом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числом цифр справа от десятичной точки). Масштаб может находится в диапазоне от -84 до 12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ьные данные фиксированной длины равно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айт.  Максимум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оставляет 2000 байт, а минимум 1 бай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R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а переменной длины, максимальный размер которой не может превышать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имволов или байтов. Максимальное знач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00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храняет информацию о дате. Использует формат "YYYY-MM-DD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status_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TABLE Publication CASCADE CONSTRAI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н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(cn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(2,2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nt &lt; 10.5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sa VARCHAR2(3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IFY (cnt NUMBER(3,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depart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PRIMARY KEY CASC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ледова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SEQUENCE customers_s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RT WITH    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REMENT BY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YC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:new.id FROM DU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рифме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* FROM employees WHERE -salary &lt;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UPDATE employees SET salary = salary * 1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'Name is ' || last_name FROM employe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, !=, &lt;, &gt;, &lt;=,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[NOT] NULL, LIKE, [NOT] BETWEEN, [NOT] IN, EXIS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иц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last_name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upper(last_name)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al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2000 AND 3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department_id NOT IN (10, 2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и над результатами выполнения двух запро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133720"/>
          <a:ext cx="7696080" cy="4064040"/>
        </p:xfrm>
        <a:graphic>
          <a:graphicData uri="http://schemas.openxmlformats.org/drawingml/2006/table">
            <a:tbl>
              <a:tblPr/>
              <a:tblGrid>
                <a:gridCol w="2438280"/>
                <a:gridCol w="52578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 без дубл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, включая дуб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S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и первым, и вторым запрос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первым запросом и отсутствуют во втор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й 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2133720"/>
          <a:ext cx="7848720" cy="421308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9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4,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L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тановлен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ядка сортиров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commission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last_name, department_id,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department_id ASC, salary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ерарх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employee_id, last_name,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 START WITH employee_id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BY PRIOR employee_id = manager_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_ID LAST_NAME                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------------------------- 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1 Kochhar                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8 Greenberg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9 Faviet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0 Chen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1 Sciarra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2 Urman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3 Popp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 Whalen   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2400" cy="410364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инимальное знач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аксимальное зна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количество запис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умму знач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строку в дат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дату или число в стро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 записей в запр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count(*) FROM employe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DE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е услов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VING MIN(salary) &lt; 500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PARTMENT_ID MIN(SALARY) MAX(SALAR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---------- ----------- ----------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5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оженные за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 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росы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пользующ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.a=A.a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ключ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ублирующихся запис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city,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tate IN (‘CA’,’NY’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 city IS NOT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росы, использующие соеди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r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 pr, status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r.status=s.i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PER(s.name) LIK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'%ГОСТЬ%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.description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 книг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(c.publication)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л-во экземпля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ublication p, copy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.id=c.pub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c.public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может иметь длину более 30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должно начинаться только с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а должны быть уникаль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должно совпадать с ключевыми словами в систем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WHERE id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 IN (SELECT person FROM reque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ба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person(lastName,firstName,middle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S (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т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митрий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Геннадьевич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staff(person,posi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ID, 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граммист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sh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scription=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ерхняя полк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c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shelf = 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фологическ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25520" y="2276640"/>
          <a:ext cx="6413400" cy="26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5520" y="2276640"/>
                    <a:ext cx="641340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712960" y="3508200"/>
            <a:ext cx="520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38560" y="3325680"/>
            <a:ext cx="53352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0240" y="3325680"/>
            <a:ext cx="528480" cy="943200"/>
          </a:xfrm>
          <a:custGeom>
            <a:avLst/>
            <a:gdLst/>
            <a:ahLst/>
            <a:rect l="l" t="t" r="r" b="b"/>
            <a:pathLst>
              <a:path w="516" h="614">
                <a:moveTo>
                  <a:pt x="516" y="0"/>
                </a:moveTo>
                <a:lnTo>
                  <a:pt x="232" y="0"/>
                </a:lnTo>
                <a:lnTo>
                  <a:pt x="232" y="614"/>
                </a:lnTo>
                <a:lnTo>
                  <a:pt x="0" y="61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872320" y="4452840"/>
            <a:ext cx="5364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4800" y="3503520"/>
            <a:ext cx="298440" cy="619200"/>
          </a:xfrm>
          <a:custGeom>
            <a:avLst/>
            <a:gdLst/>
            <a:ahLst/>
            <a:rect l="l" t="t" r="r" b="b"/>
            <a:pathLst>
              <a:path w="270" h="561">
                <a:moveTo>
                  <a:pt x="270" y="561"/>
                </a:moveTo>
                <a:lnTo>
                  <a:pt x="0" y="561"/>
                </a:lnTo>
                <a:lnTo>
                  <a:pt x="0" y="0"/>
                </a:lnTo>
                <a:lnTo>
                  <a:pt x="25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12960" y="3728880"/>
            <a:ext cx="552600" cy="1130400"/>
          </a:xfrm>
          <a:custGeom>
            <a:avLst/>
            <a:gdLst/>
            <a:ahLst/>
            <a:rect l="l" t="t" r="r" b="b"/>
            <a:pathLst>
              <a:path w="517" h="950">
                <a:moveTo>
                  <a:pt x="517" y="950"/>
                </a:moveTo>
                <a:lnTo>
                  <a:pt x="232" y="950"/>
                </a:lnTo>
                <a:lnTo>
                  <a:pt x="232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58920" y="2571840"/>
            <a:ext cx="206280" cy="869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3600" y="3557520"/>
            <a:ext cx="206280" cy="347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терал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Hello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ORACLE.dbs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Jackie''s raincoat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09-MAR-98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ента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Таблица с описа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чатных изд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CREATE TABLE 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NUMBER(4) PRIMARY KEY, -- Первичный клю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escription VARCHAR2(500) NOT NULL -- Опис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зда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lyamin</cp:lastModifiedBy>
  <dcterms:modified xsi:type="dcterms:W3CDTF">2012-04-06T09:54:05Z</dcterms:modified>
  <cp:revision>70</cp:revision>
  <dc:subject/>
  <dc:title>Язык структурированных запросов</dc:title>
</cp:coreProperties>
</file>