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524-0F28-4A06-B0E7-F25A2D3F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3EF5-4A7A-4784-B0BB-788F3975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5647-F2EC-4F61-A29B-1C8E5DE5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333B-9E01-466F-9330-E20EC96E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8733-D926-49A9-A995-13E83B15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A09-F4DE-4CC5-AC02-22210594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614D-5CBD-4CAF-8EF6-E5E5ACBC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D93D-1DD7-4BFD-A87E-107AC49D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464F-76DD-4458-A951-7E666565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0D5-1F5A-4CCF-95B4-5D6E486F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EA2F-440F-4C2E-87B8-00631F06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EE22-5414-4604-9C03-B099FE47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5945-8489-4557-8D6D-F04FB829A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адресации в компьютерных сетя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файл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5240" y="2057400"/>
            <a:ext cx="573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7.0.0.1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ocal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kk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2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ncis.ifmo.ru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1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sun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9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t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4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k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ial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25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xvio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42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de.ifmo.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267080"/>
            <a:ext cx="106668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8954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8800" y="2666520"/>
            <a:ext cx="4267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2819520"/>
            <a:ext cx="53352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87692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280"/>
            <a:ext cx="815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енно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60" y="2284560"/>
            <a:ext cx="4189320" cy="4268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581280"/>
            <a:ext cx="2667240" cy="2819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4572000" cy="4724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886200"/>
            <a:ext cx="2666880" cy="2438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440" y="52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46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9840" y="5410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e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343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3076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447920" y="243828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0400" y="2895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4600" y="541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2760" y="3886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438280" y="54864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18320" y="60958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тилиты для работы в се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C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уз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аратны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3-14-56-A5-C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о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я компьютер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ifmo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38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4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32 би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10100 01111100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4.124.5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6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128 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ка подсе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ли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на номер подсети и номер компьютера в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111111 1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5.192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64.0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1.xxx.xxx.xxx-127.xxx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.000.xxx.xxx-191.255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.000.000.xxx-223.255.255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а дл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окальных ц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.0.0.0 до 10.255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72.16.0.0 до 172.31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92.168.0.0 до 192.168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езервированны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адр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нулей, то это адрес отправителя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адресе сети стоят нули, то это адрес компьютера, который принадлежит той же сети, что и отправитель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единиц, то это сообщение предназначено всем компьютерам текущей се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номере узла стоят единицы, то это сообщение предназначено всем компьютерам заданной се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28440" y="2286000"/>
            <a:ext cx="5181840" cy="3193920"/>
            <a:chOff x="1828440" y="2286000"/>
            <a:chExt cx="5181840" cy="3193920"/>
          </a:xfrm>
        </p:grpSpPr>
        <p:sp>
          <p:nvSpPr>
            <p:cNvPr id="55" name=""/>
            <p:cNvSpPr/>
            <p:nvPr/>
          </p:nvSpPr>
          <p:spPr>
            <a:xfrm>
              <a:off x="18284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372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6400" y="228600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20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1496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P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3178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етевая кар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т и соке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43400" y="1317600"/>
          <a:ext cx="480060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17600"/>
                    <a:ext cx="480060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1217520"/>
            <a:ext cx="40388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целое число, определяющее прикладной процесс запущенный на компьюте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кет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окуп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ов и портов клиента и сервера, идентифицирующи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ужб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доменных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е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363680"/>
            <a:ext cx="89154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жба доменных имен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 Name Servic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DN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т преобразование доменного имен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исловой IP-адре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ы, выполняющие такое преобразование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DNS-сервер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 появлением служб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ормация необходимая для преобразование доменного имени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 хранилась в файл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хос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пьютер, главный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18Z</dcterms:modified>
  <cp:revision>9</cp:revision>
  <dc:subject/>
  <dc:title>Компьютерные сети</dc:title>
</cp:coreProperties>
</file>