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8D46-D00C-43CA-BA50-AFAFAEC3B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A9F3-EB26-4CC2-A3F3-5AC5CE17C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4C38-F9FC-43F0-852A-87ED3E9E6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DBEF-108E-423B-A8E4-19A246F4B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E50B-9A5F-494D-A203-F553B8525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95BA-0CD2-49D4-9514-D224DA76A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9101-75ED-4090-8107-EEE76D062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6AE8-176F-4754-904F-1BE2139FD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3D11-051C-4563-B3EE-CDB027327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9BC0-2139-4823-B16B-85EF7F3A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F21C-C131-4613-98CC-55DED2DB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2950-0D9E-4F66-A29D-E01F9058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7CCED-F004-48DE-8362-59081E185A7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ычислительные машины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манд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манда - это описание операции, которую должен выполнить компьютер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Группы команд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оманды передачи данны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рифметические и логические коман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оманды управл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стейшая ЭВ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857160" y="1908000"/>
            <a:ext cx="742968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"/>
          <p:cNvGrpSpPr/>
          <p:nvPr/>
        </p:nvGrpSpPr>
        <p:grpSpPr>
          <a:xfrm>
            <a:off x="1600200" y="477720"/>
            <a:ext cx="6107040" cy="5923080"/>
            <a:chOff x="1600200" y="477720"/>
            <a:chExt cx="6107040" cy="5923080"/>
          </a:xfrm>
        </p:grpSpPr>
        <p:sp>
          <p:nvSpPr>
            <p:cNvPr id="188" name=""/>
            <p:cNvSpPr/>
            <p:nvPr/>
          </p:nvSpPr>
          <p:spPr>
            <a:xfrm>
              <a:off x="5969880" y="805320"/>
              <a:ext cx="1066680" cy="159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167880" y="786240"/>
              <a:ext cx="6436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MU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743520" y="804600"/>
              <a:ext cx="0" cy="160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248160" y="808920"/>
              <a:ext cx="0" cy="159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928120" y="78984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969880" y="210852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720480" y="78156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939280" y="172692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308840" y="1726920"/>
              <a:ext cx="875880" cy="81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29880" y="1699920"/>
              <a:ext cx="4647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G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75600" y="17305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907160" y="1738080"/>
              <a:ext cx="0" cy="78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289760" y="170748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293720" y="226080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884120" y="169632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28000" y="698400"/>
              <a:ext cx="350280" cy="41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47680" y="877680"/>
              <a:ext cx="79920" cy="79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032640" y="705960"/>
              <a:ext cx="350280" cy="41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386880" y="911880"/>
              <a:ext cx="14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815200" y="778680"/>
              <a:ext cx="21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929680" y="919440"/>
              <a:ext cx="1142640" cy="297000"/>
            </a:xfrm>
            <a:custGeom>
              <a:avLst/>
              <a:gdLst/>
              <a:ahLst/>
              <a:rect l="l" t="t" r="r" b="b"/>
              <a:pathLst>
                <a:path w="1800" h="468">
                  <a:moveTo>
                    <a:pt x="1572" y="0"/>
                  </a:moveTo>
                  <a:lnTo>
                    <a:pt x="1800" y="0"/>
                  </a:lnTo>
                  <a:lnTo>
                    <a:pt x="1800" y="468"/>
                  </a:lnTo>
                  <a:lnTo>
                    <a:pt x="0" y="468"/>
                  </a:lnTo>
                  <a:lnTo>
                    <a:pt x="0" y="210"/>
                  </a:lnTo>
                  <a:lnTo>
                    <a:pt x="162" y="21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4282200" y="767160"/>
              <a:ext cx="1016640" cy="841680"/>
              <a:chOff x="4282200" y="767160"/>
              <a:chExt cx="1016640" cy="841680"/>
            </a:xfrm>
          </p:grpSpPr>
          <p:sp>
            <p:nvSpPr>
              <p:cNvPr id="210" name=""/>
              <p:cNvSpPr/>
              <p:nvPr/>
            </p:nvSpPr>
            <p:spPr>
              <a:xfrm>
                <a:off x="4300920" y="797400"/>
                <a:ext cx="876240" cy="811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521960" y="770760"/>
                <a:ext cx="4647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567680" y="801360"/>
                <a:ext cx="0" cy="79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899240" y="808920"/>
                <a:ext cx="0" cy="788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282200" y="778680"/>
                <a:ext cx="42264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285800" y="1330920"/>
                <a:ext cx="42264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200" y="767160"/>
                <a:ext cx="42264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1965600" y="1711440"/>
              <a:ext cx="1352520" cy="106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312640" y="1707480"/>
              <a:ext cx="643680" cy="47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956320" y="1726920"/>
              <a:ext cx="0" cy="103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323800" y="1715400"/>
              <a:ext cx="0" cy="105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923840" y="169632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933280" y="167724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931400" y="207792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W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923840" y="244008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741280" y="228744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072680" y="915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729440" y="222264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809680" y="2512080"/>
              <a:ext cx="1356120" cy="354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67200" y="2504880"/>
              <a:ext cx="6436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БУ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740960" y="477720"/>
              <a:ext cx="5714640" cy="1371600"/>
            </a:xfrm>
            <a:custGeom>
              <a:avLst/>
              <a:gdLst/>
              <a:ahLst/>
              <a:rect l="l" t="t" r="r" b="b"/>
              <a:pathLst>
                <a:path w="9000" h="2160">
                  <a:moveTo>
                    <a:pt x="8340" y="720"/>
                  </a:moveTo>
                  <a:lnTo>
                    <a:pt x="9000" y="720"/>
                  </a:lnTo>
                  <a:lnTo>
                    <a:pt x="9000" y="0"/>
                  </a:lnTo>
                  <a:lnTo>
                    <a:pt x="0" y="0"/>
                  </a:lnTo>
                  <a:lnTo>
                    <a:pt x="0" y="2160"/>
                  </a:lnTo>
                  <a:lnTo>
                    <a:pt x="360" y="216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166160" y="679320"/>
              <a:ext cx="26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177520" y="915480"/>
              <a:ext cx="792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80480" y="660600"/>
              <a:ext cx="266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196600" y="1849320"/>
              <a:ext cx="792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99560" y="1593360"/>
              <a:ext cx="266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08080" y="2051280"/>
              <a:ext cx="3618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604120" y="181872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764320" y="1585800"/>
              <a:ext cx="266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678400" y="557640"/>
              <a:ext cx="361800" cy="25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600200" y="1967400"/>
              <a:ext cx="3618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072680" y="1220400"/>
              <a:ext cx="236160" cy="1219320"/>
            </a:xfrm>
            <a:custGeom>
              <a:avLst/>
              <a:gdLst/>
              <a:ahLst/>
              <a:rect l="l" t="t" r="r" b="b"/>
              <a:pathLst>
                <a:path w="372" h="1920">
                  <a:moveTo>
                    <a:pt x="0" y="0"/>
                  </a:moveTo>
                  <a:lnTo>
                    <a:pt x="0" y="1920"/>
                  </a:lnTo>
                  <a:lnTo>
                    <a:pt x="372" y="192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042080" y="119376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18480" y="1830240"/>
              <a:ext cx="99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687840" y="1574280"/>
              <a:ext cx="26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5400000">
              <a:off x="3954240" y="2943000"/>
              <a:ext cx="883800" cy="163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3592440" y="3594600"/>
              <a:ext cx="160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3596040" y="3967920"/>
              <a:ext cx="160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861080" y="332388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577320" y="332028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48680" y="332388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061160" y="3632400"/>
              <a:ext cx="6436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MU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122000" y="4653720"/>
              <a:ext cx="4647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G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3584520" y="4619520"/>
              <a:ext cx="925560" cy="666720"/>
              <a:chOff x="3584520" y="4619520"/>
              <a:chExt cx="925560" cy="666720"/>
            </a:xfrm>
          </p:grpSpPr>
          <p:sp>
            <p:nvSpPr>
              <p:cNvPr id="254" name=""/>
              <p:cNvSpPr/>
              <p:nvPr/>
            </p:nvSpPr>
            <p:spPr>
              <a:xfrm rot="5400000">
                <a:off x="3713760" y="4489920"/>
                <a:ext cx="666720" cy="925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3593520" y="4822200"/>
                <a:ext cx="91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>
                <a:off x="3597480" y="5074560"/>
                <a:ext cx="89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4247640" y="458892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543120" y="459288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96360" y="504252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255560" y="393732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851640" y="4825440"/>
              <a:ext cx="4647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G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3920040" y="1830240"/>
              <a:ext cx="0" cy="1486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893400" y="180360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95400" y="3087720"/>
              <a:ext cx="0" cy="21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592800" y="2962080"/>
              <a:ext cx="3618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699000" y="4406040"/>
              <a:ext cx="0" cy="21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619440" y="4295520"/>
              <a:ext cx="3618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4377240" y="4207680"/>
              <a:ext cx="0" cy="411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3344760" y="5617800"/>
              <a:ext cx="925560" cy="666720"/>
              <a:chOff x="3344760" y="5617800"/>
              <a:chExt cx="925560" cy="666720"/>
            </a:xfrm>
          </p:grpSpPr>
          <p:sp>
            <p:nvSpPr>
              <p:cNvPr id="270" name=""/>
              <p:cNvSpPr/>
              <p:nvPr/>
            </p:nvSpPr>
            <p:spPr>
              <a:xfrm rot="5400000">
                <a:off x="3474000" y="5488200"/>
                <a:ext cx="666720" cy="925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>
                <a:off x="3353760" y="5820480"/>
                <a:ext cx="91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>
                <a:off x="3357720" y="6072840"/>
                <a:ext cx="89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3969720" y="558720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318480" y="558720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64800" y="603684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611520" y="5816160"/>
              <a:ext cx="4647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S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4129560" y="5285880"/>
              <a:ext cx="7560" cy="34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350600" y="4234680"/>
              <a:ext cx="266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099320" y="5339880"/>
              <a:ext cx="266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3470760" y="1829880"/>
              <a:ext cx="0" cy="379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748520" y="2649600"/>
              <a:ext cx="2381040" cy="2724480"/>
            </a:xfrm>
            <a:custGeom>
              <a:avLst/>
              <a:gdLst/>
              <a:ahLst/>
              <a:rect l="l" t="t" r="r" b="b"/>
              <a:pathLst>
                <a:path w="3750" h="4290">
                  <a:moveTo>
                    <a:pt x="3750" y="4290"/>
                  </a:moveTo>
                  <a:lnTo>
                    <a:pt x="0" y="4290"/>
                  </a:lnTo>
                  <a:lnTo>
                    <a:pt x="0" y="0"/>
                  </a:lnTo>
                  <a:lnTo>
                    <a:pt x="342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099320" y="534708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805920" y="3200040"/>
              <a:ext cx="1600200" cy="3200760"/>
            </a:xfrm>
            <a:custGeom>
              <a:avLst/>
              <a:gdLst/>
              <a:ahLst/>
              <a:rect l="l" t="t" r="r" b="b"/>
              <a:pathLst>
                <a:path w="2520" h="5040">
                  <a:moveTo>
                    <a:pt x="0" y="4860"/>
                  </a:moveTo>
                  <a:lnTo>
                    <a:pt x="0" y="5040"/>
                  </a:lnTo>
                  <a:lnTo>
                    <a:pt x="2520" y="5040"/>
                  </a:lnTo>
                  <a:lnTo>
                    <a:pt x="2520" y="0"/>
                  </a:lnTo>
                  <a:lnTo>
                    <a:pt x="2022" y="0"/>
                  </a:lnTo>
                  <a:lnTo>
                    <a:pt x="2022" y="18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379480" y="4242240"/>
              <a:ext cx="266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721880" y="4234680"/>
              <a:ext cx="266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440160" y="180360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785280" y="3182760"/>
              <a:ext cx="342720" cy="45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777720" y="3758400"/>
              <a:ext cx="342720" cy="45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777720" y="4326120"/>
              <a:ext cx="342720" cy="45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785280" y="4901400"/>
              <a:ext cx="342720" cy="45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777720" y="5480640"/>
              <a:ext cx="342720" cy="45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210000" y="2619000"/>
              <a:ext cx="350280" cy="41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600960" y="2836080"/>
              <a:ext cx="180000" cy="2975760"/>
            </a:xfrm>
            <a:custGeom>
              <a:avLst/>
              <a:gdLst/>
              <a:ahLst/>
              <a:rect l="l" t="t" r="r" b="b"/>
              <a:pathLst>
                <a:path w="270" h="4458">
                  <a:moveTo>
                    <a:pt x="0" y="0"/>
                  </a:moveTo>
                  <a:lnTo>
                    <a:pt x="90" y="0"/>
                  </a:lnTo>
                  <a:lnTo>
                    <a:pt x="90" y="4458"/>
                  </a:lnTo>
                  <a:lnTo>
                    <a:pt x="270" y="445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667200" y="524844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667200" y="466920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667200" y="409752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67200" y="352584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36600" y="349560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40560" y="407088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636600" y="463860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636600" y="521784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526080" y="2797920"/>
              <a:ext cx="79560" cy="79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35920" y="3415320"/>
              <a:ext cx="21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345440" y="3270600"/>
              <a:ext cx="3618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35920" y="3979440"/>
              <a:ext cx="21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345440" y="3834720"/>
              <a:ext cx="3618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35920" y="4558680"/>
              <a:ext cx="21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345440" y="4413600"/>
              <a:ext cx="3618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24400" y="5122440"/>
              <a:ext cx="21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333920" y="4977720"/>
              <a:ext cx="3618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131960" y="5694120"/>
              <a:ext cx="21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341480" y="5549400"/>
              <a:ext cx="3618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5634720" y="1829880"/>
              <a:ext cx="0" cy="379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210000" y="3095280"/>
              <a:ext cx="342720" cy="45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552720" y="331632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634720" y="3201840"/>
              <a:ext cx="55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206040" y="4234680"/>
              <a:ext cx="342720" cy="45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549120" y="44557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969880" y="388800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087960" y="3316320"/>
              <a:ext cx="121680" cy="1257120"/>
            </a:xfrm>
            <a:custGeom>
              <a:avLst/>
              <a:gdLst/>
              <a:ahLst/>
              <a:rect l="l" t="t" r="r" b="b"/>
              <a:pathLst>
                <a:path w="192" h="1980">
                  <a:moveTo>
                    <a:pt x="180" y="1980"/>
                  </a:moveTo>
                  <a:lnTo>
                    <a:pt x="0" y="1980"/>
                  </a:lnTo>
                  <a:lnTo>
                    <a:pt x="0" y="0"/>
                  </a:lnTo>
                  <a:lnTo>
                    <a:pt x="19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053760" y="453816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977440" y="3201840"/>
              <a:ext cx="228240" cy="1150560"/>
            </a:xfrm>
            <a:custGeom>
              <a:avLst/>
              <a:gdLst/>
              <a:ahLst/>
              <a:rect l="l" t="t" r="r" b="b"/>
              <a:pathLst>
                <a:path w="360" h="1812">
                  <a:moveTo>
                    <a:pt x="0" y="0"/>
                  </a:moveTo>
                  <a:lnTo>
                    <a:pt x="0" y="1812"/>
                  </a:lnTo>
                  <a:lnTo>
                    <a:pt x="360" y="181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950800" y="317160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634720" y="5031000"/>
              <a:ext cx="115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863320" y="3430440"/>
              <a:ext cx="342720" cy="1600200"/>
            </a:xfrm>
            <a:custGeom>
              <a:avLst/>
              <a:gdLst/>
              <a:ahLst/>
              <a:rect l="l" t="t" r="r" b="b"/>
              <a:pathLst>
                <a:path w="540" h="2520">
                  <a:moveTo>
                    <a:pt x="0" y="2520"/>
                  </a:moveTo>
                  <a:lnTo>
                    <a:pt x="0" y="0"/>
                  </a:lnTo>
                  <a:lnTo>
                    <a:pt x="54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832720" y="500040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634720" y="56026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072680" y="2409480"/>
              <a:ext cx="2125800" cy="430560"/>
            </a:xfrm>
            <a:custGeom>
              <a:avLst/>
              <a:gdLst/>
              <a:ahLst/>
              <a:rect l="l" t="t" r="r" b="b"/>
              <a:pathLst>
                <a:path w="4098" h="618">
                  <a:moveTo>
                    <a:pt x="4098" y="618"/>
                  </a:moveTo>
                  <a:lnTo>
                    <a:pt x="0" y="618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042080" y="240552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3756240" y="177660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1695240" y="431424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5364360" y="178776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5329800" y="86184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4323960" y="430272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813640" y="178416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608080" y="2474280"/>
              <a:ext cx="266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573880" y="254628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348880" y="430668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4072680" y="543096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7254000" y="87336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69840" y="531000"/>
              <a:ext cx="1432440" cy="81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706920" y="485280"/>
              <a:ext cx="6436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ГТ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950800" y="385236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5638320" y="4568760"/>
              <a:ext cx="44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истема коман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228600" y="1752480"/>
            <a:ext cx="8686440" cy="4952880"/>
            <a:chOff x="228600" y="1752480"/>
            <a:chExt cx="8686440" cy="4952880"/>
          </a:xfrm>
        </p:grpSpPr>
        <p:grpSp>
          <p:nvGrpSpPr>
            <p:cNvPr id="347" name=""/>
            <p:cNvGrpSpPr/>
            <p:nvPr/>
          </p:nvGrpSpPr>
          <p:grpSpPr>
            <a:xfrm>
              <a:off x="236520" y="1757160"/>
              <a:ext cx="8668800" cy="4942440"/>
              <a:chOff x="236520" y="1757160"/>
              <a:chExt cx="8668800" cy="494244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236520" y="1757160"/>
                <a:ext cx="1837800" cy="678240"/>
                <a:chOff x="236520" y="1757160"/>
                <a:chExt cx="1837800" cy="67824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356040" y="1757160"/>
                  <a:ext cx="1599120" cy="67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Код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236520" y="1757160"/>
                  <a:ext cx="1837800" cy="67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2074680" y="1757160"/>
                <a:ext cx="2171520" cy="678240"/>
                <a:chOff x="2074680" y="1757160"/>
                <a:chExt cx="2171520" cy="67824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2194200" y="1757160"/>
                  <a:ext cx="1932120" cy="67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Мнемоника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2074680" y="1757160"/>
                  <a:ext cx="2171520" cy="67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4246560" y="1757160"/>
                <a:ext cx="4658760" cy="678240"/>
                <a:chOff x="4246560" y="1757160"/>
                <a:chExt cx="4658760" cy="67824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4365360" y="1757160"/>
                  <a:ext cx="4420800" cy="67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Описание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4246560" y="1757160"/>
                  <a:ext cx="4658760" cy="67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236520" y="2435760"/>
                <a:ext cx="1837800" cy="1065240"/>
                <a:chOff x="236520" y="2435760"/>
                <a:chExt cx="1837800" cy="106524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356040" y="2435760"/>
                  <a:ext cx="159912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236520" y="2435760"/>
                  <a:ext cx="183780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2074680" y="2435760"/>
                <a:ext cx="2171520" cy="1065240"/>
                <a:chOff x="2074680" y="2435760"/>
                <a:chExt cx="2171520" cy="106524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2194200" y="2435760"/>
                  <a:ext cx="193212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LOD P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2074680" y="2435760"/>
                  <a:ext cx="217152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4246560" y="2435760"/>
                <a:ext cx="4658760" cy="1065240"/>
                <a:chOff x="4246560" y="2435760"/>
                <a:chExt cx="4658760" cy="106524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4365360" y="2435760"/>
                  <a:ext cx="442080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Загрузка в аккумулятор двоичного кода числа из ячейки памяти с адресом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P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4246560" y="2435760"/>
                  <a:ext cx="465876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236520" y="3501720"/>
                <a:ext cx="1837800" cy="1065600"/>
                <a:chOff x="236520" y="3501720"/>
                <a:chExt cx="1837800" cy="106560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356040" y="3501720"/>
                  <a:ext cx="1599120" cy="106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236520" y="3501720"/>
                  <a:ext cx="1837800" cy="1065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2074680" y="3501720"/>
                <a:ext cx="2171520" cy="1065600"/>
                <a:chOff x="2074680" y="3501720"/>
                <a:chExt cx="2171520" cy="106560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2194200" y="3501720"/>
                  <a:ext cx="1932120" cy="106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STO P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2074680" y="3501720"/>
                  <a:ext cx="2171520" cy="1065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4246560" y="3501720"/>
                <a:ext cx="4658760" cy="1065600"/>
                <a:chOff x="4246560" y="3501720"/>
                <a:chExt cx="4658760" cy="106560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4365360" y="3501720"/>
                  <a:ext cx="4420800" cy="106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Сохранение двоичного кода числа,  хранящегося в аккумуляторе, в ячейке памяти с адресом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P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4246560" y="3501720"/>
                  <a:ext cx="4658760" cy="1065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236520" y="4568040"/>
                <a:ext cx="1837800" cy="1258920"/>
                <a:chOff x="236520" y="4568040"/>
                <a:chExt cx="1837800" cy="125892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356040" y="4568040"/>
                  <a:ext cx="1599120" cy="125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236520" y="4568040"/>
                  <a:ext cx="1837800" cy="1258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2074680" y="4568040"/>
                <a:ext cx="2171520" cy="1258920"/>
                <a:chOff x="2074680" y="4568040"/>
                <a:chExt cx="2171520" cy="125892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2194200" y="4568040"/>
                  <a:ext cx="1932120" cy="125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ADD P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2074680" y="4568040"/>
                  <a:ext cx="2171520" cy="1258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4246560" y="4568040"/>
                <a:ext cx="4658760" cy="1258920"/>
                <a:chOff x="4246560" y="4568040"/>
                <a:chExt cx="4658760" cy="125892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4365360" y="4568040"/>
                  <a:ext cx="4420800" cy="125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Суммирование двоичных кодов чисел, хранящихся в аккумуляторе и ячейке памяти с адресом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P</a:t>
                  </a:r>
                  <a:r>
                    <a:rPr b="0" lang="ru-RU" sz="20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, с записью результата в аккумулятор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4246560" y="4568040"/>
                  <a:ext cx="4658760" cy="1258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236520" y="5827320"/>
                <a:ext cx="1837800" cy="872280"/>
                <a:chOff x="236520" y="5827320"/>
                <a:chExt cx="1837800" cy="87228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356040" y="5827320"/>
                  <a:ext cx="1599120" cy="87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236520" y="5827320"/>
                  <a:ext cx="1837800" cy="872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2074680" y="5827320"/>
                <a:ext cx="2171520" cy="872280"/>
                <a:chOff x="2074680" y="5827320"/>
                <a:chExt cx="2171520" cy="87228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2194200" y="5827320"/>
                  <a:ext cx="1932120" cy="87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HL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2074680" y="5827320"/>
                  <a:ext cx="2171520" cy="872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4246560" y="5827320"/>
                <a:ext cx="4658760" cy="872280"/>
                <a:chOff x="4246560" y="5827320"/>
                <a:chExt cx="4658760" cy="87228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4365360" y="5827320"/>
                  <a:ext cx="4420800" cy="87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Прекращение выполнения программы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4246560" y="5827320"/>
                  <a:ext cx="4658760" cy="872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3" name=""/>
            <p:cNvSpPr/>
            <p:nvPr/>
          </p:nvSpPr>
          <p:spPr>
            <a:xfrm>
              <a:off x="228600" y="1752480"/>
              <a:ext cx="8686440" cy="49528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нешние устройств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стройства внешней памяти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идеомонитор (дисплей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лавиатур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анипуляторы джойстик, мышь, трекбо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интеры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канер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стройства связ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лавиату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2547720" y="1600200"/>
            <a:ext cx="4996080" cy="5060520"/>
            <a:chOff x="2547720" y="1600200"/>
            <a:chExt cx="4996080" cy="5060520"/>
          </a:xfrm>
        </p:grpSpPr>
        <p:sp>
          <p:nvSpPr>
            <p:cNvPr id="398" name=""/>
            <p:cNvSpPr/>
            <p:nvPr/>
          </p:nvSpPr>
          <p:spPr>
            <a:xfrm rot="5400000">
              <a:off x="3093840" y="2682360"/>
              <a:ext cx="898920" cy="199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380760" y="3222720"/>
              <a:ext cx="42264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249440" y="3259080"/>
              <a:ext cx="3618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07240" y="3564000"/>
              <a:ext cx="64368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M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584080" y="3889440"/>
              <a:ext cx="37692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090960" y="3889440"/>
              <a:ext cx="37692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34200" y="3889440"/>
              <a:ext cx="37692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197960" y="3889440"/>
              <a:ext cx="37692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249440" y="3620880"/>
              <a:ext cx="3618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rot="5400000">
              <a:off x="4994640" y="1325520"/>
              <a:ext cx="898920" cy="144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683960" y="1899000"/>
              <a:ext cx="4230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089680" y="1919880"/>
              <a:ext cx="64404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720320" y="2260800"/>
              <a:ext cx="37692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082120" y="2260800"/>
              <a:ext cx="37728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444280" y="2260800"/>
              <a:ext cx="37692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806080" y="2260800"/>
              <a:ext cx="37728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380760" y="2695320"/>
              <a:ext cx="47052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ru-RU" sz="1200" spc="-1" strike="noStrike" baseline="-25000">
                  <a:solidFill>
                    <a:srgbClr val="000000"/>
                  </a:solidFill>
                  <a:latin typeface="Times New Roman"/>
                </a:rPr>
                <a:t>пит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61480" y="2933280"/>
              <a:ext cx="0" cy="28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88480" y="1600200"/>
              <a:ext cx="552240" cy="90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ГТ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140720" y="2053440"/>
              <a:ext cx="57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539240" y="2499120"/>
              <a:ext cx="361800" cy="904680"/>
            </a:xfrm>
            <a:custGeom>
              <a:avLst/>
              <a:gdLst/>
              <a:ahLst/>
              <a:rect l="l" t="t" r="r" b="b"/>
              <a:pathLst>
                <a:path w="570" h="1425">
                  <a:moveTo>
                    <a:pt x="570" y="0"/>
                  </a:moveTo>
                  <a:lnTo>
                    <a:pt x="570" y="1425"/>
                  </a:lnTo>
                  <a:lnTo>
                    <a:pt x="0" y="142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539240" y="2499120"/>
              <a:ext cx="723960" cy="1266480"/>
            </a:xfrm>
            <a:custGeom>
              <a:avLst/>
              <a:gdLst/>
              <a:ahLst/>
              <a:rect l="l" t="t" r="r" b="b"/>
              <a:pathLst>
                <a:path w="1140" h="1995">
                  <a:moveTo>
                    <a:pt x="1140" y="0"/>
                  </a:moveTo>
                  <a:lnTo>
                    <a:pt x="1140" y="1995"/>
                  </a:lnTo>
                  <a:lnTo>
                    <a:pt x="0" y="199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rot="10800000">
              <a:off x="5263200" y="4670280"/>
              <a:ext cx="899280" cy="199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625360" y="2499120"/>
              <a:ext cx="0" cy="217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987160" y="2499120"/>
              <a:ext cx="0" cy="217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202360" y="4721760"/>
              <a:ext cx="4230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202360" y="5249520"/>
              <a:ext cx="4230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190840" y="5807880"/>
              <a:ext cx="4230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190840" y="6371640"/>
              <a:ext cx="4230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863320" y="5539320"/>
              <a:ext cx="37728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480280" y="4634280"/>
              <a:ext cx="3618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842440" y="4634280"/>
              <a:ext cx="3618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371560" y="5554440"/>
              <a:ext cx="64404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MU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728800" y="4127760"/>
              <a:ext cx="0" cy="209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982600" y="6480000"/>
              <a:ext cx="228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685240" y="619056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946240" y="6444000"/>
              <a:ext cx="7992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728800" y="622656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990160" y="5937480"/>
              <a:ext cx="228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692800" y="5647680"/>
              <a:ext cx="7992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953800" y="590112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736720" y="568404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982600" y="5394240"/>
              <a:ext cx="228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685240" y="510480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946240" y="535824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728800" y="514116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982600" y="4851360"/>
              <a:ext cx="228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685240" y="456192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946240" y="4815360"/>
              <a:ext cx="7992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728800" y="459792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72040" y="4127760"/>
              <a:ext cx="0" cy="209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228120" y="619056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489120" y="6444000"/>
              <a:ext cx="7992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272040" y="622656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235680" y="5647680"/>
              <a:ext cx="7992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497040" y="590112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279600" y="568404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228120" y="510480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489120" y="535824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272040" y="514116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228120" y="456192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489120" y="4815360"/>
              <a:ext cx="7992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272040" y="459792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814920" y="4127760"/>
              <a:ext cx="0" cy="209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771360" y="619056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032360" y="6444000"/>
              <a:ext cx="7992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814920" y="622656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778920" y="5647680"/>
              <a:ext cx="7992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039920" y="590112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822840" y="568404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771360" y="510480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032360" y="535824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814920" y="514116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771360" y="456192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032360" y="4815360"/>
              <a:ext cx="7992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814920" y="459792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358160" y="4127760"/>
              <a:ext cx="0" cy="209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314240" y="619056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575240" y="6444000"/>
              <a:ext cx="7992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358160" y="622656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321800" y="5647680"/>
              <a:ext cx="7992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582800" y="590112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365720" y="568404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314240" y="510480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575240" y="535824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358160" y="514116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314240" y="456192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575240" y="4815360"/>
              <a:ext cx="7992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358160" y="459792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901040" y="268020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263200" y="2860920"/>
              <a:ext cx="108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625360" y="3042000"/>
              <a:ext cx="72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987160" y="3222720"/>
              <a:ext cx="36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857120" y="264384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219280" y="282492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581440" y="300564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943240" y="3186720"/>
              <a:ext cx="7992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168240" y="5684040"/>
              <a:ext cx="18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421680" y="5575320"/>
              <a:ext cx="10497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Прерывани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385320" y="2680200"/>
              <a:ext cx="144720" cy="542520"/>
            </a:xfrm>
            <a:custGeom>
              <a:avLst/>
              <a:gdLst>
                <a:gd name="textAreaLeft" fmla="*/ 0 w 144720"/>
                <a:gd name="textAreaRight" fmla="*/ 52200 w 144720"/>
                <a:gd name="textAreaTop" fmla="*/ 14040 h 542520"/>
                <a:gd name="textAreaBottom" fmla="*/ 528480 h 5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494040" y="2794320"/>
              <a:ext cx="104976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Скан-код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очность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ычислений на компьютере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шинная эпсило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ный нол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ная бесконечнос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г, с которым возможно представление чисел в компьютер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ашинная эпсило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Машинным эпсилоном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называется наименьшее из чисел, удовлетворяющих условию 1+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&gt;1, т.е.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min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{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: 1+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&gt;1}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 округлении методом отсечения определяется по формуле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при округлении методом дополнения –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д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количество разрядов, отведенное для хранения мантиссы числа в представлении с плавающей точко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ный ноль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Машинным нулем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X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называется наименьшее представимое на компьютере положительное число, т.е. для любого другого представимого на компьютере числа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будет выполняться неравенство: 0&lt;</a:t>
            </a:r>
            <a:r>
              <a:rPr b="0" i="1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X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0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|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x 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|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Величина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X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определяется по формуле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X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, где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k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– количество разрядов, отведенное для хранения порядка числа в представлении с плавающей точко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7772400" y="4086360"/>
          <a:ext cx="685800" cy="5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2400" y="4086360"/>
                    <a:ext cx="6858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ная бесконечн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ной бесконечностью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зывается наименьшее из чисел удовлетворяющих неравенству 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де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юбое число, которое можно представить на компьютере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Величина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X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определяется по формуле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X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, где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k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– количество разрядов, отведенное для хранения порядка числа в представлении с плавающей точко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7772400" y="3657600"/>
          <a:ext cx="784080" cy="5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2400" y="3657600"/>
                    <a:ext cx="78408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сновные определ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ЭВ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это многофункциональное электронное устройство для накопления, обработки и передачи информац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лассы ЭВМ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Цифровы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Аналоговы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г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 которым возможно представление чисел в компьютере определяется по формуле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де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орядок числа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количество разрядов, отведенное для хранения мантиссы числа в представлении с плавающей точко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2895480" y="2949480"/>
          <a:ext cx="914400" cy="55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949480"/>
                    <a:ext cx="914400" cy="5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р 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гда 0.01-0.011+1=1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в то же время 1-0.011+0.01=0.999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р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Пусть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=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 Unicode MS"/>
                <a:ea typeface="Times New Roman"/>
              </a:rPr>
              <a:t>-2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и требуется вычислить сумму 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00+0.1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* 2000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агаемы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/..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и выборе формулы и порядка вычислений следует избегать вычитания близких чисел и деления на малые величин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и переполнении или исчезновения порядка следует попытаться изменить последовательность действий, ввести масштабные коэффициент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и сложении следует располагать слагаемые в порядке возрастания абсолютных величин, стараясь, чтобы при каждом сложении порядки величин различались мало. При необходимости цикл суммирования разбивается на несколько более коротки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нципы постро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нцип двоичного кодиров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нцип программного управ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нцип однородности памя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нцип адрес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сновные бло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центральный процессор (ЦП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рифметико-логическое устройство (АЛУ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блок управления (БУ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егистры (Р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сновная память (ОП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сновная памя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438280" y="2019240"/>
            <a:ext cx="4190400" cy="3848040"/>
            <a:chOff x="2438280" y="2019240"/>
            <a:chExt cx="4190400" cy="3848040"/>
          </a:xfrm>
        </p:grpSpPr>
        <p:grpSp>
          <p:nvGrpSpPr>
            <p:cNvPr id="51" name=""/>
            <p:cNvGrpSpPr/>
            <p:nvPr/>
          </p:nvGrpSpPr>
          <p:grpSpPr>
            <a:xfrm>
              <a:off x="2449440" y="2023920"/>
              <a:ext cx="4166280" cy="3838680"/>
              <a:chOff x="2449440" y="2023920"/>
              <a:chExt cx="4166280" cy="3838680"/>
            </a:xfrm>
          </p:grpSpPr>
          <p:grpSp>
            <p:nvGrpSpPr>
              <p:cNvPr id="52" name=""/>
              <p:cNvGrpSpPr/>
              <p:nvPr/>
            </p:nvGrpSpPr>
            <p:grpSpPr>
              <a:xfrm>
                <a:off x="2449440" y="2023920"/>
                <a:ext cx="1750680" cy="639720"/>
                <a:chOff x="2449440" y="2023920"/>
                <a:chExt cx="1750680" cy="639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2615400" y="2023920"/>
                  <a:ext cx="14184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Адрес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2449440" y="2023920"/>
                  <a:ext cx="1750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" name=""/>
              <p:cNvGrpSpPr/>
              <p:nvPr/>
            </p:nvGrpSpPr>
            <p:grpSpPr>
              <a:xfrm>
                <a:off x="4200840" y="2023920"/>
                <a:ext cx="2414880" cy="639720"/>
                <a:chOff x="4200840" y="2023920"/>
                <a:chExt cx="2414880" cy="639720"/>
              </a:xfrm>
            </p:grpSpPr>
            <p:sp>
              <p:nvSpPr>
                <p:cNvPr id="56" name=""/>
                <p:cNvSpPr/>
                <p:nvPr/>
              </p:nvSpPr>
              <p:spPr>
                <a:xfrm>
                  <a:off x="4366800" y="2023920"/>
                  <a:ext cx="2082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Ячейка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4200840" y="2023920"/>
                  <a:ext cx="24148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" name=""/>
              <p:cNvGrpSpPr/>
              <p:nvPr/>
            </p:nvGrpSpPr>
            <p:grpSpPr>
              <a:xfrm>
                <a:off x="2449440" y="2663640"/>
                <a:ext cx="1750680" cy="639720"/>
                <a:chOff x="2449440" y="2663640"/>
                <a:chExt cx="1750680" cy="63972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2615400" y="2663640"/>
                  <a:ext cx="14184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00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2449440" y="2663640"/>
                  <a:ext cx="1750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"/>
              <p:cNvGrpSpPr/>
              <p:nvPr/>
            </p:nvGrpSpPr>
            <p:grpSpPr>
              <a:xfrm>
                <a:off x="4200840" y="2663640"/>
                <a:ext cx="2414880" cy="639720"/>
                <a:chOff x="4200840" y="2663640"/>
                <a:chExt cx="2414880" cy="63972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4366800" y="2663640"/>
                  <a:ext cx="2082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001010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4200840" y="2663640"/>
                  <a:ext cx="24148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" name=""/>
              <p:cNvGrpSpPr/>
              <p:nvPr/>
            </p:nvGrpSpPr>
            <p:grpSpPr>
              <a:xfrm>
                <a:off x="2449440" y="3303360"/>
                <a:ext cx="1750680" cy="639720"/>
                <a:chOff x="2449440" y="3303360"/>
                <a:chExt cx="1750680" cy="6397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2615400" y="3303360"/>
                  <a:ext cx="14184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01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2449440" y="3303360"/>
                  <a:ext cx="1750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" name=""/>
              <p:cNvGrpSpPr/>
              <p:nvPr/>
            </p:nvGrpSpPr>
            <p:grpSpPr>
              <a:xfrm>
                <a:off x="4200840" y="3303360"/>
                <a:ext cx="2414880" cy="639720"/>
                <a:chOff x="4200840" y="3303360"/>
                <a:chExt cx="2414880" cy="63972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4366800" y="3303360"/>
                  <a:ext cx="2082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101111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4200840" y="3303360"/>
                  <a:ext cx="24148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" name=""/>
              <p:cNvGrpSpPr/>
              <p:nvPr/>
            </p:nvGrpSpPr>
            <p:grpSpPr>
              <a:xfrm>
                <a:off x="2449440" y="3943080"/>
                <a:ext cx="1750680" cy="639720"/>
                <a:chOff x="2449440" y="3943080"/>
                <a:chExt cx="1750680" cy="63972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2615400" y="3943080"/>
                  <a:ext cx="14184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01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2449440" y="3943080"/>
                  <a:ext cx="1750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4200840" y="3943080"/>
                <a:ext cx="2414880" cy="639720"/>
                <a:chOff x="4200840" y="3943080"/>
                <a:chExt cx="2414880" cy="63972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4366800" y="3943080"/>
                  <a:ext cx="2082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11110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4200840" y="3943080"/>
                  <a:ext cx="24148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2449440" y="4582800"/>
                <a:ext cx="1750680" cy="640080"/>
                <a:chOff x="2449440" y="4582800"/>
                <a:chExt cx="1750680" cy="64008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2615400" y="4582800"/>
                  <a:ext cx="141840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…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2449440" y="4582800"/>
                  <a:ext cx="175068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4200840" y="4582800"/>
                <a:ext cx="2414880" cy="640080"/>
                <a:chOff x="4200840" y="4582800"/>
                <a:chExt cx="2414880" cy="64008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4366800" y="4582800"/>
                  <a:ext cx="208260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…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4200840" y="4582800"/>
                  <a:ext cx="241488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2449440" y="5222880"/>
                <a:ext cx="1750680" cy="639720"/>
                <a:chOff x="2449440" y="5222880"/>
                <a:chExt cx="1750680" cy="63972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2615400" y="5222880"/>
                  <a:ext cx="14184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1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2449440" y="5222880"/>
                  <a:ext cx="1750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4200840" y="5222880"/>
                <a:ext cx="2414880" cy="639720"/>
                <a:chOff x="4200840" y="5222880"/>
                <a:chExt cx="2414880" cy="63972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4366800" y="5222880"/>
                  <a:ext cx="2082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10111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4200840" y="5222880"/>
                  <a:ext cx="24148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8" name=""/>
            <p:cNvSpPr/>
            <p:nvPr/>
          </p:nvSpPr>
          <p:spPr>
            <a:xfrm>
              <a:off x="2438280" y="2019240"/>
              <a:ext cx="4190400" cy="38480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сновная памя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752480" y="1447920"/>
            <a:ext cx="5815080" cy="4865040"/>
            <a:chOff x="1752480" y="1447920"/>
            <a:chExt cx="5815080" cy="4865040"/>
          </a:xfrm>
        </p:grpSpPr>
        <p:sp>
          <p:nvSpPr>
            <p:cNvPr id="91" name=""/>
            <p:cNvSpPr/>
            <p:nvPr/>
          </p:nvSpPr>
          <p:spPr>
            <a:xfrm>
              <a:off x="4457520" y="1542960"/>
              <a:ext cx="708480" cy="982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708800" y="1542960"/>
              <a:ext cx="0" cy="98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708800" y="1588680"/>
              <a:ext cx="38844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457520" y="1592640"/>
              <a:ext cx="2854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449960" y="2244240"/>
              <a:ext cx="2854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169960" y="1708920"/>
              <a:ext cx="308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752480" y="4156560"/>
              <a:ext cx="5040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W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449960" y="2907360"/>
              <a:ext cx="708480" cy="982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701240" y="2907360"/>
              <a:ext cx="0" cy="98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701240" y="2953080"/>
              <a:ext cx="38844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49960" y="2956680"/>
              <a:ext cx="2854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442400" y="3608280"/>
              <a:ext cx="2854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162400" y="3071160"/>
              <a:ext cx="308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690080" y="2522520"/>
              <a:ext cx="27072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470920" y="1592640"/>
              <a:ext cx="1352160" cy="21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17600" y="1573560"/>
              <a:ext cx="6436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MU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61640" y="1607760"/>
              <a:ext cx="0" cy="209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829120" y="1596240"/>
              <a:ext cx="0" cy="20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428800" y="157752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504400" y="2256840"/>
              <a:ext cx="2710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463360" y="332280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50120" y="156960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823440" y="1710720"/>
              <a:ext cx="239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428800" y="2930040"/>
              <a:ext cx="46872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632320" y="1596240"/>
              <a:ext cx="1352520" cy="21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979360" y="1577520"/>
              <a:ext cx="6436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M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623040" y="1611720"/>
              <a:ext cx="0" cy="209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90520" y="1600200"/>
              <a:ext cx="0" cy="20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590560" y="158112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624760" y="332640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985200" y="1714680"/>
              <a:ext cx="479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985200" y="3097800"/>
              <a:ext cx="479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607920" y="157356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683520" y="2253240"/>
              <a:ext cx="2710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584880" y="2953080"/>
              <a:ext cx="4683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56400" y="1714680"/>
              <a:ext cx="479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43840" y="4202280"/>
              <a:ext cx="1352520" cy="21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990520" y="4183200"/>
              <a:ext cx="6436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M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34560" y="4217400"/>
              <a:ext cx="0" cy="209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002040" y="4206240"/>
              <a:ext cx="0" cy="20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602080" y="418716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36280" y="593316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19440" y="417960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695040" y="4858920"/>
              <a:ext cx="27072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96400" y="5559480"/>
              <a:ext cx="4683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163960" y="3479040"/>
              <a:ext cx="479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92760" y="2400480"/>
              <a:ext cx="468360" cy="1935720"/>
            </a:xfrm>
            <a:custGeom>
              <a:avLst/>
              <a:gdLst/>
              <a:ahLst/>
              <a:rect l="l" t="t" r="r" b="b"/>
              <a:pathLst>
                <a:path w="738" h="3048">
                  <a:moveTo>
                    <a:pt x="0" y="3048"/>
                  </a:moveTo>
                  <a:lnTo>
                    <a:pt x="228" y="3048"/>
                  </a:lnTo>
                  <a:lnTo>
                    <a:pt x="228" y="0"/>
                  </a:lnTo>
                  <a:lnTo>
                    <a:pt x="73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92760" y="3764520"/>
              <a:ext cx="457200" cy="1943280"/>
            </a:xfrm>
            <a:custGeom>
              <a:avLst/>
              <a:gdLst/>
              <a:ahLst/>
              <a:rect l="l" t="t" r="r" b="b"/>
              <a:pathLst>
                <a:path w="720" h="3060">
                  <a:moveTo>
                    <a:pt x="0" y="3060"/>
                  </a:moveTo>
                  <a:lnTo>
                    <a:pt x="498" y="3060"/>
                  </a:lnTo>
                  <a:lnTo>
                    <a:pt x="498" y="0"/>
                  </a:lnTo>
                  <a:lnTo>
                    <a:pt x="72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163960" y="4316760"/>
              <a:ext cx="47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480040" y="3479040"/>
              <a:ext cx="159840" cy="2598480"/>
            </a:xfrm>
            <a:custGeom>
              <a:avLst/>
              <a:gdLst/>
              <a:ahLst/>
              <a:rect l="l" t="t" r="r" b="b"/>
              <a:pathLst>
                <a:path w="252" h="4092">
                  <a:moveTo>
                    <a:pt x="0" y="0"/>
                  </a:moveTo>
                  <a:lnTo>
                    <a:pt x="0" y="4092"/>
                  </a:lnTo>
                  <a:lnTo>
                    <a:pt x="252" y="4092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480040" y="3479040"/>
              <a:ext cx="2990880" cy="571320"/>
            </a:xfrm>
            <a:custGeom>
              <a:avLst/>
              <a:gdLst/>
              <a:ahLst/>
              <a:rect l="l" t="t" r="r" b="b"/>
              <a:pathLst>
                <a:path w="4710" h="900">
                  <a:moveTo>
                    <a:pt x="0" y="900"/>
                  </a:moveTo>
                  <a:lnTo>
                    <a:pt x="4500" y="900"/>
                  </a:lnTo>
                  <a:lnTo>
                    <a:pt x="4500" y="0"/>
                  </a:lnTo>
                  <a:lnTo>
                    <a:pt x="4710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775160" y="3318840"/>
              <a:ext cx="5040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55000" y="1558440"/>
              <a:ext cx="5040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063560" y="1565280"/>
              <a:ext cx="5040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449440" y="345600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53400" y="402336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2342880" y="1668960"/>
              <a:ext cx="56880" cy="1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335320" y="1463040"/>
              <a:ext cx="26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2335320" y="3417840"/>
              <a:ext cx="56880" cy="1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327760" y="3212280"/>
              <a:ext cx="266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6876720" y="1657440"/>
              <a:ext cx="56880" cy="1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69160" y="1451520"/>
              <a:ext cx="266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4152600" y="1665000"/>
              <a:ext cx="56880" cy="1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145040" y="1459440"/>
              <a:ext cx="266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4171680" y="3052080"/>
              <a:ext cx="56880" cy="1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164120" y="2846520"/>
              <a:ext cx="266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5257440" y="1653480"/>
              <a:ext cx="56880" cy="1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249880" y="1447920"/>
              <a:ext cx="26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5265360" y="3017880"/>
              <a:ext cx="56880" cy="1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257440" y="2811960"/>
              <a:ext cx="266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Условное обознач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11560" y="2205000"/>
            <a:ext cx="2355840" cy="305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24360" y="2284560"/>
            <a:ext cx="93492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51280" y="2205000"/>
            <a:ext cx="0" cy="30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32360" y="2205000"/>
            <a:ext cx="0" cy="30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317760" y="2305080"/>
            <a:ext cx="113688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327480" y="3338640"/>
            <a:ext cx="113832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48200" y="2274840"/>
            <a:ext cx="113652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40200" y="2674800"/>
            <a:ext cx="7286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56000" y="2543040"/>
            <a:ext cx="64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56000" y="3573360"/>
            <a:ext cx="64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67400" y="2543040"/>
            <a:ext cx="64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327480" y="4437000"/>
            <a:ext cx="113832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56000" y="4672080"/>
            <a:ext cx="64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сновные регист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егистр состояния (РС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ккумулятор (АК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егистр команд (РК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егистр адреса (Р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егистр данных (РД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четчик команд (СК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заимосвязь ЦП и О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025640" y="3200400"/>
            <a:ext cx="7051680" cy="1590480"/>
            <a:chOff x="1025640" y="3200400"/>
            <a:chExt cx="7051680" cy="1590480"/>
          </a:xfrm>
        </p:grpSpPr>
        <p:sp>
          <p:nvSpPr>
            <p:cNvPr id="179" name=""/>
            <p:cNvSpPr/>
            <p:nvPr/>
          </p:nvSpPr>
          <p:spPr>
            <a:xfrm>
              <a:off x="1025640" y="3209040"/>
              <a:ext cx="1911600" cy="158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ЦП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165720" y="3200400"/>
              <a:ext cx="1911600" cy="158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ОП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991240" y="3742560"/>
              <a:ext cx="3128760" cy="542520"/>
            </a:xfrm>
            <a:prstGeom prst="leftRightArrow">
              <a:avLst>
                <a:gd name="adj1" fmla="val 43889"/>
                <a:gd name="adj2" fmla="val 8565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757680" y="3290400"/>
              <a:ext cx="1514880" cy="65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Шин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5:56:50Z</dcterms:created>
  <dc:creator>lav</dc:creator>
  <dc:description/>
  <dc:language>en-US</dc:language>
  <cp:lastModifiedBy>Owner</cp:lastModifiedBy>
  <dcterms:modified xsi:type="dcterms:W3CDTF">2009-02-13T00:41:07Z</dcterms:modified>
  <cp:revision>37</cp:revision>
  <dc:subject/>
  <dc:title>Логические схемы</dc:title>
</cp:coreProperties>
</file>