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B3E0-1719-4C6B-8681-17515FBC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9723-6E79-4EFC-AB6F-D6D10FE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07F-987B-4978-B8FE-EE5B70C3F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96B-EB78-4FF5-92DF-4AE77885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EAB1-F91B-4E3C-B951-B866248C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19F-E66C-48F1-93EA-240CB6A3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81A-5232-4E71-89D1-C8FCB571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11A-64FD-47F0-83CC-3D35A495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A76E-50DB-4D27-818C-477BF50F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05F-EFE5-4191-B1E0-E74C115A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0722-59C9-4BE3-A322-9DB010A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D7C1-F83D-473B-9521-8644CBB1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86CD-1E17-44BC-A75E-0F2BA624E3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лгоритмические машин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стракт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ьюринга предоставляет среду, в которой могут быть описаны все вычислимые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вычислимой по Тьюрингу является функция, которая сопоставляет геделевскому номеру программы значение переменн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е 0 или 1, в зависимости от того, является данная программа самоостанавливающейся или н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язык программиро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машина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а Поста состоит из ленты и каретки. Лента бесконечна и разделена на секции одинакового разм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 каждую секцию ленты заносится один символ двоичного информаци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тка может передвигаться вдоль ленты влево и вправо. Когда она неподвижна, она стоит против ровно одной секции лен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диницу времени, которая называется шагом, каретка может сдвинуться на одну секцию влево или впра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nKm, гд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– ном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кущей коман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– коман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з системы команд машины Пос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 – ссыл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омер команды, которая будет выполняться следую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анд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b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b 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 состоит из информационной ленты, каретки, лентопротяжного механизма и операционного исполнительного устрой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ограничена слева и бесконечна справа. Лента разделена на секции одинакового разм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екцию ленты заносятся символы внешнего алфавита машины Тьюринга A = {a0, a1,... aN}, где а0, как правило, проб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е исполнительное устройство может находиться в одном из дискретных состояний: Q = {q0, q1,...qM} - внутренний алфавит машины Тьюринга или алфавит внутренних состоя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Тьюр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 - новое содержание текущей ячейки (новый символ внешнего алфавита, который заносится в текущую ячейк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 - команда лентопротяжного механизма машины Тьюринга (влево - &lt;, вправо - &gt;, стоп - !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 - новое внутренне состояние машины Тьюр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362320"/>
            <a:ext cx="6704640" cy="3276000"/>
            <a:chOff x="1371600" y="2362320"/>
            <a:chExt cx="6704640" cy="3276000"/>
          </a:xfrm>
        </p:grpSpPr>
        <p:grpSp>
          <p:nvGrpSpPr>
            <p:cNvPr id="61" name=""/>
            <p:cNvGrpSpPr/>
            <p:nvPr/>
          </p:nvGrpSpPr>
          <p:grpSpPr>
            <a:xfrm>
              <a:off x="1387080" y="2367000"/>
              <a:ext cx="6670080" cy="3265560"/>
              <a:chOff x="1387080" y="2367000"/>
              <a:chExt cx="6670080" cy="32655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87080" y="2367000"/>
                <a:ext cx="2176560" cy="672120"/>
                <a:chOff x="1387080" y="2367000"/>
                <a:chExt cx="2176560" cy="672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13880" y="2367000"/>
                  <a:ext cx="172368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A/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87080" y="2367000"/>
                  <a:ext cx="21765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564720" y="2367000"/>
                <a:ext cx="2246040" cy="672120"/>
                <a:chOff x="3564720" y="2367000"/>
                <a:chExt cx="2246040" cy="672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91520" y="2367000"/>
                  <a:ext cx="179172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64720" y="2367000"/>
                  <a:ext cx="224604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812200" y="2367000"/>
                <a:ext cx="2244960" cy="672120"/>
                <a:chOff x="5812200" y="2367000"/>
                <a:chExt cx="2244960" cy="6721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37920" y="2367000"/>
                  <a:ext cx="17931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812200" y="2367000"/>
                  <a:ext cx="22449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387080" y="3039480"/>
                <a:ext cx="2176560" cy="864000"/>
                <a:chOff x="1387080" y="3039480"/>
                <a:chExt cx="2176560" cy="864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613880" y="303948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387080" y="303948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564720" y="3039480"/>
                <a:ext cx="2246040" cy="864000"/>
                <a:chOff x="3564720" y="3039480"/>
                <a:chExt cx="2246040" cy="8640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91520" y="303948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564720" y="303948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812200" y="3039480"/>
                <a:ext cx="2244960" cy="864000"/>
                <a:chOff x="5812200" y="3039480"/>
                <a:chExt cx="2244960" cy="8640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037920" y="303948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12200" y="303948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387080" y="3903840"/>
                <a:ext cx="2176560" cy="864360"/>
                <a:chOff x="1387080" y="3903840"/>
                <a:chExt cx="2176560" cy="864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613880" y="3903840"/>
                  <a:ext cx="17236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387080" y="3903840"/>
                  <a:ext cx="21765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564720" y="3903840"/>
                <a:ext cx="2246040" cy="864360"/>
                <a:chOff x="3564720" y="3903840"/>
                <a:chExt cx="2246040" cy="864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791520" y="3903840"/>
                  <a:ext cx="179172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564720" y="3903840"/>
                  <a:ext cx="224604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812200" y="3903840"/>
                <a:ext cx="2244960" cy="864360"/>
                <a:chOff x="5812200" y="3903840"/>
                <a:chExt cx="2244960" cy="864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037920" y="3903840"/>
                  <a:ext cx="179316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2200" y="3903840"/>
                  <a:ext cx="22449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387080" y="4768560"/>
                <a:ext cx="2176560" cy="864000"/>
                <a:chOff x="1387080" y="4768560"/>
                <a:chExt cx="2176560" cy="8640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613880" y="476856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387080" y="476856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564720" y="4768560"/>
                <a:ext cx="2246040" cy="864000"/>
                <a:chOff x="3564720" y="4768560"/>
                <a:chExt cx="2246040" cy="864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91520" y="476856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&gt;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4720" y="476856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12200" y="4768560"/>
                <a:ext cx="2244960" cy="864000"/>
                <a:chOff x="5812200" y="4768560"/>
                <a:chExt cx="2244960" cy="864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037920" y="476856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!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</a:t>
                  </a: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12200" y="476856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371600" y="2362320"/>
              <a:ext cx="6704640" cy="327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числимые 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ыполняет единственное действие: управляет преобразованием некоторого исходного набора двоичных разрядов, который будем называть входным, в другой набор двоичных разрядов, именуемый выходным. Связь, существующая между этими наборами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и, для которых отношения между входными и выходными величинами не могут быть определены никаким алгоритмическим мето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ычисли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7:45Z</dcterms:modified>
  <cp:revision>28</cp:revision>
  <dc:subject/>
  <dc:title>Алгоритмы</dc:title>
</cp:coreProperties>
</file>