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000D-92C6-471B-A217-A0889F1A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4E94-9445-4082-B8FE-33D013D7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74AE-6296-4C83-A715-6BA2D8596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AB25-3188-4837-A373-F93F8E755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6942-717A-4491-B851-F3ECA2F5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B065-BA84-4F04-873E-A34B8A8A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8EA2-4FCD-4869-AE97-E24AD7E0D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ED0E-A586-4631-849D-0BB57B7A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2143-3CC5-4491-9EBA-86BFC958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10AC-CF93-4E7D-BF13-1FA33379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0992-FF39-49CA-9CDD-BAB92F2B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FEE5-C76F-40AA-A760-CC4DBF15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D1F3-C9F3-48DA-BC4C-65F5283C21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сновы теории алгоритм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 с постусловием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51080" y="3691080"/>
            <a:ext cx="2811600" cy="128880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25840" y="2549520"/>
            <a:ext cx="2144880" cy="7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95760" y="2232000"/>
            <a:ext cx="0" cy="211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1781280"/>
            <a:ext cx="0" cy="76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05120" y="4338720"/>
            <a:ext cx="36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3276720"/>
            <a:ext cx="0" cy="41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4967280"/>
            <a:ext cx="0" cy="71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95760" y="2216160"/>
            <a:ext cx="177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ерационные и рекурсивные алгорит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горитм, в состав которого входит цикл,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терационны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от лат. iteratio - повторение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горитм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курсивны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от лат. recursio - возвращение), если обращение к этому алгоритму может производится из него самог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745080" y="1828800"/>
            <a:ext cx="1307880" cy="441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03680" y="3098880"/>
            <a:ext cx="1387440" cy="7254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47960" y="5407200"/>
            <a:ext cx="1227240" cy="43488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8600" y="6035760"/>
            <a:ext cx="1306440" cy="441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87680" y="226548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97400" y="289404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97400" y="383076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75280" y="3459240"/>
            <a:ext cx="61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72160" y="3459240"/>
            <a:ext cx="0" cy="167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381200" y="5148360"/>
            <a:ext cx="129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98840" y="5153040"/>
            <a:ext cx="0" cy="25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98840" y="5848200"/>
            <a:ext cx="0" cy="2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87680" y="4765680"/>
            <a:ext cx="0" cy="13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311280" y="4896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300480" y="2943360"/>
            <a:ext cx="0" cy="19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00480" y="2968560"/>
            <a:ext cx="1112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3684600"/>
            <a:ext cx="54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02280" y="3141720"/>
            <a:ext cx="6890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68840" y="2441520"/>
            <a:ext cx="1242720" cy="436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14840" y="4017960"/>
            <a:ext cx="1355760" cy="743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55400" y="2438280"/>
            <a:ext cx="6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63680" y="320040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09960" y="3978360"/>
            <a:ext cx="10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=N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62240" y="5396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09960" y="6019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ерационн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лгорит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екурсивный алгорит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51120" y="1905120"/>
            <a:ext cx="1724040" cy="5824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09960" y="2933640"/>
            <a:ext cx="1096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2735280"/>
            <a:ext cx="1832040" cy="9586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2880" y="3849840"/>
            <a:ext cx="2151000" cy="637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95680" y="4984920"/>
            <a:ext cx="1619280" cy="57456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5815080"/>
            <a:ext cx="1725840" cy="5824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52840" y="250200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54640" y="4651200"/>
            <a:ext cx="0" cy="34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54640" y="556740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048120" y="320364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3203640"/>
            <a:ext cx="0" cy="6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46720" y="3203640"/>
            <a:ext cx="554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04000" y="3203640"/>
            <a:ext cx="0" cy="6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4481640"/>
            <a:ext cx="0" cy="16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00760" y="4481640"/>
            <a:ext cx="0" cy="16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4630680"/>
            <a:ext cx="28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52640" y="2732040"/>
            <a:ext cx="719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50040" y="2784600"/>
            <a:ext cx="909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35600" y="3855960"/>
            <a:ext cx="2151000" cy="63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9880" y="1981080"/>
            <a:ext cx="1371600" cy="4413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67360" y="2971800"/>
            <a:ext cx="7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7680" y="415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981080" y="3981600"/>
          <a:ext cx="213372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981600"/>
                    <a:ext cx="213372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5562720" y="3992400"/>
          <a:ext cx="761760" cy="35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3992400"/>
                    <a:ext cx="76176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267080" y="5105520"/>
          <a:ext cx="327240" cy="35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5105520"/>
                    <a:ext cx="32724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3962520" y="58672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евдокод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евдоко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система обозначений, предназначенная для неформального представления идей в процессе разработки алгоритм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240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240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240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еменные и функ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Имя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:=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Выражение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Имя_функции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Набор_входных_данных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Фрагмент_псевдоко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Набор_выходных_данных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ип 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ип данных определяет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терпретацию конкретных данны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ерации, которые можно с ними выполнят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типам данных относя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[целый]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[действительный]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Characte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[символьный] 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[логический]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сси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сси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это структура, содержащая в себе несколько однотипных элементов. Для упорядочивания элементов массива используются индексы. Индексы записываются в скобках после имени массива. Массив с одним индексом называется одномерным, с двумя - двумерным и т.д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) {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[0]:=1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[1]:=1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=2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&lt; 10) do {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      M[N]:=M[N-1]+M[N-2]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      N:=N+1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}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[])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пис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пис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это структура, состоящая из элементов не обязательно одного типа. Отдельные элементы записи называют полями. Поле в свою очередь тоже может быть запись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FirstNam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LastNam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Grou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пис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писо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это множество записей, каждая из которых содержит специальное поле - указатель 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ды списков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освязны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вухсвязны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ьцевы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лгорит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это совокупность четко определенных правил для решения задачи за конечное число шаг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ля описания алгоритма наиболее часто используют следующие способ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ловесный (на естественном языке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граммный (на языке программирования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рафический (с помощью геометрических фигур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еревь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ерев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это разветвленный список, каждая запись которого может содержать несколько указателей. Записи, входящие в дерево, называются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злам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Узлы, у которых все указатели пустые, называются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истьям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Верхний, начальный узел дерева называется корневым узло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е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е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это структура данных, организованная по принципу "последним пришел - первым ушел" (Last In - First Out, LIF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621240" y="3933720"/>
            <a:ext cx="1742400" cy="2178000"/>
            <a:chOff x="3621240" y="3933720"/>
            <a:chExt cx="1742400" cy="2178000"/>
          </a:xfrm>
        </p:grpSpPr>
        <p:sp>
          <p:nvSpPr>
            <p:cNvPr id="187" name=""/>
            <p:cNvSpPr/>
            <p:nvPr/>
          </p:nvSpPr>
          <p:spPr>
            <a:xfrm>
              <a:off x="4056840" y="4151520"/>
              <a:ext cx="871200" cy="1960200"/>
            </a:xfrm>
            <a:custGeom>
              <a:avLst/>
              <a:gdLst/>
              <a:ahLst/>
              <a:rect l="l" t="t" r="r" b="b"/>
              <a:pathLst>
                <a:path w="720" h="1620">
                  <a:moveTo>
                    <a:pt x="0" y="0"/>
                  </a:moveTo>
                  <a:lnTo>
                    <a:pt x="0" y="1620"/>
                  </a:lnTo>
                  <a:lnTo>
                    <a:pt x="720" y="1620"/>
                  </a:lnTo>
                  <a:lnTo>
                    <a:pt x="72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056840" y="5022720"/>
              <a:ext cx="871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56840" y="4804560"/>
              <a:ext cx="87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56840" y="4586760"/>
              <a:ext cx="87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56840" y="4369320"/>
              <a:ext cx="87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67440" y="5022720"/>
              <a:ext cx="435600" cy="1089000"/>
            </a:xfrm>
            <a:custGeom>
              <a:avLst/>
              <a:gdLst/>
              <a:ahLst/>
              <a:rect l="l" t="t" r="r" b="b"/>
              <a:pathLst>
                <a:path w="360" h="900">
                  <a:moveTo>
                    <a:pt x="180" y="900"/>
                  </a:moveTo>
                  <a:lnTo>
                    <a:pt x="180" y="720"/>
                  </a:lnTo>
                  <a:lnTo>
                    <a:pt x="0" y="630"/>
                  </a:lnTo>
                  <a:lnTo>
                    <a:pt x="360" y="468"/>
                  </a:lnTo>
                  <a:lnTo>
                    <a:pt x="0" y="270"/>
                  </a:lnTo>
                  <a:lnTo>
                    <a:pt x="180" y="180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10240" y="3933720"/>
              <a:ext cx="653400" cy="435600"/>
            </a:xfrm>
            <a:custGeom>
              <a:avLst/>
              <a:gdLst/>
              <a:ahLst/>
              <a:rect l="l" t="t" r="r" b="b"/>
              <a:pathLst>
                <a:path w="540" h="360">
                  <a:moveTo>
                    <a:pt x="540" y="0"/>
                  </a:moveTo>
                  <a:lnTo>
                    <a:pt x="0" y="0"/>
                  </a:lnTo>
                  <a:lnTo>
                    <a:pt x="0" y="3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21240" y="3933720"/>
              <a:ext cx="653400" cy="435600"/>
            </a:xfrm>
            <a:custGeom>
              <a:avLst/>
              <a:gdLst/>
              <a:ahLst/>
              <a:rect l="l" t="t" r="r" b="b"/>
              <a:pathLst>
                <a:path w="540" h="360">
                  <a:moveTo>
                    <a:pt x="540" y="360"/>
                  </a:moveTo>
                  <a:lnTo>
                    <a:pt x="54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черед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6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черед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это структура данных, организованная по принципу "первым пришел – первым ушел"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Ou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O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340000" y="4068720"/>
            <a:ext cx="3744720" cy="1274760"/>
            <a:chOff x="2340000" y="4068720"/>
            <a:chExt cx="3744720" cy="1274760"/>
          </a:xfrm>
        </p:grpSpPr>
        <p:sp>
          <p:nvSpPr>
            <p:cNvPr id="198" name=""/>
            <p:cNvSpPr/>
            <p:nvPr/>
          </p:nvSpPr>
          <p:spPr>
            <a:xfrm>
              <a:off x="3245760" y="4578480"/>
              <a:ext cx="193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77440" y="5343480"/>
              <a:ext cx="193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47520" y="4578480"/>
              <a:ext cx="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39040" y="4578480"/>
              <a:ext cx="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30200" y="4578480"/>
              <a:ext cx="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21720" y="4578480"/>
              <a:ext cx="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413240" y="4578480"/>
              <a:ext cx="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04760" y="4578480"/>
              <a:ext cx="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95920" y="4578480"/>
              <a:ext cx="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40000" y="4087800"/>
              <a:ext cx="11163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Хвос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68360" y="4068720"/>
              <a:ext cx="11163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Голов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690640" y="4961160"/>
              <a:ext cx="95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02400" y="4961160"/>
              <a:ext cx="95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Хэш-таблиц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384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еширован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это метод, обеспечивающий прямой доступ к записям без использования каких-либо дополнительных структу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55640" y="3500280"/>
          <a:ext cx="7631280" cy="2587680"/>
        </p:xfrm>
        <a:graphic>
          <a:graphicData uri="http://schemas.openxmlformats.org/drawingml/2006/table">
            <a:tbl>
              <a:tblPr/>
              <a:tblGrid>
                <a:gridCol w="1544760"/>
                <a:gridCol w="1979640"/>
                <a:gridCol w="1539720"/>
                <a:gridCol w="2567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во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CII-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мент масси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0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00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[2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11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[26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Эффективность алгоритм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сть алгоритма принято оценивать количеством элементарных операций, например сравнений, которые необходимо выполнить для решения задачи, а также количеством памяти, которая требуется для выполнения алгоритм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з включает изучение ситуаций, в которых алгоритм демонстрирует свои наилучшие свойства, ситуаций, когда его эффективность минимальна, а также оценку его средней производительнос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Эффективность алгоритм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80880" y="1981080"/>
            <a:ext cx="8534160" cy="4724280"/>
            <a:chOff x="380880" y="1981080"/>
            <a:chExt cx="8534160" cy="4724280"/>
          </a:xfrm>
        </p:grpSpPr>
        <p:grpSp>
          <p:nvGrpSpPr>
            <p:cNvPr id="218" name=""/>
            <p:cNvGrpSpPr/>
            <p:nvPr/>
          </p:nvGrpSpPr>
          <p:grpSpPr>
            <a:xfrm>
              <a:off x="387000" y="1986480"/>
              <a:ext cx="8521200" cy="4712400"/>
              <a:chOff x="387000" y="1986480"/>
              <a:chExt cx="8521200" cy="471240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387000" y="1986480"/>
                <a:ext cx="2611440" cy="963360"/>
                <a:chOff x="387000" y="1986480"/>
                <a:chExt cx="2611440" cy="96336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477000" y="1986480"/>
                  <a:ext cx="2431440" cy="96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Название алгоритма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87000" y="1986480"/>
                  <a:ext cx="2611440" cy="96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2998800" y="1986480"/>
                <a:ext cx="1969560" cy="963360"/>
                <a:chOff x="2998800" y="1986480"/>
                <a:chExt cx="1969560" cy="9633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3088080" y="1986480"/>
                  <a:ext cx="1789920" cy="96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Минимальное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число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с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равнений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998800" y="1986480"/>
                  <a:ext cx="1969560" cy="96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4968720" y="1986480"/>
                <a:ext cx="1969560" cy="963360"/>
                <a:chOff x="4968720" y="1986480"/>
                <a:chExt cx="1969560" cy="9633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058000" y="1986480"/>
                  <a:ext cx="1789920" cy="96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Среднее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число сравнений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968720" y="1986480"/>
                  <a:ext cx="1969560" cy="96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938640" y="1986480"/>
                <a:ext cx="1969560" cy="963360"/>
                <a:chOff x="6938640" y="1986480"/>
                <a:chExt cx="1969560" cy="96336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7027920" y="1986480"/>
                  <a:ext cx="1789920" cy="96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Максимальное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число сравнений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938640" y="1986480"/>
                  <a:ext cx="1969560" cy="96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87000" y="2950200"/>
                <a:ext cx="2611440" cy="749160"/>
                <a:chOff x="387000" y="2950200"/>
                <a:chExt cx="2611440" cy="74916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477000" y="2950200"/>
                  <a:ext cx="243144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Сортировка включением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87000" y="2950200"/>
                  <a:ext cx="261144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2998800" y="2950200"/>
                <a:ext cx="1969560" cy="749160"/>
                <a:chOff x="2998800" y="2950200"/>
                <a:chExt cx="1969560" cy="7491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3088080" y="295020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-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2998800" y="295020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4968720" y="2950200"/>
                <a:ext cx="1969560" cy="749160"/>
                <a:chOff x="4968720" y="2950200"/>
                <a:chExt cx="1969560" cy="74916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058000" y="295020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+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 2)/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968720" y="295020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938640" y="2950200"/>
                <a:ext cx="1969560" cy="749160"/>
                <a:chOff x="6938640" y="2950200"/>
                <a:chExt cx="1969560" cy="7491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7027920" y="295020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938640" y="295020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387000" y="3700080"/>
                <a:ext cx="2611440" cy="749160"/>
                <a:chOff x="387000" y="3700080"/>
                <a:chExt cx="2611440" cy="74916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477000" y="3700080"/>
                  <a:ext cx="243144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Сортировка выбором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87000" y="3700080"/>
                  <a:ext cx="261144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2998800" y="3700080"/>
                <a:ext cx="1969560" cy="749160"/>
                <a:chOff x="2998800" y="3700080"/>
                <a:chExt cx="1969560" cy="7491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3088080" y="370008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ru-RU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998800" y="370008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4968720" y="3700080"/>
                <a:ext cx="1969560" cy="749160"/>
                <a:chOff x="4968720" y="3700080"/>
                <a:chExt cx="1969560" cy="7491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058000" y="370008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968720" y="370008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6938640" y="3700080"/>
                <a:ext cx="1969560" cy="749160"/>
                <a:chOff x="6938640" y="3700080"/>
                <a:chExt cx="1969560" cy="74916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7027920" y="370008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6938640" y="370008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387000" y="4449600"/>
                <a:ext cx="2611440" cy="749880"/>
                <a:chOff x="387000" y="4449600"/>
                <a:chExt cx="2611440" cy="7498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77000" y="4449600"/>
                  <a:ext cx="2431440" cy="74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Обменная сортировка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387000" y="4449600"/>
                  <a:ext cx="2611440" cy="74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2998800" y="4449600"/>
                <a:ext cx="1969560" cy="749880"/>
                <a:chOff x="2998800" y="4449600"/>
                <a:chExt cx="1969560" cy="7498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3088080" y="4449600"/>
                  <a:ext cx="1789920" cy="74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ru-RU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998800" y="4449600"/>
                  <a:ext cx="1969560" cy="74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4968720" y="4449600"/>
                <a:ext cx="1969560" cy="749880"/>
                <a:chOff x="4968720" y="4449600"/>
                <a:chExt cx="1969560" cy="7498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5058000" y="4449600"/>
                  <a:ext cx="1789920" cy="74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968720" y="4449600"/>
                  <a:ext cx="1969560" cy="74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938640" y="4449600"/>
                <a:ext cx="1969560" cy="749880"/>
                <a:chOff x="6938640" y="4449600"/>
                <a:chExt cx="1969560" cy="7498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027920" y="4449600"/>
                  <a:ext cx="1789920" cy="74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938640" y="4449600"/>
                  <a:ext cx="1969560" cy="74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387000" y="5200200"/>
                <a:ext cx="2611440" cy="749160"/>
                <a:chOff x="387000" y="5200200"/>
                <a:chExt cx="2611440" cy="7491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477000" y="5200200"/>
                  <a:ext cx="243144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Последовательный поиск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87000" y="5200200"/>
                  <a:ext cx="261144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2998800" y="5200200"/>
                <a:ext cx="1969560" cy="749160"/>
                <a:chOff x="2998800" y="5200200"/>
                <a:chExt cx="1969560" cy="74916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088080" y="520020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998800" y="520020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968720" y="5200200"/>
                <a:ext cx="1969560" cy="749160"/>
                <a:chOff x="4968720" y="5200200"/>
                <a:chExt cx="1969560" cy="7491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058000" y="520020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+1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968720" y="520020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6938640" y="5200200"/>
                <a:ext cx="1969560" cy="749160"/>
                <a:chOff x="6938640" y="5200200"/>
                <a:chExt cx="1969560" cy="74916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7027920" y="520020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6938640" y="520020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387000" y="5949720"/>
                <a:ext cx="2611440" cy="749160"/>
                <a:chOff x="387000" y="5949720"/>
                <a:chExt cx="2611440" cy="74916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77000" y="5949720"/>
                  <a:ext cx="243144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Двоичный поиск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387000" y="5949720"/>
                  <a:ext cx="261144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2998800" y="5949720"/>
                <a:ext cx="1969560" cy="749160"/>
                <a:chOff x="2998800" y="5949720"/>
                <a:chExt cx="1969560" cy="74916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3088080" y="594972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998800" y="594972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4968720" y="5949720"/>
                <a:ext cx="1969560" cy="749160"/>
                <a:chOff x="4968720" y="5949720"/>
                <a:chExt cx="1969560" cy="7491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5058000" y="594972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log</a:t>
                  </a:r>
                  <a:r>
                    <a:rPr b="0" lang="en-US" sz="1800" spc="-1" strike="noStrike" baseline="-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+1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68720" y="594972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6938640" y="5949720"/>
                <a:ext cx="1969560" cy="749160"/>
                <a:chOff x="6938640" y="5949720"/>
                <a:chExt cx="1969560" cy="7491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7027920" y="594972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log</a:t>
                  </a:r>
                  <a:r>
                    <a:rPr b="0" lang="en-US" sz="1800" spc="-1" strike="noStrike" baseline="-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938640" y="594972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1" name=""/>
            <p:cNvSpPr/>
            <p:nvPr/>
          </p:nvSpPr>
          <p:spPr>
            <a:xfrm>
              <a:off x="380880" y="1981080"/>
              <a:ext cx="8534160" cy="4724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к-останов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3595680"/>
            <a:ext cx="2060640" cy="5983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81440" y="3149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29080" y="3573360"/>
            <a:ext cx="2060640" cy="5986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48240" y="41911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 ввода-вывода информаци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3352680"/>
            <a:ext cx="3581280" cy="1295640"/>
          </a:xfrm>
          <a:prstGeom prst="parallelogram">
            <a:avLst>
              <a:gd name="adj" fmla="val 691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3657600"/>
            <a:ext cx="1334880" cy="68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2438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4648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3048120"/>
            <a:ext cx="3429000" cy="207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4952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209680" y="2895480"/>
            <a:ext cx="5257800" cy="1706400"/>
            <a:chOff x="2209680" y="2895480"/>
            <a:chExt cx="5257800" cy="1706400"/>
          </a:xfrm>
        </p:grpSpPr>
        <p:sp>
          <p:nvSpPr>
            <p:cNvPr id="61" name=""/>
            <p:cNvSpPr/>
            <p:nvPr/>
          </p:nvSpPr>
          <p:spPr>
            <a:xfrm>
              <a:off x="3119400" y="2895480"/>
              <a:ext cx="2892600" cy="17064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12000" y="3749400"/>
              <a:ext cx="82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73480" y="3749400"/>
              <a:ext cx="74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0" y="3752640"/>
              <a:ext cx="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374920" y="3752640"/>
              <a:ext cx="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09680" y="3092040"/>
              <a:ext cx="138132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Д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86520" y="3070080"/>
              <a:ext cx="13809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Не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06360" y="3458880"/>
              <a:ext cx="1350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&gt;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4572000" y="198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ние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517920" y="1752480"/>
            <a:ext cx="2117160" cy="3917520"/>
            <a:chOff x="3517920" y="1752480"/>
            <a:chExt cx="2117160" cy="3917520"/>
          </a:xfrm>
        </p:grpSpPr>
        <p:sp>
          <p:nvSpPr>
            <p:cNvPr id="72" name=""/>
            <p:cNvSpPr/>
            <p:nvPr/>
          </p:nvSpPr>
          <p:spPr>
            <a:xfrm>
              <a:off x="3517920" y="2218680"/>
              <a:ext cx="2102040" cy="69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517920" y="3369240"/>
              <a:ext cx="2102040" cy="69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533040" y="4503960"/>
              <a:ext cx="2102040" cy="69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45360" y="1752480"/>
              <a:ext cx="0" cy="46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45360" y="2918160"/>
              <a:ext cx="0" cy="46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545360" y="4084560"/>
              <a:ext cx="0" cy="4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45360" y="5203800"/>
              <a:ext cx="0" cy="46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вление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579760" y="1874880"/>
            <a:ext cx="3972600" cy="3687480"/>
            <a:chOff x="2579760" y="1874880"/>
            <a:chExt cx="3972600" cy="3687480"/>
          </a:xfrm>
        </p:grpSpPr>
        <p:sp>
          <p:nvSpPr>
            <p:cNvPr id="81" name=""/>
            <p:cNvSpPr/>
            <p:nvPr/>
          </p:nvSpPr>
          <p:spPr>
            <a:xfrm>
              <a:off x="3444120" y="2455200"/>
              <a:ext cx="2283120" cy="104436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11040" y="3744000"/>
              <a:ext cx="1741320" cy="58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79760" y="3692880"/>
              <a:ext cx="1741320" cy="57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01320" y="2957400"/>
              <a:ext cx="0" cy="77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82640" y="2957400"/>
              <a:ext cx="0" cy="73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66600" y="1874880"/>
              <a:ext cx="0" cy="61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482640" y="4272840"/>
              <a:ext cx="0" cy="65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688720" y="4311720"/>
              <a:ext cx="0" cy="61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82640" y="4930920"/>
              <a:ext cx="220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92160" y="4943520"/>
              <a:ext cx="0" cy="61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 с предусловием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94160" y="2803680"/>
            <a:ext cx="2033640" cy="93024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24200" y="4008600"/>
            <a:ext cx="1551240" cy="51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05480" y="3262320"/>
            <a:ext cx="0" cy="168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30640" y="2665440"/>
            <a:ext cx="0" cy="213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94240" y="2268360"/>
            <a:ext cx="0" cy="55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62640" y="4973760"/>
            <a:ext cx="92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497376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16560" y="3701880"/>
            <a:ext cx="0" cy="29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51480" y="452592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20920" y="4800600"/>
            <a:ext cx="135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30640" y="2641680"/>
            <a:ext cx="127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20:39:37Z</dcterms:created>
  <dc:creator>cde</dc:creator>
  <dc:description/>
  <dc:language>en-US</dc:language>
  <cp:lastModifiedBy>Owner</cp:lastModifiedBy>
  <dcterms:modified xsi:type="dcterms:W3CDTF">2009-03-15T15:05:12Z</dcterms:modified>
  <cp:revision>35</cp:revision>
  <dc:subject/>
  <dc:title>Алгоритмы</dc:title>
</cp:coreProperties>
</file>