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262B-78CD-4E0C-9D0D-5E2DA0ED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8BD-92F6-46CC-852E-53F3D7C5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3B2-C7A0-4200-80EA-5266858D3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2AA-5648-440C-BE57-3FC807308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CD2-4A2A-48EB-A03F-9B09E9DA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C289-0C99-4031-9744-4F8171E8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B644-68D1-442D-82A7-1E3C22B67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0005-2682-40D5-8C48-51E503D7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3F9B-86B5-41B1-8CEB-565E5D03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2A36-F92B-41F9-A1B5-6EDD2913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1462-9FEB-4E99-8195-0797F9BC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CD7-259D-4BCA-8779-250FDB3D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BC55-C610-4844-8919-2A03D943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бинационные схемы и элементы памя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я выч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8320" y="1892160"/>
            <a:ext cx="7871040" cy="4508640"/>
            <a:chOff x="598320" y="1892160"/>
            <a:chExt cx="7871040" cy="4508640"/>
          </a:xfrm>
        </p:grpSpPr>
        <p:sp>
          <p:nvSpPr>
            <p:cNvPr id="203" name=""/>
            <p:cNvSpPr/>
            <p:nvPr/>
          </p:nvSpPr>
          <p:spPr>
            <a:xfrm>
              <a:off x="4784760" y="1892160"/>
              <a:ext cx="2214360" cy="45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7000" y="1981080"/>
              <a:ext cx="94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4240" y="1892160"/>
              <a:ext cx="0" cy="44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7800" y="1916280"/>
              <a:ext cx="0" cy="44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4880" y="1967040"/>
              <a:ext cx="870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8036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4760" y="2225520"/>
              <a:ext cx="557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200" y="218124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3263760"/>
              <a:ext cx="869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3000" y="4202280"/>
              <a:ext cx="868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362592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3200" y="19684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3200" y="28195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3640" y="220176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400" y="2165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400" y="305424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486400"/>
              <a:ext cx="838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554976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5745240"/>
              <a:ext cx="6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640" y="3235320"/>
              <a:ext cx="180000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0520" y="3276720"/>
              <a:ext cx="680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1200" y="3243240"/>
              <a:ext cx="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2320" y="3259080"/>
              <a:ext cx="0" cy="22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2080" y="32767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5360" y="4186080"/>
              <a:ext cx="868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25600" y="360828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5164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44514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400" y="501660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0480" y="522756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3263760"/>
              <a:ext cx="870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7360" y="4176720"/>
              <a:ext cx="868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58452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350208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1560" y="44370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2200" y="303048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0680" y="5234040"/>
              <a:ext cx="3116160" cy="492120"/>
            </a:xfrm>
            <a:custGeom>
              <a:avLst/>
              <a:gdLst/>
              <a:ahLst/>
              <a:rect l="l" t="t" r="r" b="b"/>
              <a:pathLst>
                <a:path w="2388" h="390">
                  <a:moveTo>
                    <a:pt x="2388" y="390"/>
                  </a:moveTo>
                  <a:lnTo>
                    <a:pt x="0" y="3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8760" y="5180040"/>
              <a:ext cx="11736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95288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32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8240" y="200664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3733920"/>
              <a:ext cx="696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" y="3371760"/>
              <a:ext cx="8305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3640" y="202248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4320" y="22906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9440" y="2097000"/>
            <a:ext cx="74772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5080" y="25988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9052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6640" y="333072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9440" y="3137040"/>
            <a:ext cx="74772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5080" y="363852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94344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5880" y="54021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5920" y="5208480"/>
            <a:ext cx="74916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21560" y="57103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6640" y="6014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0760" y="289728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7920" y="388620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95008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1828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2040" y="287496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4120" y="494028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9720" y="5543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4520" y="2141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8920" y="3187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25312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314960"/>
            <a:ext cx="51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5920" y="4168800"/>
            <a:ext cx="749160" cy="241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65920" y="4968720"/>
            <a:ext cx="749160" cy="2397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2762280"/>
            <a:ext cx="16686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2717640"/>
            <a:ext cx="63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276876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8720" y="278280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72556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6702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81280" y="311796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30520" y="4361040"/>
            <a:ext cx="806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55880" y="27036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3648240"/>
            <a:ext cx="806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3120" y="309564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141800" y="2509920"/>
            <a:ext cx="4163760" cy="2595600"/>
            <a:chOff x="4141800" y="2509920"/>
            <a:chExt cx="4163760" cy="2595600"/>
          </a:xfrm>
        </p:grpSpPr>
        <p:grpSp>
          <p:nvGrpSpPr>
            <p:cNvPr id="292" name=""/>
            <p:cNvGrpSpPr/>
            <p:nvPr/>
          </p:nvGrpSpPr>
          <p:grpSpPr>
            <a:xfrm>
              <a:off x="4149000" y="2513520"/>
              <a:ext cx="4148280" cy="2587680"/>
              <a:chOff x="4149000" y="2513520"/>
              <a:chExt cx="4148280" cy="25876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49000" y="2513520"/>
                <a:ext cx="1243080" cy="517320"/>
                <a:chOff x="4149000" y="2513520"/>
                <a:chExt cx="1243080" cy="517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254840" y="2513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49000" y="2513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392440" y="2513520"/>
                <a:ext cx="1130400" cy="517320"/>
                <a:chOff x="5392440" y="2513520"/>
                <a:chExt cx="1130400" cy="517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98280" y="2513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92440" y="2513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523200" y="2513520"/>
                <a:ext cx="1774080" cy="517320"/>
                <a:chOff x="6523200" y="2513520"/>
                <a:chExt cx="1774080" cy="517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628320" y="2513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23200" y="2513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49000" y="3030840"/>
                <a:ext cx="1243080" cy="517320"/>
                <a:chOff x="4149000" y="3030840"/>
                <a:chExt cx="1243080" cy="517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254840" y="303084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49000" y="303084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92440" y="3030840"/>
                <a:ext cx="1130400" cy="517320"/>
                <a:chOff x="5392440" y="3030840"/>
                <a:chExt cx="1130400" cy="517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498280" y="303084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92440" y="303084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523200" y="3030840"/>
                <a:ext cx="1774080" cy="517320"/>
                <a:chOff x="6523200" y="3030840"/>
                <a:chExt cx="1774080" cy="517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28320" y="303084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23200" y="303084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9000" y="3548520"/>
                <a:ext cx="1243080" cy="517320"/>
                <a:chOff x="4149000" y="3548520"/>
                <a:chExt cx="1243080" cy="517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54840" y="3548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49000" y="3548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392440" y="3548520"/>
                <a:ext cx="1130400" cy="517320"/>
                <a:chOff x="5392440" y="3548520"/>
                <a:chExt cx="1130400" cy="517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98280" y="3548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2440" y="3548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523200" y="3548520"/>
                <a:ext cx="1774080" cy="517320"/>
                <a:chOff x="6523200" y="3548520"/>
                <a:chExt cx="1774080" cy="517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28320" y="3548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23200" y="3548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149000" y="4066200"/>
                <a:ext cx="1243080" cy="517320"/>
                <a:chOff x="4149000" y="4066200"/>
                <a:chExt cx="1243080" cy="517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4840" y="406620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149000" y="406620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92440" y="4066200"/>
                <a:ext cx="1130400" cy="517320"/>
                <a:chOff x="5392440" y="4066200"/>
                <a:chExt cx="1130400" cy="517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498280" y="406620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92440" y="406620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0" y="4066200"/>
                <a:ext cx="1774080" cy="517320"/>
                <a:chOff x="6523200" y="4066200"/>
                <a:chExt cx="1774080" cy="517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8320" y="406620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ан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23200" y="406620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49000" y="4583520"/>
                <a:ext cx="1243080" cy="517680"/>
                <a:chOff x="4149000" y="4583520"/>
                <a:chExt cx="1243080" cy="517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54840" y="4583520"/>
                  <a:ext cx="1031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49000" y="4583520"/>
                  <a:ext cx="1243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92440" y="4583520"/>
                <a:ext cx="1130400" cy="517680"/>
                <a:chOff x="5392440" y="4583520"/>
                <a:chExt cx="1130400" cy="517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498280" y="4583520"/>
                  <a:ext cx="9187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92440" y="4583520"/>
                  <a:ext cx="113040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23200" y="4583520"/>
                <a:ext cx="1774080" cy="517680"/>
                <a:chOff x="6523200" y="4583520"/>
                <a:chExt cx="1774080" cy="517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28320" y="4583520"/>
                  <a:ext cx="1562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прещен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23200" y="4583520"/>
                  <a:ext cx="1774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41800" y="2509920"/>
              <a:ext cx="4163760" cy="259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41440" y="2800440"/>
            <a:ext cx="1317600" cy="18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800" y="2800440"/>
            <a:ext cx="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0240" y="2884320"/>
            <a:ext cx="531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1440" y="2892600"/>
            <a:ext cx="531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27040" y="4103640"/>
            <a:ext cx="532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880" y="3097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0400" y="43228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2560" y="310500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4336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253040"/>
            <a:ext cx="169920" cy="16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66688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2400" y="3925800"/>
            <a:ext cx="669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71800" y="38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2128680"/>
            <a:ext cx="11019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5880" y="23893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7600" y="27082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05440" y="2631960"/>
            <a:ext cx="2048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8760" y="4371840"/>
            <a:ext cx="110160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534024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0360" y="49528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48200" y="4876920"/>
            <a:ext cx="20484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830240"/>
            <a:ext cx="82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5320" y="4788000"/>
            <a:ext cx="819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302000"/>
            <a:ext cx="8985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91360" y="2114640"/>
            <a:ext cx="836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5480" y="2708280"/>
            <a:ext cx="2120760" cy="18874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02080" y="3067200"/>
            <a:ext cx="2122560" cy="18856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3160" y="26668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48546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219564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553080" y="4419720"/>
          <a:ext cx="31428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4197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64080" y="2209680"/>
            <a:ext cx="2689200" cy="3208320"/>
            <a:chOff x="5464080" y="2209680"/>
            <a:chExt cx="2689200" cy="3208320"/>
          </a:xfrm>
        </p:grpSpPr>
        <p:grpSp>
          <p:nvGrpSpPr>
            <p:cNvPr id="375" name=""/>
            <p:cNvGrpSpPr/>
            <p:nvPr/>
          </p:nvGrpSpPr>
          <p:grpSpPr>
            <a:xfrm>
              <a:off x="5468760" y="2214360"/>
              <a:ext cx="2679840" cy="3198960"/>
              <a:chOff x="5468760" y="2214360"/>
              <a:chExt cx="2679840" cy="3198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68760" y="2214360"/>
                <a:ext cx="803160" cy="639720"/>
                <a:chOff x="5468760" y="2214360"/>
                <a:chExt cx="80316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537160" y="22143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68760" y="22143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271920" y="2214360"/>
                <a:ext cx="730440" cy="639720"/>
                <a:chOff x="6271920" y="2214360"/>
                <a:chExt cx="7304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40320" y="22143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271920" y="22143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002360" y="2214360"/>
                <a:ext cx="1146240" cy="639720"/>
                <a:chOff x="7002360" y="2214360"/>
                <a:chExt cx="114624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070400" y="22143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02360" y="22143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68760" y="2854080"/>
                <a:ext cx="803160" cy="639720"/>
                <a:chOff x="5468760" y="2854080"/>
                <a:chExt cx="8031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37160" y="285408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8760" y="285408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271920" y="2854080"/>
                <a:ext cx="730440" cy="639720"/>
                <a:chOff x="6271920" y="2854080"/>
                <a:chExt cx="7304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40320" y="285408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71920" y="285408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02360" y="2854080"/>
                <a:ext cx="1146240" cy="639720"/>
                <a:chOff x="7002360" y="2854080"/>
                <a:chExt cx="114624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70400" y="285408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02360" y="285408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468760" y="3493800"/>
                <a:ext cx="803160" cy="639720"/>
                <a:chOff x="5468760" y="3493800"/>
                <a:chExt cx="80316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7160" y="34938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68760" y="34938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71920" y="3493800"/>
                <a:ext cx="730440" cy="639720"/>
                <a:chOff x="6271920" y="3493800"/>
                <a:chExt cx="7304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340320" y="34938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71920" y="34938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02360" y="3493800"/>
                <a:ext cx="1146240" cy="639720"/>
                <a:chOff x="7002360" y="3493800"/>
                <a:chExt cx="11462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070400" y="34938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360" y="34938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468760" y="4133520"/>
                <a:ext cx="803160" cy="639720"/>
                <a:chOff x="5468760" y="4133520"/>
                <a:chExt cx="80316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537160" y="41335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68760" y="41335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71920" y="4133520"/>
                <a:ext cx="730440" cy="639720"/>
                <a:chOff x="6271920" y="4133520"/>
                <a:chExt cx="7304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40320" y="41335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71920" y="41335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02360" y="4133520"/>
                <a:ext cx="1146240" cy="639720"/>
                <a:chOff x="7002360" y="4133520"/>
                <a:chExt cx="114624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070400" y="41335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02360" y="41335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68760" y="4773240"/>
                <a:ext cx="803160" cy="640080"/>
                <a:chOff x="5468760" y="4773240"/>
                <a:chExt cx="803160" cy="640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37160" y="477324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8760" y="477324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71920" y="4773240"/>
                <a:ext cx="730440" cy="640080"/>
                <a:chOff x="6271920" y="4773240"/>
                <a:chExt cx="730440" cy="640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40320" y="477324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71920" y="477324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002360" y="4773240"/>
                <a:ext cx="1146240" cy="640080"/>
                <a:chOff x="7002360" y="4773240"/>
                <a:chExt cx="1146240" cy="640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070400" y="477324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02360" y="477324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5464080" y="220968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06560" y="2733840"/>
            <a:ext cx="1560600" cy="21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60600" y="273384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87760" y="283536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6560" y="284328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0720" y="427680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7240" y="30862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5370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09420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9240" y="455292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7720" y="4452840"/>
            <a:ext cx="2016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64636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067280"/>
            <a:ext cx="79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62520" y="41148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148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1840" y="242244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0000" y="3008160"/>
            <a:ext cx="15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240" y="2930400"/>
            <a:ext cx="1764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92880" y="4689360"/>
            <a:ext cx="938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31040" y="52754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53280" y="5195880"/>
            <a:ext cx="1760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00800" y="4594320"/>
            <a:ext cx="892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9200" y="2384280"/>
            <a:ext cx="86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64120" y="300816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22800" y="337032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2600" y="208116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4468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0760" y="266688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3760" y="5059440"/>
            <a:ext cx="9363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2640" y="6037200"/>
            <a:ext cx="21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760" y="564516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70040" y="1886040"/>
            <a:ext cx="6858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78080" y="2266920"/>
            <a:ext cx="1746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7760" y="3067200"/>
            <a:ext cx="225360" cy="221760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71880" y="2335320"/>
            <a:ext cx="390240" cy="3711600"/>
          </a:xfrm>
          <a:custGeom>
            <a:avLst/>
            <a:gdLst/>
            <a:ahLst/>
            <a:rect l="l" t="t" r="r" b="b"/>
            <a:pathLst>
              <a:path w="240" h="2280">
                <a:moveTo>
                  <a:pt x="0" y="228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11440" y="414180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2940120"/>
            <a:ext cx="1458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518652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9080" y="404496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2320" y="5948280"/>
            <a:ext cx="1476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57280" y="3537000"/>
            <a:ext cx="870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542124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9040" y="251460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785000" y="47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5000" y="47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 тремя входам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2280" y="1828800"/>
            <a:ext cx="5132520" cy="3733920"/>
            <a:chOff x="152280" y="1828800"/>
            <a:chExt cx="5132520" cy="3733920"/>
          </a:xfrm>
        </p:grpSpPr>
        <p:sp>
          <p:nvSpPr>
            <p:cNvPr id="469" name=""/>
            <p:cNvSpPr/>
            <p:nvPr/>
          </p:nvSpPr>
          <p:spPr>
            <a:xfrm>
              <a:off x="3228840" y="2679840"/>
              <a:ext cx="704880" cy="90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33720" y="31194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5040" y="30607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2480" y="438156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97360" y="482112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762440"/>
              <a:ext cx="13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68480" y="311940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913120" y="339012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4480" y="2422440"/>
              <a:ext cx="704880" cy="9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26208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19360" y="286380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22400" y="466092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8680" y="539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19360" y="510048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5400" y="2276640"/>
              <a:ext cx="51588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2600" y="25621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0400" y="3164040"/>
              <a:ext cx="168480" cy="1665000"/>
            </a:xfrm>
            <a:custGeom>
              <a:avLst/>
              <a:gdLst/>
              <a:ahLst/>
              <a:rect l="l" t="t" r="r" b="b"/>
              <a:pathLst>
                <a:path w="138" h="1362">
                  <a:moveTo>
                    <a:pt x="120" y="0"/>
                  </a:moveTo>
                  <a:lnTo>
                    <a:pt x="0" y="0"/>
                  </a:lnTo>
                  <a:lnTo>
                    <a:pt x="0" y="1362"/>
                  </a:lnTo>
                  <a:lnTo>
                    <a:pt x="138" y="13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160" y="2612880"/>
              <a:ext cx="293760" cy="2787840"/>
            </a:xfrm>
            <a:custGeom>
              <a:avLst/>
              <a:gdLst/>
              <a:ahLst/>
              <a:rect l="l" t="t" r="r" b="b"/>
              <a:pathLst>
                <a:path w="240" h="2280">
                  <a:moveTo>
                    <a:pt x="0" y="228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1000" y="3970440"/>
              <a:ext cx="14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0880" y="3068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4756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120" y="38973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480" y="5327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200" y="3516480"/>
              <a:ext cx="652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280" y="4932360"/>
              <a:ext cx="654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21040" y="1990800"/>
              <a:ext cx="307800" cy="1136520"/>
            </a:xfrm>
            <a:custGeom>
              <a:avLst/>
              <a:gdLst/>
              <a:ahLst/>
              <a:rect l="l" t="t" r="r" b="b"/>
              <a:pathLst>
                <a:path w="252" h="930">
                  <a:moveTo>
                    <a:pt x="0" y="0"/>
                  </a:moveTo>
                  <a:lnTo>
                    <a:pt x="0" y="930"/>
                  </a:lnTo>
                  <a:lnTo>
                    <a:pt x="25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27520" y="1828800"/>
              <a:ext cx="65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7840" y="4346640"/>
              <a:ext cx="6699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8600" y="2687760"/>
              <a:ext cx="646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10080" y="2895480"/>
            <a:ext cx="3194280" cy="2133720"/>
            <a:chOff x="5410080" y="2895480"/>
            <a:chExt cx="3194280" cy="2133720"/>
          </a:xfrm>
        </p:grpSpPr>
        <p:sp>
          <p:nvSpPr>
            <p:cNvPr id="499" name=""/>
            <p:cNvSpPr/>
            <p:nvPr/>
          </p:nvSpPr>
          <p:spPr>
            <a:xfrm>
              <a:off x="6039000" y="3019320"/>
              <a:ext cx="1427040" cy="19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5160" y="30193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3240" y="311148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9000" y="3119400"/>
              <a:ext cx="576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4600" y="4430520"/>
              <a:ext cx="5745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8000" y="33415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66884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9560" y="334944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9560" y="468468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67760" y="4592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48720" y="2895480"/>
              <a:ext cx="755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7840" y="4238640"/>
              <a:ext cx="723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4600" y="372420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3840" y="40003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3" name=""/>
            <p:cNvGraphicFramePr/>
            <p:nvPr/>
          </p:nvGraphicFramePr>
          <p:xfrm>
            <a:off x="7915320" y="4190760"/>
            <a:ext cx="314280" cy="4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15320" y="4190760"/>
                      <a:ext cx="3142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40400" y="2590920"/>
            <a:ext cx="2689200" cy="3208320"/>
            <a:chOff x="5540400" y="2590920"/>
            <a:chExt cx="2689200" cy="3208320"/>
          </a:xfrm>
        </p:grpSpPr>
        <p:grpSp>
          <p:nvGrpSpPr>
            <p:cNvPr id="517" name=""/>
            <p:cNvGrpSpPr/>
            <p:nvPr/>
          </p:nvGrpSpPr>
          <p:grpSpPr>
            <a:xfrm>
              <a:off x="5545080" y="2595600"/>
              <a:ext cx="2679840" cy="3198960"/>
              <a:chOff x="5545080" y="2595600"/>
              <a:chExt cx="2679840" cy="319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545080" y="2595600"/>
                <a:ext cx="803160" cy="639720"/>
                <a:chOff x="5545080" y="2595600"/>
                <a:chExt cx="803160" cy="639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13480" y="25956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45080" y="25956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348240" y="2595600"/>
                <a:ext cx="730440" cy="639720"/>
                <a:chOff x="6348240" y="2595600"/>
                <a:chExt cx="730440" cy="639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416640" y="25956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48240" y="25956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78680" y="2595600"/>
                <a:ext cx="1146240" cy="639720"/>
                <a:chOff x="7078680" y="2595600"/>
                <a:chExt cx="1146240" cy="639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46720" y="25956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78680" y="25956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545080" y="3235320"/>
                <a:ext cx="803160" cy="639720"/>
                <a:chOff x="5545080" y="3235320"/>
                <a:chExt cx="803160" cy="6397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613480" y="32353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45080" y="32353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348240" y="3235320"/>
                <a:ext cx="730440" cy="639720"/>
                <a:chOff x="6348240" y="3235320"/>
                <a:chExt cx="730440" cy="63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16640" y="32353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32353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078680" y="3235320"/>
                <a:ext cx="1146240" cy="639720"/>
                <a:chOff x="7078680" y="3235320"/>
                <a:chExt cx="1146240" cy="639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46720" y="32353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78680" y="32353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545080" y="3875040"/>
                <a:ext cx="803160" cy="639720"/>
                <a:chOff x="5545080" y="3875040"/>
                <a:chExt cx="803160" cy="639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13480" y="387504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45080" y="387504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48240" y="3875040"/>
                <a:ext cx="730440" cy="639720"/>
                <a:chOff x="6348240" y="3875040"/>
                <a:chExt cx="730440" cy="6397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416640" y="387504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8240" y="387504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078680" y="3875040"/>
                <a:ext cx="1146240" cy="639720"/>
                <a:chOff x="7078680" y="3875040"/>
                <a:chExt cx="1146240" cy="639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146720" y="38750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78680" y="38750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545080" y="4514760"/>
                <a:ext cx="803160" cy="639720"/>
                <a:chOff x="5545080" y="4514760"/>
                <a:chExt cx="803160" cy="63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613480" y="45147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5080" y="45147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348240" y="4514760"/>
                <a:ext cx="730440" cy="639720"/>
                <a:chOff x="6348240" y="4514760"/>
                <a:chExt cx="730440" cy="63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16640" y="45147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48240" y="45147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078680" y="4514760"/>
                <a:ext cx="1146240" cy="639720"/>
                <a:chOff x="7078680" y="4514760"/>
                <a:chExt cx="1146240" cy="639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146720" y="45147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78680" y="45147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545080" y="5154480"/>
                <a:ext cx="803160" cy="640080"/>
                <a:chOff x="5545080" y="5154480"/>
                <a:chExt cx="803160" cy="6400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613480" y="515448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45080" y="515448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348240" y="5154480"/>
                <a:ext cx="730440" cy="640080"/>
                <a:chOff x="6348240" y="5154480"/>
                <a:chExt cx="730440" cy="6400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416640" y="515448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8240" y="515448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078680" y="5154480"/>
                <a:ext cx="1146240" cy="640080"/>
                <a:chOff x="7078680" y="5154480"/>
                <a:chExt cx="1146240" cy="6400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46720" y="515448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78680" y="515448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5540400" y="259092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986120" y="3002040"/>
            <a:ext cx="1763640" cy="24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11440" y="300204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114720"/>
            <a:ext cx="968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0" y="3124080"/>
            <a:ext cx="711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9320" y="4746600"/>
            <a:ext cx="711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340056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08160" y="50403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0040" y="340992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0040" y="50594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5920" y="49449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92572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4510080"/>
            <a:ext cx="895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1903680" y="4974480"/>
            <a:ext cx="2192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267080" y="45720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5720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2943360"/>
            <a:ext cx="6379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70640" y="3341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6640" y="32893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99240" y="448308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7520" y="4881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3520" y="482904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8720" y="3341520"/>
            <a:ext cx="1227240" cy="12956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448320" y="3587760"/>
            <a:ext cx="1227240" cy="12938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45080" y="2711520"/>
            <a:ext cx="636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81560" y="311004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51560" y="473544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81560" y="513396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5400" y="3381480"/>
            <a:ext cx="154080" cy="150804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75480" y="329580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8040" y="4822920"/>
            <a:ext cx="1000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59320" y="4848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8160" y="2446200"/>
            <a:ext cx="6382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6440" y="2844720"/>
            <a:ext cx="749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62440" y="27907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45040" y="501480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68920" y="542592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9320" y="5359320"/>
            <a:ext cx="1188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4520" y="2844720"/>
            <a:ext cx="12272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94120" y="3088440"/>
            <a:ext cx="12398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0880" y="2212920"/>
            <a:ext cx="6364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7360" y="26114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97360" y="526716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7360" y="56656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98640" y="2884320"/>
            <a:ext cx="206640" cy="253548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1280" y="279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75280" y="5353200"/>
            <a:ext cx="982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19440" y="58644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14720" y="5553000"/>
            <a:ext cx="4665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25840" y="5811840"/>
            <a:ext cx="1206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39220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62080" y="2367000"/>
            <a:ext cx="146160" cy="3470400"/>
          </a:xfrm>
          <a:custGeom>
            <a:avLst/>
            <a:gdLst/>
            <a:ahLst/>
            <a:rect l="l" t="t" r="r" b="b"/>
            <a:pathLst>
              <a:path w="132" h="3138">
                <a:moveTo>
                  <a:pt x="132" y="3138"/>
                </a:moveTo>
                <a:lnTo>
                  <a:pt x="0" y="313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000" y="23400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0200" y="4138560"/>
            <a:ext cx="934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52520" y="3825720"/>
            <a:ext cx="46512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4086360"/>
            <a:ext cx="1191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43240"/>
            <a:ext cx="583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00240" y="4145040"/>
            <a:ext cx="4205160" cy="2224080"/>
          </a:xfrm>
          <a:custGeom>
            <a:avLst/>
            <a:gdLst/>
            <a:ahLst/>
            <a:rect l="l" t="t" r="r" b="b"/>
            <a:pathLst>
              <a:path w="3852" h="2010">
                <a:moveTo>
                  <a:pt x="0" y="0"/>
                </a:moveTo>
                <a:lnTo>
                  <a:pt x="0" y="2010"/>
                </a:lnTo>
                <a:lnTo>
                  <a:pt x="3852" y="2010"/>
                </a:lnTo>
                <a:lnTo>
                  <a:pt x="3852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54160" y="4098960"/>
            <a:ext cx="982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960" y="1981080"/>
            <a:ext cx="59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3740040"/>
            <a:ext cx="590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9548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153280" y="4419720"/>
          <a:ext cx="263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44197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гис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01600" y="2576520"/>
            <a:ext cx="1766880" cy="22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514600"/>
            <a:ext cx="82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39800" y="25844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8320" y="259884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98720" y="253836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28600" y="3537000"/>
            <a:ext cx="85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23920" y="2952720"/>
            <a:ext cx="547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7160" y="4268880"/>
            <a:ext cx="853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17680" y="251460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47920" y="351468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22360" y="2928960"/>
            <a:ext cx="547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240" y="4573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68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8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10360" y="2009880"/>
            <a:ext cx="1217520" cy="16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42000" y="200988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19840" y="2089080"/>
            <a:ext cx="490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10360" y="209556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97400" y="321480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22906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21400" y="343044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43640" y="335268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184644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5680" y="3051000"/>
            <a:ext cx="61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10360" y="4761000"/>
            <a:ext cx="1217520" cy="16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2000" y="476100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19840" y="4838760"/>
            <a:ext cx="490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0360" y="484668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97400" y="596592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3160" y="5035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6168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21400" y="5041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21400" y="61815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610380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1680" y="459756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5680" y="5802480"/>
            <a:ext cx="6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3922560"/>
            <a:ext cx="4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6640" y="3417840"/>
            <a:ext cx="327240" cy="2751120"/>
          </a:xfrm>
          <a:custGeom>
            <a:avLst/>
            <a:gdLst/>
            <a:ahLst/>
            <a:rect l="l" t="t" r="r" b="b"/>
            <a:pathLst>
              <a:path w="300" h="2520">
                <a:moveTo>
                  <a:pt x="300" y="0"/>
                </a:moveTo>
                <a:lnTo>
                  <a:pt x="0" y="0"/>
                </a:lnTo>
                <a:lnTo>
                  <a:pt x="0" y="25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37040" y="6129360"/>
            <a:ext cx="9864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44920" y="1905120"/>
            <a:ext cx="63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19720" y="4622760"/>
            <a:ext cx="635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23050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832440" y="3048120"/>
          <a:ext cx="33048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30481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832440" y="5791320"/>
          <a:ext cx="3304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2440" y="57913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им элемен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устройство 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ходами и одним выходом. На каждый вход может подаваться только два сигнала "0" или "1" и при каждом наборе сигналов на входах на выходе возникает один из сигналов "0" или "1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гнал на выходе логического элемента однозначно определяется набором сигналов на его вх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38280" y="1828800"/>
            <a:ext cx="4647960" cy="3338640"/>
            <a:chOff x="2438280" y="1828800"/>
            <a:chExt cx="4647960" cy="3338640"/>
          </a:xfrm>
        </p:grpSpPr>
        <p:sp>
          <p:nvSpPr>
            <p:cNvPr id="679" name=""/>
            <p:cNvSpPr/>
            <p:nvPr/>
          </p:nvSpPr>
          <p:spPr>
            <a:xfrm>
              <a:off x="4093560" y="3409920"/>
              <a:ext cx="972720" cy="12733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88160" y="3258000"/>
              <a:ext cx="978480" cy="15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24560" y="4683240"/>
              <a:ext cx="363240" cy="4838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7240" y="516168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421000"/>
              <a:ext cx="4147920" cy="988560"/>
            </a:xfrm>
            <a:custGeom>
              <a:avLst/>
              <a:gdLst/>
              <a:ahLst/>
              <a:rect l="l" t="t" r="r" b="b"/>
              <a:pathLst>
                <a:path w="4782" h="1140">
                  <a:moveTo>
                    <a:pt x="1902" y="1140"/>
                  </a:moveTo>
                  <a:lnTo>
                    <a:pt x="0" y="1140"/>
                  </a:lnTo>
                  <a:lnTo>
                    <a:pt x="0" y="0"/>
                  </a:lnTo>
                  <a:lnTo>
                    <a:pt x="4782" y="0"/>
                  </a:lnTo>
                  <a:lnTo>
                    <a:pt x="4782" y="1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95640" y="287424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98280" y="1964160"/>
              <a:ext cx="624240" cy="89964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9960" y="2639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223160" y="2691720"/>
              <a:ext cx="672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45160" y="2832120"/>
              <a:ext cx="7740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45160" y="3316320"/>
              <a:ext cx="7740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86200" y="4714920"/>
              <a:ext cx="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25640" y="5167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9840" y="467856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19880" y="3867480"/>
              <a:ext cx="666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6160" y="194832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0400" y="1828800"/>
              <a:ext cx="66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28800" y="5570640"/>
            <a:ext cx="5943600" cy="906480"/>
            <a:chOff x="1828800" y="5570640"/>
            <a:chExt cx="5943600" cy="906480"/>
          </a:xfrm>
        </p:grpSpPr>
        <p:sp>
          <p:nvSpPr>
            <p:cNvPr id="697" name=""/>
            <p:cNvSpPr/>
            <p:nvPr/>
          </p:nvSpPr>
          <p:spPr>
            <a:xfrm>
              <a:off x="2272680" y="5820120"/>
              <a:ext cx="5189040" cy="353880"/>
            </a:xfrm>
            <a:custGeom>
              <a:avLst/>
              <a:gdLst/>
              <a:ahLst/>
              <a:rect l="l" t="t" r="r" b="b"/>
              <a:pathLst>
                <a:path w="8172" h="558">
                  <a:moveTo>
                    <a:pt x="0" y="558"/>
                  </a:moveTo>
                  <a:lnTo>
                    <a:pt x="552" y="558"/>
                  </a:lnTo>
                  <a:lnTo>
                    <a:pt x="552" y="0"/>
                  </a:lnTo>
                  <a:lnTo>
                    <a:pt x="1110" y="0"/>
                  </a:lnTo>
                  <a:lnTo>
                    <a:pt x="1110" y="558"/>
                  </a:lnTo>
                  <a:lnTo>
                    <a:pt x="1680" y="558"/>
                  </a:lnTo>
                  <a:lnTo>
                    <a:pt x="1680" y="0"/>
                  </a:lnTo>
                  <a:lnTo>
                    <a:pt x="2232" y="0"/>
                  </a:lnTo>
                  <a:lnTo>
                    <a:pt x="2232" y="558"/>
                  </a:lnTo>
                  <a:lnTo>
                    <a:pt x="2802" y="558"/>
                  </a:lnTo>
                  <a:lnTo>
                    <a:pt x="2802" y="0"/>
                  </a:lnTo>
                  <a:lnTo>
                    <a:pt x="3360" y="0"/>
                  </a:lnTo>
                  <a:lnTo>
                    <a:pt x="3360" y="558"/>
                  </a:lnTo>
                  <a:lnTo>
                    <a:pt x="3930" y="558"/>
                  </a:lnTo>
                  <a:lnTo>
                    <a:pt x="3930" y="0"/>
                  </a:lnTo>
                  <a:lnTo>
                    <a:pt x="4500" y="0"/>
                  </a:lnTo>
                  <a:lnTo>
                    <a:pt x="4500" y="558"/>
                  </a:lnTo>
                  <a:lnTo>
                    <a:pt x="5052" y="558"/>
                  </a:lnTo>
                  <a:lnTo>
                    <a:pt x="5052" y="0"/>
                  </a:lnTo>
                  <a:lnTo>
                    <a:pt x="5622" y="0"/>
                  </a:lnTo>
                  <a:lnTo>
                    <a:pt x="5622" y="558"/>
                  </a:lnTo>
                  <a:lnTo>
                    <a:pt x="6192" y="558"/>
                  </a:lnTo>
                  <a:lnTo>
                    <a:pt x="6192" y="0"/>
                  </a:lnTo>
                  <a:lnTo>
                    <a:pt x="6762" y="0"/>
                  </a:lnTo>
                  <a:lnTo>
                    <a:pt x="6762" y="558"/>
                  </a:lnTo>
                  <a:lnTo>
                    <a:pt x="7320" y="558"/>
                  </a:lnTo>
                  <a:lnTo>
                    <a:pt x="7320" y="0"/>
                  </a:lnTo>
                  <a:lnTo>
                    <a:pt x="7890" y="0"/>
                  </a:lnTo>
                  <a:lnTo>
                    <a:pt x="7890" y="558"/>
                  </a:lnTo>
                  <a:lnTo>
                    <a:pt x="8172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21480" y="5701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623340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3120" y="616464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3120" y="582948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44800" y="618012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8800" y="557064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362320"/>
            <a:ext cx="3803400" cy="2449440"/>
            <a:chOff x="914400" y="2362320"/>
            <a:chExt cx="3803400" cy="2449440"/>
          </a:xfrm>
        </p:grpSpPr>
        <p:sp>
          <p:nvSpPr>
            <p:cNvPr id="706" name=""/>
            <p:cNvSpPr/>
            <p:nvPr/>
          </p:nvSpPr>
          <p:spPr>
            <a:xfrm>
              <a:off x="2526480" y="3520440"/>
              <a:ext cx="712800" cy="9331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22520" y="3409920"/>
              <a:ext cx="716400" cy="115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5760" y="4453560"/>
              <a:ext cx="266760" cy="3542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1640" y="480420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13280" y="3128040"/>
              <a:ext cx="12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6680" y="2461320"/>
              <a:ext cx="457200" cy="65880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56080" y="295632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621520" y="2994480"/>
              <a:ext cx="4914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2400" y="44766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4320" y="48081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25760" y="44499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360" y="3855600"/>
              <a:ext cx="487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06440" y="24498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98520" y="2362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06080" y="3131640"/>
              <a:ext cx="1245960" cy="350280"/>
            </a:xfrm>
            <a:custGeom>
              <a:avLst/>
              <a:gdLst/>
              <a:ahLst/>
              <a:rect l="l" t="t" r="r" b="b"/>
              <a:pathLst>
                <a:path w="1962" h="552">
                  <a:moveTo>
                    <a:pt x="0" y="0"/>
                  </a:moveTo>
                  <a:lnTo>
                    <a:pt x="1962" y="0"/>
                  </a:lnTo>
                  <a:lnTo>
                    <a:pt x="1962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21800" y="34516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55160" y="3520440"/>
              <a:ext cx="14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36080" y="44805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000" y="481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9440" y="4453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901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5840" y="34974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791320" y="2819520"/>
            <a:ext cx="2057400" cy="1752480"/>
            <a:chOff x="5791320" y="2819520"/>
            <a:chExt cx="2057400" cy="1752480"/>
          </a:xfrm>
        </p:grpSpPr>
        <p:sp>
          <p:nvSpPr>
            <p:cNvPr id="729" name=""/>
            <p:cNvSpPr/>
            <p:nvPr/>
          </p:nvSpPr>
          <p:spPr>
            <a:xfrm>
              <a:off x="6364440" y="2819520"/>
              <a:ext cx="788760" cy="11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1320" y="3403800"/>
              <a:ext cx="2057400" cy="1168200"/>
            </a:xfrm>
            <a:custGeom>
              <a:avLst/>
              <a:gdLst/>
              <a:ahLst/>
              <a:rect l="l" t="t" r="r" b="b"/>
              <a:pathLst>
                <a:path w="1830" h="960">
                  <a:moveTo>
                    <a:pt x="1218" y="0"/>
                  </a:moveTo>
                  <a:lnTo>
                    <a:pt x="1830" y="0"/>
                  </a:lnTo>
                  <a:lnTo>
                    <a:pt x="1830" y="960"/>
                  </a:lnTo>
                  <a:lnTo>
                    <a:pt x="0" y="960"/>
                  </a:lnTo>
                  <a:lnTo>
                    <a:pt x="0" y="12"/>
                  </a:lnTo>
                  <a:lnTo>
                    <a:pt x="51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79400" y="3330360"/>
              <a:ext cx="141480" cy="15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23880" y="1973160"/>
            <a:ext cx="5846760" cy="1455840"/>
            <a:chOff x="1523880" y="1973160"/>
            <a:chExt cx="5846760" cy="1455840"/>
          </a:xfrm>
        </p:grpSpPr>
        <p:sp>
          <p:nvSpPr>
            <p:cNvPr id="734" name=""/>
            <p:cNvSpPr/>
            <p:nvPr/>
          </p:nvSpPr>
          <p:spPr>
            <a:xfrm>
              <a:off x="1923840" y="241128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5120" y="241128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75120" y="245700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3840" y="24609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16280" y="3112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1360" y="3231000"/>
              <a:ext cx="3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8720" y="323856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83000" y="31928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0" y="1973160"/>
              <a:ext cx="37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918080" y="31910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2320" y="210276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06760" y="221688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52680" y="241884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03960" y="241884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960" y="246456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52680" y="246852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5120" y="31204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324612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11840" y="32004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5640" y="198072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3347280" y="31946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1520" y="21103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35600" y="22248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240" y="32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6080" y="321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3360" y="242280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95000" y="242280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5000" y="246852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43360" y="24724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35800" y="31240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8240" y="325008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520" y="32040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6320" y="198468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4737600" y="3202560"/>
              <a:ext cx="87480" cy="7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2200" y="21139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6280" y="22284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2200" y="243036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23840" y="243036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23840" y="2476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72200" y="24800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64640" y="31320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440" y="32576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1360" y="321192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5520" y="199224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6166800" y="320616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040" y="212148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55120" y="2235960"/>
              <a:ext cx="126864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57120" y="32119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013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295280" y="3970440"/>
            <a:ext cx="6349680" cy="1668240"/>
            <a:chOff x="1295280" y="3970440"/>
            <a:chExt cx="6349680" cy="1668240"/>
          </a:xfrm>
        </p:grpSpPr>
        <p:sp>
          <p:nvSpPr>
            <p:cNvPr id="784" name=""/>
            <p:cNvSpPr/>
            <p:nvPr/>
          </p:nvSpPr>
          <p:spPr>
            <a:xfrm flipH="1">
              <a:off x="159048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97748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6844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5976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1507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373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2868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396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7088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0192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49288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8842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791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6621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5744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78400" y="44312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60680" y="44348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38640" y="443484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4880" y="44319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716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8512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6740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74640" y="4548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78600" y="515880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1980" y="180"/>
                  </a:lnTo>
                  <a:lnTo>
                    <a:pt x="1980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6480" y="180"/>
                  </a:lnTo>
                  <a:lnTo>
                    <a:pt x="648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78600" y="550944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4230" y="180"/>
                  </a:lnTo>
                  <a:lnTo>
                    <a:pt x="423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8600" y="4785480"/>
              <a:ext cx="6061680" cy="125640"/>
            </a:xfrm>
            <a:custGeom>
              <a:avLst/>
              <a:gdLst/>
              <a:ahLst/>
              <a:rect l="l" t="t" r="r" b="b"/>
              <a:pathLst>
                <a:path w="8742" h="198">
                  <a:moveTo>
                    <a:pt x="0" y="180"/>
                  </a:moveTo>
                  <a:lnTo>
                    <a:pt x="852" y="180"/>
                  </a:lnTo>
                  <a:lnTo>
                    <a:pt x="852" y="0"/>
                  </a:lnTo>
                  <a:lnTo>
                    <a:pt x="1980" y="0"/>
                  </a:lnTo>
                  <a:lnTo>
                    <a:pt x="1980" y="180"/>
                  </a:lnTo>
                  <a:lnTo>
                    <a:pt x="3102" y="180"/>
                  </a:lnTo>
                  <a:lnTo>
                    <a:pt x="3102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5352" y="180"/>
                  </a:lnTo>
                  <a:lnTo>
                    <a:pt x="5352" y="0"/>
                  </a:lnTo>
                  <a:lnTo>
                    <a:pt x="6480" y="0"/>
                  </a:lnTo>
                  <a:lnTo>
                    <a:pt x="6480" y="198"/>
                  </a:lnTo>
                  <a:lnTo>
                    <a:pt x="7602" y="198"/>
                  </a:lnTo>
                  <a:lnTo>
                    <a:pt x="7602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5360" y="4434840"/>
              <a:ext cx="394920" cy="114120"/>
            </a:xfrm>
            <a:custGeom>
              <a:avLst/>
              <a:gdLst/>
              <a:ahLst/>
              <a:rect l="l" t="t" r="r" b="b"/>
              <a:pathLst>
                <a:path w="570" h="180">
                  <a:moveTo>
                    <a:pt x="0" y="180"/>
                  </a:moveTo>
                  <a:lnTo>
                    <a:pt x="0" y="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49840" y="421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22280" y="3970440"/>
              <a:ext cx="31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7080" y="43092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466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09680" y="503316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538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24400" y="2289240"/>
            <a:ext cx="22572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33960" y="2390760"/>
            <a:ext cx="1217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11640" y="2298600"/>
            <a:ext cx="0" cy="29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65560" y="2317680"/>
            <a:ext cx="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64080" y="2411280"/>
            <a:ext cx="108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4626000"/>
            <a:ext cx="109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95880" y="2381400"/>
            <a:ext cx="108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34040" y="3660840"/>
            <a:ext cx="1090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84640" y="2739960"/>
            <a:ext cx="6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5720" y="484488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160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81600" y="387180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8040" y="247644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1440" y="27464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0120" y="426888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52434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62160" y="405612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54240" y="225756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16720" y="3355920"/>
            <a:ext cx="952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7200" y="39844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60880" y="31114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060880" y="44308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88160" y="3462480"/>
            <a:ext cx="84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0040" y="2892600"/>
            <a:ext cx="952560" cy="12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0520" y="3519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27440" y="346248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1440" y="452772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57280" y="5300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22520" y="3519360"/>
            <a:ext cx="325440" cy="178920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85920" y="4829040"/>
            <a:ext cx="84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33720" y="1909800"/>
            <a:ext cx="28764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8560" y="1944720"/>
            <a:ext cx="1370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40440" y="1941480"/>
            <a:ext cx="0" cy="445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1917720"/>
            <a:ext cx="0" cy="44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8640" y="1952640"/>
            <a:ext cx="89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73320" y="229068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41720" y="5664240"/>
            <a:ext cx="898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40160" y="1903320"/>
            <a:ext cx="90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72200" y="2959200"/>
            <a:ext cx="90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7960" y="2278080"/>
            <a:ext cx="576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22520" y="59119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1012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012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4480" y="299736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68640" y="3532320"/>
            <a:ext cx="898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73320" y="387180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22520" y="3741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4780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84480" y="457848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42000" y="2300400"/>
            <a:ext cx="10508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82800" y="259884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32280" y="4280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16080" y="5357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20574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37480" y="239868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2759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1000" y="3452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0000" y="3387600"/>
            <a:ext cx="1350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1880" y="54212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9800" y="3451320"/>
            <a:ext cx="358560" cy="197784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12880" y="4898880"/>
            <a:ext cx="934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84920" y="29750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4920" y="497196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00760" y="4405320"/>
            <a:ext cx="93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74800" y="2597040"/>
            <a:ext cx="2157480" cy="1978200"/>
          </a:xfrm>
          <a:custGeom>
            <a:avLst/>
            <a:gdLst/>
            <a:ahLst/>
            <a:rect l="l" t="t" r="r" b="b"/>
            <a:pathLst>
              <a:path w="1440" h="1320">
                <a:moveTo>
                  <a:pt x="0" y="0"/>
                </a:moveTo>
                <a:lnTo>
                  <a:pt x="0" y="1320"/>
                </a:lnTo>
                <a:lnTo>
                  <a:pt x="144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5336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59280" y="1838160"/>
            <a:ext cx="3020760" cy="47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3080" y="1881360"/>
            <a:ext cx="1438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72200" y="187164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59200" y="1846440"/>
            <a:ext cx="0" cy="46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8892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02120" y="2238480"/>
            <a:ext cx="60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788080"/>
            <a:ext cx="946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64000" y="18288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2280" y="29368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21160" y="2224080"/>
            <a:ext cx="60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14600" y="21016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19104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22520" y="60404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80040" y="210168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80040" y="31910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65400" y="298764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64000" y="35226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22960" y="3879720"/>
            <a:ext cx="606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7680" y="376092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485136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80200" y="462132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17960" y="2363760"/>
            <a:ext cx="8589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838080" y="2057400"/>
            <a:ext cx="4023000" cy="3346560"/>
            <a:chOff x="838080" y="2057400"/>
            <a:chExt cx="4023000" cy="3346560"/>
          </a:xfrm>
        </p:grpSpPr>
        <p:sp>
          <p:nvSpPr>
            <p:cNvPr id="915" name=""/>
            <p:cNvSpPr/>
            <p:nvPr/>
          </p:nvSpPr>
          <p:spPr>
            <a:xfrm>
              <a:off x="846000" y="3849840"/>
              <a:ext cx="8589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0160" y="2271600"/>
              <a:ext cx="965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85760" y="254628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32240" y="4091040"/>
              <a:ext cx="965160" cy="13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50799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205740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85760" y="435276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77840" y="513864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28800" y="3328920"/>
              <a:ext cx="685800" cy="1792440"/>
            </a:xfrm>
            <a:custGeom>
              <a:avLst/>
              <a:gdLst/>
              <a:ahLst/>
              <a:rect l="l" t="t" r="r" b="b"/>
              <a:pathLst>
                <a:path w="240" h="1290">
                  <a:moveTo>
                    <a:pt x="0" y="129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1560" y="463392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97400" y="467532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7400" y="29242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02120" y="413856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952880" y="2444760"/>
            <a:ext cx="3657600" cy="3092400"/>
            <a:chOff x="4952880" y="2444760"/>
            <a:chExt cx="3657600" cy="3092400"/>
          </a:xfrm>
        </p:grpSpPr>
        <p:sp>
          <p:nvSpPr>
            <p:cNvPr id="929" name=""/>
            <p:cNvSpPr/>
            <p:nvPr/>
          </p:nvSpPr>
          <p:spPr>
            <a:xfrm>
              <a:off x="5608800" y="2444760"/>
              <a:ext cx="2355840" cy="30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51560" y="2523960"/>
              <a:ext cx="1096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26280" y="2454120"/>
              <a:ext cx="0" cy="30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6920" y="2475000"/>
              <a:ext cx="0" cy="30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544840"/>
              <a:ext cx="11365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24360" y="3906720"/>
              <a:ext cx="11383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8680" y="2946240"/>
              <a:ext cx="73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05560" y="2514600"/>
              <a:ext cx="113688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5520" y="3848040"/>
              <a:ext cx="11379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37440" y="2914560"/>
              <a:ext cx="7286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52880" y="278280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0924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64640" y="278280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64640" y="4092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90720" y="2660760"/>
            <a:ext cx="3333600" cy="2673360"/>
            <a:chOff x="990720" y="2660760"/>
            <a:chExt cx="3333600" cy="2673360"/>
          </a:xfrm>
        </p:grpSpPr>
        <p:sp>
          <p:nvSpPr>
            <p:cNvPr id="945" name=""/>
            <p:cNvSpPr/>
            <p:nvPr/>
          </p:nvSpPr>
          <p:spPr>
            <a:xfrm>
              <a:off x="2335680" y="3470400"/>
              <a:ext cx="914400" cy="335160"/>
            </a:xfrm>
            <a:custGeom>
              <a:avLst/>
              <a:gdLst/>
              <a:ahLst/>
              <a:rect l="l" t="t" r="r" b="b"/>
              <a:pathLst>
                <a:path w="1440" h="528">
                  <a:moveTo>
                    <a:pt x="0" y="0"/>
                  </a:moveTo>
                  <a:lnTo>
                    <a:pt x="558" y="0"/>
                  </a:lnTo>
                  <a:lnTo>
                    <a:pt x="558" y="528"/>
                  </a:lnTo>
                  <a:lnTo>
                    <a:pt x="1440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46840" y="3165480"/>
              <a:ext cx="914400" cy="1345320"/>
            </a:xfrm>
            <a:custGeom>
              <a:avLst/>
              <a:gdLst/>
              <a:ahLst/>
              <a:rect l="l" t="t" r="r" b="b"/>
              <a:pathLst>
                <a:path w="1440" h="2118">
                  <a:moveTo>
                    <a:pt x="0" y="2118"/>
                  </a:moveTo>
                  <a:lnTo>
                    <a:pt x="900" y="2118"/>
                  </a:lnTo>
                  <a:lnTo>
                    <a:pt x="900" y="0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90720" y="270432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8320" y="26892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8200" y="39812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99360" y="294840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20400" y="37335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1240" y="266076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57640" y="36914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03320" y="5017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65200" y="47282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0400" y="47739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93600" y="42138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9040" y="4480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93600" y="31734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040" y="34401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89720" y="294840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5440" y="2776680"/>
              <a:ext cx="685440" cy="2057760"/>
            </a:xfrm>
            <a:custGeom>
              <a:avLst/>
              <a:gdLst/>
              <a:ahLst/>
              <a:rect l="l" t="t" r="r" b="b"/>
              <a:pathLst>
                <a:path w="1080" h="3240">
                  <a:moveTo>
                    <a:pt x="1080" y="0"/>
                  </a:moveTo>
                  <a:lnTo>
                    <a:pt x="0" y="0"/>
                  </a:lnTo>
                  <a:lnTo>
                    <a:pt x="0" y="3240"/>
                  </a:lnTo>
                  <a:lnTo>
                    <a:pt x="1080" y="3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5200" y="2921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61040" y="294840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30800" y="29293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1040" y="397728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0800" y="39582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89720" y="3988800"/>
              <a:ext cx="2171520" cy="1238400"/>
            </a:xfrm>
            <a:custGeom>
              <a:avLst/>
              <a:gdLst/>
              <a:ahLst/>
              <a:rect l="l" t="t" r="r" b="b"/>
              <a:pathLst>
                <a:path w="3420" h="1950">
                  <a:moveTo>
                    <a:pt x="0" y="0"/>
                  </a:moveTo>
                  <a:lnTo>
                    <a:pt x="2700" y="0"/>
                  </a:lnTo>
                  <a:lnTo>
                    <a:pt x="2700" y="1950"/>
                  </a:lnTo>
                  <a:lnTo>
                    <a:pt x="3420" y="19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5560" y="4198320"/>
              <a:ext cx="44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73800" y="4160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05840" y="3729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310360" y="2587680"/>
            <a:ext cx="2103120" cy="27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2920" y="2603520"/>
            <a:ext cx="977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50080" y="25970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45320" y="2614680"/>
            <a:ext cx="0" cy="27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2620800"/>
            <a:ext cx="1015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43480" y="3838680"/>
            <a:ext cx="1014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7000" y="303516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7520" y="2593800"/>
            <a:ext cx="10162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7240" y="3784680"/>
            <a:ext cx="1014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16680" y="308772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134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134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935840" y="273528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ические обо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640" y="27082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220356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4476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080" y="1668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080" y="2811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29600" y="2117880"/>
            <a:ext cx="9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1440" y="1973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273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0920" y="2133720"/>
            <a:ext cx="99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4560" y="197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84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080" y="21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58240" y="217188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8240" y="217188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842240" y="2637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82760" y="221472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2760" y="33559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1560" y="1679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1560" y="2822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273204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5880" y="4205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49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205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81160" y="4289400"/>
          <a:ext cx="746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1160" y="4289400"/>
                    <a:ext cx="74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52560" y="4890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480" y="1959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928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40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0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5000760"/>
            <a:ext cx="8953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38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05360" y="4335480"/>
          <a:ext cx="115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5360" y="4335480"/>
                    <a:ext cx="115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53080" y="49244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5432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312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5000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0" y="423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56720" y="4403880"/>
          <a:ext cx="11872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6720" y="440388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622764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644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644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дноразрядный полу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7640" y="259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360" y="2895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1337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448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4480" y="29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941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4720" y="44197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191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6080" y="4191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99072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500280"/>
            <a:ext cx="121896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дноразряд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9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7640" y="259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5160" y="350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240" y="3809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666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220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3640" y="2666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4240" y="4114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оич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905120"/>
            <a:ext cx="3382920" cy="4190040"/>
            <a:chOff x="2819520" y="1905120"/>
            <a:chExt cx="3382920" cy="4190040"/>
          </a:xfrm>
        </p:grpSpPr>
        <p:grpSp>
          <p:nvGrpSpPr>
            <p:cNvPr id="161" name=""/>
            <p:cNvGrpSpPr/>
            <p:nvPr/>
          </p:nvGrpSpPr>
          <p:grpSpPr>
            <a:xfrm>
              <a:off x="3505320" y="1905120"/>
              <a:ext cx="1995120" cy="4190040"/>
              <a:chOff x="3505320" y="1905120"/>
              <a:chExt cx="1995120" cy="4190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505320" y="1905120"/>
                <a:ext cx="1995120" cy="41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4680" y="1905120"/>
                <a:ext cx="2520" cy="41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6000" y="1925640"/>
                <a:ext cx="2520" cy="41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128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35812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66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664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5410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080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1981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4080" y="1981080"/>
            <a:ext cx="2488680" cy="4267080"/>
            <a:chOff x="3124080" y="1981080"/>
            <a:chExt cx="2488680" cy="4267080"/>
          </a:xfrm>
        </p:grpSpPr>
        <p:sp>
          <p:nvSpPr>
            <p:cNvPr id="181" name=""/>
            <p:cNvSpPr/>
            <p:nvPr/>
          </p:nvSpPr>
          <p:spPr>
            <a:xfrm>
              <a:off x="3718800" y="1981080"/>
              <a:ext cx="129384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32452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9840" y="340848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000" y="23306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9840" y="286380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4560" y="4239360"/>
              <a:ext cx="1293840" cy="18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56678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8760" y="4588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8480" y="51224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4160" y="3414600"/>
              <a:ext cx="1902600" cy="1174320"/>
            </a:xfrm>
            <a:custGeom>
              <a:avLst/>
              <a:gdLst/>
              <a:ahLst/>
              <a:rect l="l" t="t" r="r" b="b"/>
              <a:pathLst>
                <a:path w="1632" h="1098">
                  <a:moveTo>
                    <a:pt x="1380" y="0"/>
                  </a:moveTo>
                  <a:lnTo>
                    <a:pt x="1632" y="0"/>
                  </a:lnTo>
                  <a:lnTo>
                    <a:pt x="1632" y="558"/>
                  </a:lnTo>
                  <a:lnTo>
                    <a:pt x="0" y="558"/>
                  </a:lnTo>
                  <a:lnTo>
                    <a:pt x="0" y="1098"/>
                  </a:lnTo>
                  <a:lnTo>
                    <a:pt x="270" y="10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000" y="5667840"/>
              <a:ext cx="299880" cy="580320"/>
            </a:xfrm>
            <a:custGeom>
              <a:avLst/>
              <a:gdLst/>
              <a:ahLst/>
              <a:rect l="l" t="t" r="r" b="b"/>
              <a:pathLst>
                <a:path w="258" h="498">
                  <a:moveTo>
                    <a:pt x="0" y="0"/>
                  </a:moveTo>
                  <a:lnTo>
                    <a:pt x="258" y="0"/>
                  </a:lnTo>
                  <a:lnTo>
                    <a:pt x="258" y="4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75160" y="2590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5160" y="3124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900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24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5160" y="4876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5160" y="5410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008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720" y="1981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5720" y="4191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8-10-17T06:13:58Z</dcterms:modified>
  <cp:revision>26</cp:revision>
  <dc:subject/>
  <dc:title>Логические схемы</dc:title>
</cp:coreProperties>
</file>