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AE3D-D73F-49BC-917E-A3F6D61EA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83D3-ED91-47E7-9B72-8DF311EA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804-D55C-4B45-BA25-372C0A66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0456-2CA8-405A-A0F2-FBC9041EB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CDAA-B683-461A-9F15-5CC1B75B2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7AA-B86F-4225-8F13-314189FE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E05E-CF24-490F-8D3C-3DE63365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03E-C073-4F05-A3D7-F264863A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F260-F639-4EC5-BC1C-710410E8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CC3E-1AC6-4D0A-90E6-5A23EC67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36E-9403-4F1C-8C1A-32F2FB58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4015-BFE5-45EE-80CD-CD9FA126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BCABA-096B-4BF4-A28C-5B7BB5D2B8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5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2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6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7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37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6.wmf"/><Relationship Id="rId6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ные понят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гебры лог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блица истинност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133720"/>
          <a:ext cx="8305920" cy="3886200"/>
        </p:xfrm>
        <a:graphic>
          <a:graphicData uri="http://schemas.openxmlformats.org/drawingml/2006/table">
            <a:tbl>
              <a:tblPr/>
              <a:tblGrid>
                <a:gridCol w="1278000"/>
                <a:gridCol w="1278000"/>
                <a:gridCol w="1277640"/>
                <a:gridCol w="1278000"/>
                <a:gridCol w="3194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... ,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, ... 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, ... 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 1, ... 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 1, ... 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ая форму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перпозици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функц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лученная с помощью подстановок этих функций друг в друга, 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ул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выражение, описывающее эту суперпозиц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записи формулы функции алгебры логики необходимо либо перечислить все ситуации, в которых она истинна, либо исключить все ситуации, в которых она лож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инимизац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х фун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законов алгебры лог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Куайна-Маккла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карт Кар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утативный зак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19440" y="2585880"/>
          <a:ext cx="32241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9440" y="2585880"/>
                    <a:ext cx="32241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895480" y="4000680"/>
          <a:ext cx="2895840" cy="72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4000680"/>
                    <a:ext cx="28958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ссоциативный зако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28800" y="2590920"/>
          <a:ext cx="5562720" cy="74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56272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928880" y="4044960"/>
          <a:ext cx="538632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4044960"/>
                    <a:ext cx="53863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трибутивный зак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52480" y="2590920"/>
          <a:ext cx="58438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590920"/>
                    <a:ext cx="5843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676520" y="4038480"/>
          <a:ext cx="594360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038480"/>
                    <a:ext cx="59436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еорема де Морга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19520" y="2494080"/>
          <a:ext cx="314316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494080"/>
                    <a:ext cx="31431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952720" y="3962520"/>
          <a:ext cx="291456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2720" y="3962520"/>
                    <a:ext cx="29145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войство идемпотен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166920" y="2568600"/>
          <a:ext cx="231948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6920" y="2568600"/>
                    <a:ext cx="23194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57640" y="4038480"/>
          <a:ext cx="2152440" cy="7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7640" y="4038480"/>
                    <a:ext cx="215244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войство поглощ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895480" y="2577960"/>
          <a:ext cx="31291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77960"/>
                    <a:ext cx="3129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838600" y="4038480"/>
          <a:ext cx="333360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8600" y="4038480"/>
                    <a:ext cx="33336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перац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еременной с инверси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76720" y="2446200"/>
          <a:ext cx="236196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446200"/>
                    <a:ext cx="23619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276720" y="3862440"/>
          <a:ext cx="2438280" cy="10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62440"/>
                    <a:ext cx="24382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терм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лгебра лог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ое высказы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ие связ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НЕ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И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ИЛИ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ЕСЛИ …, ТО …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… ТОГДА И ТОЛЬКО ТОГДА …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перации с константам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352680" y="1954080"/>
          <a:ext cx="237672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954080"/>
                    <a:ext cx="237672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352680" y="3976560"/>
          <a:ext cx="2210040" cy="17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976560"/>
                    <a:ext cx="221004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1981080"/>
          <a:ext cx="8001000" cy="24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00100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уайна-Маккласк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д минимизации логических функций Куайна-Маккласки основан на том факте, что вынос общего множителя за скобки в формуле эквивалентен объединению двух строк в одну в таблице истинности. В комбинируемых строках должны совпадать все значения переменных, кроме одной - сравниваемые строки отличаются на одну единицу. Значение "не совпавшей" переменной безразлично и может быть обозначено звездочкой "*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00200" y="1828800"/>
          <a:ext cx="6095880" cy="40622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1752480"/>
          <a:ext cx="8686800" cy="4657680"/>
        </p:xfrm>
        <a:graphic>
          <a:graphicData uri="http://schemas.openxmlformats.org/drawingml/2006/table">
            <a:tbl>
              <a:tblPr/>
              <a:tblGrid>
                <a:gridCol w="2362320"/>
                <a:gridCol w="990720"/>
                <a:gridCol w="99036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53640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8600" y="350532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28600" y="7632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2895480"/>
          <a:ext cx="8686800" cy="1552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, 7, 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, 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28600" y="4648320"/>
          <a:ext cx="8686800" cy="103500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, 7, 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657600" y="5867280"/>
          <a:ext cx="160020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5867280"/>
                    <a:ext cx="160020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арт Карн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рта Карно представляет прямоугольник разделенный на квадраты, каждому из которых соответствует определенная комбинация всех входных переменных. Внутри каждого квадрата записывается значение функции на данной комбинации входных перемен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карт Кар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346040" y="2362320"/>
          <a:ext cx="1295640" cy="1035000"/>
        </p:xfrm>
        <a:graphic>
          <a:graphicData uri="http://schemas.openxmlformats.org/drawingml/2006/table">
            <a:tbl>
              <a:tblPr/>
              <a:tblGrid>
                <a:gridCol w="647640"/>
                <a:gridCol w="64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501920" y="1828800"/>
          <a:ext cx="407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8288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184480" y="1828800"/>
          <a:ext cx="4046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448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863640" y="2286000"/>
          <a:ext cx="4064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22860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838080" y="2819520"/>
          <a:ext cx="4320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819520"/>
                    <a:ext cx="432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800600" y="2362320"/>
          <a:ext cx="2514600" cy="10350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2856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541840" y="1828800"/>
          <a:ext cx="40824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41840" y="182880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224760" y="1828800"/>
          <a:ext cx="404640" cy="57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2476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76920" y="1828800"/>
          <a:ext cx="40788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18288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834240" y="1828800"/>
          <a:ext cx="404640" cy="57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3424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292640" y="2286000"/>
          <a:ext cx="40644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92640" y="22860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267080" y="2819520"/>
          <a:ext cx="432000" cy="647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67080" y="2819520"/>
                    <a:ext cx="432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876920" y="1447920"/>
          <a:ext cx="407880" cy="576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76920" y="1447920"/>
                    <a:ext cx="4078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559480" y="1447920"/>
          <a:ext cx="404640" cy="571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59480" y="144792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224760" y="1447920"/>
          <a:ext cx="404640" cy="571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224760" y="144792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831000" y="1447920"/>
          <a:ext cx="407880" cy="576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31000" y="1447920"/>
                    <a:ext cx="4078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800600" y="4559400"/>
          <a:ext cx="2514600" cy="2070000"/>
        </p:xfrm>
        <a:graphic>
          <a:graphicData uri="http://schemas.openxmlformats.org/drawingml/2006/table">
            <a:tbl>
              <a:tblPr/>
              <a:tblGrid>
                <a:gridCol w="628560"/>
                <a:gridCol w="628560"/>
                <a:gridCol w="62892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541840" y="3995640"/>
          <a:ext cx="408240" cy="576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541840" y="399564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224760" y="3995640"/>
          <a:ext cx="404640" cy="571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224760" y="399564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876920" y="3995640"/>
          <a:ext cx="407880" cy="5763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876920" y="399564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834240" y="3995640"/>
          <a:ext cx="404640" cy="5716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834240" y="399564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876920" y="3614760"/>
          <a:ext cx="407880" cy="5763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876920" y="361476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559480" y="3614760"/>
          <a:ext cx="404640" cy="5713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559480" y="361476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224760" y="3614760"/>
          <a:ext cx="404640" cy="571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224760" y="361476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831000" y="3614760"/>
          <a:ext cx="407880" cy="5763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831000" y="361476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343400" y="5029200"/>
          <a:ext cx="406440" cy="6094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4343400" y="50292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292640" y="5486400"/>
          <a:ext cx="431640" cy="6476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292640" y="548640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343400" y="4495680"/>
          <a:ext cx="406440" cy="60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343400" y="4495680"/>
                    <a:ext cx="406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292640" y="6019920"/>
          <a:ext cx="431640" cy="647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292640" y="601992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716280" y="5486400"/>
          <a:ext cx="468360" cy="6476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3716280" y="548640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3768840" y="4495680"/>
          <a:ext cx="439560" cy="6098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3768840" y="4495680"/>
                    <a:ext cx="439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722760" y="6019920"/>
          <a:ext cx="468360" cy="6476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722760" y="601992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733920" y="5029200"/>
          <a:ext cx="468360" cy="64764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3733920" y="502920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562720" y="2514600"/>
          <a:ext cx="2514600" cy="10350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2856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303960" y="1981080"/>
          <a:ext cx="407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960" y="198108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986520" y="1981080"/>
          <a:ext cx="4050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6520" y="1981080"/>
                    <a:ext cx="405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638680" y="1981080"/>
          <a:ext cx="4082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98108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596360" y="1981080"/>
          <a:ext cx="40464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6360" y="198108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054760" y="2438280"/>
          <a:ext cx="40608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54760" y="2438280"/>
                    <a:ext cx="406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029200" y="2971800"/>
          <a:ext cx="43164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297180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638680" y="1600200"/>
          <a:ext cx="40824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160020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321600" y="1600200"/>
          <a:ext cx="404640" cy="57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1600" y="16002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986520" y="1600200"/>
          <a:ext cx="405000" cy="571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86520" y="1600200"/>
                    <a:ext cx="405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7593120" y="1600200"/>
          <a:ext cx="407880" cy="57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93120" y="16002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85800" y="1819440"/>
          <a:ext cx="3860640" cy="465768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888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5410080" y="2438280"/>
            <a:ext cx="152424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943600" y="4572000"/>
          <a:ext cx="1600200" cy="853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3600" y="4572000"/>
                    <a:ext cx="16002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опе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вивален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а: «НЕ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24120" y="2471760"/>
          <a:ext cx="476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4120" y="2471760"/>
                    <a:ext cx="476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23880" y="3657600"/>
          <a:ext cx="6096240" cy="2057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791320" y="3657600"/>
          <a:ext cx="476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476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666880" y="3749760"/>
          <a:ext cx="47628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74976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ъю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ая связка: «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        ;            ;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43480" y="2554200"/>
          <a:ext cx="95220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3480" y="2554200"/>
                    <a:ext cx="9522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60840" y="2548080"/>
          <a:ext cx="123048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0840" y="254808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867280" y="2552760"/>
          <a:ext cx="13096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2552760"/>
                    <a:ext cx="13096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344484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981760" y="3521160"/>
          <a:ext cx="95256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81760" y="3521160"/>
                    <a:ext cx="9525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24160" y="3505320"/>
          <a:ext cx="47628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2416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143080" y="3505320"/>
          <a:ext cx="476280" cy="51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4308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зъю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ая связка: «ИЛ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         ;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405240" y="2554200"/>
          <a:ext cx="123012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554200"/>
                    <a:ext cx="12301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60840" y="2548080"/>
          <a:ext cx="123048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0840" y="254808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447920" y="344484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124160" y="3505320"/>
          <a:ext cx="47628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416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143080" y="3505320"/>
          <a:ext cx="47628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856120" y="3505320"/>
          <a:ext cx="123048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6120" y="350532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пл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и:  «ЕСЛИ …, ТО», «ИЗ … СЛЕДУЕТ», «… ВЛЕЧЕТ …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408480" y="3043080"/>
          <a:ext cx="14684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3043080"/>
                    <a:ext cx="14684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447920" y="388620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124160" y="3886200"/>
          <a:ext cx="4762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416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143080" y="3886200"/>
          <a:ext cx="4762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308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791320" y="3886200"/>
          <a:ext cx="146844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3886200"/>
                    <a:ext cx="14684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квивален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и: «тогда и только тогда», «необходимо и достаточно», « … равносильно …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3164040"/>
          <a:ext cx="127008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164040"/>
                    <a:ext cx="12700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447920" y="388620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124160" y="3886200"/>
          <a:ext cx="4762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416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143080" y="3886200"/>
          <a:ext cx="4762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308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816520" y="3886200"/>
          <a:ext cx="1270080" cy="5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16520" y="3886200"/>
                    <a:ext cx="12700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ая фу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кцией алгебры логик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... 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от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переменных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... 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ринимающих значения 0 или 1, называется функция, принимающая значения 0 или 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25:14Z</dcterms:created>
  <dc:creator>cde</dc:creator>
  <dc:description/>
  <dc:language>en-US</dc:language>
  <cp:lastModifiedBy>lav</cp:lastModifiedBy>
  <dcterms:modified xsi:type="dcterms:W3CDTF">2005-10-25T10:13:19Z</dcterms:modified>
  <cp:revision>35</cp:revision>
  <dc:subject/>
  <dc:title>Презентация PowerPoint</dc:title>
</cp:coreProperties>
</file>