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6694-0AC0-4679-B412-64CCEBA2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8DCF-1EBA-4F5D-8816-13892570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365E-8663-41C3-93B3-4E00924E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1B5C-583E-4232-A623-19053DBB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FAA7-D79F-4583-8BAA-79D3029E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FC4A-CBB1-42A4-9C96-16CA3380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D75F-37BE-4057-BFC3-AF7F5B0E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DA19-598B-4A76-9E38-2BFE3ACA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855-48E5-4880-B49C-1569CA00E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7C5-F6B8-4259-88E5-2F00F7767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7196-53FF-4E57-B302-CFDA8A68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3D4C-6447-4F34-9486-61516DF3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6264-EEA1-49AD-BF45-81901C9880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жатие данных и помехозащищенное код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 с проверкой на чет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362320" y="2286000"/>
          <a:ext cx="4038480" cy="3014640"/>
        </p:xfrm>
        <a:graphic>
          <a:graphicData uri="http://schemas.openxmlformats.org/drawingml/2006/table">
            <a:tbl>
              <a:tblPr/>
              <a:tblGrid>
                <a:gridCol w="2271600"/>
                <a:gridCol w="1766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овая комбин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т чет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 Хемминг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станция Хемминг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ду двумя кодовыми комбинациями равна количеству битов, отличающихся в этих комбинаци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1110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01111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 Хеммин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828800"/>
          <a:ext cx="6096240" cy="465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1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0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0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62120" y="1828800"/>
          <a:ext cx="7848360" cy="4673520"/>
        </p:xfrm>
        <a:graphic>
          <a:graphicData uri="http://schemas.openxmlformats.org/drawingml/2006/table">
            <a:tbl>
              <a:tblPr/>
              <a:tblGrid>
                <a:gridCol w="1582560"/>
                <a:gridCol w="1860480"/>
                <a:gridCol w="2805120"/>
                <a:gridCol w="160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бин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1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0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0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быточ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быточн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значает, что из исходных символов можно построить больше комбинаций, чем их применено в данном код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авило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Уменьшение числа используемых комбинаций приводит к повышению помехоустойчив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лияние кодового расстояния на помехозащищенност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нимальное кодовое расстоя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обнаруживаемых ошиб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исправляемых ошиб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шибка не обнаружив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наруживаются одиночные ошиб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равляются одиночные ошибки или обнаруживаются двойные ошиб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е числа контрольных символо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ина кодовой комбин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информационных симв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контрольных симв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жатие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жатие данн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процесс, обеспечивающий уменьшение объема данных путем сокращения их избыточ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ичают сжатия с потерей и без потери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ирование длины сер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111 1111 1111 1111 1111 0000 0000 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[20] 0 [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0 0 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сжатия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сстановления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000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1 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24] 1 [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 0000 0000 0000 0000 0000 1111 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относительного кодиров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76; 1473; 1480; 147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76; -3; +7; 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астотно-зависимое код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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111011100111011000110110110110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2743200"/>
          <a:ext cx="2971800" cy="2587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257800" y="2746440"/>
          <a:ext cx="2971800" cy="2587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сстановле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11111001110010110101001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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257800" y="2746440"/>
          <a:ext cx="2971800" cy="2587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Лемпеля-Зи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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, 4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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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мехозащищенное код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ехозащищенны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ся коды, позволяющие обнаружить и исправить ошибки в кодовых комбинация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ществуют к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обнаружением ошибо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обнаружением и исправлением ошиб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9:25:14Z</dcterms:created>
  <dc:creator>cde</dc:creator>
  <dc:description/>
  <dc:language>en-US</dc:language>
  <cp:lastModifiedBy>Owner</cp:lastModifiedBy>
  <dcterms:modified xsi:type="dcterms:W3CDTF">2009-03-15T15:01:32Z</dcterms:modified>
  <cp:revision>19</cp:revision>
  <dc:subject/>
  <dc:title>Презентация PowerPoint</dc:title>
</cp:coreProperties>
</file>