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FB0-E2A3-40A1-8366-24236453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CA5-50F2-43E1-B50F-EF71B79A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B0C-0B4C-4739-AE43-C2D76ADB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A8F-D3AB-4A72-A811-D87EF8BD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814-D229-4568-B714-83710FC8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EDD-A813-4C6B-A1C7-320B41F3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C0E-9768-4886-B780-312654C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16D-36BA-4E50-B8C5-4077CB76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BF9-D29E-4162-918C-AC19A10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08C-6D0D-4ECB-B4F7-939C7C09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AEB-5321-4782-8A95-47576F68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472-7A50-4BF0-9E1C-4DFA3BEF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766E-8E38-4A5D-85BE-75046AA96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тирование баз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гг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ют сочетание трех компонентов: событие, условие и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ыт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операция в базе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логическое выражение, которое должно принимать значение «Истина» для того, чтобы выполнено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триггерная процедура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INTO :new.id FROM DU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граничения цело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integrity - нетронутость, неприкосновенность, сохранность, целостность) понимается как правильность данных в любой момент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ы правил целостност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первичны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внешни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любой конкретной базы данных существует ряд дополнительных специфических правил, которые относятся к ней одной и определяются разработчиком. Чаще всего контролирует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икальность тех или иных атрибу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пазон значений (экзаменационная оцен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2 до 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адлежность набору значений (пол "М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 "Ж"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ональная зависимость (ФЗ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таблица,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роизвольные подмножества ее полей. Тог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онально зависит о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ишу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каждое значение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вязано только с одним значением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05120" y="388620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267080"/>
          <a:ext cx="3444840" cy="159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344484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183280" y="4272120"/>
          <a:ext cx="3502080" cy="1863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3280" y="4272120"/>
                    <a:ext cx="35020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2096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Ф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 В находится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ной функциона-ль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составного поля А, если оно функционально зависит от А и не зависит функционально от любого подмножества поля 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талог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ва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ится подробная информация, касающаяся таблиц, индексов, ограничений поддержки целостности 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ая нормальна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ервой нормальной форме (1НФ) тогда и только тогда, когда ни одна из ее строк не содержит в любом своем поле более одного значения и ни одно из ее ключевых полей не пус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тор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о второй нормальной форме (2НФ), если она удовлетворяет определению 1НФ и все ее поля, не входящие в первичный ключ, связаны полной функциональной зависимостью с первичным ключ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06480" y="2209680"/>
          <a:ext cx="5813640" cy="18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09680"/>
                    <a:ext cx="581364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828800" y="434340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06480" y="1752480"/>
          <a:ext cx="5432400" cy="17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1752480"/>
                    <a:ext cx="54324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55640" y="4187880"/>
          <a:ext cx="311004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187880"/>
                    <a:ext cx="3110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68680" y="4202280"/>
          <a:ext cx="4341960" cy="173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8680" y="4202280"/>
                    <a:ext cx="43419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ть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третьей нормальной форме (3НФ), если она удовлетворяет определению 2НФ и не одно из ее неключевых полей не зависит функционально от любого другого неключевого по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7000" y="213840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3840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270160" y="39020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67000" y="198612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98612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85800" y="4202280"/>
          <a:ext cx="326376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02280"/>
                    <a:ext cx="3263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56400" y="4202280"/>
          <a:ext cx="2325600" cy="116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4202280"/>
                    <a:ext cx="23256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рмальная форм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ойса-Код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нормальной форме Бойса-Кодда (НФБК), если и только если любая функциональная зависимость между его полями сводится к полной функциональной зависимости от возможного клю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декомпози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ной декомпозицией таблицы называют такую совокупность произвольного числа ее проекций, соединение которых полностью совпадает с содержимым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значная зависи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– поля таблицы. Поле 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значно определя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е В той же таблицы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если множество значений поля В, соответствующее заданной паре (А, С), зависит только от значения А и не зависит от значения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OBJECT_NAME, OBJECT_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USER_OBJECTS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ABLE_NAME, COLUMN_NAME, DATA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USER_TAB_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TABLE_NAME = '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звание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аблицы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06480" y="2212920"/>
          <a:ext cx="466416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12920"/>
                    <a:ext cx="46641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812960" y="495288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орема Фейг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&gt;&gt;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46480" y="1635120"/>
          <a:ext cx="46638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6480" y="1635120"/>
                    <a:ext cx="46638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6800" y="4773600"/>
          <a:ext cx="3500280" cy="12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800" y="4773600"/>
                    <a:ext cx="35002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033880" y="4800600"/>
          <a:ext cx="3348000" cy="1862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4800600"/>
                    <a:ext cx="33480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H="1">
            <a:off x="2514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етверт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четвертой нормальной форме (4НФ), если она удовлетворяет определению НФБК и все многозначные зависимости являются функциональными зависимостями от клю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25880" y="1676520"/>
          <a:ext cx="2508120" cy="63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676520"/>
                    <a:ext cx="25081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1960" y="3044880"/>
          <a:ext cx="1865160" cy="65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3044880"/>
                    <a:ext cx="1865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81280" y="3032280"/>
          <a:ext cx="1690920" cy="642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32280"/>
                    <a:ext cx="1690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70760" y="3032280"/>
          <a:ext cx="1596960" cy="642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0760" y="3032280"/>
                    <a:ext cx="1596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8800" y="5661000"/>
          <a:ext cx="2585880" cy="649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8800" y="5661000"/>
                    <a:ext cx="2585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824120" y="4510080"/>
          <a:ext cx="2595600" cy="649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4120" y="4510080"/>
                    <a:ext cx="2595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24080" y="1676520"/>
          <a:ext cx="2514600" cy="8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2514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8080" y="3048120"/>
          <a:ext cx="1828800" cy="86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182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581280" y="3029040"/>
          <a:ext cx="1676520" cy="8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29040"/>
                    <a:ext cx="1676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72200" y="3030480"/>
          <a:ext cx="1600200" cy="855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3030480"/>
                    <a:ext cx="1600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34120" y="5665680"/>
          <a:ext cx="2514600" cy="1040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5665680"/>
                    <a:ext cx="25146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4165560"/>
          <a:ext cx="2666880" cy="1320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165560"/>
                    <a:ext cx="26668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ят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ятой нормальной форме (5НФ) тогда и только тогда, когда в каждой ее полной декомпозиции все проекции содержат потенциальный ключ. Таблица, не имеющая ни одной полной декомпозиции, также находится в 5Н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дура норм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неполны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зависимости от неключевых п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МЗ являлись такж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в каждой ее полной декомпозиции все проекции содержали потенциальный 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проект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антическое модел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изация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правил поддержки целостности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авк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пустая именованная таблица, определяемая перечнем тех столбцов таблиц и признаками тех их строк, которые хотелось бы в ней увиде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и многие ко мног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трудник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кла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а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Дата, 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уется разработать систему, которая позволяет хранить информацию о книгах частной библиотеки и обеспечивает возможнос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т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сматривать список книг, подавать прошение на временное изъятие книг из библиотеки для ознакомл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зяи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обавлять и удалять  книги,  изменять расположение книг в шкафу, удовлетворять или отклонять прошения г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280" y="1557360"/>
            <a:ext cx="8839440" cy="3959280"/>
            <a:chOff x="152280" y="1557360"/>
            <a:chExt cx="8839440" cy="3959280"/>
          </a:xfrm>
        </p:grpSpPr>
        <p:graphicFrame>
          <p:nvGraphicFramePr>
            <p:cNvPr id="201" name=""/>
            <p:cNvGraphicFramePr/>
            <p:nvPr/>
          </p:nvGraphicFramePr>
          <p:xfrm>
            <a:off x="152280" y="1557360"/>
            <a:ext cx="8839440" cy="395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557360"/>
                      <a:ext cx="883944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flipH="1">
              <a:off x="2568600" y="3254400"/>
              <a:ext cx="1117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0080" y="3614760"/>
              <a:ext cx="1143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1280" y="2624040"/>
            <a:ext cx="9072720" cy="2633760"/>
            <a:chOff x="71280" y="2624040"/>
            <a:chExt cx="9072720" cy="2633760"/>
          </a:xfrm>
        </p:grpSpPr>
        <p:graphicFrame>
          <p:nvGraphicFramePr>
            <p:cNvPr id="209" name=""/>
            <p:cNvGraphicFramePr/>
            <p:nvPr/>
          </p:nvGraphicFramePr>
          <p:xfrm>
            <a:off x="71280" y="2624040"/>
            <a:ext cx="9072720" cy="263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2624040"/>
                      <a:ext cx="9072720" cy="26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 flipH="1">
              <a:off x="2308320" y="3375000"/>
              <a:ext cx="434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365760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3962520"/>
              <a:ext cx="457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76320" y="2666880"/>
            <a:ext cx="9299520" cy="2206800"/>
            <a:chOff x="-76320" y="2666880"/>
            <a:chExt cx="9299520" cy="2206800"/>
          </a:xfrm>
        </p:grpSpPr>
        <p:graphicFrame>
          <p:nvGraphicFramePr>
            <p:cNvPr id="218" name=""/>
            <p:cNvGraphicFramePr/>
            <p:nvPr/>
          </p:nvGraphicFramePr>
          <p:xfrm>
            <a:off x="-76320" y="2666880"/>
            <a:ext cx="9299520" cy="2206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76320" y="2666880"/>
                      <a:ext cx="9299520" cy="22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 flipH="1">
              <a:off x="1863360" y="33796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5560" y="36352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81800" y="3127320"/>
              <a:ext cx="776160" cy="74628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72080" y="4197240"/>
              <a:ext cx="795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438280"/>
            <a:ext cx="8839080" cy="2916360"/>
            <a:chOff x="0" y="2438280"/>
            <a:chExt cx="8839080" cy="2916360"/>
          </a:xfrm>
        </p:grpSpPr>
        <p:graphicFrame>
          <p:nvGraphicFramePr>
            <p:cNvPr id="226" name=""/>
            <p:cNvGraphicFramePr/>
            <p:nvPr/>
          </p:nvGraphicFramePr>
          <p:xfrm>
            <a:off x="0" y="2438280"/>
            <a:ext cx="8839080" cy="291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438280"/>
                      <a:ext cx="8839080" cy="291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871640" y="3184560"/>
              <a:ext cx="703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4120" y="2941560"/>
              <a:ext cx="736560" cy="131616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33760" y="4589640"/>
              <a:ext cx="703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786120" y="2878200"/>
              <a:ext cx="736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3240" y="3184560"/>
              <a:ext cx="384480" cy="80172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C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3520" y="2146320"/>
            <a:ext cx="8053200" cy="3263760"/>
            <a:chOff x="533520" y="2146320"/>
            <a:chExt cx="8053200" cy="3263760"/>
          </a:xfrm>
        </p:grpSpPr>
        <p:graphicFrame>
          <p:nvGraphicFramePr>
            <p:cNvPr id="237" name=""/>
            <p:cNvGraphicFramePr/>
            <p:nvPr/>
          </p:nvGraphicFramePr>
          <p:xfrm>
            <a:off x="615960" y="2146320"/>
            <a:ext cx="7970760" cy="326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2146320"/>
                      <a:ext cx="7970760" cy="32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327400" y="2725920"/>
              <a:ext cx="641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1560" y="2497320"/>
              <a:ext cx="662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73720" y="2497320"/>
              <a:ext cx="657360" cy="117144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64360" y="3897360"/>
              <a:ext cx="66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16480" y="2719440"/>
              <a:ext cx="358560" cy="7682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11560" y="2998800"/>
              <a:ext cx="685800" cy="1403280"/>
            </a:xfrm>
            <a:custGeom>
              <a:avLst/>
              <a:gdLst/>
              <a:ahLst/>
              <a:rect l="l" t="t" r="r" b="b"/>
              <a:pathLst>
                <a:path w="517" h="950">
                  <a:moveTo>
                    <a:pt x="517" y="950"/>
                  </a:moveTo>
                  <a:lnTo>
                    <a:pt x="232" y="950"/>
                  </a:lnTo>
                  <a:lnTo>
                    <a:pt x="232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520" y="2739960"/>
              <a:ext cx="257040" cy="2090880"/>
            </a:xfrm>
            <a:custGeom>
              <a:avLst/>
              <a:gdLst/>
              <a:ahLst/>
              <a:rect l="l" t="t" r="r" b="b"/>
              <a:pathLst>
                <a:path w="144" h="1344">
                  <a:moveTo>
                    <a:pt x="144" y="0"/>
                  </a:moveTo>
                  <a:lnTo>
                    <a:pt x="0" y="0"/>
                  </a:lnTo>
                  <a:lnTo>
                    <a:pt x="0" y="1344"/>
                  </a:lnTo>
                  <a:lnTo>
                    <a:pt x="144" y="134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логический указатель, который может использоваться в приложении для перемещения по набору строк, указывая поочередно на каждую из них и таким образом обеспечивая возможность адресации этих строк – по одной за один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LARE C 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TCH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логическая единица работы, обычно включающая несколько операций над базой данны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акция начин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GIN 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рекращ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ревод денег со счета А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A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Списание денег со счета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B; 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Зачисление денег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се выполнено нормально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 COMMI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-- Нормаль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ROLLBACK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-- Аварий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9-04-11T15:06:35Z</dcterms:modified>
  <cp:revision>146</cp:revision>
  <dc:subject/>
  <dc:title>Презентация PowerPoint</dc:title>
</cp:coreProperties>
</file>