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6814-704E-4407-ACE7-213BDB642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550C-3D6C-455D-8665-266F7997F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876B-1B35-4DED-AD90-47040969C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20E6-7020-475A-BEC5-659F171BA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4EFA-F084-411B-AB44-7DB5CE9C3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AC09-4B0E-4CB4-92C7-38667FB81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9CB6-DC12-4AE0-ABD6-20DD0E183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BF1C-7BB7-4DA7-A0D0-5D560D8C1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7DD3-6580-46B9-A050-76672943D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EA81-55B9-44A2-9F44-9A14DC5D8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B98B-B64B-452B-8608-CBC1ECC7F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6DEC-AFB3-42D6-8D46-1FEAF91BA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A5BC6-8171-4F60-97D3-B23216123D4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Алгоритмические машины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отеза Тьюринга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бстрактная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ши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ьюринга предоставляет среду, в которой могут быть описаны все вычислимые функци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евычислимой по Тьюрингу является функция, которая сопоставляет геделевскому номеру программы значение переменной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ное 0 или 1, в зависимости от того, является данная программа самоостанавливающейся или нет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ейший язык программирования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4120" indent="-3841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inc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 </a:t>
            </a:r>
            <a:r>
              <a:rPr b="0" i="1" lang="ru-RU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Имя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dec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 </a:t>
            </a:r>
            <a:r>
              <a:rPr b="0" i="1" lang="ru-RU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Имя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whil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Имя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0 </a:t>
            </a:r>
            <a:r>
              <a:rPr b="1" lang="en-US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do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{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…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програм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whi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0 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{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dec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whi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0 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whil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0 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do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{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dec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whil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0 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do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inc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inc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dec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whil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0 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do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inc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dec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dec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страктная машина Пос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Машина Поста состоит из ленты и каретки. Лента бесконечна и разделена на секции одинакового размера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В каждую секцию ленты заносится один символ двоичного информации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етка может передвигаться вдоль ленты влево и вправо. Когда она неподвижна, она стоит против ровно одной секции лент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единицу времени, которая называется шагом, каретка может сдвинуться на одну секцию влево или вправо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Формат команды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шины Пос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Формат команды: nKm, гд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n – номер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текущей команды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K – команд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из системы команд машины Пост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m – ссылк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номер команды, которая будет выполняться следующ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команд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шины Поста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1,b2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 b ]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371600" y="3852720"/>
          <a:ext cx="270000" cy="41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852720"/>
                    <a:ext cx="27000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 программы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2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4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371600" y="3852720"/>
          <a:ext cx="270000" cy="41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852720"/>
                    <a:ext cx="27000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страктная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шина Тьюринга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шина Тьюринга состоит из информационной ленты, каретки, лентопротяжного механизма и операционного исполнительного устройств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нта ограничена слева и бесконечна справа. Лента разделена на секции одинакового размер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ждую секцию ленты заносятся символы внешнего алфавита машины Тьюринга A = {a0, a1,... aN}, где а0, как правило, пробел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ционное исполнительное устройство может находиться в одном из дискретных состояний: Q = {q0, q1,...qM} - внутренний алфавит машины Тьюринга или алфавит внутренних состоян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Формат команды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шины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Тьюринга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Формат команды: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q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, где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a  - новое содержание текущей ячейки (новый символ внешнего алфавита, который заносится в текущую ячейку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K  - команда лентопротяжного механизма машины Тьюринга (влево - &lt;, вправо - &gt;, стоп - !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q - новое внутренне состояние машины Тьюринг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програм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371600" y="2362320"/>
            <a:ext cx="6704640" cy="3276000"/>
            <a:chOff x="1371600" y="2362320"/>
            <a:chExt cx="6704640" cy="3276000"/>
          </a:xfrm>
        </p:grpSpPr>
        <p:grpSp>
          <p:nvGrpSpPr>
            <p:cNvPr id="61" name=""/>
            <p:cNvGrpSpPr/>
            <p:nvPr/>
          </p:nvGrpSpPr>
          <p:grpSpPr>
            <a:xfrm>
              <a:off x="1387080" y="2367000"/>
              <a:ext cx="6670080" cy="3265560"/>
              <a:chOff x="1387080" y="2367000"/>
              <a:chExt cx="6670080" cy="3265560"/>
            </a:xfrm>
          </p:grpSpPr>
          <p:grpSp>
            <p:nvGrpSpPr>
              <p:cNvPr id="62" name=""/>
              <p:cNvGrpSpPr/>
              <p:nvPr/>
            </p:nvGrpSpPr>
            <p:grpSpPr>
              <a:xfrm>
                <a:off x="1387080" y="2367000"/>
                <a:ext cx="2176560" cy="672120"/>
                <a:chOff x="1387080" y="2367000"/>
                <a:chExt cx="2176560" cy="67212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1613880" y="2367000"/>
                  <a:ext cx="1723680" cy="67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A/Q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1387080" y="2367000"/>
                  <a:ext cx="2176560" cy="67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" name=""/>
              <p:cNvGrpSpPr/>
              <p:nvPr/>
            </p:nvGrpSpPr>
            <p:grpSpPr>
              <a:xfrm>
                <a:off x="3564720" y="2367000"/>
                <a:ext cx="2246040" cy="672120"/>
                <a:chOff x="3564720" y="2367000"/>
                <a:chExt cx="2246040" cy="672120"/>
              </a:xfrm>
            </p:grpSpPr>
            <p:sp>
              <p:nvSpPr>
                <p:cNvPr id="66" name=""/>
                <p:cNvSpPr/>
                <p:nvPr/>
              </p:nvSpPr>
              <p:spPr>
                <a:xfrm>
                  <a:off x="3791520" y="2367000"/>
                  <a:ext cx="1791720" cy="67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Q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3564720" y="2367000"/>
                  <a:ext cx="2246040" cy="67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5812200" y="2367000"/>
                <a:ext cx="2244960" cy="672120"/>
                <a:chOff x="5812200" y="2367000"/>
                <a:chExt cx="2244960" cy="67212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6037920" y="2367000"/>
                  <a:ext cx="1793160" cy="67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Q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5812200" y="2367000"/>
                  <a:ext cx="2244960" cy="67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" name=""/>
              <p:cNvGrpSpPr/>
              <p:nvPr/>
            </p:nvGrpSpPr>
            <p:grpSpPr>
              <a:xfrm>
                <a:off x="1387080" y="3039480"/>
                <a:ext cx="2176560" cy="864000"/>
                <a:chOff x="1387080" y="3039480"/>
                <a:chExt cx="2176560" cy="864000"/>
              </a:xfrm>
            </p:grpSpPr>
            <p:sp>
              <p:nvSpPr>
                <p:cNvPr id="72" name=""/>
                <p:cNvSpPr/>
                <p:nvPr/>
              </p:nvSpPr>
              <p:spPr>
                <a:xfrm>
                  <a:off x="1613880" y="3039480"/>
                  <a:ext cx="1723680" cy="86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1387080" y="3039480"/>
                  <a:ext cx="2176560" cy="86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3564720" y="3039480"/>
                <a:ext cx="2246040" cy="864000"/>
                <a:chOff x="3564720" y="3039480"/>
                <a:chExt cx="2246040" cy="86400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3791520" y="3039480"/>
                  <a:ext cx="1791720" cy="86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1 &gt;Q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3564720" y="3039480"/>
                  <a:ext cx="2246040" cy="86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" name=""/>
              <p:cNvGrpSpPr/>
              <p:nvPr/>
            </p:nvGrpSpPr>
            <p:grpSpPr>
              <a:xfrm>
                <a:off x="5812200" y="3039480"/>
                <a:ext cx="2244960" cy="864000"/>
                <a:chOff x="5812200" y="3039480"/>
                <a:chExt cx="2244960" cy="864000"/>
              </a:xfrm>
            </p:grpSpPr>
            <p:sp>
              <p:nvSpPr>
                <p:cNvPr id="78" name=""/>
                <p:cNvSpPr/>
                <p:nvPr/>
              </p:nvSpPr>
              <p:spPr>
                <a:xfrm>
                  <a:off x="6037920" y="3039480"/>
                  <a:ext cx="1793160" cy="86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1 &gt;Q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5812200" y="3039480"/>
                  <a:ext cx="2244960" cy="86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" name=""/>
              <p:cNvGrpSpPr/>
              <p:nvPr/>
            </p:nvGrpSpPr>
            <p:grpSpPr>
              <a:xfrm>
                <a:off x="1387080" y="3903840"/>
                <a:ext cx="2176560" cy="864360"/>
                <a:chOff x="1387080" y="3903840"/>
                <a:chExt cx="2176560" cy="86436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1613880" y="3903840"/>
                  <a:ext cx="1723680" cy="8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1387080" y="3903840"/>
                  <a:ext cx="2176560" cy="864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" name=""/>
              <p:cNvGrpSpPr/>
              <p:nvPr/>
            </p:nvGrpSpPr>
            <p:grpSpPr>
              <a:xfrm>
                <a:off x="3564720" y="3903840"/>
                <a:ext cx="2246040" cy="864360"/>
                <a:chOff x="3564720" y="3903840"/>
                <a:chExt cx="2246040" cy="86436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3791520" y="3903840"/>
                  <a:ext cx="1791720" cy="8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0 &gt;Q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3564720" y="3903840"/>
                  <a:ext cx="2246040" cy="864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" name=""/>
              <p:cNvGrpSpPr/>
              <p:nvPr/>
            </p:nvGrpSpPr>
            <p:grpSpPr>
              <a:xfrm>
                <a:off x="5812200" y="3903840"/>
                <a:ext cx="2244960" cy="864360"/>
                <a:chOff x="5812200" y="3903840"/>
                <a:chExt cx="2244960" cy="86436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6037920" y="3903840"/>
                  <a:ext cx="1793160" cy="8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0 &gt;Q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5812200" y="3903840"/>
                  <a:ext cx="2244960" cy="864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1387080" y="4768560"/>
                <a:ext cx="2176560" cy="864000"/>
                <a:chOff x="1387080" y="4768560"/>
                <a:chExt cx="2176560" cy="86400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1613880" y="4768560"/>
                  <a:ext cx="1723680" cy="86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_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1387080" y="4768560"/>
                  <a:ext cx="2176560" cy="86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3564720" y="4768560"/>
                <a:ext cx="2246040" cy="864000"/>
                <a:chOff x="3564720" y="4768560"/>
                <a:chExt cx="2246040" cy="86400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3791520" y="4768560"/>
                  <a:ext cx="1791720" cy="86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_ &gt;Q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3564720" y="4768560"/>
                  <a:ext cx="2246040" cy="86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5812200" y="4768560"/>
                <a:ext cx="2244960" cy="864000"/>
                <a:chOff x="5812200" y="4768560"/>
                <a:chExt cx="2244960" cy="86400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6037920" y="4768560"/>
                  <a:ext cx="1793160" cy="86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_ !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Q</a:t>
                  </a:r>
                  <a:r>
                    <a:rPr b="0" lang="ru-RU" sz="2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5812200" y="4768560"/>
                  <a:ext cx="2244960" cy="86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8" name=""/>
            <p:cNvSpPr/>
            <p:nvPr/>
          </p:nvSpPr>
          <p:spPr>
            <a:xfrm>
              <a:off x="1371600" y="2362320"/>
              <a:ext cx="6704640" cy="32760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вычислимые функции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а выполняет единственное действие: управляет преобразованием некоторого исходного набора двоичных разрядов, который будем называть входным, в другой набор двоичных разрядов, именуемый выходным. Связь, существующая между этими наборами, называетс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е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кции, для которых отношения между входными и выходными величинами не могут быть определены никаким алгоритмическим методо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называютс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евычислимым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20:39:37Z</dcterms:created>
  <dc:creator>cde</dc:creator>
  <dc:description/>
  <dc:language>en-US</dc:language>
  <cp:lastModifiedBy>Owner</cp:lastModifiedBy>
  <dcterms:modified xsi:type="dcterms:W3CDTF">2009-03-15T15:07:45Z</dcterms:modified>
  <cp:revision>28</cp:revision>
  <dc:subject/>
  <dc:title>Алгоритмы</dc:title>
</cp:coreProperties>
</file>