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C66A-F683-463D-9874-742A15F6B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20C83-CA88-451D-8B6C-3BB10397A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57F28-88F1-43F2-9653-70BB0DC5F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668DC-0501-4778-B5AB-D82E36511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CE0D-71CA-46C8-8E49-885858CFC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FBFBC-AC69-4035-8033-23B72007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4E61-DF50-4304-88BD-6A405CA4B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84C3C-F38E-456A-ADB7-FB89B841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6B76F-BB9D-4AEC-8993-C2885CC8D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E8B4-CDC0-416E-86E3-AE803724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AE2A-91B8-4A46-BDAC-265F58D57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9F2B-D595-45FA-8831-4F7EF349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D83AB-7FC5-41D5-BB01-E6E4D68AAE3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'Ok'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01001111 01101011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, 3, 5, 10, 22, 42, 90, 185, 375, 774, 1605, 3235, 6524, 13936, 28725, 6189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135757,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x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 и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47515, 6788, 101818, 67879, 95031, 95032, 67883, 101827, 33958, 122220, 101898, 34101, 54629, 82151, 103254, 30246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680528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ые вирус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разновидность вредоносных программ, отличительной особенностью которых является способность к размножению (саморепликации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ссификация вирусов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бъект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файл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рузоч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криптов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етевые черви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поражаемым операционным системам и платформам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DO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Microsoft Window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Unix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технологиям используемым вирусом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лиморфные вирусы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елс-вирусы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языку, на котором написан вирус: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ассемблер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коуровневый язык программирования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язык сценариев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ы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оздать абсолютно надежный канал связ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скрыть факт передачи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теган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спользовать общедоступный канал связи, но передавать информацию в таком виде, чтобы восстановить ее мог только адресат 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щищаемая информ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осударств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оенн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ер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Юридическая тайн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рачебная тайн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ризнаки защищаемой информаци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ется какой-то определенный круг законных пользователей, которые имеют право владеть этой информаци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ются незаконные пользователи, которые стремятся овладеть этой информацией с тем, чтобы обратить ее себе во благо, а законным пользователям во вре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иды угро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ерехват и вскрытие шифр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гентурный способ доступа к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ничтожение или модификация информ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бор средств защи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противника более ценной, чем стоимость атаки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Является ли она для вас более ценной, чем стоимость защиты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ульная арифметик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8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9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5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4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5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6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тное число к числу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х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mod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 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b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, ... , b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708360" y="1773360"/>
          <a:ext cx="3311640" cy="1063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08360" y="1773360"/>
                    <a:ext cx="3311640" cy="106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187280" y="2884320"/>
          <a:ext cx="1584360" cy="1049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2884320"/>
                    <a:ext cx="1584360" cy="104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670200" y="4869000"/>
          <a:ext cx="4540320" cy="691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670200" y="4869000"/>
                    <a:ext cx="4540320" cy="69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6091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риптография с использованием открытых ключ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сходная информация тем или иным способом представляется в двоичной форме и разбивается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-разрядные двоичные числа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аждому двоичному числу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...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тавится в соответствие десятичное число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которое рассчитывается по формуле </a:t>
            </a:r>
            <a:br>
              <a:rPr sz="2000"/>
            </a:b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+ ... + с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ередается получателю сообщения, который определяет числа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уммой которых является результат умножения переданного числа С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на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по модулю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индексы найденных чисел из последовательности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, ..., a</a:t>
            </a:r>
            <a:r>
              <a:rPr b="0" i="1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указывают на положение единиц в двоичном числе 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и тем самым позволяют его восстановить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9-06-02T10:55:15Z</dcterms:modified>
  <cp:revision>101</cp:revision>
  <dc:subject/>
  <dc:title>Язык структурированных запросов</dc:title>
</cp:coreProperties>
</file>