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8D98B-62F6-4493-A765-78006EAD8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E85F2-6187-4342-8EEE-CE92EB308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BFDB9-7A5E-4608-86BD-F3B18BC95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C3516-5EAE-442B-B543-601ABA860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2D23A-3510-40F8-81FE-FDE2EC82F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21974-8173-4CBA-8EF2-0121AD45D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FDF0F-618C-4316-9218-6AE28A635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55766-192A-4A4C-81F5-FCFF74528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D70B7-3DEB-4C6E-8B9A-6FC2CC0C0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A79B0-4924-4AE8-AA6E-DE0E5F868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087C7-05D2-46EE-BC01-DD3B3C8B6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9AE8C-7291-4A82-B26B-D3E1B8237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30674-8A76-4A83-872E-0A631CA1B8F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Вычислительные машины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Лямин Андрей Владимирови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Команд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Команда - это описание операции, которую должен выполнить компьютер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Группы команд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Команды передачи данны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Арифметические и логические команд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Команды управлен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остейшая ЭВМ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857160" y="1908000"/>
            <a:ext cx="7429680" cy="47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7" name=""/>
          <p:cNvGrpSpPr/>
          <p:nvPr/>
        </p:nvGrpSpPr>
        <p:grpSpPr>
          <a:xfrm>
            <a:off x="1600200" y="477720"/>
            <a:ext cx="6107040" cy="5923080"/>
            <a:chOff x="1600200" y="477720"/>
            <a:chExt cx="6107040" cy="5923080"/>
          </a:xfrm>
        </p:grpSpPr>
        <p:sp>
          <p:nvSpPr>
            <p:cNvPr id="188" name=""/>
            <p:cNvSpPr/>
            <p:nvPr/>
          </p:nvSpPr>
          <p:spPr>
            <a:xfrm>
              <a:off x="5969880" y="805320"/>
              <a:ext cx="1066680" cy="159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167880" y="786240"/>
              <a:ext cx="64368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MUX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743520" y="804600"/>
              <a:ext cx="0" cy="160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248160" y="808920"/>
              <a:ext cx="0" cy="1596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928120" y="789840"/>
              <a:ext cx="42264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D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969880" y="2108520"/>
              <a:ext cx="42264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720480" y="781560"/>
              <a:ext cx="42264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939280" y="1726920"/>
              <a:ext cx="42264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D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308840" y="1726920"/>
              <a:ext cx="875880" cy="811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529880" y="1699920"/>
              <a:ext cx="46476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RG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75600" y="17305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907160" y="1738080"/>
              <a:ext cx="0" cy="788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289760" y="1707480"/>
              <a:ext cx="42264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293720" y="2260800"/>
              <a:ext cx="42264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884120" y="1696320"/>
              <a:ext cx="42264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528000" y="698400"/>
              <a:ext cx="350280" cy="415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847680" y="877680"/>
              <a:ext cx="79920" cy="79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032640" y="705960"/>
              <a:ext cx="350280" cy="415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386880" y="911880"/>
              <a:ext cx="140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815200" y="778680"/>
              <a:ext cx="21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929680" y="919440"/>
              <a:ext cx="1142640" cy="297000"/>
            </a:xfrm>
            <a:custGeom>
              <a:avLst/>
              <a:gdLst/>
              <a:ahLst/>
              <a:rect l="l" t="t" r="r" b="b"/>
              <a:pathLst>
                <a:path w="1800" h="468">
                  <a:moveTo>
                    <a:pt x="1572" y="0"/>
                  </a:moveTo>
                  <a:lnTo>
                    <a:pt x="1800" y="0"/>
                  </a:lnTo>
                  <a:lnTo>
                    <a:pt x="1800" y="468"/>
                  </a:lnTo>
                  <a:lnTo>
                    <a:pt x="0" y="468"/>
                  </a:lnTo>
                  <a:lnTo>
                    <a:pt x="0" y="210"/>
                  </a:lnTo>
                  <a:lnTo>
                    <a:pt x="162" y="21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"/>
            <p:cNvGrpSpPr/>
            <p:nvPr/>
          </p:nvGrpSpPr>
          <p:grpSpPr>
            <a:xfrm>
              <a:off x="4282200" y="767160"/>
              <a:ext cx="1016640" cy="841680"/>
              <a:chOff x="4282200" y="767160"/>
              <a:chExt cx="1016640" cy="841680"/>
            </a:xfrm>
          </p:grpSpPr>
          <p:sp>
            <p:nvSpPr>
              <p:cNvPr id="210" name=""/>
              <p:cNvSpPr/>
              <p:nvPr/>
            </p:nvSpPr>
            <p:spPr>
              <a:xfrm>
                <a:off x="4300920" y="797400"/>
                <a:ext cx="876240" cy="811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4521960" y="770760"/>
                <a:ext cx="464760" cy="27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C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4567680" y="801360"/>
                <a:ext cx="0" cy="79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4899240" y="808920"/>
                <a:ext cx="0" cy="788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4282200" y="778680"/>
                <a:ext cx="422640" cy="27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4285800" y="1330920"/>
                <a:ext cx="422640" cy="27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4876200" y="767160"/>
                <a:ext cx="422640" cy="27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1965600" y="1711440"/>
              <a:ext cx="1352520" cy="1066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312640" y="1707480"/>
              <a:ext cx="643680" cy="47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RA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6</a:t>
              </a: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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956320" y="1726920"/>
              <a:ext cx="0" cy="1036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323800" y="1715400"/>
              <a:ext cx="0" cy="105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923840" y="1696320"/>
              <a:ext cx="42264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933280" y="1677240"/>
              <a:ext cx="42264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D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931400" y="2077920"/>
              <a:ext cx="42264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W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923840" y="2440080"/>
              <a:ext cx="42264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D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741280" y="228744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072680" y="9154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729440" y="2222640"/>
              <a:ext cx="228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809680" y="2512080"/>
              <a:ext cx="1356120" cy="354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667200" y="2504880"/>
              <a:ext cx="64368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БУ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740960" y="477720"/>
              <a:ext cx="5714640" cy="1371600"/>
            </a:xfrm>
            <a:custGeom>
              <a:avLst/>
              <a:gdLst/>
              <a:ahLst/>
              <a:rect l="l" t="t" r="r" b="b"/>
              <a:pathLst>
                <a:path w="9000" h="2160">
                  <a:moveTo>
                    <a:pt x="8340" y="720"/>
                  </a:moveTo>
                  <a:lnTo>
                    <a:pt x="9000" y="720"/>
                  </a:lnTo>
                  <a:lnTo>
                    <a:pt x="9000" y="0"/>
                  </a:lnTo>
                  <a:lnTo>
                    <a:pt x="0" y="0"/>
                  </a:lnTo>
                  <a:lnTo>
                    <a:pt x="0" y="2160"/>
                  </a:lnTo>
                  <a:lnTo>
                    <a:pt x="360" y="216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166160" y="679320"/>
              <a:ext cx="266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177520" y="915480"/>
              <a:ext cx="792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280480" y="660600"/>
              <a:ext cx="26640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196600" y="1849320"/>
              <a:ext cx="792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299560" y="1593360"/>
              <a:ext cx="26640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08080" y="2051280"/>
              <a:ext cx="361800" cy="2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У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604120" y="1818720"/>
              <a:ext cx="56880" cy="56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764320" y="1585800"/>
              <a:ext cx="26640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678400" y="557640"/>
              <a:ext cx="361800" cy="25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У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600200" y="1967400"/>
              <a:ext cx="361800" cy="2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У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072680" y="1220400"/>
              <a:ext cx="236160" cy="1219320"/>
            </a:xfrm>
            <a:custGeom>
              <a:avLst/>
              <a:gdLst/>
              <a:ahLst/>
              <a:rect l="l" t="t" r="r" b="b"/>
              <a:pathLst>
                <a:path w="372" h="1920">
                  <a:moveTo>
                    <a:pt x="0" y="0"/>
                  </a:moveTo>
                  <a:lnTo>
                    <a:pt x="0" y="1920"/>
                  </a:lnTo>
                  <a:lnTo>
                    <a:pt x="372" y="192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042080" y="1193760"/>
              <a:ext cx="56880" cy="56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318480" y="1830240"/>
              <a:ext cx="990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687840" y="1574280"/>
              <a:ext cx="266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 rot="5400000">
              <a:off x="3954240" y="2943000"/>
              <a:ext cx="883800" cy="163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 flipH="1">
              <a:off x="3592440" y="3594600"/>
              <a:ext cx="1608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 flipH="1">
              <a:off x="3596040" y="3967920"/>
              <a:ext cx="160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861080" y="3323880"/>
              <a:ext cx="42264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D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577320" y="3320280"/>
              <a:ext cx="42264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748680" y="3323880"/>
              <a:ext cx="42264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D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061160" y="3632400"/>
              <a:ext cx="64368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MUX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122000" y="4653720"/>
              <a:ext cx="46476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RG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3" name=""/>
            <p:cNvGrpSpPr/>
            <p:nvPr/>
          </p:nvGrpSpPr>
          <p:grpSpPr>
            <a:xfrm>
              <a:off x="3584520" y="4619520"/>
              <a:ext cx="925560" cy="666720"/>
              <a:chOff x="3584520" y="4619520"/>
              <a:chExt cx="925560" cy="666720"/>
            </a:xfrm>
          </p:grpSpPr>
          <p:sp>
            <p:nvSpPr>
              <p:cNvPr id="254" name=""/>
              <p:cNvSpPr/>
              <p:nvPr/>
            </p:nvSpPr>
            <p:spPr>
              <a:xfrm rot="5400000">
                <a:off x="3713760" y="4489920"/>
                <a:ext cx="666720" cy="925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flipH="1">
                <a:off x="3593520" y="4822200"/>
                <a:ext cx="912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flipH="1">
                <a:off x="3597480" y="5074560"/>
                <a:ext cx="899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7" name=""/>
            <p:cNvSpPr/>
            <p:nvPr/>
          </p:nvSpPr>
          <p:spPr>
            <a:xfrm>
              <a:off x="4247640" y="4588920"/>
              <a:ext cx="42264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543120" y="4592880"/>
              <a:ext cx="42264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996360" y="5042520"/>
              <a:ext cx="42264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255560" y="3937320"/>
              <a:ext cx="42264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851640" y="4825440"/>
              <a:ext cx="46476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RG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>
              <a:off x="3920040" y="1830240"/>
              <a:ext cx="0" cy="1486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893400" y="1803600"/>
              <a:ext cx="56880" cy="56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695400" y="3087720"/>
              <a:ext cx="0" cy="21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592800" y="2962080"/>
              <a:ext cx="361800" cy="2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У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699000" y="4406040"/>
              <a:ext cx="0" cy="21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619440" y="4295520"/>
              <a:ext cx="361800" cy="2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У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>
              <a:off x="4377240" y="4207680"/>
              <a:ext cx="0" cy="411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9" name=""/>
            <p:cNvGrpSpPr/>
            <p:nvPr/>
          </p:nvGrpSpPr>
          <p:grpSpPr>
            <a:xfrm>
              <a:off x="3344760" y="5617800"/>
              <a:ext cx="925560" cy="666720"/>
              <a:chOff x="3344760" y="5617800"/>
              <a:chExt cx="925560" cy="666720"/>
            </a:xfrm>
          </p:grpSpPr>
          <p:sp>
            <p:nvSpPr>
              <p:cNvPr id="270" name=""/>
              <p:cNvSpPr/>
              <p:nvPr/>
            </p:nvSpPr>
            <p:spPr>
              <a:xfrm rot="5400000">
                <a:off x="3474000" y="5488200"/>
                <a:ext cx="666720" cy="925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 flipH="1">
                <a:off x="3353760" y="5820480"/>
                <a:ext cx="912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flipH="1">
                <a:off x="3357720" y="6072840"/>
                <a:ext cx="899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3969720" y="5587200"/>
              <a:ext cx="42264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D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318480" y="5587200"/>
              <a:ext cx="42264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D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664800" y="6036840"/>
              <a:ext cx="42264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611520" y="5816160"/>
              <a:ext cx="46476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S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flipV="1">
              <a:off x="4129560" y="5285880"/>
              <a:ext cx="7560" cy="346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350600" y="4234680"/>
              <a:ext cx="26640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099320" y="5339880"/>
              <a:ext cx="26640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>
              <a:off x="3470760" y="1829880"/>
              <a:ext cx="0" cy="3791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748520" y="2649600"/>
              <a:ext cx="2381040" cy="2724480"/>
            </a:xfrm>
            <a:custGeom>
              <a:avLst/>
              <a:gdLst/>
              <a:ahLst/>
              <a:rect l="l" t="t" r="r" b="b"/>
              <a:pathLst>
                <a:path w="3750" h="4290">
                  <a:moveTo>
                    <a:pt x="3750" y="4290"/>
                  </a:moveTo>
                  <a:lnTo>
                    <a:pt x="0" y="4290"/>
                  </a:lnTo>
                  <a:lnTo>
                    <a:pt x="0" y="0"/>
                  </a:lnTo>
                  <a:lnTo>
                    <a:pt x="342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099320" y="5347080"/>
              <a:ext cx="56880" cy="56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805920" y="3200040"/>
              <a:ext cx="1600200" cy="3200760"/>
            </a:xfrm>
            <a:custGeom>
              <a:avLst/>
              <a:gdLst/>
              <a:ahLst/>
              <a:rect l="l" t="t" r="r" b="b"/>
              <a:pathLst>
                <a:path w="2520" h="5040">
                  <a:moveTo>
                    <a:pt x="0" y="4860"/>
                  </a:moveTo>
                  <a:lnTo>
                    <a:pt x="0" y="5040"/>
                  </a:lnTo>
                  <a:lnTo>
                    <a:pt x="2520" y="5040"/>
                  </a:lnTo>
                  <a:lnTo>
                    <a:pt x="2520" y="0"/>
                  </a:lnTo>
                  <a:lnTo>
                    <a:pt x="2022" y="0"/>
                  </a:lnTo>
                  <a:lnTo>
                    <a:pt x="2022" y="18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379480" y="4242240"/>
              <a:ext cx="26640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721880" y="4234680"/>
              <a:ext cx="26640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3440160" y="1803600"/>
              <a:ext cx="56880" cy="56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785280" y="3182760"/>
              <a:ext cx="342720" cy="453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&amp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777720" y="3758400"/>
              <a:ext cx="342720" cy="453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&amp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777720" y="4326120"/>
              <a:ext cx="342720" cy="453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&amp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785280" y="4901400"/>
              <a:ext cx="342720" cy="453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&amp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777720" y="5480640"/>
              <a:ext cx="342720" cy="453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&amp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210000" y="2619000"/>
              <a:ext cx="350280" cy="415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600960" y="2836080"/>
              <a:ext cx="180000" cy="2975760"/>
            </a:xfrm>
            <a:custGeom>
              <a:avLst/>
              <a:gdLst/>
              <a:ahLst/>
              <a:rect l="l" t="t" r="r" b="b"/>
              <a:pathLst>
                <a:path w="270" h="4458">
                  <a:moveTo>
                    <a:pt x="0" y="0"/>
                  </a:moveTo>
                  <a:lnTo>
                    <a:pt x="90" y="0"/>
                  </a:lnTo>
                  <a:lnTo>
                    <a:pt x="90" y="4458"/>
                  </a:lnTo>
                  <a:lnTo>
                    <a:pt x="270" y="445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667200" y="5248440"/>
              <a:ext cx="11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667200" y="4669200"/>
              <a:ext cx="11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667200" y="4097520"/>
              <a:ext cx="11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667200" y="3525840"/>
              <a:ext cx="11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636600" y="3495600"/>
              <a:ext cx="56880" cy="56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640560" y="4070880"/>
              <a:ext cx="56880" cy="56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636600" y="4638600"/>
              <a:ext cx="56880" cy="56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636600" y="5217840"/>
              <a:ext cx="56880" cy="56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526080" y="2797920"/>
              <a:ext cx="79560" cy="79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7135920" y="3415320"/>
              <a:ext cx="21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345440" y="3270600"/>
              <a:ext cx="361800" cy="2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У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7135920" y="3979440"/>
              <a:ext cx="21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345440" y="3834720"/>
              <a:ext cx="361800" cy="2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У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35920" y="4558680"/>
              <a:ext cx="21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345440" y="4413600"/>
              <a:ext cx="361800" cy="2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У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124400" y="5122440"/>
              <a:ext cx="21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7333920" y="4977720"/>
              <a:ext cx="361800" cy="2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У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7131960" y="5694120"/>
              <a:ext cx="21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7341480" y="5549400"/>
              <a:ext cx="361800" cy="2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У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flipV="1">
              <a:off x="5634720" y="1829880"/>
              <a:ext cx="0" cy="3791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210000" y="3095280"/>
              <a:ext cx="342720" cy="453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552720" y="3316320"/>
              <a:ext cx="228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5634720" y="3201840"/>
              <a:ext cx="559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6206040" y="4234680"/>
              <a:ext cx="342720" cy="453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549120" y="445572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969880" y="388800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6087960" y="3316320"/>
              <a:ext cx="121680" cy="1257120"/>
            </a:xfrm>
            <a:custGeom>
              <a:avLst/>
              <a:gdLst/>
              <a:ahLst/>
              <a:rect l="l" t="t" r="r" b="b"/>
              <a:pathLst>
                <a:path w="192" h="1980">
                  <a:moveTo>
                    <a:pt x="180" y="1980"/>
                  </a:moveTo>
                  <a:lnTo>
                    <a:pt x="0" y="1980"/>
                  </a:lnTo>
                  <a:lnTo>
                    <a:pt x="0" y="0"/>
                  </a:lnTo>
                  <a:lnTo>
                    <a:pt x="192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053760" y="4538160"/>
              <a:ext cx="56880" cy="56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977440" y="3201840"/>
              <a:ext cx="228240" cy="1150560"/>
            </a:xfrm>
            <a:custGeom>
              <a:avLst/>
              <a:gdLst/>
              <a:ahLst/>
              <a:rect l="l" t="t" r="r" b="b"/>
              <a:pathLst>
                <a:path w="360" h="1812">
                  <a:moveTo>
                    <a:pt x="0" y="0"/>
                  </a:moveTo>
                  <a:lnTo>
                    <a:pt x="0" y="1812"/>
                  </a:lnTo>
                  <a:lnTo>
                    <a:pt x="360" y="181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950800" y="3171600"/>
              <a:ext cx="56880" cy="56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634720" y="5031000"/>
              <a:ext cx="115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863320" y="3430440"/>
              <a:ext cx="342720" cy="1600200"/>
            </a:xfrm>
            <a:custGeom>
              <a:avLst/>
              <a:gdLst/>
              <a:ahLst/>
              <a:rect l="l" t="t" r="r" b="b"/>
              <a:pathLst>
                <a:path w="540" h="2520">
                  <a:moveTo>
                    <a:pt x="0" y="2520"/>
                  </a:moveTo>
                  <a:lnTo>
                    <a:pt x="0" y="0"/>
                  </a:lnTo>
                  <a:lnTo>
                    <a:pt x="54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832720" y="5000400"/>
              <a:ext cx="56880" cy="56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634720" y="560268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072680" y="2409480"/>
              <a:ext cx="2125800" cy="430560"/>
            </a:xfrm>
            <a:custGeom>
              <a:avLst/>
              <a:gdLst/>
              <a:ahLst/>
              <a:rect l="l" t="t" r="r" b="b"/>
              <a:pathLst>
                <a:path w="4098" h="618">
                  <a:moveTo>
                    <a:pt x="4098" y="618"/>
                  </a:moveTo>
                  <a:lnTo>
                    <a:pt x="0" y="618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4042080" y="2405520"/>
              <a:ext cx="56880" cy="56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flipV="1">
              <a:off x="3756240" y="1776600"/>
              <a:ext cx="114120" cy="11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 flipV="1">
              <a:off x="1695240" y="4314240"/>
              <a:ext cx="114120" cy="11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 flipV="1">
              <a:off x="5364360" y="1787760"/>
              <a:ext cx="114120" cy="11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V="1">
              <a:off x="5329800" y="861840"/>
              <a:ext cx="114120" cy="11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4323960" y="4302720"/>
              <a:ext cx="114120" cy="11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813640" y="1784160"/>
              <a:ext cx="114120" cy="11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608080" y="2474280"/>
              <a:ext cx="26640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573880" y="2546280"/>
              <a:ext cx="114120" cy="11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348880" y="4306680"/>
              <a:ext cx="114120" cy="11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 flipV="1">
              <a:off x="4072680" y="5430960"/>
              <a:ext cx="114120" cy="11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7254000" y="873360"/>
              <a:ext cx="114120" cy="11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769840" y="531000"/>
              <a:ext cx="1432440" cy="819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706920" y="485280"/>
              <a:ext cx="64368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ГТИ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950800" y="3852360"/>
              <a:ext cx="56880" cy="56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>
              <a:off x="5638320" y="4568760"/>
              <a:ext cx="445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Система команд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6" name=""/>
          <p:cNvGrpSpPr/>
          <p:nvPr/>
        </p:nvGrpSpPr>
        <p:grpSpPr>
          <a:xfrm>
            <a:off x="228600" y="1752480"/>
            <a:ext cx="8686440" cy="4952880"/>
            <a:chOff x="228600" y="1752480"/>
            <a:chExt cx="8686440" cy="4952880"/>
          </a:xfrm>
        </p:grpSpPr>
        <p:grpSp>
          <p:nvGrpSpPr>
            <p:cNvPr id="347" name=""/>
            <p:cNvGrpSpPr/>
            <p:nvPr/>
          </p:nvGrpSpPr>
          <p:grpSpPr>
            <a:xfrm>
              <a:off x="236520" y="1757160"/>
              <a:ext cx="8668800" cy="4942440"/>
              <a:chOff x="236520" y="1757160"/>
              <a:chExt cx="8668800" cy="4942440"/>
            </a:xfrm>
          </p:grpSpPr>
          <p:grpSp>
            <p:nvGrpSpPr>
              <p:cNvPr id="348" name=""/>
              <p:cNvGrpSpPr/>
              <p:nvPr/>
            </p:nvGrpSpPr>
            <p:grpSpPr>
              <a:xfrm>
                <a:off x="236520" y="1757160"/>
                <a:ext cx="1837800" cy="678240"/>
                <a:chOff x="236520" y="1757160"/>
                <a:chExt cx="1837800" cy="678240"/>
              </a:xfrm>
            </p:grpSpPr>
            <p:sp>
              <p:nvSpPr>
                <p:cNvPr id="349" name=""/>
                <p:cNvSpPr/>
                <p:nvPr/>
              </p:nvSpPr>
              <p:spPr>
                <a:xfrm>
                  <a:off x="356040" y="1757160"/>
                  <a:ext cx="1599120" cy="678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Код</a:t>
                  </a:r>
                  <a:r>
                    <a:rPr b="1" lang="en-US" sz="24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 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236520" y="1757160"/>
                  <a:ext cx="1837800" cy="678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1" name=""/>
              <p:cNvGrpSpPr/>
              <p:nvPr/>
            </p:nvGrpSpPr>
            <p:grpSpPr>
              <a:xfrm>
                <a:off x="2074680" y="1757160"/>
                <a:ext cx="2171520" cy="678240"/>
                <a:chOff x="2074680" y="1757160"/>
                <a:chExt cx="2171520" cy="678240"/>
              </a:xfrm>
            </p:grpSpPr>
            <p:sp>
              <p:nvSpPr>
                <p:cNvPr id="352" name=""/>
                <p:cNvSpPr/>
                <p:nvPr/>
              </p:nvSpPr>
              <p:spPr>
                <a:xfrm>
                  <a:off x="2194200" y="1757160"/>
                  <a:ext cx="1932120" cy="678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Мнемоника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2074680" y="1757160"/>
                  <a:ext cx="2171520" cy="678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4" name=""/>
              <p:cNvGrpSpPr/>
              <p:nvPr/>
            </p:nvGrpSpPr>
            <p:grpSpPr>
              <a:xfrm>
                <a:off x="4246560" y="1757160"/>
                <a:ext cx="4658760" cy="678240"/>
                <a:chOff x="4246560" y="1757160"/>
                <a:chExt cx="4658760" cy="678240"/>
              </a:xfrm>
            </p:grpSpPr>
            <p:sp>
              <p:nvSpPr>
                <p:cNvPr id="355" name=""/>
                <p:cNvSpPr/>
                <p:nvPr/>
              </p:nvSpPr>
              <p:spPr>
                <a:xfrm>
                  <a:off x="4365360" y="1757160"/>
                  <a:ext cx="4420800" cy="678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Описание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>
                  <a:off x="4246560" y="1757160"/>
                  <a:ext cx="4658760" cy="678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7" name=""/>
              <p:cNvGrpSpPr/>
              <p:nvPr/>
            </p:nvGrpSpPr>
            <p:grpSpPr>
              <a:xfrm>
                <a:off x="236520" y="2435760"/>
                <a:ext cx="1837800" cy="1065240"/>
                <a:chOff x="236520" y="2435760"/>
                <a:chExt cx="1837800" cy="1065240"/>
              </a:xfrm>
            </p:grpSpPr>
            <p:sp>
              <p:nvSpPr>
                <p:cNvPr id="358" name=""/>
                <p:cNvSpPr/>
                <p:nvPr/>
              </p:nvSpPr>
              <p:spPr>
                <a:xfrm>
                  <a:off x="356040" y="2435760"/>
                  <a:ext cx="1599120" cy="1065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>
                  <a:off x="236520" y="2435760"/>
                  <a:ext cx="1837800" cy="1065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0" name=""/>
              <p:cNvGrpSpPr/>
              <p:nvPr/>
            </p:nvGrpSpPr>
            <p:grpSpPr>
              <a:xfrm>
                <a:off x="2074680" y="2435760"/>
                <a:ext cx="2171520" cy="1065240"/>
                <a:chOff x="2074680" y="2435760"/>
                <a:chExt cx="2171520" cy="1065240"/>
              </a:xfrm>
            </p:grpSpPr>
            <p:sp>
              <p:nvSpPr>
                <p:cNvPr id="361" name=""/>
                <p:cNvSpPr/>
                <p:nvPr/>
              </p:nvSpPr>
              <p:spPr>
                <a:xfrm>
                  <a:off x="2194200" y="2435760"/>
                  <a:ext cx="1932120" cy="1065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LOD P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2074680" y="2435760"/>
                  <a:ext cx="2171520" cy="1065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3" name=""/>
              <p:cNvGrpSpPr/>
              <p:nvPr/>
            </p:nvGrpSpPr>
            <p:grpSpPr>
              <a:xfrm>
                <a:off x="4246560" y="2435760"/>
                <a:ext cx="4658760" cy="1065240"/>
                <a:chOff x="4246560" y="2435760"/>
                <a:chExt cx="4658760" cy="1065240"/>
              </a:xfrm>
            </p:grpSpPr>
            <p:sp>
              <p:nvSpPr>
                <p:cNvPr id="364" name=""/>
                <p:cNvSpPr/>
                <p:nvPr/>
              </p:nvSpPr>
              <p:spPr>
                <a:xfrm>
                  <a:off x="4365360" y="2435760"/>
                  <a:ext cx="4420800" cy="1065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0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Загрузка в аккумулятор двоичного кода числа из ячейки памяти с адресом </a:t>
                  </a:r>
                  <a:r>
                    <a:rPr b="0" lang="en-US" sz="20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P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>
                  <a:off x="4246560" y="2435760"/>
                  <a:ext cx="4658760" cy="1065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6" name=""/>
              <p:cNvGrpSpPr/>
              <p:nvPr/>
            </p:nvGrpSpPr>
            <p:grpSpPr>
              <a:xfrm>
                <a:off x="236520" y="3501720"/>
                <a:ext cx="1837800" cy="1065600"/>
                <a:chOff x="236520" y="3501720"/>
                <a:chExt cx="1837800" cy="1065600"/>
              </a:xfrm>
            </p:grpSpPr>
            <p:sp>
              <p:nvSpPr>
                <p:cNvPr id="367" name=""/>
                <p:cNvSpPr/>
                <p:nvPr/>
              </p:nvSpPr>
              <p:spPr>
                <a:xfrm>
                  <a:off x="356040" y="3501720"/>
                  <a:ext cx="1599120" cy="106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2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>
                  <a:off x="236520" y="3501720"/>
                  <a:ext cx="1837800" cy="1065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9" name=""/>
              <p:cNvGrpSpPr/>
              <p:nvPr/>
            </p:nvGrpSpPr>
            <p:grpSpPr>
              <a:xfrm>
                <a:off x="2074680" y="3501720"/>
                <a:ext cx="2171520" cy="1065600"/>
                <a:chOff x="2074680" y="3501720"/>
                <a:chExt cx="2171520" cy="1065600"/>
              </a:xfrm>
            </p:grpSpPr>
            <p:sp>
              <p:nvSpPr>
                <p:cNvPr id="370" name=""/>
                <p:cNvSpPr/>
                <p:nvPr/>
              </p:nvSpPr>
              <p:spPr>
                <a:xfrm>
                  <a:off x="2194200" y="3501720"/>
                  <a:ext cx="1932120" cy="106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STO P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>
                  <a:off x="2074680" y="3501720"/>
                  <a:ext cx="2171520" cy="1065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2" name=""/>
              <p:cNvGrpSpPr/>
              <p:nvPr/>
            </p:nvGrpSpPr>
            <p:grpSpPr>
              <a:xfrm>
                <a:off x="4246560" y="3501720"/>
                <a:ext cx="4658760" cy="1065600"/>
                <a:chOff x="4246560" y="3501720"/>
                <a:chExt cx="4658760" cy="1065600"/>
              </a:xfrm>
            </p:grpSpPr>
            <p:sp>
              <p:nvSpPr>
                <p:cNvPr id="373" name=""/>
                <p:cNvSpPr/>
                <p:nvPr/>
              </p:nvSpPr>
              <p:spPr>
                <a:xfrm>
                  <a:off x="4365360" y="3501720"/>
                  <a:ext cx="4420800" cy="106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0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Сохранение двоичного кода числа,  хранящегося в аккумуляторе, в ячейке памяти с адресом </a:t>
                  </a:r>
                  <a:r>
                    <a:rPr b="0" lang="en-US" sz="20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P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>
                  <a:off x="4246560" y="3501720"/>
                  <a:ext cx="4658760" cy="1065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5" name=""/>
              <p:cNvGrpSpPr/>
              <p:nvPr/>
            </p:nvGrpSpPr>
            <p:grpSpPr>
              <a:xfrm>
                <a:off x="236520" y="4568040"/>
                <a:ext cx="1837800" cy="1258920"/>
                <a:chOff x="236520" y="4568040"/>
                <a:chExt cx="1837800" cy="1258920"/>
              </a:xfrm>
            </p:grpSpPr>
            <p:sp>
              <p:nvSpPr>
                <p:cNvPr id="376" name=""/>
                <p:cNvSpPr/>
                <p:nvPr/>
              </p:nvSpPr>
              <p:spPr>
                <a:xfrm>
                  <a:off x="356040" y="4568040"/>
                  <a:ext cx="1599120" cy="1258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4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>
                  <a:off x="236520" y="4568040"/>
                  <a:ext cx="1837800" cy="1258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8" name=""/>
              <p:cNvGrpSpPr/>
              <p:nvPr/>
            </p:nvGrpSpPr>
            <p:grpSpPr>
              <a:xfrm>
                <a:off x="2074680" y="4568040"/>
                <a:ext cx="2171520" cy="1258920"/>
                <a:chOff x="2074680" y="4568040"/>
                <a:chExt cx="2171520" cy="1258920"/>
              </a:xfrm>
            </p:grpSpPr>
            <p:sp>
              <p:nvSpPr>
                <p:cNvPr id="379" name=""/>
                <p:cNvSpPr/>
                <p:nvPr/>
              </p:nvSpPr>
              <p:spPr>
                <a:xfrm>
                  <a:off x="2194200" y="4568040"/>
                  <a:ext cx="1932120" cy="1258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ADD P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>
                  <a:off x="2074680" y="4568040"/>
                  <a:ext cx="2171520" cy="1258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1" name=""/>
              <p:cNvGrpSpPr/>
              <p:nvPr/>
            </p:nvGrpSpPr>
            <p:grpSpPr>
              <a:xfrm>
                <a:off x="4246560" y="4568040"/>
                <a:ext cx="4658760" cy="1258920"/>
                <a:chOff x="4246560" y="4568040"/>
                <a:chExt cx="4658760" cy="1258920"/>
              </a:xfrm>
            </p:grpSpPr>
            <p:sp>
              <p:nvSpPr>
                <p:cNvPr id="382" name=""/>
                <p:cNvSpPr/>
                <p:nvPr/>
              </p:nvSpPr>
              <p:spPr>
                <a:xfrm>
                  <a:off x="4365360" y="4568040"/>
                  <a:ext cx="4420800" cy="1258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0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Суммирование двоичных кодов чисел, хранящихся в аккумуляторе и ячейке памяти с адресом </a:t>
                  </a:r>
                  <a:r>
                    <a:rPr b="0" lang="en-US" sz="20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P</a:t>
                  </a:r>
                  <a:r>
                    <a:rPr b="0" lang="ru-RU" sz="20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, с записью результата в аккумулятор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>
                  <a:off x="4246560" y="4568040"/>
                  <a:ext cx="4658760" cy="1258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4" name=""/>
              <p:cNvGrpSpPr/>
              <p:nvPr/>
            </p:nvGrpSpPr>
            <p:grpSpPr>
              <a:xfrm>
                <a:off x="236520" y="5827320"/>
                <a:ext cx="1837800" cy="872280"/>
                <a:chOff x="236520" y="5827320"/>
                <a:chExt cx="1837800" cy="872280"/>
              </a:xfrm>
            </p:grpSpPr>
            <p:sp>
              <p:nvSpPr>
                <p:cNvPr id="385" name=""/>
                <p:cNvSpPr/>
                <p:nvPr/>
              </p:nvSpPr>
              <p:spPr>
                <a:xfrm>
                  <a:off x="356040" y="5827320"/>
                  <a:ext cx="1599120" cy="872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8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236520" y="5827320"/>
                  <a:ext cx="1837800" cy="872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7" name=""/>
              <p:cNvGrpSpPr/>
              <p:nvPr/>
            </p:nvGrpSpPr>
            <p:grpSpPr>
              <a:xfrm>
                <a:off x="2074680" y="5827320"/>
                <a:ext cx="2171520" cy="872280"/>
                <a:chOff x="2074680" y="5827320"/>
                <a:chExt cx="2171520" cy="872280"/>
              </a:xfrm>
            </p:grpSpPr>
            <p:sp>
              <p:nvSpPr>
                <p:cNvPr id="388" name=""/>
                <p:cNvSpPr/>
                <p:nvPr/>
              </p:nvSpPr>
              <p:spPr>
                <a:xfrm>
                  <a:off x="2194200" y="5827320"/>
                  <a:ext cx="1932120" cy="872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HLT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>
                  <a:off x="2074680" y="5827320"/>
                  <a:ext cx="2171520" cy="872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0" name=""/>
              <p:cNvGrpSpPr/>
              <p:nvPr/>
            </p:nvGrpSpPr>
            <p:grpSpPr>
              <a:xfrm>
                <a:off x="4246560" y="5827320"/>
                <a:ext cx="4658760" cy="872280"/>
                <a:chOff x="4246560" y="5827320"/>
                <a:chExt cx="4658760" cy="872280"/>
              </a:xfrm>
            </p:grpSpPr>
            <p:sp>
              <p:nvSpPr>
                <p:cNvPr id="391" name=""/>
                <p:cNvSpPr/>
                <p:nvPr/>
              </p:nvSpPr>
              <p:spPr>
                <a:xfrm>
                  <a:off x="4365360" y="5827320"/>
                  <a:ext cx="4420800" cy="872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Прекращение выполнения программы 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>
                  <a:off x="4246560" y="5827320"/>
                  <a:ext cx="4658760" cy="872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93" name=""/>
            <p:cNvSpPr/>
            <p:nvPr/>
          </p:nvSpPr>
          <p:spPr>
            <a:xfrm>
              <a:off x="228600" y="1752480"/>
              <a:ext cx="8686440" cy="495288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Внешние устройств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устройства внешней памяти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видеомонитор (дисплей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клавиатура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манипуляторы джойстик, мышь, трекбол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ринтеры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сканеры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устройства связи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Клавиатур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7" name=""/>
          <p:cNvGrpSpPr/>
          <p:nvPr/>
        </p:nvGrpSpPr>
        <p:grpSpPr>
          <a:xfrm>
            <a:off x="2547720" y="1600200"/>
            <a:ext cx="4996080" cy="5060520"/>
            <a:chOff x="2547720" y="1600200"/>
            <a:chExt cx="4996080" cy="5060520"/>
          </a:xfrm>
        </p:grpSpPr>
        <p:sp>
          <p:nvSpPr>
            <p:cNvPr id="398" name=""/>
            <p:cNvSpPr/>
            <p:nvPr/>
          </p:nvSpPr>
          <p:spPr>
            <a:xfrm rot="5400000">
              <a:off x="3093840" y="2682360"/>
              <a:ext cx="898920" cy="199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380760" y="3222720"/>
              <a:ext cx="422640" cy="27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D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4249440" y="3259080"/>
              <a:ext cx="361800" cy="27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07240" y="3564000"/>
              <a:ext cx="643680" cy="27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DM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584080" y="3889440"/>
              <a:ext cx="376920" cy="27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Q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3090960" y="3889440"/>
              <a:ext cx="376920" cy="27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Q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634200" y="3889440"/>
              <a:ext cx="376920" cy="27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Q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4197960" y="3889440"/>
              <a:ext cx="376920" cy="27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Q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249440" y="3620880"/>
              <a:ext cx="361800" cy="27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 rot="5400000">
              <a:off x="4994640" y="1325520"/>
              <a:ext cx="898920" cy="1447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4683960" y="1899000"/>
              <a:ext cx="423000" cy="27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С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089680" y="1919880"/>
              <a:ext cx="644040" cy="27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4720320" y="2260800"/>
              <a:ext cx="376920" cy="27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5082120" y="2260800"/>
              <a:ext cx="377280" cy="27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444280" y="2260800"/>
              <a:ext cx="376920" cy="27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5806080" y="2260800"/>
              <a:ext cx="377280" cy="27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3380760" y="2695320"/>
              <a:ext cx="470520" cy="27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i="1" lang="ru-RU" sz="1200" spc="-1" strike="noStrike" baseline="-25000">
                  <a:solidFill>
                    <a:srgbClr val="000000"/>
                  </a:solidFill>
                  <a:latin typeface="Times New Roman"/>
                </a:rPr>
                <a:t>пит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3561480" y="2933280"/>
              <a:ext cx="0" cy="28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588480" y="1600200"/>
              <a:ext cx="552240" cy="904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ГТИ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140720" y="2053440"/>
              <a:ext cx="579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539240" y="2499120"/>
              <a:ext cx="361800" cy="904680"/>
            </a:xfrm>
            <a:custGeom>
              <a:avLst/>
              <a:gdLst/>
              <a:ahLst/>
              <a:rect l="l" t="t" r="r" b="b"/>
              <a:pathLst>
                <a:path w="570" h="1425">
                  <a:moveTo>
                    <a:pt x="570" y="0"/>
                  </a:moveTo>
                  <a:lnTo>
                    <a:pt x="570" y="1425"/>
                  </a:lnTo>
                  <a:lnTo>
                    <a:pt x="0" y="1425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4539240" y="2499120"/>
              <a:ext cx="723960" cy="1266480"/>
            </a:xfrm>
            <a:custGeom>
              <a:avLst/>
              <a:gdLst/>
              <a:ahLst/>
              <a:rect l="l" t="t" r="r" b="b"/>
              <a:pathLst>
                <a:path w="1140" h="1995">
                  <a:moveTo>
                    <a:pt x="1140" y="0"/>
                  </a:moveTo>
                  <a:lnTo>
                    <a:pt x="1140" y="1995"/>
                  </a:lnTo>
                  <a:lnTo>
                    <a:pt x="0" y="1995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 rot="10800000">
              <a:off x="5263200" y="4670280"/>
              <a:ext cx="899280" cy="199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5625360" y="2499120"/>
              <a:ext cx="0" cy="217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5987160" y="2499120"/>
              <a:ext cx="0" cy="217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5202360" y="4721760"/>
              <a:ext cx="423000" cy="27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D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5202360" y="5249520"/>
              <a:ext cx="423000" cy="27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D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190840" y="5807880"/>
              <a:ext cx="423000" cy="27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D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190840" y="6371640"/>
              <a:ext cx="423000" cy="27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D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5863320" y="5539320"/>
              <a:ext cx="377280" cy="27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Q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5480280" y="4634280"/>
              <a:ext cx="361800" cy="27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5842440" y="4634280"/>
              <a:ext cx="361800" cy="27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5371560" y="5554440"/>
              <a:ext cx="644040" cy="27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MU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2728800" y="4127760"/>
              <a:ext cx="0" cy="209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982600" y="6480000"/>
              <a:ext cx="228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2685240" y="6190560"/>
              <a:ext cx="79920" cy="79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946240" y="6444000"/>
              <a:ext cx="79920" cy="79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2728800" y="6226560"/>
              <a:ext cx="289440" cy="18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2990160" y="5937480"/>
              <a:ext cx="228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2692800" y="5647680"/>
              <a:ext cx="79920" cy="79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953800" y="5901120"/>
              <a:ext cx="79920" cy="79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736720" y="5684040"/>
              <a:ext cx="289440" cy="18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2982600" y="5394240"/>
              <a:ext cx="228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685240" y="5104800"/>
              <a:ext cx="79920" cy="79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2946240" y="5358240"/>
              <a:ext cx="79920" cy="79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2728800" y="5141160"/>
              <a:ext cx="289440" cy="18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982600" y="4851360"/>
              <a:ext cx="228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685240" y="4561920"/>
              <a:ext cx="79920" cy="79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2946240" y="4815360"/>
              <a:ext cx="79920" cy="79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728800" y="4597920"/>
              <a:ext cx="289440" cy="18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3272040" y="4127760"/>
              <a:ext cx="0" cy="209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3228120" y="6190560"/>
              <a:ext cx="79920" cy="79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3489120" y="6444000"/>
              <a:ext cx="79920" cy="79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272040" y="6226560"/>
              <a:ext cx="289440" cy="18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235680" y="5647680"/>
              <a:ext cx="79920" cy="79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497040" y="5901120"/>
              <a:ext cx="79920" cy="79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279600" y="5684040"/>
              <a:ext cx="289440" cy="18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3228120" y="5104800"/>
              <a:ext cx="79920" cy="79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3489120" y="5358240"/>
              <a:ext cx="79920" cy="79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272040" y="5141160"/>
              <a:ext cx="289440" cy="18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3228120" y="4561920"/>
              <a:ext cx="79920" cy="79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3489120" y="4815360"/>
              <a:ext cx="79920" cy="79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272040" y="4597920"/>
              <a:ext cx="289440" cy="18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3814920" y="4127760"/>
              <a:ext cx="0" cy="209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3771360" y="6190560"/>
              <a:ext cx="79920" cy="79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4032360" y="6444000"/>
              <a:ext cx="79920" cy="79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814920" y="6226560"/>
              <a:ext cx="289440" cy="18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3778920" y="5647680"/>
              <a:ext cx="79920" cy="79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039920" y="5901120"/>
              <a:ext cx="79920" cy="79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822840" y="5684040"/>
              <a:ext cx="289440" cy="18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3771360" y="5104800"/>
              <a:ext cx="79920" cy="79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4032360" y="5358240"/>
              <a:ext cx="79920" cy="79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814920" y="5141160"/>
              <a:ext cx="289440" cy="18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3771360" y="4561920"/>
              <a:ext cx="79920" cy="79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4032360" y="4815360"/>
              <a:ext cx="79920" cy="79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3814920" y="4597920"/>
              <a:ext cx="289440" cy="18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358160" y="4127760"/>
              <a:ext cx="0" cy="209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314240" y="6190560"/>
              <a:ext cx="79920" cy="79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4575240" y="6444000"/>
              <a:ext cx="79920" cy="79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4358160" y="6226560"/>
              <a:ext cx="289440" cy="18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4321800" y="5647680"/>
              <a:ext cx="79920" cy="79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4582800" y="5901120"/>
              <a:ext cx="79920" cy="79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365720" y="5684040"/>
              <a:ext cx="289440" cy="18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314240" y="5104800"/>
              <a:ext cx="79920" cy="79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575240" y="5358240"/>
              <a:ext cx="79920" cy="79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358160" y="5141160"/>
              <a:ext cx="289440" cy="18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4314240" y="4561920"/>
              <a:ext cx="79920" cy="79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4575240" y="4815360"/>
              <a:ext cx="79920" cy="79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4358160" y="4597920"/>
              <a:ext cx="289440" cy="18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4901040" y="2680200"/>
              <a:ext cx="1447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263200" y="2860920"/>
              <a:ext cx="108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625360" y="3042000"/>
              <a:ext cx="723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5987160" y="3222720"/>
              <a:ext cx="361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4857120" y="2643840"/>
              <a:ext cx="79920" cy="79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5219280" y="2824920"/>
              <a:ext cx="79920" cy="79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581440" y="3005640"/>
              <a:ext cx="79920" cy="79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5943240" y="3186720"/>
              <a:ext cx="79920" cy="79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6168240" y="5684040"/>
              <a:ext cx="18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6421680" y="5575320"/>
              <a:ext cx="104976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Прерывание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385320" y="2680200"/>
              <a:ext cx="144720" cy="542520"/>
            </a:xfrm>
            <a:custGeom>
              <a:avLst/>
              <a:gdLst>
                <a:gd name="textAreaLeft" fmla="*/ 0 w 144720"/>
                <a:gd name="textAreaRight" fmla="*/ 52200 w 144720"/>
                <a:gd name="textAreaTop" fmla="*/ 14040 h 542520"/>
                <a:gd name="textAreaBottom" fmla="*/ 528480 h 542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6494040" y="2794320"/>
              <a:ext cx="1049760" cy="3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Скан-код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Точность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вычислений на компьютере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ашинная эпсило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шинный ноль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шинная бесконечность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аг, с которым возможно представление чисел в компьютер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Машинная эпсилон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Машинным эпсилоном</a:t>
            </a:r>
            <a:r>
              <a:rPr b="0" lang="ru-RU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800" spc="-1" strike="noStrike" baseline="-30000">
                <a:solidFill>
                  <a:srgbClr val="000000"/>
                </a:solidFill>
                <a:latin typeface="Arial Unicode MS"/>
                <a:ea typeface="Times New Roman"/>
              </a:rPr>
              <a:t>m</a:t>
            </a:r>
            <a:r>
              <a:rPr b="0" lang="ru-RU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называется наименьшее из чисел, удовлетворяющих условию 1+</a:t>
            </a:r>
            <a:r>
              <a:rPr b="0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ru-RU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&gt;1, т.е. </a:t>
            </a:r>
            <a:r>
              <a:rPr b="0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800" spc="-1" strike="noStrike" baseline="-30000">
                <a:solidFill>
                  <a:srgbClr val="000000"/>
                </a:solidFill>
                <a:latin typeface="Arial Unicode MS"/>
                <a:ea typeface="Times New Roman"/>
              </a:rPr>
              <a:t>m</a:t>
            </a:r>
            <a:r>
              <a:rPr b="0" lang="ru-RU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min</a:t>
            </a:r>
            <a:r>
              <a:rPr b="0" lang="ru-RU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{</a:t>
            </a:r>
            <a:r>
              <a:rPr b="0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ru-RU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: 1+</a:t>
            </a:r>
            <a:r>
              <a:rPr b="0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ru-RU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&gt;1}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личина </a:t>
            </a:r>
            <a:r>
              <a:rPr b="0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и округлении методом отсечения определяется по формуле </a:t>
            </a:r>
            <a:r>
              <a:rPr b="0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2</a:t>
            </a:r>
            <a:r>
              <a:rPr b="0" lang="ru-RU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ru-RU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а при округлении методом дополнения – </a:t>
            </a:r>
            <a:r>
              <a:rPr b="0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2</a:t>
            </a:r>
            <a:r>
              <a:rPr b="0" lang="ru-RU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где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количество разрядов, отведенное для хранения мантиссы числа в представлении с плавающей точкой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шинный ноль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Машинным нулем </a:t>
            </a:r>
            <a:r>
              <a:rPr b="0" i="1" lang="en-US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X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Arial Unicode MS"/>
                <a:ea typeface="Times New Roman"/>
              </a:rPr>
              <a:t>0</a:t>
            </a:r>
            <a:r>
              <a:rPr b="0" lang="ru-RU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называется наименьшее представимое на компьютере положительное число, т.е. для любого другого представимого на компьютере числа </a:t>
            </a:r>
            <a:r>
              <a:rPr b="0" i="1" lang="en-US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x</a:t>
            </a:r>
            <a:r>
              <a:rPr b="0" lang="ru-RU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будет выполняться неравенство: 0&lt;</a:t>
            </a:r>
            <a:r>
              <a:rPr b="0" i="1" lang="ru-RU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X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Arial Unicode MS"/>
                <a:ea typeface="Times New Roman"/>
              </a:rPr>
              <a:t>0 </a:t>
            </a:r>
            <a:r>
              <a:rPr b="0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ru-RU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| </a:t>
            </a:r>
            <a:r>
              <a:rPr b="0" i="1" lang="en-US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x </a:t>
            </a:r>
            <a:r>
              <a:rPr b="0" lang="ru-RU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|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Величина </a:t>
            </a:r>
            <a:r>
              <a:rPr b="0" i="1" lang="en-US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X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Arial Unicode MS"/>
                <a:ea typeface="Times New Roman"/>
              </a:rPr>
              <a:t>0</a:t>
            </a:r>
            <a:r>
              <a:rPr b="0" lang="ru-RU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определяется по формуле </a:t>
            </a:r>
            <a:r>
              <a:rPr b="0" i="1" lang="en-US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X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Arial Unicode MS"/>
                <a:ea typeface="Times New Roman"/>
              </a:rPr>
              <a:t>0</a:t>
            </a:r>
            <a:r>
              <a:rPr b="0" lang="ru-RU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=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, где </a:t>
            </a:r>
            <a:r>
              <a:rPr b="0" i="1" lang="en-US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k</a:t>
            </a:r>
            <a:r>
              <a:rPr b="0" lang="ru-RU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– количество разрядов, отведенное для хранения порядка числа в представлении с плавающей точкой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5" name=""/>
          <p:cNvGraphicFramePr/>
          <p:nvPr/>
        </p:nvGraphicFramePr>
        <p:xfrm>
          <a:off x="7772400" y="4086360"/>
          <a:ext cx="685800" cy="56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72400" y="4086360"/>
                    <a:ext cx="685800" cy="5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шинная бесконечност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шинной бесконечностью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зывается наименьшее из чисел удовлетворяющих неравенству |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где –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любое число, которое можно представить на компьютере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Величина </a:t>
            </a:r>
            <a:r>
              <a:rPr b="0" i="1" lang="en-US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X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ru-RU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определяется по формуле </a:t>
            </a:r>
            <a:r>
              <a:rPr b="0" i="1" lang="en-US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X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ru-RU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=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, где </a:t>
            </a:r>
            <a:r>
              <a:rPr b="0" i="1" lang="en-US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k</a:t>
            </a:r>
            <a:r>
              <a:rPr b="0" lang="ru-RU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– количество разрядов, отведенное для хранения порядка числа в представлении с плавающей точкой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9" name=""/>
          <p:cNvGraphicFramePr/>
          <p:nvPr/>
        </p:nvGraphicFramePr>
        <p:xfrm>
          <a:off x="7772400" y="3657600"/>
          <a:ext cx="784080" cy="56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72400" y="3657600"/>
                    <a:ext cx="784080" cy="5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Основные определе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ЭВМ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это многофункциональное электронное устройство для накопления, обработки и передачи информаци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Классы ЭВМ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Цифровые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Аналоговые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аг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аг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с которым возможно представление чисел в компьютере определяется по формуле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где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порядок числа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количество разрядов, отведенное для хранения мантиссы числа в представлении с плавающей точкой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3" name=""/>
          <p:cNvGraphicFramePr/>
          <p:nvPr/>
        </p:nvGraphicFramePr>
        <p:xfrm>
          <a:off x="2895480" y="2949480"/>
          <a:ext cx="914400" cy="55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5480" y="2949480"/>
                    <a:ext cx="914400" cy="55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имер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мер 1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сть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10</a:t>
            </a:r>
            <a:r>
              <a:rPr b="0" lang="ru-RU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2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тогда 0.01-0.011+1=1,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в то же время 1-0.011+0.01=0.999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мер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Пусть </a:t>
            </a:r>
            <a:r>
              <a:rPr b="0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800" spc="-1" strike="noStrike" baseline="-30000">
                <a:solidFill>
                  <a:srgbClr val="000000"/>
                </a:solidFill>
                <a:latin typeface="Arial Unicode MS"/>
                <a:ea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=10</a:t>
            </a:r>
            <a:r>
              <a:rPr b="0" lang="ru-RU" sz="2800" spc="-1" strike="noStrike" baseline="30000">
                <a:solidFill>
                  <a:srgbClr val="000000"/>
                </a:solidFill>
                <a:latin typeface="Arial Unicode MS"/>
                <a:ea typeface="Times New Roman"/>
              </a:rPr>
              <a:t>-2</a:t>
            </a:r>
            <a:r>
              <a:rPr b="0" lang="ru-RU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и требуется вычислить сумму  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100+0.1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* 2000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лагаемых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/..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Вывод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ри выборе формулы и порядка вычислений следует избегать вычитания близких чисел и деления на малые величины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ри переполнении или исчезновения порядка следует попытаться изменить последовательность действий, ввести масштабные коэффициенты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ри сложении следует располагать слагаемые в порядке возрастания абсолютных величин, стараясь, чтобы при каждом сложении порядки величин различались мало. При необходимости цикл суммирования разбивается на несколько более коротки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инципы построе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нцип двоичного кодирова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нцип программного управле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нцип однородности памят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нцип адресност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Основные блок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центральный процессор (ЦП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арифметико-логическое устройство (АЛУ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блок управления (БУ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регистры (Р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основная память (ОП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Основная памят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2438280" y="2019240"/>
            <a:ext cx="4190400" cy="3848040"/>
            <a:chOff x="2438280" y="2019240"/>
            <a:chExt cx="4190400" cy="3848040"/>
          </a:xfrm>
        </p:grpSpPr>
        <p:grpSp>
          <p:nvGrpSpPr>
            <p:cNvPr id="51" name=""/>
            <p:cNvGrpSpPr/>
            <p:nvPr/>
          </p:nvGrpSpPr>
          <p:grpSpPr>
            <a:xfrm>
              <a:off x="2449440" y="2023920"/>
              <a:ext cx="4166280" cy="3838680"/>
              <a:chOff x="2449440" y="2023920"/>
              <a:chExt cx="4166280" cy="3838680"/>
            </a:xfrm>
          </p:grpSpPr>
          <p:grpSp>
            <p:nvGrpSpPr>
              <p:cNvPr id="52" name=""/>
              <p:cNvGrpSpPr/>
              <p:nvPr/>
            </p:nvGrpSpPr>
            <p:grpSpPr>
              <a:xfrm>
                <a:off x="2449440" y="2023920"/>
                <a:ext cx="1750680" cy="639720"/>
                <a:chOff x="2449440" y="2023920"/>
                <a:chExt cx="1750680" cy="639720"/>
              </a:xfrm>
            </p:grpSpPr>
            <p:sp>
              <p:nvSpPr>
                <p:cNvPr id="53" name=""/>
                <p:cNvSpPr/>
                <p:nvPr/>
              </p:nvSpPr>
              <p:spPr>
                <a:xfrm>
                  <a:off x="2615400" y="2023920"/>
                  <a:ext cx="141840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Адрес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2449440" y="2023920"/>
                  <a:ext cx="175068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" name=""/>
              <p:cNvGrpSpPr/>
              <p:nvPr/>
            </p:nvGrpSpPr>
            <p:grpSpPr>
              <a:xfrm>
                <a:off x="4200840" y="2023920"/>
                <a:ext cx="2414880" cy="639720"/>
                <a:chOff x="4200840" y="2023920"/>
                <a:chExt cx="2414880" cy="639720"/>
              </a:xfrm>
            </p:grpSpPr>
            <p:sp>
              <p:nvSpPr>
                <p:cNvPr id="56" name=""/>
                <p:cNvSpPr/>
                <p:nvPr/>
              </p:nvSpPr>
              <p:spPr>
                <a:xfrm>
                  <a:off x="4366800" y="2023920"/>
                  <a:ext cx="208260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Ячейка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" name=""/>
                <p:cNvSpPr/>
                <p:nvPr/>
              </p:nvSpPr>
              <p:spPr>
                <a:xfrm>
                  <a:off x="4200840" y="2023920"/>
                  <a:ext cx="241488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" name=""/>
              <p:cNvGrpSpPr/>
              <p:nvPr/>
            </p:nvGrpSpPr>
            <p:grpSpPr>
              <a:xfrm>
                <a:off x="2449440" y="2663640"/>
                <a:ext cx="1750680" cy="639720"/>
                <a:chOff x="2449440" y="2663640"/>
                <a:chExt cx="1750680" cy="639720"/>
              </a:xfrm>
            </p:grpSpPr>
            <p:sp>
              <p:nvSpPr>
                <p:cNvPr id="59" name=""/>
                <p:cNvSpPr/>
                <p:nvPr/>
              </p:nvSpPr>
              <p:spPr>
                <a:xfrm>
                  <a:off x="2615400" y="2663640"/>
                  <a:ext cx="141840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00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" name=""/>
                <p:cNvSpPr/>
                <p:nvPr/>
              </p:nvSpPr>
              <p:spPr>
                <a:xfrm>
                  <a:off x="2449440" y="2663640"/>
                  <a:ext cx="175068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" name=""/>
              <p:cNvGrpSpPr/>
              <p:nvPr/>
            </p:nvGrpSpPr>
            <p:grpSpPr>
              <a:xfrm>
                <a:off x="4200840" y="2663640"/>
                <a:ext cx="2414880" cy="639720"/>
                <a:chOff x="4200840" y="2663640"/>
                <a:chExt cx="2414880" cy="639720"/>
              </a:xfrm>
            </p:grpSpPr>
            <p:sp>
              <p:nvSpPr>
                <p:cNvPr id="62" name=""/>
                <p:cNvSpPr/>
                <p:nvPr/>
              </p:nvSpPr>
              <p:spPr>
                <a:xfrm>
                  <a:off x="4366800" y="2663640"/>
                  <a:ext cx="208260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001010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4200840" y="2663640"/>
                  <a:ext cx="241488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" name=""/>
              <p:cNvGrpSpPr/>
              <p:nvPr/>
            </p:nvGrpSpPr>
            <p:grpSpPr>
              <a:xfrm>
                <a:off x="2449440" y="3303360"/>
                <a:ext cx="1750680" cy="639720"/>
                <a:chOff x="2449440" y="3303360"/>
                <a:chExt cx="1750680" cy="639720"/>
              </a:xfrm>
            </p:grpSpPr>
            <p:sp>
              <p:nvSpPr>
                <p:cNvPr id="65" name=""/>
                <p:cNvSpPr/>
                <p:nvPr/>
              </p:nvSpPr>
              <p:spPr>
                <a:xfrm>
                  <a:off x="2615400" y="3303360"/>
                  <a:ext cx="141840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01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"/>
                <p:cNvSpPr/>
                <p:nvPr/>
              </p:nvSpPr>
              <p:spPr>
                <a:xfrm>
                  <a:off x="2449440" y="3303360"/>
                  <a:ext cx="175068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" name=""/>
              <p:cNvGrpSpPr/>
              <p:nvPr/>
            </p:nvGrpSpPr>
            <p:grpSpPr>
              <a:xfrm>
                <a:off x="4200840" y="3303360"/>
                <a:ext cx="2414880" cy="639720"/>
                <a:chOff x="4200840" y="3303360"/>
                <a:chExt cx="2414880" cy="639720"/>
              </a:xfrm>
            </p:grpSpPr>
            <p:sp>
              <p:nvSpPr>
                <p:cNvPr id="68" name=""/>
                <p:cNvSpPr/>
                <p:nvPr/>
              </p:nvSpPr>
              <p:spPr>
                <a:xfrm>
                  <a:off x="4366800" y="3303360"/>
                  <a:ext cx="208260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101111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4200840" y="3303360"/>
                  <a:ext cx="241488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" name=""/>
              <p:cNvGrpSpPr/>
              <p:nvPr/>
            </p:nvGrpSpPr>
            <p:grpSpPr>
              <a:xfrm>
                <a:off x="2449440" y="3943080"/>
                <a:ext cx="1750680" cy="639720"/>
                <a:chOff x="2449440" y="3943080"/>
                <a:chExt cx="1750680" cy="639720"/>
              </a:xfrm>
            </p:grpSpPr>
            <p:sp>
              <p:nvSpPr>
                <p:cNvPr id="71" name=""/>
                <p:cNvSpPr/>
                <p:nvPr/>
              </p:nvSpPr>
              <p:spPr>
                <a:xfrm>
                  <a:off x="2615400" y="3943080"/>
                  <a:ext cx="141840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01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2449440" y="3943080"/>
                  <a:ext cx="175068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" name=""/>
              <p:cNvGrpSpPr/>
              <p:nvPr/>
            </p:nvGrpSpPr>
            <p:grpSpPr>
              <a:xfrm>
                <a:off x="4200840" y="3943080"/>
                <a:ext cx="2414880" cy="639720"/>
                <a:chOff x="4200840" y="3943080"/>
                <a:chExt cx="2414880" cy="639720"/>
              </a:xfrm>
            </p:grpSpPr>
            <p:sp>
              <p:nvSpPr>
                <p:cNvPr id="74" name=""/>
                <p:cNvSpPr/>
                <p:nvPr/>
              </p:nvSpPr>
              <p:spPr>
                <a:xfrm>
                  <a:off x="4366800" y="3943080"/>
                  <a:ext cx="208260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111110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4200840" y="3943080"/>
                  <a:ext cx="241488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" name=""/>
              <p:cNvGrpSpPr/>
              <p:nvPr/>
            </p:nvGrpSpPr>
            <p:grpSpPr>
              <a:xfrm>
                <a:off x="2449440" y="4582800"/>
                <a:ext cx="1750680" cy="640080"/>
                <a:chOff x="2449440" y="4582800"/>
                <a:chExt cx="1750680" cy="640080"/>
              </a:xfrm>
            </p:grpSpPr>
            <p:sp>
              <p:nvSpPr>
                <p:cNvPr id="77" name=""/>
                <p:cNvSpPr/>
                <p:nvPr/>
              </p:nvSpPr>
              <p:spPr>
                <a:xfrm>
                  <a:off x="2615400" y="4582800"/>
                  <a:ext cx="1418400" cy="640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…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2449440" y="4582800"/>
                  <a:ext cx="1750680" cy="640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" name=""/>
              <p:cNvGrpSpPr/>
              <p:nvPr/>
            </p:nvGrpSpPr>
            <p:grpSpPr>
              <a:xfrm>
                <a:off x="4200840" y="4582800"/>
                <a:ext cx="2414880" cy="640080"/>
                <a:chOff x="4200840" y="4582800"/>
                <a:chExt cx="2414880" cy="640080"/>
              </a:xfrm>
            </p:grpSpPr>
            <p:sp>
              <p:nvSpPr>
                <p:cNvPr id="80" name=""/>
                <p:cNvSpPr/>
                <p:nvPr/>
              </p:nvSpPr>
              <p:spPr>
                <a:xfrm>
                  <a:off x="4366800" y="4582800"/>
                  <a:ext cx="2082600" cy="640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…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" name=""/>
                <p:cNvSpPr/>
                <p:nvPr/>
              </p:nvSpPr>
              <p:spPr>
                <a:xfrm>
                  <a:off x="4200840" y="4582800"/>
                  <a:ext cx="2414880" cy="640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" name=""/>
              <p:cNvGrpSpPr/>
              <p:nvPr/>
            </p:nvGrpSpPr>
            <p:grpSpPr>
              <a:xfrm>
                <a:off x="2449440" y="5222880"/>
                <a:ext cx="1750680" cy="639720"/>
                <a:chOff x="2449440" y="5222880"/>
                <a:chExt cx="1750680" cy="639720"/>
              </a:xfrm>
            </p:grpSpPr>
            <p:sp>
              <p:nvSpPr>
                <p:cNvPr id="83" name=""/>
                <p:cNvSpPr/>
                <p:nvPr/>
              </p:nvSpPr>
              <p:spPr>
                <a:xfrm>
                  <a:off x="2615400" y="5222880"/>
                  <a:ext cx="141840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11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>
                  <a:off x="2449440" y="5222880"/>
                  <a:ext cx="175068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" name=""/>
              <p:cNvGrpSpPr/>
              <p:nvPr/>
            </p:nvGrpSpPr>
            <p:grpSpPr>
              <a:xfrm>
                <a:off x="4200840" y="5222880"/>
                <a:ext cx="2414880" cy="639720"/>
                <a:chOff x="4200840" y="5222880"/>
                <a:chExt cx="2414880" cy="639720"/>
              </a:xfrm>
            </p:grpSpPr>
            <p:sp>
              <p:nvSpPr>
                <p:cNvPr id="86" name=""/>
                <p:cNvSpPr/>
                <p:nvPr/>
              </p:nvSpPr>
              <p:spPr>
                <a:xfrm>
                  <a:off x="4366800" y="5222880"/>
                  <a:ext cx="208260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010111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>
                  <a:off x="4200840" y="5222880"/>
                  <a:ext cx="241488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8" name=""/>
            <p:cNvSpPr/>
            <p:nvPr/>
          </p:nvSpPr>
          <p:spPr>
            <a:xfrm>
              <a:off x="2438280" y="2019240"/>
              <a:ext cx="4190400" cy="384804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Основная памят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752480" y="1447920"/>
            <a:ext cx="5815080" cy="4865040"/>
            <a:chOff x="1752480" y="1447920"/>
            <a:chExt cx="5815080" cy="4865040"/>
          </a:xfrm>
        </p:grpSpPr>
        <p:sp>
          <p:nvSpPr>
            <p:cNvPr id="91" name=""/>
            <p:cNvSpPr/>
            <p:nvPr/>
          </p:nvSpPr>
          <p:spPr>
            <a:xfrm>
              <a:off x="4457520" y="1542960"/>
              <a:ext cx="708480" cy="982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708800" y="1542960"/>
              <a:ext cx="0" cy="982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708800" y="1588680"/>
              <a:ext cx="388440" cy="2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R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457520" y="1592640"/>
              <a:ext cx="285480" cy="2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449960" y="2244240"/>
              <a:ext cx="285480" cy="2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169960" y="1708920"/>
              <a:ext cx="308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752480" y="4156560"/>
              <a:ext cx="50400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W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449960" y="2907360"/>
              <a:ext cx="708480" cy="982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701240" y="2907360"/>
              <a:ext cx="0" cy="986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701240" y="2953080"/>
              <a:ext cx="388440" cy="2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R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449960" y="2956680"/>
              <a:ext cx="285480" cy="2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442400" y="3608280"/>
              <a:ext cx="285480" cy="2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162400" y="3071160"/>
              <a:ext cx="308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690080" y="2522520"/>
              <a:ext cx="270720" cy="38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470920" y="1592640"/>
              <a:ext cx="1352160" cy="21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817600" y="1573560"/>
              <a:ext cx="64368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MU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61640" y="1607760"/>
              <a:ext cx="0" cy="209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829120" y="1596240"/>
              <a:ext cx="0" cy="2099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428800" y="1577520"/>
              <a:ext cx="42264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D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504400" y="2256840"/>
              <a:ext cx="271080" cy="38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463360" y="3322800"/>
              <a:ext cx="42264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50120" y="1569600"/>
              <a:ext cx="42264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Q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823440" y="1710720"/>
              <a:ext cx="2397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428800" y="2930040"/>
              <a:ext cx="46872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D1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632320" y="1596240"/>
              <a:ext cx="1352520" cy="21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979360" y="1577520"/>
              <a:ext cx="64368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DM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623040" y="1611720"/>
              <a:ext cx="0" cy="209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990520" y="1600200"/>
              <a:ext cx="0" cy="2099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590560" y="1581120"/>
              <a:ext cx="42264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D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624760" y="3326400"/>
              <a:ext cx="42264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985200" y="1714680"/>
              <a:ext cx="479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985200" y="3097800"/>
              <a:ext cx="479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607920" y="1573560"/>
              <a:ext cx="42264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Q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683520" y="2253240"/>
              <a:ext cx="271080" cy="38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584880" y="2953080"/>
              <a:ext cx="46836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Q1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156400" y="1714680"/>
              <a:ext cx="479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643840" y="4202280"/>
              <a:ext cx="1352520" cy="21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990520" y="4183200"/>
              <a:ext cx="64368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DM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634560" y="4217400"/>
              <a:ext cx="0" cy="209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002040" y="4206240"/>
              <a:ext cx="0" cy="2099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602080" y="4187160"/>
              <a:ext cx="42264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D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636280" y="5933160"/>
              <a:ext cx="42264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619440" y="4179600"/>
              <a:ext cx="42264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Q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695040" y="4858920"/>
              <a:ext cx="270720" cy="38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596400" y="5559480"/>
              <a:ext cx="46836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Q1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163960" y="3479040"/>
              <a:ext cx="479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992760" y="2400480"/>
              <a:ext cx="468360" cy="1935720"/>
            </a:xfrm>
            <a:custGeom>
              <a:avLst/>
              <a:gdLst/>
              <a:ahLst/>
              <a:rect l="l" t="t" r="r" b="b"/>
              <a:pathLst>
                <a:path w="738" h="3048">
                  <a:moveTo>
                    <a:pt x="0" y="3048"/>
                  </a:moveTo>
                  <a:lnTo>
                    <a:pt x="228" y="3048"/>
                  </a:lnTo>
                  <a:lnTo>
                    <a:pt x="228" y="0"/>
                  </a:lnTo>
                  <a:lnTo>
                    <a:pt x="738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992760" y="3764520"/>
              <a:ext cx="457200" cy="1943280"/>
            </a:xfrm>
            <a:custGeom>
              <a:avLst/>
              <a:gdLst/>
              <a:ahLst/>
              <a:rect l="l" t="t" r="r" b="b"/>
              <a:pathLst>
                <a:path w="720" h="3060">
                  <a:moveTo>
                    <a:pt x="0" y="3060"/>
                  </a:moveTo>
                  <a:lnTo>
                    <a:pt x="498" y="3060"/>
                  </a:lnTo>
                  <a:lnTo>
                    <a:pt x="498" y="0"/>
                  </a:lnTo>
                  <a:lnTo>
                    <a:pt x="72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163960" y="4316760"/>
              <a:ext cx="475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480040" y="3479040"/>
              <a:ext cx="159840" cy="2598480"/>
            </a:xfrm>
            <a:custGeom>
              <a:avLst/>
              <a:gdLst/>
              <a:ahLst/>
              <a:rect l="l" t="t" r="r" b="b"/>
              <a:pathLst>
                <a:path w="252" h="4092">
                  <a:moveTo>
                    <a:pt x="0" y="0"/>
                  </a:moveTo>
                  <a:lnTo>
                    <a:pt x="0" y="4092"/>
                  </a:lnTo>
                  <a:lnTo>
                    <a:pt x="252" y="4092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480040" y="3479040"/>
              <a:ext cx="2990880" cy="571320"/>
            </a:xfrm>
            <a:custGeom>
              <a:avLst/>
              <a:gdLst/>
              <a:ahLst/>
              <a:rect l="l" t="t" r="r" b="b"/>
              <a:pathLst>
                <a:path w="4710" h="900">
                  <a:moveTo>
                    <a:pt x="0" y="900"/>
                  </a:moveTo>
                  <a:lnTo>
                    <a:pt x="4500" y="900"/>
                  </a:lnTo>
                  <a:lnTo>
                    <a:pt x="4500" y="0"/>
                  </a:lnTo>
                  <a:lnTo>
                    <a:pt x="4710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775160" y="3318840"/>
              <a:ext cx="50400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755000" y="1558440"/>
              <a:ext cx="50400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D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063560" y="1565280"/>
              <a:ext cx="50400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D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449440" y="3456000"/>
              <a:ext cx="56880" cy="56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453400" y="4023360"/>
              <a:ext cx="56880" cy="56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V="1">
              <a:off x="2342880" y="1668960"/>
              <a:ext cx="56880" cy="106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335320" y="1463040"/>
              <a:ext cx="266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flipV="1">
              <a:off x="2335320" y="3417840"/>
              <a:ext cx="56880" cy="106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327760" y="3212280"/>
              <a:ext cx="26640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flipV="1">
              <a:off x="6876720" y="1657440"/>
              <a:ext cx="56880" cy="106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869160" y="1451520"/>
              <a:ext cx="26640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flipV="1">
              <a:off x="4152600" y="1665000"/>
              <a:ext cx="56880" cy="106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145040" y="1459440"/>
              <a:ext cx="26640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flipV="1">
              <a:off x="4171680" y="3052080"/>
              <a:ext cx="56880" cy="106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164120" y="2846520"/>
              <a:ext cx="26640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V="1">
              <a:off x="5257440" y="1653480"/>
              <a:ext cx="56880" cy="106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249880" y="1447920"/>
              <a:ext cx="266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>
              <a:off x="5265360" y="3017880"/>
              <a:ext cx="56880" cy="106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257440" y="2811960"/>
              <a:ext cx="26640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Условное обозначени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211560" y="2205000"/>
            <a:ext cx="2355840" cy="305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924360" y="2284560"/>
            <a:ext cx="934920" cy="7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851280" y="2205000"/>
            <a:ext cx="0" cy="307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932360" y="2205000"/>
            <a:ext cx="0" cy="306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317760" y="2305080"/>
            <a:ext cx="1136880" cy="7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327480" y="3338640"/>
            <a:ext cx="1138320" cy="7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948200" y="2274840"/>
            <a:ext cx="1136520" cy="7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840200" y="2674800"/>
            <a:ext cx="72864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556000" y="2543040"/>
            <a:ext cx="645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556000" y="3573360"/>
            <a:ext cx="645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567400" y="2543040"/>
            <a:ext cx="64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327480" y="4437000"/>
            <a:ext cx="1138320" cy="7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556000" y="4672080"/>
            <a:ext cx="645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Основные регистр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регистр состояния (РС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аккумулятор (АК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регистр команд (РК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регистр адреса (РА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регистр данных (РД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счетчик команд (СК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Взаимосвязь ЦП и ОП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1025640" y="3200400"/>
            <a:ext cx="7051680" cy="1590480"/>
            <a:chOff x="1025640" y="3200400"/>
            <a:chExt cx="7051680" cy="1590480"/>
          </a:xfrm>
        </p:grpSpPr>
        <p:sp>
          <p:nvSpPr>
            <p:cNvPr id="179" name=""/>
            <p:cNvSpPr/>
            <p:nvPr/>
          </p:nvSpPr>
          <p:spPr>
            <a:xfrm>
              <a:off x="1025640" y="3209040"/>
              <a:ext cx="1911600" cy="1581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ЦП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165720" y="3200400"/>
              <a:ext cx="1911600" cy="1581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ОП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991240" y="3742560"/>
              <a:ext cx="3128760" cy="542520"/>
            </a:xfrm>
            <a:prstGeom prst="leftRightArrow">
              <a:avLst>
                <a:gd name="adj1" fmla="val 43889"/>
                <a:gd name="adj2" fmla="val 85652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757680" y="3290400"/>
              <a:ext cx="1514880" cy="65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Шина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4T15:56:50Z</dcterms:created>
  <dc:creator>lav</dc:creator>
  <dc:description/>
  <dc:language>en-US</dc:language>
  <cp:lastModifiedBy>Owner</cp:lastModifiedBy>
  <dcterms:modified xsi:type="dcterms:W3CDTF">2009-02-13T00:41:07Z</dcterms:modified>
  <cp:revision>37</cp:revision>
  <dc:subject/>
  <dc:title>Логические схемы</dc:title>
</cp:coreProperties>
</file>