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3C7-8B46-4BEB-9D76-418A302F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790-A31F-4302-9A7F-FDC2C793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566-079B-4234-875F-CD7FB1B9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421-E6AC-46D7-B816-05E01DD0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E7A-0629-44E7-867D-52E03C4E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9B1-D7F9-4C7C-BB51-0ECC081C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891-923B-4CFF-907B-9484878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AE6-4827-48BD-B72D-AA80C86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FC2-E89C-4186-9166-75327DA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73C-5C11-429C-A62C-8FB0ED06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3BA-4AAC-4C68-A4B6-EC328D3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B3D-94EB-4B98-A463-D6207D3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1A7-395F-452F-B389-59FEFC4D2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 в базы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08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0" y="3790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3794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1040" y="2498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0"/>
            <a:endCxn id="59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1" idx="0"/>
            <a:endCxn id="59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9" idx="3"/>
            <a:endCxn id="65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56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1600" y="2498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1600" y="1584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0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3"/>
            <a:endCxn id="70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0" idx="3"/>
            <a:endCxn id="72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40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152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9" idx="0"/>
            <a:endCxn id="63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63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91600" y="3413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0" idx="3"/>
            <a:endCxn id="85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5600" y="52578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5562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91600" y="5699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648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1600" y="4784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88" idx="3"/>
          </p:cNvCxnSpPr>
          <p:nvPr/>
        </p:nvCxnSpPr>
        <p:spPr>
          <a:xfrm flipH="1">
            <a:off x="6885720" y="4992480"/>
            <a:ext cx="5058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3"/>
            <a:endCxn id="90" idx="2"/>
          </p:cNvCxnSpPr>
          <p:nvPr/>
        </p:nvCxnSpPr>
        <p:spPr>
          <a:xfrm>
            <a:off x="6886080" y="5447880"/>
            <a:ext cx="50580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1920" y="3884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0" idx="2"/>
            <a:endCxn id="96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6" idx="2"/>
            <a:endCxn id="88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7080" y="25146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160" y="37908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57840" y="37940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-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360" y="24987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0"/>
            <a:endCxn id="105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7" idx="0"/>
            <a:endCxn id="105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5" idx="3"/>
            <a:endCxn id="111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1080" y="2514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2760" y="24987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3520" y="1584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16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6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6" idx="3"/>
            <a:endCxn id="118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5013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м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9800" y="5013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0"/>
            <a:endCxn id="109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7" idx="0"/>
            <a:endCxn id="109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341316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6" idx="3"/>
            <a:endCxn id="131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4920" y="5257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6101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6" idx="2"/>
          </p:cNvCxnSpPr>
          <p:nvPr/>
        </p:nvCxnSpPr>
        <p:spPr>
          <a:xfrm flipV="1">
            <a:off x="6886080" y="4953960"/>
            <a:ext cx="50580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7600" y="38847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_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6" idx="2"/>
            <a:endCxn id="138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2"/>
            <a:endCxn id="134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0880" y="555948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0560" y="56959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4" idx="3"/>
            <a:endCxn id="146" idx="2"/>
          </p:cNvCxnSpPr>
          <p:nvPr/>
        </p:nvCxnSpPr>
        <p:spPr>
          <a:xfrm>
            <a:off x="6886080" y="5448240"/>
            <a:ext cx="515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7716240" y="4746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овокупность математических объектов и отношений, составляющих абстрактную машину доступа к данным, с которой взаимодействует пользовател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 дан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птуальн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рарх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тев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реляционной модели были сформулированы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Ф.Код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ать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d E.F. A Relational Model of Data for Large Shared Data Banks // CACM. – June 1970. – 13, #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теж, атрибу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епень отношения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теж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рибу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}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,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3581280"/>
          <a:ext cx="609624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, строка, столб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ячейках таблицы структурно недел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одном столбце одного ти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на столбцов уникаль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строка таблицы уникаль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ки и столбцы таблицы размещаются в произвольном поряд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коллекция операций, которые принимают таблицы в качестве операндов и возвращают таблицы в качестве резуль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 К.Дж. Введение в системы баз данных. – М.: Издательский дом «Вильямс», 2005. – 1328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иллов В.В. Основы проектирования реляционных баз данных. Учебное пособие. - СПб.: ИТМО, 1994. - 90 с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WHERE A.a &gt; 1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a, A.c, A.f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с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692440"/>
          <a:ext cx="6096240" cy="19558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flipV="1">
            <a:off x="2133720" y="1447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набор данных, организованный с определенной це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рограмм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который управляет доступом к базе да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023920" y="1404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05360" y="14954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*, B.* FROM A,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879560"/>
          <a:ext cx="609624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V="1">
            <a:off x="1890720" y="1433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243400" y="1419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371600"/>
            <a:ext cx="15242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AX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a=A.a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x=X.x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, который может быть идентифицирован некоторым способом, отличающим его от других объектов. Каждая сущность обладает набором атрибут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ельная характеристика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состои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емпля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ждый из которых должен отличаться от другого экземпляр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ущность – «Город», экземпляры сущности «Город» – Пушкин, Павловск, Колпи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логическая ассоциация, устанавливаемая между сущност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ь определяет количество экземпляров данной сущности, которое могут быть связаны с одним экземпляром другой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и бывают следующи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 одн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о мног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ие ко мно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траны»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ор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оюзы» - «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ловек» - «Учетная запис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минимальный набор атрибутов, по значениям которых можно однозначно найти требуемый экземпляр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щности позволяет идентифицировать ее экземпляры, 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кземпляры сущности, которая находится в связи с данной сущност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ущ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сущности нет необходимости ссылаться на другие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такой сущности необходимо сослаться на экземпляр независимой сущности, с которой связана зависимая сущ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рамма «Сущность-связь» разработана в 1976 году Питером Че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8-01-23T15:28:57Z</dcterms:modified>
  <cp:revision>142</cp:revision>
  <dc:subject/>
  <dc:title>Презентация PowerPoint</dc:title>
</cp:coreProperties>
</file>