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53C0-AF55-4F2B-BB1B-FB95D940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4CE-3A30-40A5-B35F-479EE035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37E-ECF4-4E06-B87A-B3D2FDDD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B4A-7065-49AF-9798-D36F9457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BC36-BB39-4792-AE8A-3BAACFEF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89B-F68F-4D83-A7AD-C144F069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13C1-4EF9-4A52-B5DA-B8B434E5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D23B-BC81-490C-A0D4-6D7CCD32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40BC-3EF6-4585-B2C6-C923419D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7C6-DCC1-49FF-A56D-5915EAE0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6F1E-23DA-4252-9A2C-98FAD53B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76C-8ACE-4A6F-9B23-A834FB72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09D3-3D78-46DA-8625-4B6BA5D7B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пособы адресации в компьютерных сетя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файла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65240" y="2057400"/>
            <a:ext cx="5730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7.0.0.1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ocal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0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kk.ifmo.ru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8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2.ifmo.ru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9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uncis.ifmo.ru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21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sun.ifmo.ru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98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ets.ifmo.ru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46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ks.ifmo.ru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96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ial.ifmo.ru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225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xvio.ifmo.ru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242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de.ifmo.r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28800" y="4267080"/>
            <a:ext cx="1066680" cy="175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289548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28800" y="2666520"/>
            <a:ext cx="4267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5880" y="2819520"/>
            <a:ext cx="533520" cy="19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4876920"/>
            <a:ext cx="99072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52280"/>
            <a:ext cx="8153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менное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м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60" y="2284560"/>
            <a:ext cx="4189320" cy="42685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3581280"/>
            <a:ext cx="2667240" cy="28195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905120"/>
            <a:ext cx="4572000" cy="47242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3886200"/>
            <a:ext cx="2666880" cy="24382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50440" y="5257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54640" y="5867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9840" y="5410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e.ifmo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010280" y="4343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.ifmo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715000" y="220968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530760" y="2666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447920" y="243828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10400" y="28954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447920" y="388620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4600" y="541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02760" y="38862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2438280" y="548640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118320" y="609588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res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тилиты для работы в се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PCONF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S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C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ETS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дентификация уз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ппаратный адре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3-14-56-A5-C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тевой адре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92.168.0.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я компьютера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ifmo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 -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дре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838080"/>
            <a:ext cx="8381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Pv4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32 би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000010 01010100 01111100 0011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4.124.5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Pv6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128 б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ка подсе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ели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 на номер подсети и номер компьютера в подсе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111111 11000000 00000000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55.192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р подсе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000010 01000000 00000000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64.0.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лассы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дре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01.xxx.xxx.xxx-127.xxx.xxx.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8.000.xxx.xxx-191.255.xxx.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2.000.000.xxx-223.255.255.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 -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дреса дл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окальных ц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0.0.0.0 до 10.255.255.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72.16.0.0 до 172.31.255.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92.168.0.0 до 192.168.255.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резервированны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адре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IP-адрес состоит из нулей, то это адрес отправителя сообщ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в адресе сети стоят нули, то это адрес компьютера, который принадлежит той же сети, что и отправитель сообщ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IP-адрес состоит из единиц, то это сообщение предназначено всем компьютерам текущей сет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в номере узла стоят единицы, то это сообщение предназначено всем компьютерам заданной се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дентификация 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28440" y="2286000"/>
            <a:ext cx="5181840" cy="3193920"/>
            <a:chOff x="1828440" y="2286000"/>
            <a:chExt cx="5181840" cy="3193920"/>
          </a:xfrm>
        </p:grpSpPr>
        <p:sp>
          <p:nvSpPr>
            <p:cNvPr id="55" name=""/>
            <p:cNvSpPr/>
            <p:nvPr/>
          </p:nvSpPr>
          <p:spPr>
            <a:xfrm>
              <a:off x="1828440" y="229536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W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23720" y="229536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06400" y="228600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02040" y="229536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3149640"/>
              <a:ext cx="5181480" cy="1162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CP/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P-адре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28800" y="4317840"/>
              <a:ext cx="5181480" cy="1162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етевая кар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адре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рт и соке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343400" y="1317600"/>
          <a:ext cx="4800600" cy="40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317600"/>
                    <a:ext cx="480060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52280" y="1217520"/>
            <a:ext cx="4038840" cy="50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р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то целое число, определяющее прикладной процесс запущенный на компьюте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кет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вокупност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ресов и портов клиента и сервера, идентифицирующий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P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един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лужб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доменных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мен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1363680"/>
            <a:ext cx="89154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ужба доменных имен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 Name Service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DNS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уществляет преобразование доменного имен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числовой IP-адре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ьютеры, выполняющие такое преобразование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DNS-сервер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д появлением служб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нформация необходимая для преобразование доменного имени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рес хранилась в файл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st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хос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мпьютер, главный компьютер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20:51:30Z</dcterms:created>
  <dc:creator>cde</dc:creator>
  <dc:description/>
  <dc:language>en-US</dc:language>
  <cp:lastModifiedBy>Owner</cp:lastModifiedBy>
  <dcterms:modified xsi:type="dcterms:W3CDTF">2009-03-15T15:31:18Z</dcterms:modified>
  <cp:revision>9</cp:revision>
  <dc:subject/>
  <dc:title>Компьютерные сети</dc:title>
</cp:coreProperties>
</file>