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C723-4DAC-403C-8B6D-9A73103B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395-32A5-419A-9011-ED5ED6F3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EE2C-EB06-44F5-8306-B530F18E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31DF-22EC-4952-90FD-29B1B47A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5AEB-9FAE-484C-A425-BCAD5867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2FE-CDD3-498C-AC1B-B5326A99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201-260E-4812-BB51-202A9AC2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59E-2D66-473D-AC33-5C036E26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A8E-D5EC-44F8-B9F4-9C7E37D5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1BC-5F4D-400F-966C-ACAD8A81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6474-F728-42DC-8C9E-22333207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D62F-BB55-4F46-85FD-EED2B279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67DC-62E9-4F88-9354-118B8B941A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'Ok'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1001111 0110101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, 3, 5, 10, 22, 42, 90, 185, 375, 774, 1605, 3235, 6524, 13936, 28725, 6189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35757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7515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7515, 6788, 101818, 67879, 95031, 95032, 67883, 101827, 33958, 122220, 101898, 34101, 54629, 82151, 103254, 302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68052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пьютерные виру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пьютерные вирус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разновидность вредоносных программ, отличительной особенностью которых является способность к размножению (саморепликации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ссификация вирус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оражаемым объект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йлов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рузочн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риптов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тевые черв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оражаемым операционным системам и платформ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D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Microsoft Window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Unix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технологиям используемым вирусо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иморфн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елс-вирус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языку, на котором написан вирус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семблер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окоуровневый язык программировани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зык сценарие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ы защи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здать абсолютно надежный канал связ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овать общедоступный канал связи, но скрыть факт передачи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еганограф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овать общедоступный канал связи, но передавать информацию в таком виде, чтобы восстановить ее мог только адресат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иптограф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щищаемая информ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сударственн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оенн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мерческ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Юридическ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рачебная тай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изнаки защищаемой информ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ется какой-то определенный круг законных пользователей, которые имеют право владеть этой информац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ются незаконные пользователи, которые стремятся овладеть этой информацией с тем, чтобы обратить ее себе во благо, а законным пользователям во вре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угро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ехват и вскрытие шиф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гентурный способ доступа к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ничтожение или модификация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бор средств защи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вляется ли она для противника более ценной, чем стоимость атак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вляется ли она для вас более ценной, чем стоимость защиты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ульная арифме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mod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тное число к числу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mod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риптография с использованием открытых ключ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... , b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708360" y="1773360"/>
          <a:ext cx="3311640" cy="10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773360"/>
                    <a:ext cx="331164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87280" y="2884320"/>
          <a:ext cx="1584360" cy="10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884320"/>
                    <a:ext cx="158436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70200" y="4869000"/>
          <a:ext cx="4540320" cy="69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0200" y="4869000"/>
                    <a:ext cx="454032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риптография с использованием открытых ключ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ная информация тем или иным способом представляется в двоичной форме и разбивается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зрядные двоичные числ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ждому двоичному числ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...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тавится в соответствие десятичное числ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ое рассчитывается по формуле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 ... + 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ередается получателю сообщения, который определяет числа из последова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уммой которых является результат умножения переданного числа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модулю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дексы найденных чисел из последова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казывают на положение единиц в двоичном числ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тем самым позволяют его восстанови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support</cp:lastModifiedBy>
  <dcterms:modified xsi:type="dcterms:W3CDTF">2009-06-02T10:55:15Z</dcterms:modified>
  <cp:revision>101</cp:revision>
  <dc:subject/>
  <dc:title>Язык структурированных запросов</dc:title>
</cp:coreProperties>
</file>