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D88AF-C10B-436C-B73E-FB228A28C7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3CD3-572E-4438-9BEE-100650F5B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CE30-DE7F-40CB-9E02-D9880CF6B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E6F6-6E56-4923-859D-6EDCCCDC5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DFE9-9C53-4E8B-967C-15768555C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A4E8-E136-4253-B7F3-B571771F4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F0373-CA5E-421D-9361-D6F13C4DF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9E6F-1474-4547-8923-E71DA1341A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11D0-A600-4128-9E62-5D3AA5F1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E1229-FDEB-49D6-817E-35FD21DD8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B71F2-0EBF-4D61-85E3-5CDB167A9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5AC5-F774-48EB-8422-59F171C4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3EF7B-6ADD-460E-9473-6D18EDB2C06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Алгоритмические машины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потеза Тьюринг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бстрактная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ьюринга предоставляет среду, в которой могут быть описаны все вычислимые функции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имер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невычислимой по Тьюрингу является функция, которая сопоставляет геделевскому номеру программы значение переменной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авное 0 или 1, в зависимости от того, является данная программа самоостанавливающейся или нет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стейший язык программирова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…}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програм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Z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hil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o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0 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o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{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in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Y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W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60320"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dec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X</a:t>
            </a:r>
            <a:r>
              <a:rPr b="0" lang="ru-RU" sz="1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трактная машина П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Машина Поста состоит из ленты и каретки. Лента бесконечна и разделена на секции одинакового размера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 каждую секцию ленты заносится один символ двоичного информации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етка может передвигаться вдоль ленты влево и вправо. Когда она неподвижна, она стоит против ровно одной секции ленты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 единицу времени, которая называется шагом, каретка может сдвинуться на одну секцию влево или вправо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 Пост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: nKm, где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n – номер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текущей команды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 – команд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з системы команд машины Пост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m – ссылк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ru-RU" sz="32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омер команды, которая будет выполняться следующ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команд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 Пост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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1,b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 b ]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371600" y="3852720"/>
          <a:ext cx="2700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52720"/>
                    <a:ext cx="270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 программы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2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?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!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1371600" y="3852720"/>
          <a:ext cx="270000" cy="414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3852720"/>
                    <a:ext cx="270000" cy="41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бстрактна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 Тьюринга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9807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а Тьюринга состоит из информационной ленты, каретки, лентопротяжного механизма и операционного исполнительного устройств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нта ограничена слева и бесконечна справа. Лента разделена на секции одинакового размер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ждую секцию ленты заносятся символы внешнего алфавита машины Тьюринга A = {a0, a1,... aN}, где а0, как правило, пробел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онное исполнительное устройство может находиться в одном из дискретных состояний: Q = {q0, q1,...qM} - внутренний алфавит машины Тьюринга или алфавит внутренних состояний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ши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Тьюринг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ормат команды: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, где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a  - новое содержание текущей ячейки (новый символ внешнего алфавита, который заносится в текущую ячейку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K  - команда лентопротяжного механизма машины Тьюринга (влево - &lt;, вправо - &gt;, стоп - !)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q - новое внутренне состояние машины Тьюринг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програм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1371600" y="2362320"/>
            <a:ext cx="6704640" cy="3276000"/>
            <a:chOff x="1371600" y="2362320"/>
            <a:chExt cx="6704640" cy="3276000"/>
          </a:xfrm>
        </p:grpSpPr>
        <p:grpSp>
          <p:nvGrpSpPr>
            <p:cNvPr id="61" name=""/>
            <p:cNvGrpSpPr/>
            <p:nvPr/>
          </p:nvGrpSpPr>
          <p:grpSpPr>
            <a:xfrm>
              <a:off x="1387080" y="2367000"/>
              <a:ext cx="6670080" cy="3265560"/>
              <a:chOff x="1387080" y="2367000"/>
              <a:chExt cx="6670080" cy="3265560"/>
            </a:xfrm>
          </p:grpSpPr>
          <p:grpSp>
            <p:nvGrpSpPr>
              <p:cNvPr id="62" name=""/>
              <p:cNvGrpSpPr/>
              <p:nvPr/>
            </p:nvGrpSpPr>
            <p:grpSpPr>
              <a:xfrm>
                <a:off x="1387080" y="2367000"/>
                <a:ext cx="2176560" cy="672120"/>
                <a:chOff x="1387080" y="2367000"/>
                <a:chExt cx="2176560" cy="672120"/>
              </a:xfrm>
            </p:grpSpPr>
            <p:sp>
              <p:nvSpPr>
                <p:cNvPr id="63" name=""/>
                <p:cNvSpPr/>
                <p:nvPr/>
              </p:nvSpPr>
              <p:spPr>
                <a:xfrm>
                  <a:off x="1613880" y="2367000"/>
                  <a:ext cx="172368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A/Q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387080" y="2367000"/>
                  <a:ext cx="217656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" name=""/>
              <p:cNvGrpSpPr/>
              <p:nvPr/>
            </p:nvGrpSpPr>
            <p:grpSpPr>
              <a:xfrm>
                <a:off x="3564720" y="2367000"/>
                <a:ext cx="2246040" cy="672120"/>
                <a:chOff x="3564720" y="2367000"/>
                <a:chExt cx="2246040" cy="672120"/>
              </a:xfrm>
            </p:grpSpPr>
            <p:sp>
              <p:nvSpPr>
                <p:cNvPr id="66" name=""/>
                <p:cNvSpPr/>
                <p:nvPr/>
              </p:nvSpPr>
              <p:spPr>
                <a:xfrm>
                  <a:off x="3791520" y="2367000"/>
                  <a:ext cx="179172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Q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564720" y="2367000"/>
                  <a:ext cx="224604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"/>
              <p:cNvGrpSpPr/>
              <p:nvPr/>
            </p:nvGrpSpPr>
            <p:grpSpPr>
              <a:xfrm>
                <a:off x="5812200" y="2367000"/>
                <a:ext cx="2244960" cy="672120"/>
                <a:chOff x="5812200" y="2367000"/>
                <a:chExt cx="2244960" cy="672120"/>
              </a:xfrm>
            </p:grpSpPr>
            <p:sp>
              <p:nvSpPr>
                <p:cNvPr id="69" name=""/>
                <p:cNvSpPr/>
                <p:nvPr/>
              </p:nvSpPr>
              <p:spPr>
                <a:xfrm>
                  <a:off x="6037920" y="2367000"/>
                  <a:ext cx="1793160" cy="672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5812200" y="2367000"/>
                  <a:ext cx="2244960" cy="6721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1" name=""/>
              <p:cNvGrpSpPr/>
              <p:nvPr/>
            </p:nvGrpSpPr>
            <p:grpSpPr>
              <a:xfrm>
                <a:off x="1387080" y="3039480"/>
                <a:ext cx="2176560" cy="864000"/>
                <a:chOff x="1387080" y="3039480"/>
                <a:chExt cx="2176560" cy="864000"/>
              </a:xfrm>
            </p:grpSpPr>
            <p:sp>
              <p:nvSpPr>
                <p:cNvPr id="72" name=""/>
                <p:cNvSpPr/>
                <p:nvPr/>
              </p:nvSpPr>
              <p:spPr>
                <a:xfrm>
                  <a:off x="1613880" y="3039480"/>
                  <a:ext cx="172368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1387080" y="3039480"/>
                  <a:ext cx="21765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"/>
              <p:cNvGrpSpPr/>
              <p:nvPr/>
            </p:nvGrpSpPr>
            <p:grpSpPr>
              <a:xfrm>
                <a:off x="3564720" y="3039480"/>
                <a:ext cx="2246040" cy="864000"/>
                <a:chOff x="3564720" y="3039480"/>
                <a:chExt cx="2246040" cy="864000"/>
              </a:xfrm>
            </p:grpSpPr>
            <p:sp>
              <p:nvSpPr>
                <p:cNvPr id="75" name=""/>
                <p:cNvSpPr/>
                <p:nvPr/>
              </p:nvSpPr>
              <p:spPr>
                <a:xfrm>
                  <a:off x="3791520" y="3039480"/>
                  <a:ext cx="179172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"/>
                <p:cNvSpPr/>
                <p:nvPr/>
              </p:nvSpPr>
              <p:spPr>
                <a:xfrm>
                  <a:off x="3564720" y="3039480"/>
                  <a:ext cx="224604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7" name=""/>
              <p:cNvGrpSpPr/>
              <p:nvPr/>
            </p:nvGrpSpPr>
            <p:grpSpPr>
              <a:xfrm>
                <a:off x="5812200" y="3039480"/>
                <a:ext cx="2244960" cy="864000"/>
                <a:chOff x="5812200" y="3039480"/>
                <a:chExt cx="2244960" cy="864000"/>
              </a:xfrm>
            </p:grpSpPr>
            <p:sp>
              <p:nvSpPr>
                <p:cNvPr id="78" name=""/>
                <p:cNvSpPr/>
                <p:nvPr/>
              </p:nvSpPr>
              <p:spPr>
                <a:xfrm>
                  <a:off x="6037920" y="3039480"/>
                  <a:ext cx="179316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>
                  <a:off x="5812200" y="3039480"/>
                  <a:ext cx="22449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0" name=""/>
              <p:cNvGrpSpPr/>
              <p:nvPr/>
            </p:nvGrpSpPr>
            <p:grpSpPr>
              <a:xfrm>
                <a:off x="1387080" y="3903840"/>
                <a:ext cx="2176560" cy="864360"/>
                <a:chOff x="1387080" y="3903840"/>
                <a:chExt cx="2176560" cy="864360"/>
              </a:xfrm>
            </p:grpSpPr>
            <p:sp>
              <p:nvSpPr>
                <p:cNvPr id="81" name=""/>
                <p:cNvSpPr/>
                <p:nvPr/>
              </p:nvSpPr>
              <p:spPr>
                <a:xfrm>
                  <a:off x="1613880" y="3903840"/>
                  <a:ext cx="172368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" name=""/>
                <p:cNvSpPr/>
                <p:nvPr/>
              </p:nvSpPr>
              <p:spPr>
                <a:xfrm>
                  <a:off x="1387080" y="3903840"/>
                  <a:ext cx="2176560" cy="86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3" name=""/>
              <p:cNvGrpSpPr/>
              <p:nvPr/>
            </p:nvGrpSpPr>
            <p:grpSpPr>
              <a:xfrm>
                <a:off x="3564720" y="3903840"/>
                <a:ext cx="2246040" cy="864360"/>
                <a:chOff x="3564720" y="3903840"/>
                <a:chExt cx="2246040" cy="864360"/>
              </a:xfrm>
            </p:grpSpPr>
            <p:sp>
              <p:nvSpPr>
                <p:cNvPr id="84" name=""/>
                <p:cNvSpPr/>
                <p:nvPr/>
              </p:nvSpPr>
              <p:spPr>
                <a:xfrm>
                  <a:off x="3791520" y="3903840"/>
                  <a:ext cx="179172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0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>
                  <a:off x="3564720" y="3903840"/>
                  <a:ext cx="2246040" cy="86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6" name=""/>
              <p:cNvGrpSpPr/>
              <p:nvPr/>
            </p:nvGrpSpPr>
            <p:grpSpPr>
              <a:xfrm>
                <a:off x="5812200" y="3903840"/>
                <a:ext cx="2244960" cy="864360"/>
                <a:chOff x="5812200" y="3903840"/>
                <a:chExt cx="2244960" cy="864360"/>
              </a:xfrm>
            </p:grpSpPr>
            <p:sp>
              <p:nvSpPr>
                <p:cNvPr id="87" name=""/>
                <p:cNvSpPr/>
                <p:nvPr/>
              </p:nvSpPr>
              <p:spPr>
                <a:xfrm>
                  <a:off x="6037920" y="3903840"/>
                  <a:ext cx="1793160" cy="8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0 &gt;Q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>
                  <a:off x="5812200" y="3903840"/>
                  <a:ext cx="2244960" cy="864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9" name=""/>
              <p:cNvGrpSpPr/>
              <p:nvPr/>
            </p:nvGrpSpPr>
            <p:grpSpPr>
              <a:xfrm>
                <a:off x="1387080" y="4768560"/>
                <a:ext cx="2176560" cy="864000"/>
                <a:chOff x="1387080" y="4768560"/>
                <a:chExt cx="2176560" cy="864000"/>
              </a:xfrm>
            </p:grpSpPr>
            <p:sp>
              <p:nvSpPr>
                <p:cNvPr id="90" name=""/>
                <p:cNvSpPr/>
                <p:nvPr/>
              </p:nvSpPr>
              <p:spPr>
                <a:xfrm>
                  <a:off x="1613880" y="4768560"/>
                  <a:ext cx="172368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_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1" name=""/>
                <p:cNvSpPr/>
                <p:nvPr/>
              </p:nvSpPr>
              <p:spPr>
                <a:xfrm>
                  <a:off x="1387080" y="4768560"/>
                  <a:ext cx="21765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2" name=""/>
              <p:cNvGrpSpPr/>
              <p:nvPr/>
            </p:nvGrpSpPr>
            <p:grpSpPr>
              <a:xfrm>
                <a:off x="3564720" y="4768560"/>
                <a:ext cx="2246040" cy="864000"/>
                <a:chOff x="3564720" y="4768560"/>
                <a:chExt cx="2246040" cy="864000"/>
              </a:xfrm>
            </p:grpSpPr>
            <p:sp>
              <p:nvSpPr>
                <p:cNvPr id="93" name=""/>
                <p:cNvSpPr/>
                <p:nvPr/>
              </p:nvSpPr>
              <p:spPr>
                <a:xfrm>
                  <a:off x="3791520" y="4768560"/>
                  <a:ext cx="179172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_ &gt;Q0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" name=""/>
                <p:cNvSpPr/>
                <p:nvPr/>
              </p:nvSpPr>
              <p:spPr>
                <a:xfrm>
                  <a:off x="3564720" y="4768560"/>
                  <a:ext cx="224604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5812200" y="4768560"/>
                <a:ext cx="2244960" cy="864000"/>
                <a:chOff x="5812200" y="4768560"/>
                <a:chExt cx="2244960" cy="864000"/>
              </a:xfrm>
            </p:grpSpPr>
            <p:sp>
              <p:nvSpPr>
                <p:cNvPr id="96" name=""/>
                <p:cNvSpPr/>
                <p:nvPr/>
              </p:nvSpPr>
              <p:spPr>
                <a:xfrm>
                  <a:off x="6037920" y="4768560"/>
                  <a:ext cx="1793160" cy="864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_ !</a:t>
                  </a:r>
                  <a:r>
                    <a:rPr b="0" lang="en-US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Q</a:t>
                  </a:r>
                  <a:r>
                    <a:rPr b="0" lang="ru-RU" sz="2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7" name=""/>
                <p:cNvSpPr/>
                <p:nvPr/>
              </p:nvSpPr>
              <p:spPr>
                <a:xfrm>
                  <a:off x="5812200" y="4768560"/>
                  <a:ext cx="2244960" cy="8640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" name=""/>
            <p:cNvSpPr/>
            <p:nvPr/>
          </p:nvSpPr>
          <p:spPr>
            <a:xfrm>
              <a:off x="1371600" y="2362320"/>
              <a:ext cx="6704640" cy="32760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вычислимые функ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выполняет единственное действие: управляет преобразованием некоторого исходного набора двоичных разрядов, который будем называть входным, в другой набор двоичных разрядов, именуемый выходным. Связь, существующая между этими наборами, называет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е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нкции, для которых отношения между входными и выходными величинами не могут быть определены никаким алгоритмическим методо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называются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невычислимым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20:39:37Z</dcterms:created>
  <dc:creator>cde</dc:creator>
  <dc:description/>
  <dc:language>en-US</dc:language>
  <cp:lastModifiedBy>Owner</cp:lastModifiedBy>
  <dcterms:modified xsi:type="dcterms:W3CDTF">2009-03-15T15:07:45Z</dcterms:modified>
  <cp:revision>28</cp:revision>
  <dc:subject/>
  <dc:title>Алгоритмы</dc:title>
</cp:coreProperties>
</file>