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29.bin" ContentType="application/vnd.openxmlformats-officedocument.oleObject"/>
  <Override PartName="/ppt/embeddings/oleObject4.bin" ContentType="application/vnd.openxmlformats-officedocument.oleObject"/>
  <Override PartName="/ppt/embeddings/oleObject18.bin" ContentType="application/vnd.openxmlformats-officedocument.oleObject"/>
  <Override PartName="/ppt/embeddings/oleObject30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28.bin" ContentType="application/vnd.openxmlformats-officedocument.oleObject"/>
  <Override PartName="/ppt/embeddings/oleObject21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embeddings/oleObject2.bin" ContentType="application/vnd.openxmlformats-officedocument.oleObject"/>
  <Override PartName="/ppt/embeddings/oleObject16.bin" ContentType="application/vnd.openxmlformats-officedocument.oleObject"/>
  <Override PartName="/ppt/embeddings/oleObject1.bin" ContentType="application/vnd.openxmlformats-officedocument.oleObject"/>
  <Override PartName="/ppt/embeddings/oleObject15.bin" ContentType="application/vnd.openxmlformats-officedocument.oleObject"/>
  <Override PartName="/ppt/embeddings/oleObject14.bin" ContentType="application/vnd.openxmlformats-officedocument.oleObject"/>
  <Override PartName="/ppt/embeddings/oleObject22.bin" ContentType="application/vnd.openxmlformats-officedocument.oleObject"/>
  <Override PartName="/ppt/embeddings/oleObject23.bin" ContentType="application/vnd.openxmlformats-officedocument.oleObject"/>
  <Override PartName="/ppt/embeddings/oleObject24.bin" ContentType="application/vnd.openxmlformats-officedocument.oleObject"/>
  <Override PartName="/ppt/embeddings/oleObject25.bin" ContentType="application/vnd.openxmlformats-officedocument.oleObject"/>
  <Override PartName="/ppt/embeddings/oleObject26.bin" ContentType="application/vnd.openxmlformats-officedocument.oleObject"/>
  <Override PartName="/ppt/embeddings/oleObject20.bin" ContentType="application/vnd.openxmlformats-officedocument.oleObject"/>
  <Override PartName="/ppt/embeddings/oleObject27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0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35.wmf" ContentType="image/x-wmf"/>
  <Override PartName="/ppt/media/image5.wmf" ContentType="image/x-wmf"/>
  <Override PartName="/ppt/media/image28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E7F1-63AF-4BDC-87BA-6D149851D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A753-F0A8-438B-8528-BE575DF6F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626F-813B-4832-878A-11A95B608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FF4B-D305-41E7-87C4-54A5790D7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2F5F-8921-435D-9110-278533D22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6C0A-80DE-449F-AA38-671013E23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4C30-398B-42B5-BAB9-0FBFEF5F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D547-9D8B-49F8-8086-9278E9125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A4AB-DD41-4AF7-AA5F-FCC9017E6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0501-E0E9-4FC5-B07D-D93ABFD9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34CC-3A1E-45ED-8CF3-729CDFD2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DE53-E333-4790-AF5E-73AD7126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43BE4-73FF-4583-ADB3-CB77F7A353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4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30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31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30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31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34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35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35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34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32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33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32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33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36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37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37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36.wmf"/><Relationship Id="rId6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9.wmf"/><Relationship Id="rId2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.wmf"/><Relationship Id="rId1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сновные понятия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лгебры логи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аблица истинности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2133720"/>
          <a:ext cx="8305920" cy="3886200"/>
        </p:xfrm>
        <a:graphic>
          <a:graphicData uri="http://schemas.openxmlformats.org/drawingml/2006/table">
            <a:tbl>
              <a:tblPr/>
              <a:tblGrid>
                <a:gridCol w="1278000"/>
                <a:gridCol w="1278000"/>
                <a:gridCol w="1277640"/>
                <a:gridCol w="1278000"/>
                <a:gridCol w="319428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i="1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... ,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i="1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, ... ,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, ... ,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, 1, ... ,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, 1, ... ,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Логическая формул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уперпозицией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ункций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...,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называется функция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полученная с помощью подстановок этих функций друг в друга, 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ормуло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называется выражение, описывающее эту суперпозицию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записи формулы функции алгебры логики необходимо либо перечислить все ситуации, в которых она истинна, либо исключить все ситуации, в которых она ложн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инимизация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логических функц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нение законов алгебры логик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тод Куайна-Макклас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тод карт Карн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ммутативный зако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719440" y="2585880"/>
          <a:ext cx="3224160" cy="7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19440" y="2585880"/>
                    <a:ext cx="322416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2895480" y="4000680"/>
          <a:ext cx="2895840" cy="72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95480" y="4000680"/>
                    <a:ext cx="2895840" cy="72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Ассоциативный закон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828800" y="2590920"/>
          <a:ext cx="5562720" cy="74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590920"/>
                    <a:ext cx="5562720" cy="74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1928880" y="4044960"/>
          <a:ext cx="5386320" cy="75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28880" y="4044960"/>
                    <a:ext cx="538632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истрибутивный зако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752480" y="2590920"/>
          <a:ext cx="58438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590920"/>
                    <a:ext cx="58438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1676520" y="4038480"/>
          <a:ext cx="5943600" cy="71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038480"/>
                    <a:ext cx="594360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Теорема де Морга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819520" y="2494080"/>
          <a:ext cx="3143160" cy="84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494080"/>
                    <a:ext cx="314316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2952720" y="3962520"/>
          <a:ext cx="2914560" cy="78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52720" y="3962520"/>
                    <a:ext cx="291456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Свойство идемпотен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166920" y="2568600"/>
          <a:ext cx="2319480" cy="78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66920" y="2568600"/>
                    <a:ext cx="2319480" cy="78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3257640" y="4038480"/>
          <a:ext cx="2152440" cy="760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57640" y="4038480"/>
                    <a:ext cx="2152440" cy="7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Свойство поглощ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895480" y="2577960"/>
          <a:ext cx="312912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577960"/>
                    <a:ext cx="312912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2838600" y="4038480"/>
          <a:ext cx="333360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38600" y="4038480"/>
                    <a:ext cx="333360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Операция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переменной с инверсией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276720" y="2446200"/>
          <a:ext cx="2361960" cy="98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446200"/>
                    <a:ext cx="2361960" cy="9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3276720" y="3862440"/>
          <a:ext cx="2438280" cy="101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3862440"/>
                    <a:ext cx="243828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сновные термин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лгебра логи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огическое высказыв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огические связк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«НЕ»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«И»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«ИЛИ»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«ЕСЛИ …, ТО …»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«… ТОГДА И ТОЛЬКО ТОГДА …"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Операции с константами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352680" y="1954080"/>
          <a:ext cx="2376720" cy="170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1954080"/>
                    <a:ext cx="2376720" cy="17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3352680" y="3976560"/>
          <a:ext cx="2210040" cy="173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3976560"/>
                    <a:ext cx="2210040" cy="17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533520" y="1981080"/>
          <a:ext cx="8001000" cy="240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981080"/>
                    <a:ext cx="8001000" cy="24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Куайна-Маккласки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тод минимизации логических функций Куайна-Маккласки основан на том факте, что вынос общего множителя за скобки в формуле эквивалентен объединению двух строк в одну в таблице истинности. В комбинируемых строках должны совпадать все значения переменных, кроме одной - сравниваемые строки отличаются на одну единицу. Значение "не совпавшей" переменной безразлично и может быть обозначено звездочкой "*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600200" y="1828800"/>
          <a:ext cx="6095880" cy="40622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28600" y="1752480"/>
          <a:ext cx="8686800" cy="4657680"/>
        </p:xfrm>
        <a:graphic>
          <a:graphicData uri="http://schemas.openxmlformats.org/drawingml/2006/table">
            <a:tbl>
              <a:tblPr/>
              <a:tblGrid>
                <a:gridCol w="2362320"/>
                <a:gridCol w="990720"/>
                <a:gridCol w="990360"/>
                <a:gridCol w="990720"/>
                <a:gridCol w="888840"/>
                <a:gridCol w="24638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мера стр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-во едини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228600" y="536400"/>
          <a:ext cx="8686800" cy="2587680"/>
        </p:xfrm>
        <a:graphic>
          <a:graphicData uri="http://schemas.openxmlformats.org/drawingml/2006/table">
            <a:tbl>
              <a:tblPr/>
              <a:tblGrid>
                <a:gridCol w="2362320"/>
                <a:gridCol w="990360"/>
                <a:gridCol w="990720"/>
                <a:gridCol w="990720"/>
                <a:gridCol w="888840"/>
                <a:gridCol w="24638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мера стр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-во едини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228600" y="3505320"/>
          <a:ext cx="8686800" cy="2587680"/>
        </p:xfrm>
        <a:graphic>
          <a:graphicData uri="http://schemas.openxmlformats.org/drawingml/2006/table">
            <a:tbl>
              <a:tblPr/>
              <a:tblGrid>
                <a:gridCol w="2362320"/>
                <a:gridCol w="990360"/>
                <a:gridCol w="990720"/>
                <a:gridCol w="990720"/>
                <a:gridCol w="888840"/>
                <a:gridCol w="24638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мера стр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-во едини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 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 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 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228600" y="76320"/>
          <a:ext cx="8686800" cy="2587680"/>
        </p:xfrm>
        <a:graphic>
          <a:graphicData uri="http://schemas.openxmlformats.org/drawingml/2006/table">
            <a:tbl>
              <a:tblPr/>
              <a:tblGrid>
                <a:gridCol w="2362320"/>
                <a:gridCol w="990360"/>
                <a:gridCol w="990720"/>
                <a:gridCol w="990720"/>
                <a:gridCol w="888840"/>
                <a:gridCol w="24638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мера стр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-во едини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 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 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 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228600" y="2895480"/>
          <a:ext cx="8686800" cy="1552680"/>
        </p:xfrm>
        <a:graphic>
          <a:graphicData uri="http://schemas.openxmlformats.org/drawingml/2006/table">
            <a:tbl>
              <a:tblPr/>
              <a:tblGrid>
                <a:gridCol w="2362320"/>
                <a:gridCol w="990360"/>
                <a:gridCol w="990720"/>
                <a:gridCol w="990720"/>
                <a:gridCol w="888840"/>
                <a:gridCol w="24638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мера стр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-во едини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 4, 7, 8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 7, 4, 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228600" y="4648320"/>
          <a:ext cx="8686800" cy="1035000"/>
        </p:xfrm>
        <a:graphic>
          <a:graphicData uri="http://schemas.openxmlformats.org/drawingml/2006/table">
            <a:tbl>
              <a:tblPr/>
              <a:tblGrid>
                <a:gridCol w="2362320"/>
                <a:gridCol w="990360"/>
                <a:gridCol w="990720"/>
                <a:gridCol w="990720"/>
                <a:gridCol w="888840"/>
                <a:gridCol w="24638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мера стр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-во едини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 4, 7, 8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657600" y="5867280"/>
          <a:ext cx="1600200" cy="85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5867280"/>
                    <a:ext cx="1600200" cy="8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карт Карно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рта Карно представляет прямоугольник разделенный на квадраты, каждому из которых соответствует определенная комбинация всех входных переменных. Внутри каждого квадрата записывается значение функции на данной комбинации входных переменны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ы карт Карн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346040" y="2362320"/>
          <a:ext cx="1295640" cy="1035000"/>
        </p:xfrm>
        <a:graphic>
          <a:graphicData uri="http://schemas.openxmlformats.org/drawingml/2006/table">
            <a:tbl>
              <a:tblPr/>
              <a:tblGrid>
                <a:gridCol w="647640"/>
                <a:gridCol w="648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1501920" y="1828800"/>
          <a:ext cx="407880" cy="5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1920" y="1828800"/>
                    <a:ext cx="4078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2184480" y="1828800"/>
          <a:ext cx="404640" cy="57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84480" y="1828800"/>
                    <a:ext cx="404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863640" y="2286000"/>
          <a:ext cx="40644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63640" y="2286000"/>
                    <a:ext cx="4064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838080" y="2819520"/>
          <a:ext cx="432000" cy="647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8080" y="2819520"/>
                    <a:ext cx="43200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4800600" y="2362320"/>
          <a:ext cx="2514600" cy="1035000"/>
        </p:xfrm>
        <a:graphic>
          <a:graphicData uri="http://schemas.openxmlformats.org/drawingml/2006/table">
            <a:tbl>
              <a:tblPr/>
              <a:tblGrid>
                <a:gridCol w="628560"/>
                <a:gridCol w="628920"/>
                <a:gridCol w="628560"/>
                <a:gridCol w="628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5541840" y="1828800"/>
          <a:ext cx="408240" cy="576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541840" y="1828800"/>
                    <a:ext cx="40824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6224760" y="1828800"/>
          <a:ext cx="404640" cy="571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224760" y="1828800"/>
                    <a:ext cx="404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4876920" y="1828800"/>
          <a:ext cx="407880" cy="576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876920" y="1828800"/>
                    <a:ext cx="4078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6834240" y="1828800"/>
          <a:ext cx="404640" cy="571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834240" y="1828800"/>
                    <a:ext cx="404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4292640" y="2286000"/>
          <a:ext cx="406440" cy="609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292640" y="2286000"/>
                    <a:ext cx="4064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4267080" y="2819520"/>
          <a:ext cx="432000" cy="647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267080" y="2819520"/>
                    <a:ext cx="43200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4876920" y="1447920"/>
          <a:ext cx="407880" cy="5760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876920" y="1447920"/>
                    <a:ext cx="40788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5559480" y="1447920"/>
          <a:ext cx="404640" cy="5713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559480" y="1447920"/>
                    <a:ext cx="404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6224760" y="1447920"/>
          <a:ext cx="404640" cy="5713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224760" y="1447920"/>
                    <a:ext cx="404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6831000" y="1447920"/>
          <a:ext cx="407880" cy="5760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831000" y="1447920"/>
                    <a:ext cx="40788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4800600" y="4559400"/>
          <a:ext cx="2514600" cy="2070000"/>
        </p:xfrm>
        <a:graphic>
          <a:graphicData uri="http://schemas.openxmlformats.org/drawingml/2006/table">
            <a:tbl>
              <a:tblPr/>
              <a:tblGrid>
                <a:gridCol w="628560"/>
                <a:gridCol w="628560"/>
                <a:gridCol w="628920"/>
                <a:gridCol w="628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5541840" y="3995640"/>
          <a:ext cx="408240" cy="5763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541840" y="3995640"/>
                    <a:ext cx="40824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6224760" y="3995640"/>
          <a:ext cx="404640" cy="5716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224760" y="3995640"/>
                    <a:ext cx="404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4876920" y="3995640"/>
          <a:ext cx="407880" cy="5763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4876920" y="3995640"/>
                    <a:ext cx="4078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6834240" y="3995640"/>
          <a:ext cx="404640" cy="5716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6834240" y="3995640"/>
                    <a:ext cx="404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4876920" y="3614760"/>
          <a:ext cx="407880" cy="57636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4876920" y="3614760"/>
                    <a:ext cx="4078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5559480" y="3614760"/>
          <a:ext cx="404640" cy="57132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5559480" y="3614760"/>
                    <a:ext cx="404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6224760" y="3614760"/>
          <a:ext cx="404640" cy="57132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6224760" y="3614760"/>
                    <a:ext cx="404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6831000" y="3614760"/>
          <a:ext cx="407880" cy="57636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6831000" y="3614760"/>
                    <a:ext cx="4078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4343400" y="5029200"/>
          <a:ext cx="406440" cy="60948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4343400" y="5029200"/>
                    <a:ext cx="4064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4292640" y="5486400"/>
          <a:ext cx="431640" cy="64764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4292640" y="5486400"/>
                    <a:ext cx="4316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4343400" y="4495680"/>
          <a:ext cx="406440" cy="60984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4343400" y="4495680"/>
                    <a:ext cx="4064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4292640" y="6019920"/>
          <a:ext cx="431640" cy="64764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4292640" y="6019920"/>
                    <a:ext cx="4316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3716280" y="5486400"/>
          <a:ext cx="468360" cy="64764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3716280" y="5486400"/>
                    <a:ext cx="4683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3768840" y="4495680"/>
          <a:ext cx="439560" cy="60984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3768840" y="4495680"/>
                    <a:ext cx="4395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3722760" y="6019920"/>
          <a:ext cx="468360" cy="64764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3722760" y="6019920"/>
                    <a:ext cx="4683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3733920" y="5029200"/>
          <a:ext cx="468360" cy="64764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3733920" y="5029200"/>
                    <a:ext cx="4683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5562720" y="2514600"/>
          <a:ext cx="2514600" cy="1035000"/>
        </p:xfrm>
        <a:graphic>
          <a:graphicData uri="http://schemas.openxmlformats.org/drawingml/2006/table">
            <a:tbl>
              <a:tblPr/>
              <a:tblGrid>
                <a:gridCol w="628560"/>
                <a:gridCol w="628920"/>
                <a:gridCol w="628560"/>
                <a:gridCol w="628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6303960" y="1981080"/>
          <a:ext cx="407880" cy="5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960" y="1981080"/>
                    <a:ext cx="4078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6986520" y="1981080"/>
          <a:ext cx="405000" cy="57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86520" y="1981080"/>
                    <a:ext cx="40500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5638680" y="1981080"/>
          <a:ext cx="408240" cy="57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38680" y="1981080"/>
                    <a:ext cx="40824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7596360" y="1981080"/>
          <a:ext cx="404640" cy="571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96360" y="1981080"/>
                    <a:ext cx="404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5054760" y="2438280"/>
          <a:ext cx="406080" cy="609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54760" y="2438280"/>
                    <a:ext cx="40608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029200" y="2971800"/>
          <a:ext cx="431640" cy="647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29200" y="2971800"/>
                    <a:ext cx="4316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5638680" y="1600200"/>
          <a:ext cx="408240" cy="576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638680" y="1600200"/>
                    <a:ext cx="40824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6321600" y="1600200"/>
          <a:ext cx="404640" cy="571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321600" y="1600200"/>
                    <a:ext cx="404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6986520" y="1600200"/>
          <a:ext cx="405000" cy="5716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986520" y="1600200"/>
                    <a:ext cx="40500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7593120" y="1600200"/>
          <a:ext cx="407880" cy="5763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593120" y="1600200"/>
                    <a:ext cx="4078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685800" y="1819440"/>
          <a:ext cx="3860640" cy="4657680"/>
        </p:xfrm>
        <a:graphic>
          <a:graphicData uri="http://schemas.openxmlformats.org/drawingml/2006/table">
            <a:tbl>
              <a:tblPr/>
              <a:tblGrid>
                <a:gridCol w="990720"/>
                <a:gridCol w="990360"/>
                <a:gridCol w="990720"/>
                <a:gridCol w="8888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5410080" y="2438280"/>
            <a:ext cx="1524240" cy="1143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5943600" y="4572000"/>
          <a:ext cx="1600200" cy="8539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943600" y="4572000"/>
                    <a:ext cx="1600200" cy="8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Логические опер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риц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ъюнкц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изъюнк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плик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квивален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триц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огическая связка: «НЕ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бозначение:      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624120" y="2471760"/>
          <a:ext cx="4762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24120" y="2471760"/>
                    <a:ext cx="4762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1523880" y="3657600"/>
          <a:ext cx="6096240" cy="20570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5791320" y="3657600"/>
          <a:ext cx="47628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657600"/>
                    <a:ext cx="4762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2666880" y="3749760"/>
          <a:ext cx="476280" cy="517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3749760"/>
                    <a:ext cx="47628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нъюнк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огическая связка: «И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означение:         ;            ;          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543480" y="2554200"/>
          <a:ext cx="952200" cy="5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43480" y="2554200"/>
                    <a:ext cx="95220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4560840" y="2548080"/>
          <a:ext cx="1230480" cy="51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60840" y="2548080"/>
                    <a:ext cx="123048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5867280" y="2552760"/>
          <a:ext cx="1309680" cy="557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2552760"/>
                    <a:ext cx="130968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1447920" y="3444840"/>
          <a:ext cx="6095880" cy="280368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5981760" y="3521160"/>
          <a:ext cx="952560" cy="517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81760" y="3521160"/>
                    <a:ext cx="95256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4124160" y="3505320"/>
          <a:ext cx="476280" cy="517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24160" y="3505320"/>
                    <a:ext cx="47628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2143080" y="3505320"/>
          <a:ext cx="476280" cy="517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143080" y="3505320"/>
                    <a:ext cx="47628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изъюнк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огическая связка: «ИЛИ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означение:          ;         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405240" y="2554200"/>
          <a:ext cx="1230120" cy="5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554200"/>
                    <a:ext cx="123012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4560840" y="2548080"/>
          <a:ext cx="1230480" cy="51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60840" y="2548080"/>
                    <a:ext cx="123048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1447920" y="3444840"/>
          <a:ext cx="6095880" cy="280368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4124160" y="3505320"/>
          <a:ext cx="476280" cy="517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24160" y="3505320"/>
                    <a:ext cx="47628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2143080" y="3505320"/>
          <a:ext cx="476280" cy="517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43080" y="3505320"/>
                    <a:ext cx="47628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5856120" y="3505320"/>
          <a:ext cx="1230480" cy="517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856120" y="3505320"/>
                    <a:ext cx="123048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мплика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огическая связки:  «ЕСЛИ …, ТО», «ИЗ … СЛЕДУЕТ», «… ВЛЕЧЕТ …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бозначение:          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408480" y="3043080"/>
          <a:ext cx="1468440" cy="5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8480" y="3043080"/>
                    <a:ext cx="146844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1447920" y="3886200"/>
          <a:ext cx="6095880" cy="280368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4124160" y="3886200"/>
          <a:ext cx="476280" cy="5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24160" y="3886200"/>
                    <a:ext cx="47628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2143080" y="3886200"/>
          <a:ext cx="476280" cy="517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43080" y="3886200"/>
                    <a:ext cx="47628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5791320" y="3886200"/>
          <a:ext cx="1468440" cy="558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91320" y="3886200"/>
                    <a:ext cx="146844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Эквивален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огическая связки: «тогда и только тогда», «необходимо и достаточно», « … равносильно …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бозначение:          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492360" y="3164040"/>
          <a:ext cx="1270080" cy="51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3164040"/>
                    <a:ext cx="127008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1447920" y="3886200"/>
          <a:ext cx="6095880" cy="280368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4124160" y="3886200"/>
          <a:ext cx="476280" cy="5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24160" y="3886200"/>
                    <a:ext cx="47628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2143080" y="3886200"/>
          <a:ext cx="476280" cy="517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43080" y="3886200"/>
                    <a:ext cx="47628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5816520" y="3886200"/>
          <a:ext cx="1270080" cy="517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16520" y="3886200"/>
                    <a:ext cx="127008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Логическая функ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ункцией алгебры логики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... ,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ru-RU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 от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переменных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... ,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ru-RU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принимающих значения 0 или 1, называется функция, принимающая значения 0 или 1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19:25:14Z</dcterms:created>
  <dc:creator>cde</dc:creator>
  <dc:description/>
  <dc:language>en-US</dc:language>
  <cp:lastModifiedBy>lav</cp:lastModifiedBy>
  <dcterms:modified xsi:type="dcterms:W3CDTF">2005-10-25T10:13:19Z</dcterms:modified>
  <cp:revision>35</cp:revision>
  <dc:subject/>
  <dc:title>Презентация PowerPoint</dc:title>
</cp:coreProperties>
</file>