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94C4-2509-41D0-9D7C-825A57DE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4BA-C0D0-4D90-897F-1424F24F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167-C742-44A0-B279-CEB95159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893D-8BCF-4038-8800-D38A0C00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C70-100C-43FB-918C-704ED2D4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BEC-EADD-4BBE-B787-D62E8B68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66C-1499-44E7-B951-098EFB14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628-FA06-43C3-A7B0-AF3BD26C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571F-0E05-4624-A6E8-FE2103E4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DA9E-D86C-45FE-8E5E-A8F4AF2D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5A4-D5AB-419C-9AF8-89ACED1C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35D0-2A97-4190-9AE7-5AC2DBA4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8FAC-7620-4269-881E-4CAD9AD5B1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Язык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дексируемые 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 = array(45,12,34,5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 = 4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1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2] = 3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3] = 56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4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3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56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ссоциативные 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 = array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h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&gt; 12,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at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&gt; 3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John"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Kate"] = 3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employer["John"]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ногомерные 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0] = 4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1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2] = 3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3] = 5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John"]["Salary"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Kate"]["Salary"] = 3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person["John"][0]="01.02.2004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person["John"][1]="10.05.2005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person["John"][2]="06.10.2005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образование тип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Оператор пре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овый 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или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Цел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al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,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и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ещественн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т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Масс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образование тип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real = 4.8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t = (int) $rea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int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ing = "15$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t = (int) $string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int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ing = "$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t = (int) $string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int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сваивание по ссыл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1 = 4.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&amp;$number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1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2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3 = 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&amp;$number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1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2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3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менные в переме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art = "stop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$start = "NY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op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строку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ar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строку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($start)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строку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ие опер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+ $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- $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* $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/ $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% $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торы присваи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= 5; // a=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+= 5; // a=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*= 5; // a=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/= 5; // a=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.= 5; // a=1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торы инкремента и декремен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=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b = $a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++$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a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b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c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клю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TML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ключение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P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ML-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 echo "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; 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торы срав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lt;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gt;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lt;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gt;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=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!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== 12 ? 5 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е опер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amp;&amp; $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AND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||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OR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XOR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усло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: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: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i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усло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itch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нач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нач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ault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рганизация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while(condit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$i=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&lt;1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;$j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анды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$i=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&lt;1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$i==5) 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$i=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&lt;1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$i==5) contin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икл для обхода масси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each (array as [$key =&gt;] $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 = array("John" =&gt; 12, "Kate" =&gt; 7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each ($employer as $key =&gt; $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employer[$key]."&lt;br/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value."&lt;br/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=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nction first($k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BAL $i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$j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++$j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$k+$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l = first(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l = first(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l = first(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форм с текстовыми поля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orm method="get" action="ex_00_00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Первое число: &lt;input type="text" name="num1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торое число: &lt;input type="text" name="num2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submit" name="btn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Результа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sset($num1) &amp;&amp; isset($num2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cho $num1+$num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форм с переключателя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orm method="get" action="ex_01_00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radio" name="num" value="1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Пер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radio" name="num" value="2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тор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й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submit" name="btn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ыбран переключатель 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sset($num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cho $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клю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html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&lt;html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ключение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ML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P-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код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htm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форм с флажк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orm method="get" action="ex_02_00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checkbo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 name="num[]" value="1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Пер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checkbo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 name="num[]" value="2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тор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й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submit" name="btn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Выбраны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флажки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($num as $value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cho $value."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вторизация пользоват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ml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Авторизация пользователя&lt;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orm method="post" action="authorize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Имя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&lt;input type="text" name="user_name"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ль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&lt;input type="password" name="user_pass"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put type="submit" name=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t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айл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uthorize.ph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se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$user_name) &amp;&amp; isset($user_pass))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($user_name=="admin")&amp;&amp;($user_pass=="kpss"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star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logged_user = $user_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register("logged_use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er("Location: secretplace.ph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&gt;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 ввели неверный пароль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dy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ml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айл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retplace.ph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star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!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is_registered(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gged_user"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er("Location: index.ph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ствуем Вас &lt;?php echo $logged_user; ?&gt;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ы на секретной странице !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новы работы с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ие сетевого соединения с СУБ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ед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ени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ботка выбранных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ие сетевого соединения с СУБ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крытие сетевого соединения с СУБ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93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Создаем соединение с Б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93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conn = OCILogon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ot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g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bna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зда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предло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ыбрать все из таблицы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stmt = OCIParse($conn, "select * from perso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полне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QL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mess = @OCIExecute($stm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Обрабатываем исключительные ситу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!$mess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error = OCIError($stm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шибка при выборке 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$error[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]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)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выбранных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OCIFetch($stmt)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id = OCIResult($stmt,"ID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a = OCIResult($stmt,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NAME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"$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-&gt;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$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r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6094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рытие сетевого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единения с СУБ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Разрываем соединение с Б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CILogoff($con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ментарии 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адаем значения переменных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1 = 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2 = 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одим значение суммы переменных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1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2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на экр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num1 + $num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I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OCIError(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озвращает ошибку в виде ассоциативного массива из четырех элементов. Элем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держит код ошибки Oracle; элем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троку с текстом ошибки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sqltex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трока, содержащая выражение SQL, которое вызвало ошибку, а элем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указатель на место в выражении, которое вызвало ошиб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вращение значение после добавления запи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889280"/>
            <a:ext cx="8076960" cy="26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sql="INSERT INTO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person,beginDate,endDate,requestDate,allo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'$userID','$beginDate','$endDate','$sysDate',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ing id into :retid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stmt = OCIParse($conn,$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CIBindByName($stmt, ':retid', $retid, 3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mess = OCIExecute($stm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глашение об идентификатора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дентификатор состоит из одного или нескольких символов и начинается с буквы или символа подчерки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идентификаторах учитывается регистр симво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ина идентификаторов не ограничива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дентификатор не может совпадать с ключевым слово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Целое чис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 = 3; $count = 0xFF; $total = 07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ещественные чис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weight  = 5.67; $distance  = 5.67e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Стро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1 = "number = $number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2 = 'number = $number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r1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r2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$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определенные 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2120" y="2286000"/>
          <a:ext cx="7238880" cy="2895480"/>
        </p:xfrm>
        <a:graphic>
          <a:graphicData uri="http://schemas.openxmlformats.org/drawingml/2006/table">
            <a:tbl>
              <a:tblPr/>
              <a:tblGrid>
                <a:gridCol w="2590560"/>
                <a:gridCol w="464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м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GLOB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одержит ссылку на каждую переменную, доступную в данный момент в глобальной области видимости сценар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 либо установленные web-сервером, либо напрямую связанные с окружением выполнения текущего скрипт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определенные 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62120" y="2286000"/>
          <a:ext cx="7238880" cy="3351240"/>
        </p:xfrm>
        <a:graphic>
          <a:graphicData uri="http://schemas.openxmlformats.org/drawingml/2006/table">
            <a:tbl>
              <a:tblPr/>
              <a:tblGrid>
                <a:gridCol w="2590560"/>
                <a:gridCol w="464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м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GE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P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POS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COOK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cooki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post-загрузку фай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определенные 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$_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"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MOTE_ADD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]."&lt;br/&gt;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$_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"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MOTE_HO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]."&lt;br/&gt;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$_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"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MOTE_P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]."&lt;br/&gt;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24:45Z</dcterms:created>
  <dc:creator>lav</dc:creator>
  <dc:description/>
  <dc:language>en-US</dc:language>
  <cp:lastModifiedBy>support</cp:lastModifiedBy>
  <dcterms:modified xsi:type="dcterms:W3CDTF">2007-04-17T07:45:43Z</dcterms:modified>
  <cp:revision>110</cp:revision>
  <dc:subject/>
  <dc:title>Язык структурированных запросов</dc:title>
</cp:coreProperties>
</file>