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EFAA-46E3-4E17-997C-4FC0FDEEC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4DEF-729D-4654-A233-2F4D1978D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0CC5-1041-4ABE-B2EC-B6F7064DD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FD33-411E-40BE-8973-9897F02EA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5340-D9AE-41D4-A7E1-B8BE69CC1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023A-1B86-49CB-95BB-2F5F00BD9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A6CB-F35B-4B6E-8EE3-B727FE7BA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C8CA-C7C2-4E9A-A70F-D41983F72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E5F4-6794-41F1-BE7B-848AE27BA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2339-798D-4164-9E36-09294CE03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7D69-BE12-46E0-B100-8EEC44EA2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D37C-671D-49BB-B479-F413814BB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FF680-8A32-4EE6-82D5-E7B6C46DCA8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1219320"/>
            <a:ext cx="88394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Защита информ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'Ok'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01001111 0110101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, 3, 5, 10, 22, 42, 90, 185, 375, 774, 1605, 3235, 6524, 13936, 28725, 6189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35757,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7515 и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7515, 6788, 101818, 67879, 95031, 95032, 67883, 101827, 33958, 122220, 101898, 34101, 54629, 82151, 103254, 30246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680528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мпьютерные виру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омпьютерные вирус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разновидность вредоносных программ, отличительной особенностью которых является способность к размножению (саморепликации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лассификация вирусов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 поражаемым объектам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айловые вирусы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грузочные вирусы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криптовые вирусы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етевые черви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 поражаемым операционным системам и платформам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DO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Microsoft Window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Unix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 технологиям используемым вирусом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лиморфные вирусы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телс-вирусы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 языку, на котором написан вирус: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ссемблер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сокоуровневый язык программирования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язык сценариев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етоды защи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оздать абсолютно надежный канал связ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спользовать общедоступный канал связи, но скрыть факт передачи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теганографи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спользовать общедоступный канал связи, но передавать информацию в таком виде, чтобы восстановить ее мог только адресат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риптографи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Защищаемая информа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Государственная тайн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оенная тайн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ммерческая тайн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Юридическая тайн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рачебная тай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Признаки защищаемой информаци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меется какой-то определенный круг законных пользователей, которые имеют право владеть этой информацией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меются незаконные пользователи, которые стремятся овладеть этой информацией с тем, чтобы обратить ее себе во благо, а законным пользователям во вред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иды угроз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ерехват и вскрытие шиф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гентурный способ доступа к информа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Уничтожение или модификация информа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ыбор средств защи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Является ли она для противника более ценной, чем стоимость атаки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Является ли она для вас более ценной, чем стоимость защиты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одульная арифмети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означени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mod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мер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1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13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14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15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ратное число к числу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mod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Криптография с использованием открытых ключе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= 1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, ... , b</a:t>
            </a:r>
            <a:r>
              <a:rPr b="0" i="1" lang="ru-RU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708360" y="1773360"/>
          <a:ext cx="3311640" cy="106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1773360"/>
                    <a:ext cx="3311640" cy="106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187280" y="2884320"/>
          <a:ext cx="1584360" cy="1049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2884320"/>
                    <a:ext cx="1584360" cy="104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670200" y="4869000"/>
          <a:ext cx="4540320" cy="691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70200" y="4869000"/>
                    <a:ext cx="4540320" cy="69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Криптография с использованием открытых ключе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ходная информация тем или иным способом представляется в двоичной форме и разбивается на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разрядные двоичные числа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ждому двоичному числу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с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-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...с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ставится в соответствие десятичное число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которое рассчитывается по формуле 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+ с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+ ... + с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ередается получателю сообщения, который определяет числа из последовательности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, ..., a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суммой которых является результат умножения переданного числа С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на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о модулю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ндексы найденных чисел из последовательности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, ..., a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указывают на положение единиц в двоичном числе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и тем самым позволяют его восстановить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14:24:45Z</dcterms:created>
  <dc:creator>lav</dc:creator>
  <dc:description/>
  <dc:language>en-US</dc:language>
  <cp:lastModifiedBy>support</cp:lastModifiedBy>
  <dcterms:modified xsi:type="dcterms:W3CDTF">2009-06-02T10:55:15Z</dcterms:modified>
  <cp:revision>101</cp:revision>
  <dc:subject/>
  <dc:title>Язык структурированных запросов</dc:title>
</cp:coreProperties>
</file>