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B478-420C-4C14-86F2-63C055139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4F902-6A94-4CE9-A565-6FD7B40B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A92FE-2BE4-4375-B4CD-FEB76B30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73E83-FF1D-4FC2-9410-379BE3259F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1306-6C0F-4E51-A59E-C1D942A5E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5933-4F4E-4C1F-8609-597000682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3FEE9-9D95-43EF-80A1-D7D0C2EB2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590B-3A3E-4871-B6B6-1985CA918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6723-C8D6-4744-A4B7-CF918B93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4D92-E676-40A5-A2FF-98E94EC25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20E0-CDD5-4B5E-9230-167A0F72A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F636B-F310-4152-8DA2-8358D2F82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4E14B-8ED0-4CF8-8FED-63905383A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Способы адресации в компьютерных сетя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ример файла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s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65240" y="2057400"/>
            <a:ext cx="57308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27.0.0.1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local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0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kk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2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suncis.ifmo.ru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1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asun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98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et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4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ks.ifmo.ru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196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material.ifmo.ru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25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fxvio.ifmo.ru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5.163.242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cde.ifmo.r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828800" y="4267080"/>
            <a:ext cx="1066680" cy="1752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28800" y="2895480"/>
            <a:ext cx="0" cy="16002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828800" y="2666520"/>
            <a:ext cx="4267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5880" y="2819520"/>
            <a:ext cx="533520" cy="19047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629400" y="4876920"/>
            <a:ext cx="990720" cy="8380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80880" y="152280"/>
            <a:ext cx="81536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менное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7760" y="2284560"/>
            <a:ext cx="4189320" cy="4268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95280" y="3581280"/>
            <a:ext cx="2667240" cy="281952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343400" y="1905120"/>
            <a:ext cx="4572000" cy="4724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943600" y="3886200"/>
            <a:ext cx="2666880" cy="2438280"/>
          </a:xfrm>
          <a:prstGeom prst="ellipse">
            <a:avLst/>
          </a:prstGeom>
          <a:noFill/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450440" y="5257800"/>
            <a:ext cx="63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54640" y="5867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9840" y="5410080"/>
            <a:ext cx="77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543800" y="61722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de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238880" y="54100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7010280" y="43434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ifmo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324480" y="4267080"/>
            <a:ext cx="781200" cy="7812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5715000" y="220968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6530760" y="2666880"/>
            <a:ext cx="78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s.r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1447920" y="243828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10400" y="2895480"/>
            <a:ext cx="105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5"/>
          <a:stretch/>
        </p:blipFill>
        <p:spPr>
          <a:xfrm>
            <a:off x="1447920" y="3886200"/>
            <a:ext cx="780840" cy="78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534600" y="5410080"/>
            <a:ext cx="72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102760" y="3886200"/>
            <a:ext cx="155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n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6"/>
          <a:stretch/>
        </p:blipFill>
        <p:spPr>
          <a:xfrm>
            <a:off x="2438280" y="5486400"/>
            <a:ext cx="781200" cy="7812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3118320" y="6095880"/>
            <a:ext cx="19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res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тилиты для работы в сет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PCONFI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SLOOK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C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NETST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уз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22096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ппаратны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E3-14-56-A5-C2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етевой адрес: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92.168.0.1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мя компьютера: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ww.ifmo.r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04920" y="838080"/>
            <a:ext cx="8381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4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32 бита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10100 01111100 00110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84.124.51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IPv6 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лина 128 бит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ска подсети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- делит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дрес на номер подсети и номер компьютера в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111111 1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55.192.0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Номер подсети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1000010 01000000 00000000 00000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94.64.0.0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Классы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01.xxx.xxx.xxx-127.xxx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8.000.xxx.xxx-191.255.xxx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ласс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92.000.000.xxx-223.255.255.xx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4560" y="3045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 -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дреса дл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локальных цел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0.0.0.0 до 10.255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72.16.0.0 до 172.31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т 192.168.0.0 до 192.168.255.25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Зарезервированные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P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адре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нулей, то это адрес отправителя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адресе сети стоят нули, то это адрес компьютера, который принадлежит той же сети, что и отправитель сообщения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IP-адрес состоит из единиц, то это сообщение предназначено всем компьютерам текущей сет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если в номере узла стоят единицы, то это сообщение предназначено всем компьютерам заданной сет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дентификация процесс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" name=""/>
          <p:cNvGrpSpPr/>
          <p:nvPr/>
        </p:nvGrpSpPr>
        <p:grpSpPr>
          <a:xfrm>
            <a:off x="1828440" y="2286000"/>
            <a:ext cx="5181840" cy="3193920"/>
            <a:chOff x="1828440" y="2286000"/>
            <a:chExt cx="5181840" cy="3193920"/>
          </a:xfrm>
        </p:grpSpPr>
        <p:sp>
          <p:nvSpPr>
            <p:cNvPr id="55" name=""/>
            <p:cNvSpPr/>
            <p:nvPr/>
          </p:nvSpPr>
          <p:spPr>
            <a:xfrm>
              <a:off x="18284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WW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12372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406400" y="228600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SMT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2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702040" y="2295360"/>
              <a:ext cx="1270440" cy="8254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D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рт 5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828800" y="31496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TCP/IP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IP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828800" y="4317840"/>
              <a:ext cx="5181480" cy="1162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Сетевая карт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MAC</a:t>
              </a: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-адре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280" y="76320"/>
            <a:ext cx="88394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рт и сокет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343400" y="1317600"/>
          <a:ext cx="4800600" cy="401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317600"/>
                    <a:ext cx="4800600" cy="401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152280" y="1217520"/>
            <a:ext cx="4038840" cy="50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р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то целое число, определяющее прикладной процесс запущенный на компьютер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окет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овокупност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ов и портов клиента и сервера, идентифицирующий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оединени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лужба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доменных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име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320" y="1363680"/>
            <a:ext cx="8915400" cy="47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лужба доменных имен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omain Name Service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, DNS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существляет преобразование доменного имени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числовой IP-адрес.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мпьютеры, выполняющие такое преобразование, называю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DNS-сервера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еред появлением службы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нформация необходимая для преобразование доменного имени в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дрес хранилась в файле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ost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– хост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компьютер, главный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Owner</cp:lastModifiedBy>
  <dcterms:modified xsi:type="dcterms:W3CDTF">2009-03-15T15:31:18Z</dcterms:modified>
  <cp:revision>9</cp:revision>
  <dc:subject/>
  <dc:title>Компьютерные сети</dc:title>
</cp:coreProperties>
</file>