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9EF0D-AAF7-4881-B929-0767BE8C2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51933-EFA8-417C-BCD3-D5ACF29D13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7F67-6360-4A17-85CC-0473E6399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FDA46-B816-4043-BBB2-724FF5714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3C7E-CCB0-47ED-9218-8AD6281F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995D-58BC-4385-9758-FCF4ED7A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7948-5006-4914-B462-CF6411A4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F0AF-BEB7-4FD9-A13C-D90576624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9F88-7E19-4F87-869E-323DE78BC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3FCA-8648-49B6-B390-868464149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C6C56-DA63-4360-9A3C-A8956E713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FE8C-BAE4-477D-BF25-71A7A30F0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38FC-205A-4D94-BB42-217B14354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Комбинационные схемы и элементы памяти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ерация вычи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598320" y="1892160"/>
            <a:ext cx="7871040" cy="4508640"/>
            <a:chOff x="598320" y="1892160"/>
            <a:chExt cx="7871040" cy="4508640"/>
          </a:xfrm>
        </p:grpSpPr>
        <p:sp>
          <p:nvSpPr>
            <p:cNvPr id="203" name=""/>
            <p:cNvSpPr/>
            <p:nvPr/>
          </p:nvSpPr>
          <p:spPr>
            <a:xfrm>
              <a:off x="4784760" y="1892160"/>
              <a:ext cx="2214360" cy="4500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607000" y="1981080"/>
              <a:ext cx="946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394240" y="1892160"/>
              <a:ext cx="0" cy="447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427800" y="1916280"/>
              <a:ext cx="0" cy="448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844880" y="1967040"/>
              <a:ext cx="8701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876920" y="28036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84760" y="2225520"/>
              <a:ext cx="557280" cy="76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222200" y="218124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876920" y="3263760"/>
              <a:ext cx="869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923000" y="4202280"/>
              <a:ext cx="868320" cy="54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792680" y="362592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523200" y="196848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523200" y="28195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43640" y="220176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07400" y="216540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07400" y="3054240"/>
              <a:ext cx="666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800600" y="5486400"/>
              <a:ext cx="8380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419880" y="554976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999120" y="5745240"/>
              <a:ext cx="667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303640" y="3235320"/>
              <a:ext cx="1800000" cy="2262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900520" y="3276720"/>
              <a:ext cx="6807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51200" y="3243240"/>
              <a:ext cx="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32320" y="3259080"/>
              <a:ext cx="0" cy="226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32080" y="327672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295360" y="4186080"/>
              <a:ext cx="86868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25600" y="3608280"/>
              <a:ext cx="5572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219320" y="3516480"/>
              <a:ext cx="1079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19320" y="4451400"/>
              <a:ext cx="1071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2408400" y="5016600"/>
              <a:ext cx="8683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30480" y="522756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581280" y="3263760"/>
              <a:ext cx="87012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627360" y="4176720"/>
              <a:ext cx="86832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48160" y="3584520"/>
              <a:ext cx="557280" cy="765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111560" y="350208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111560" y="4437000"/>
              <a:ext cx="665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222200" y="3030480"/>
              <a:ext cx="3562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660680" y="5234040"/>
              <a:ext cx="3116160" cy="492120"/>
            </a:xfrm>
            <a:custGeom>
              <a:avLst/>
              <a:gdLst/>
              <a:ahLst/>
              <a:rect l="l" t="t" r="r" b="b"/>
              <a:pathLst>
                <a:path w="2388" h="390">
                  <a:moveTo>
                    <a:pt x="2388" y="390"/>
                  </a:moveTo>
                  <a:lnTo>
                    <a:pt x="0" y="390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98760" y="5180040"/>
              <a:ext cx="117360" cy="114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685800" y="4952880"/>
              <a:ext cx="97164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9832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68240" y="200664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09480" y="3733920"/>
              <a:ext cx="6969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68240" y="3371760"/>
              <a:ext cx="830520" cy="12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343640" y="2022480"/>
              <a:ext cx="830520" cy="12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772400" y="2347920"/>
              <a:ext cx="6969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нвер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224320" y="2290680"/>
            <a:ext cx="749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59440" y="2097000"/>
            <a:ext cx="74772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715080" y="259884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90520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246640" y="333072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959440" y="3137040"/>
            <a:ext cx="747720" cy="1039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15080" y="363852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638680" y="3943440"/>
            <a:ext cx="34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95880" y="5402160"/>
            <a:ext cx="78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965920" y="5208480"/>
            <a:ext cx="749160" cy="1040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721560" y="571032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6640" y="6014880"/>
            <a:ext cx="747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630760" y="2897280"/>
            <a:ext cx="0" cy="3111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587920" y="388620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7920" y="5950080"/>
            <a:ext cx="109440" cy="10944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57640" y="1828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72040" y="287496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064120" y="494028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049720" y="5543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24520" y="214164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38920" y="3187800"/>
            <a:ext cx="7048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31000" y="5253120"/>
            <a:ext cx="70488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5880" y="4314960"/>
            <a:ext cx="51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5965920" y="4168800"/>
            <a:ext cx="749160" cy="24120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965920" y="4968720"/>
            <a:ext cx="749160" cy="239760"/>
          </a:xfrm>
          <a:prstGeom prst="flowChartDocumen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760400" y="2762280"/>
            <a:ext cx="1668600" cy="2162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217600" y="2717640"/>
            <a:ext cx="6303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68360" y="2768760"/>
            <a:ext cx="0" cy="21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898720" y="2782800"/>
            <a:ext cx="0" cy="2170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4040" y="272556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752480" y="36702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781280" y="311796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730520" y="4361040"/>
            <a:ext cx="80640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2855880" y="2703600"/>
            <a:ext cx="804960" cy="5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884320" y="3648240"/>
            <a:ext cx="806760" cy="5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913120" y="3095640"/>
            <a:ext cx="517320" cy="73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317600" y="4648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429000" y="3000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429000" y="3929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4141800" y="2509920"/>
            <a:ext cx="4163760" cy="2595600"/>
            <a:chOff x="4141800" y="2509920"/>
            <a:chExt cx="4163760" cy="2595600"/>
          </a:xfrm>
        </p:grpSpPr>
        <p:grpSp>
          <p:nvGrpSpPr>
            <p:cNvPr id="292" name=""/>
            <p:cNvGrpSpPr/>
            <p:nvPr/>
          </p:nvGrpSpPr>
          <p:grpSpPr>
            <a:xfrm>
              <a:off x="4149000" y="2513520"/>
              <a:ext cx="4148280" cy="2587680"/>
              <a:chOff x="4149000" y="2513520"/>
              <a:chExt cx="4148280" cy="2587680"/>
            </a:xfrm>
          </p:grpSpPr>
          <p:grpSp>
            <p:nvGrpSpPr>
              <p:cNvPr id="293" name=""/>
              <p:cNvGrpSpPr/>
              <p:nvPr/>
            </p:nvGrpSpPr>
            <p:grpSpPr>
              <a:xfrm>
                <a:off x="4149000" y="2513520"/>
                <a:ext cx="1243080" cy="517320"/>
                <a:chOff x="4149000" y="2513520"/>
                <a:chExt cx="1243080" cy="517320"/>
              </a:xfrm>
            </p:grpSpPr>
            <p:sp>
              <p:nvSpPr>
                <p:cNvPr id="294" name=""/>
                <p:cNvSpPr/>
                <p:nvPr/>
              </p:nvSpPr>
              <p:spPr>
                <a:xfrm>
                  <a:off x="4254840" y="2513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R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4149000" y="2513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6" name=""/>
              <p:cNvGrpSpPr/>
              <p:nvPr/>
            </p:nvGrpSpPr>
            <p:grpSpPr>
              <a:xfrm>
                <a:off x="5392440" y="2513520"/>
                <a:ext cx="1130400" cy="517320"/>
                <a:chOff x="5392440" y="2513520"/>
                <a:chExt cx="1130400" cy="517320"/>
              </a:xfrm>
            </p:grpSpPr>
            <p:sp>
              <p:nvSpPr>
                <p:cNvPr id="297" name=""/>
                <p:cNvSpPr/>
                <p:nvPr/>
              </p:nvSpPr>
              <p:spPr>
                <a:xfrm>
                  <a:off x="5498280" y="2513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5392440" y="2513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9" name=""/>
              <p:cNvGrpSpPr/>
              <p:nvPr/>
            </p:nvGrpSpPr>
            <p:grpSpPr>
              <a:xfrm>
                <a:off x="6523200" y="2513520"/>
                <a:ext cx="1774080" cy="517320"/>
                <a:chOff x="6523200" y="2513520"/>
                <a:chExt cx="1774080" cy="517320"/>
              </a:xfrm>
            </p:grpSpPr>
            <p:sp>
              <p:nvSpPr>
                <p:cNvPr id="300" name=""/>
                <p:cNvSpPr/>
                <p:nvPr/>
              </p:nvSpPr>
              <p:spPr>
                <a:xfrm>
                  <a:off x="6628320" y="2513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6523200" y="2513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2" name=""/>
              <p:cNvGrpSpPr/>
              <p:nvPr/>
            </p:nvGrpSpPr>
            <p:grpSpPr>
              <a:xfrm>
                <a:off x="4149000" y="3030840"/>
                <a:ext cx="1243080" cy="517320"/>
                <a:chOff x="4149000" y="3030840"/>
                <a:chExt cx="1243080" cy="517320"/>
              </a:xfrm>
            </p:grpSpPr>
            <p:sp>
              <p:nvSpPr>
                <p:cNvPr id="303" name=""/>
                <p:cNvSpPr/>
                <p:nvPr/>
              </p:nvSpPr>
              <p:spPr>
                <a:xfrm>
                  <a:off x="4254840" y="303084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4149000" y="303084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5" name=""/>
              <p:cNvGrpSpPr/>
              <p:nvPr/>
            </p:nvGrpSpPr>
            <p:grpSpPr>
              <a:xfrm>
                <a:off x="5392440" y="3030840"/>
                <a:ext cx="1130400" cy="517320"/>
                <a:chOff x="5392440" y="3030840"/>
                <a:chExt cx="1130400" cy="517320"/>
              </a:xfrm>
            </p:grpSpPr>
            <p:sp>
              <p:nvSpPr>
                <p:cNvPr id="306" name=""/>
                <p:cNvSpPr/>
                <p:nvPr/>
              </p:nvSpPr>
              <p:spPr>
                <a:xfrm>
                  <a:off x="5498280" y="303084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392440" y="303084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8" name=""/>
              <p:cNvGrpSpPr/>
              <p:nvPr/>
            </p:nvGrpSpPr>
            <p:grpSpPr>
              <a:xfrm>
                <a:off x="6523200" y="3030840"/>
                <a:ext cx="1774080" cy="517320"/>
                <a:chOff x="6523200" y="3030840"/>
                <a:chExt cx="1774080" cy="517320"/>
              </a:xfrm>
            </p:grpSpPr>
            <p:sp>
              <p:nvSpPr>
                <p:cNvPr id="309" name=""/>
                <p:cNvSpPr/>
                <p:nvPr/>
              </p:nvSpPr>
              <p:spPr>
                <a:xfrm>
                  <a:off x="6628320" y="303084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6523200" y="303084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1" name=""/>
              <p:cNvGrpSpPr/>
              <p:nvPr/>
            </p:nvGrpSpPr>
            <p:grpSpPr>
              <a:xfrm>
                <a:off x="4149000" y="3548520"/>
                <a:ext cx="1243080" cy="517320"/>
                <a:chOff x="4149000" y="3548520"/>
                <a:chExt cx="1243080" cy="51732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4254840" y="354852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149000" y="354852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4" name=""/>
              <p:cNvGrpSpPr/>
              <p:nvPr/>
            </p:nvGrpSpPr>
            <p:grpSpPr>
              <a:xfrm>
                <a:off x="5392440" y="3548520"/>
                <a:ext cx="1130400" cy="517320"/>
                <a:chOff x="5392440" y="3548520"/>
                <a:chExt cx="1130400" cy="517320"/>
              </a:xfrm>
            </p:grpSpPr>
            <p:sp>
              <p:nvSpPr>
                <p:cNvPr id="315" name=""/>
                <p:cNvSpPr/>
                <p:nvPr/>
              </p:nvSpPr>
              <p:spPr>
                <a:xfrm>
                  <a:off x="5498280" y="354852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5392440" y="354852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7" name=""/>
              <p:cNvGrpSpPr/>
              <p:nvPr/>
            </p:nvGrpSpPr>
            <p:grpSpPr>
              <a:xfrm>
                <a:off x="6523200" y="3548520"/>
                <a:ext cx="1774080" cy="517320"/>
                <a:chOff x="6523200" y="3548520"/>
                <a:chExt cx="1774080" cy="51732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6628320" y="354852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6523200" y="354852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0" name=""/>
              <p:cNvGrpSpPr/>
              <p:nvPr/>
            </p:nvGrpSpPr>
            <p:grpSpPr>
              <a:xfrm>
                <a:off x="4149000" y="4066200"/>
                <a:ext cx="1243080" cy="517320"/>
                <a:chOff x="4149000" y="4066200"/>
                <a:chExt cx="1243080" cy="517320"/>
              </a:xfrm>
            </p:grpSpPr>
            <p:sp>
              <p:nvSpPr>
                <p:cNvPr id="321" name=""/>
                <p:cNvSpPr/>
                <p:nvPr/>
              </p:nvSpPr>
              <p:spPr>
                <a:xfrm>
                  <a:off x="4254840" y="4066200"/>
                  <a:ext cx="1031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2" name=""/>
                <p:cNvSpPr/>
                <p:nvPr/>
              </p:nvSpPr>
              <p:spPr>
                <a:xfrm>
                  <a:off x="4149000" y="4066200"/>
                  <a:ext cx="1243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3" name=""/>
              <p:cNvGrpSpPr/>
              <p:nvPr/>
            </p:nvGrpSpPr>
            <p:grpSpPr>
              <a:xfrm>
                <a:off x="5392440" y="4066200"/>
                <a:ext cx="1130400" cy="517320"/>
                <a:chOff x="5392440" y="4066200"/>
                <a:chExt cx="1130400" cy="517320"/>
              </a:xfrm>
            </p:grpSpPr>
            <p:sp>
              <p:nvSpPr>
                <p:cNvPr id="324" name=""/>
                <p:cNvSpPr/>
                <p:nvPr/>
              </p:nvSpPr>
              <p:spPr>
                <a:xfrm>
                  <a:off x="5498280" y="4066200"/>
                  <a:ext cx="91872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5392440" y="4066200"/>
                  <a:ext cx="113040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523200" y="4066200"/>
                <a:ext cx="1774080" cy="517320"/>
                <a:chOff x="6523200" y="4066200"/>
                <a:chExt cx="1774080" cy="5173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628320" y="4066200"/>
                  <a:ext cx="1562760" cy="51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ранение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523200" y="4066200"/>
                  <a:ext cx="1774080" cy="517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149000" y="4583520"/>
                <a:ext cx="1243080" cy="517680"/>
                <a:chOff x="4149000" y="4583520"/>
                <a:chExt cx="1243080" cy="517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254840" y="4583520"/>
                  <a:ext cx="1031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>
                  <a:off x="4149000" y="4583520"/>
                  <a:ext cx="1243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2" name=""/>
              <p:cNvGrpSpPr/>
              <p:nvPr/>
            </p:nvGrpSpPr>
            <p:grpSpPr>
              <a:xfrm>
                <a:off x="5392440" y="4583520"/>
                <a:ext cx="1130400" cy="517680"/>
                <a:chOff x="5392440" y="4583520"/>
                <a:chExt cx="1130400" cy="517680"/>
              </a:xfrm>
            </p:grpSpPr>
            <p:sp>
              <p:nvSpPr>
                <p:cNvPr id="333" name=""/>
                <p:cNvSpPr/>
                <p:nvPr/>
              </p:nvSpPr>
              <p:spPr>
                <a:xfrm>
                  <a:off x="5498280" y="4583520"/>
                  <a:ext cx="91872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4" name=""/>
                <p:cNvSpPr/>
                <p:nvPr/>
              </p:nvSpPr>
              <p:spPr>
                <a:xfrm>
                  <a:off x="5392440" y="4583520"/>
                  <a:ext cx="113040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5" name=""/>
              <p:cNvGrpSpPr/>
              <p:nvPr/>
            </p:nvGrpSpPr>
            <p:grpSpPr>
              <a:xfrm>
                <a:off x="6523200" y="4583520"/>
                <a:ext cx="1774080" cy="517680"/>
                <a:chOff x="6523200" y="4583520"/>
                <a:chExt cx="1774080" cy="517680"/>
              </a:xfrm>
            </p:grpSpPr>
            <p:sp>
              <p:nvSpPr>
                <p:cNvPr id="336" name=""/>
                <p:cNvSpPr/>
                <p:nvPr/>
              </p:nvSpPr>
              <p:spPr>
                <a:xfrm>
                  <a:off x="6628320" y="4583520"/>
                  <a:ext cx="1562760" cy="517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Запрещено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7" name=""/>
                <p:cNvSpPr/>
                <p:nvPr/>
              </p:nvSpPr>
              <p:spPr>
                <a:xfrm>
                  <a:off x="6523200" y="4583520"/>
                  <a:ext cx="1774080" cy="517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8" name=""/>
            <p:cNvSpPr/>
            <p:nvPr/>
          </p:nvSpPr>
          <p:spPr>
            <a:xfrm>
              <a:off x="4141800" y="2509920"/>
              <a:ext cx="4163760" cy="2595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1441440" y="2800440"/>
            <a:ext cx="1317600" cy="182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9800" y="2800440"/>
            <a:ext cx="0" cy="184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100240" y="2884320"/>
            <a:ext cx="53172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441440" y="2892600"/>
            <a:ext cx="5317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1427040" y="4103640"/>
            <a:ext cx="5320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66880" y="30970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60400" y="432288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752560" y="310500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2752560" y="4336920"/>
            <a:ext cx="57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666880" y="4253040"/>
            <a:ext cx="169920" cy="1695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66688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92400" y="3925800"/>
            <a:ext cx="6699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51" name=""/>
          <p:cNvGraphicFramePr/>
          <p:nvPr/>
        </p:nvGraphicFramePr>
        <p:xfrm>
          <a:off x="2971800" y="38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38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S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95640" y="2128680"/>
            <a:ext cx="1101960" cy="11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585880" y="238932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97600" y="27082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005440" y="2631960"/>
            <a:ext cx="204840" cy="173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38760" y="4371840"/>
            <a:ext cx="1101600" cy="119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529000" y="5340240"/>
            <a:ext cx="1409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5040360" y="4952880"/>
            <a:ext cx="1822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948200" y="4876920"/>
            <a:ext cx="204840" cy="174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286000" y="1830240"/>
            <a:ext cx="8208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35320" y="4788000"/>
            <a:ext cx="81900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210360" y="4302000"/>
            <a:ext cx="89856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291360" y="2114640"/>
            <a:ext cx="836640" cy="73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3435480" y="2708280"/>
            <a:ext cx="2120760" cy="18874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3502080" y="3067200"/>
            <a:ext cx="2122560" cy="188568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483160" y="266688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540400" y="4854600"/>
            <a:ext cx="14292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540480" y="2195640"/>
            <a:ext cx="69840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6553080" y="4419720"/>
          <a:ext cx="314280" cy="47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3080" y="4419720"/>
                    <a:ext cx="314280" cy="47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5464080" y="2209680"/>
            <a:ext cx="2689200" cy="3208320"/>
            <a:chOff x="5464080" y="2209680"/>
            <a:chExt cx="2689200" cy="3208320"/>
          </a:xfrm>
        </p:grpSpPr>
        <p:grpSp>
          <p:nvGrpSpPr>
            <p:cNvPr id="375" name=""/>
            <p:cNvGrpSpPr/>
            <p:nvPr/>
          </p:nvGrpSpPr>
          <p:grpSpPr>
            <a:xfrm>
              <a:off x="5468760" y="2214360"/>
              <a:ext cx="2679840" cy="3198960"/>
              <a:chOff x="5468760" y="2214360"/>
              <a:chExt cx="2679840" cy="319896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5468760" y="2214360"/>
                <a:ext cx="803160" cy="639720"/>
                <a:chOff x="5468760" y="2214360"/>
                <a:chExt cx="803160" cy="63972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5537160" y="22143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5468760" y="22143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9" name=""/>
              <p:cNvGrpSpPr/>
              <p:nvPr/>
            </p:nvGrpSpPr>
            <p:grpSpPr>
              <a:xfrm>
                <a:off x="6271920" y="2214360"/>
                <a:ext cx="730440" cy="639720"/>
                <a:chOff x="6271920" y="2214360"/>
                <a:chExt cx="730440" cy="639720"/>
              </a:xfrm>
            </p:grpSpPr>
            <p:sp>
              <p:nvSpPr>
                <p:cNvPr id="380" name=""/>
                <p:cNvSpPr/>
                <p:nvPr/>
              </p:nvSpPr>
              <p:spPr>
                <a:xfrm>
                  <a:off x="6340320" y="22143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6271920" y="22143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2" name=""/>
              <p:cNvGrpSpPr/>
              <p:nvPr/>
            </p:nvGrpSpPr>
            <p:grpSpPr>
              <a:xfrm>
                <a:off x="7002360" y="2214360"/>
                <a:ext cx="1146240" cy="639720"/>
                <a:chOff x="7002360" y="2214360"/>
                <a:chExt cx="1146240" cy="639720"/>
              </a:xfrm>
            </p:grpSpPr>
            <p:sp>
              <p:nvSpPr>
                <p:cNvPr id="383" name=""/>
                <p:cNvSpPr/>
                <p:nvPr/>
              </p:nvSpPr>
              <p:spPr>
                <a:xfrm>
                  <a:off x="7070400" y="22143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4" name=""/>
                <p:cNvSpPr/>
                <p:nvPr/>
              </p:nvSpPr>
              <p:spPr>
                <a:xfrm>
                  <a:off x="7002360" y="22143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5" name=""/>
              <p:cNvGrpSpPr/>
              <p:nvPr/>
            </p:nvGrpSpPr>
            <p:grpSpPr>
              <a:xfrm>
                <a:off x="5468760" y="2854080"/>
                <a:ext cx="803160" cy="639720"/>
                <a:chOff x="5468760" y="2854080"/>
                <a:chExt cx="803160" cy="639720"/>
              </a:xfrm>
            </p:grpSpPr>
            <p:sp>
              <p:nvSpPr>
                <p:cNvPr id="386" name=""/>
                <p:cNvSpPr/>
                <p:nvPr/>
              </p:nvSpPr>
              <p:spPr>
                <a:xfrm>
                  <a:off x="5537160" y="285408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87" name=""/>
                <p:cNvSpPr/>
                <p:nvPr/>
              </p:nvSpPr>
              <p:spPr>
                <a:xfrm>
                  <a:off x="5468760" y="285408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8" name=""/>
              <p:cNvGrpSpPr/>
              <p:nvPr/>
            </p:nvGrpSpPr>
            <p:grpSpPr>
              <a:xfrm>
                <a:off x="6271920" y="2854080"/>
                <a:ext cx="730440" cy="639720"/>
                <a:chOff x="6271920" y="2854080"/>
                <a:chExt cx="730440" cy="639720"/>
              </a:xfrm>
            </p:grpSpPr>
            <p:sp>
              <p:nvSpPr>
                <p:cNvPr id="389" name=""/>
                <p:cNvSpPr/>
                <p:nvPr/>
              </p:nvSpPr>
              <p:spPr>
                <a:xfrm>
                  <a:off x="6340320" y="285408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6271920" y="285408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1" name=""/>
              <p:cNvGrpSpPr/>
              <p:nvPr/>
            </p:nvGrpSpPr>
            <p:grpSpPr>
              <a:xfrm>
                <a:off x="7002360" y="2854080"/>
                <a:ext cx="1146240" cy="639720"/>
                <a:chOff x="7002360" y="2854080"/>
                <a:chExt cx="1146240" cy="639720"/>
              </a:xfrm>
            </p:grpSpPr>
            <p:sp>
              <p:nvSpPr>
                <p:cNvPr id="392" name=""/>
                <p:cNvSpPr/>
                <p:nvPr/>
              </p:nvSpPr>
              <p:spPr>
                <a:xfrm>
                  <a:off x="7070400" y="285408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3" name=""/>
                <p:cNvSpPr/>
                <p:nvPr/>
              </p:nvSpPr>
              <p:spPr>
                <a:xfrm>
                  <a:off x="7002360" y="285408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4" name=""/>
              <p:cNvGrpSpPr/>
              <p:nvPr/>
            </p:nvGrpSpPr>
            <p:grpSpPr>
              <a:xfrm>
                <a:off x="5468760" y="3493800"/>
                <a:ext cx="803160" cy="639720"/>
                <a:chOff x="5468760" y="3493800"/>
                <a:chExt cx="803160" cy="639720"/>
              </a:xfrm>
            </p:grpSpPr>
            <p:sp>
              <p:nvSpPr>
                <p:cNvPr id="395" name=""/>
                <p:cNvSpPr/>
                <p:nvPr/>
              </p:nvSpPr>
              <p:spPr>
                <a:xfrm>
                  <a:off x="5537160" y="34938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6" name=""/>
                <p:cNvSpPr/>
                <p:nvPr/>
              </p:nvSpPr>
              <p:spPr>
                <a:xfrm>
                  <a:off x="5468760" y="34938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7" name=""/>
              <p:cNvGrpSpPr/>
              <p:nvPr/>
            </p:nvGrpSpPr>
            <p:grpSpPr>
              <a:xfrm>
                <a:off x="6271920" y="3493800"/>
                <a:ext cx="730440" cy="639720"/>
                <a:chOff x="6271920" y="3493800"/>
                <a:chExt cx="730440" cy="639720"/>
              </a:xfrm>
            </p:grpSpPr>
            <p:sp>
              <p:nvSpPr>
                <p:cNvPr id="398" name=""/>
                <p:cNvSpPr/>
                <p:nvPr/>
              </p:nvSpPr>
              <p:spPr>
                <a:xfrm>
                  <a:off x="6340320" y="34938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99" name=""/>
                <p:cNvSpPr/>
                <p:nvPr/>
              </p:nvSpPr>
              <p:spPr>
                <a:xfrm>
                  <a:off x="6271920" y="34938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0" name=""/>
              <p:cNvGrpSpPr/>
              <p:nvPr/>
            </p:nvGrpSpPr>
            <p:grpSpPr>
              <a:xfrm>
                <a:off x="7002360" y="3493800"/>
                <a:ext cx="1146240" cy="639720"/>
                <a:chOff x="7002360" y="3493800"/>
                <a:chExt cx="1146240" cy="639720"/>
              </a:xfrm>
            </p:grpSpPr>
            <p:sp>
              <p:nvSpPr>
                <p:cNvPr id="401" name=""/>
                <p:cNvSpPr/>
                <p:nvPr/>
              </p:nvSpPr>
              <p:spPr>
                <a:xfrm>
                  <a:off x="7070400" y="34938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2" name=""/>
                <p:cNvSpPr/>
                <p:nvPr/>
              </p:nvSpPr>
              <p:spPr>
                <a:xfrm>
                  <a:off x="7002360" y="34938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3" name=""/>
              <p:cNvGrpSpPr/>
              <p:nvPr/>
            </p:nvGrpSpPr>
            <p:grpSpPr>
              <a:xfrm>
                <a:off x="5468760" y="4133520"/>
                <a:ext cx="803160" cy="639720"/>
                <a:chOff x="5468760" y="4133520"/>
                <a:chExt cx="803160" cy="639720"/>
              </a:xfrm>
            </p:grpSpPr>
            <p:sp>
              <p:nvSpPr>
                <p:cNvPr id="404" name=""/>
                <p:cNvSpPr/>
                <p:nvPr/>
              </p:nvSpPr>
              <p:spPr>
                <a:xfrm>
                  <a:off x="5537160" y="41335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5" name=""/>
                <p:cNvSpPr/>
                <p:nvPr/>
              </p:nvSpPr>
              <p:spPr>
                <a:xfrm>
                  <a:off x="5468760" y="41335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6" name=""/>
              <p:cNvGrpSpPr/>
              <p:nvPr/>
            </p:nvGrpSpPr>
            <p:grpSpPr>
              <a:xfrm>
                <a:off x="6271920" y="4133520"/>
                <a:ext cx="730440" cy="639720"/>
                <a:chOff x="6271920" y="4133520"/>
                <a:chExt cx="730440" cy="639720"/>
              </a:xfrm>
            </p:grpSpPr>
            <p:sp>
              <p:nvSpPr>
                <p:cNvPr id="407" name=""/>
                <p:cNvSpPr/>
                <p:nvPr/>
              </p:nvSpPr>
              <p:spPr>
                <a:xfrm>
                  <a:off x="6340320" y="41335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08" name=""/>
                <p:cNvSpPr/>
                <p:nvPr/>
              </p:nvSpPr>
              <p:spPr>
                <a:xfrm>
                  <a:off x="6271920" y="41335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9" name=""/>
              <p:cNvGrpSpPr/>
              <p:nvPr/>
            </p:nvGrpSpPr>
            <p:grpSpPr>
              <a:xfrm>
                <a:off x="7002360" y="4133520"/>
                <a:ext cx="1146240" cy="639720"/>
                <a:chOff x="7002360" y="4133520"/>
                <a:chExt cx="1146240" cy="639720"/>
              </a:xfrm>
            </p:grpSpPr>
            <p:sp>
              <p:nvSpPr>
                <p:cNvPr id="410" name=""/>
                <p:cNvSpPr/>
                <p:nvPr/>
              </p:nvSpPr>
              <p:spPr>
                <a:xfrm>
                  <a:off x="7070400" y="41335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1" name=""/>
                <p:cNvSpPr/>
                <p:nvPr/>
              </p:nvSpPr>
              <p:spPr>
                <a:xfrm>
                  <a:off x="7002360" y="41335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2" name=""/>
              <p:cNvGrpSpPr/>
              <p:nvPr/>
            </p:nvGrpSpPr>
            <p:grpSpPr>
              <a:xfrm>
                <a:off x="5468760" y="4773240"/>
                <a:ext cx="803160" cy="640080"/>
                <a:chOff x="5468760" y="4773240"/>
                <a:chExt cx="803160" cy="640080"/>
              </a:xfrm>
            </p:grpSpPr>
            <p:sp>
              <p:nvSpPr>
                <p:cNvPr id="413" name=""/>
                <p:cNvSpPr/>
                <p:nvPr/>
              </p:nvSpPr>
              <p:spPr>
                <a:xfrm>
                  <a:off x="5537160" y="477324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4" name=""/>
                <p:cNvSpPr/>
                <p:nvPr/>
              </p:nvSpPr>
              <p:spPr>
                <a:xfrm>
                  <a:off x="5468760" y="477324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5" name=""/>
              <p:cNvGrpSpPr/>
              <p:nvPr/>
            </p:nvGrpSpPr>
            <p:grpSpPr>
              <a:xfrm>
                <a:off x="6271920" y="4773240"/>
                <a:ext cx="730440" cy="640080"/>
                <a:chOff x="6271920" y="4773240"/>
                <a:chExt cx="730440" cy="640080"/>
              </a:xfrm>
            </p:grpSpPr>
            <p:sp>
              <p:nvSpPr>
                <p:cNvPr id="416" name=""/>
                <p:cNvSpPr/>
                <p:nvPr/>
              </p:nvSpPr>
              <p:spPr>
                <a:xfrm>
                  <a:off x="6340320" y="477324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>
                  <a:off x="6271920" y="477324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8" name=""/>
              <p:cNvGrpSpPr/>
              <p:nvPr/>
            </p:nvGrpSpPr>
            <p:grpSpPr>
              <a:xfrm>
                <a:off x="7002360" y="4773240"/>
                <a:ext cx="1146240" cy="640080"/>
                <a:chOff x="7002360" y="4773240"/>
                <a:chExt cx="1146240" cy="640080"/>
              </a:xfrm>
            </p:grpSpPr>
            <p:sp>
              <p:nvSpPr>
                <p:cNvPr id="419" name=""/>
                <p:cNvSpPr/>
                <p:nvPr/>
              </p:nvSpPr>
              <p:spPr>
                <a:xfrm>
                  <a:off x="7070400" y="477324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20" name=""/>
                <p:cNvSpPr/>
                <p:nvPr/>
              </p:nvSpPr>
              <p:spPr>
                <a:xfrm>
                  <a:off x="7002360" y="477324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21" name=""/>
            <p:cNvSpPr/>
            <p:nvPr/>
          </p:nvSpPr>
          <p:spPr>
            <a:xfrm>
              <a:off x="5464080" y="220968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1906560" y="2733840"/>
            <a:ext cx="1560600" cy="216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460600" y="2733840"/>
            <a:ext cx="0" cy="218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687760" y="283536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6560" y="284328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890720" y="4276800"/>
            <a:ext cx="628560" cy="6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227240" y="30862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453708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459240" y="309420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459240" y="4552920"/>
            <a:ext cx="67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357720" y="4452840"/>
            <a:ext cx="201600" cy="20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6200" y="264636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60640" y="4067280"/>
            <a:ext cx="793800" cy="70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4" name=""/>
          <p:cNvGraphicFramePr/>
          <p:nvPr/>
        </p:nvGraphicFramePr>
        <p:xfrm>
          <a:off x="3962520" y="41148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62520" y="41148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триггер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541840" y="242244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480000" y="3008160"/>
            <a:ext cx="155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02240" y="2930400"/>
            <a:ext cx="1764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492880" y="4689360"/>
            <a:ext cx="938160" cy="120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31040" y="52754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353280" y="5195880"/>
            <a:ext cx="17604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300800" y="4594320"/>
            <a:ext cx="892440" cy="8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7369200" y="2384280"/>
            <a:ext cx="860400" cy="75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064120" y="300816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V="1">
            <a:off x="5122800" y="3370320"/>
            <a:ext cx="1806480" cy="190512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92600" y="2081160"/>
            <a:ext cx="9381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352680" y="2344680"/>
            <a:ext cx="439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730760" y="2666880"/>
            <a:ext cx="820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3803760" y="5059440"/>
            <a:ext cx="936360" cy="1201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682640" y="6037200"/>
            <a:ext cx="213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730760" y="5645160"/>
            <a:ext cx="77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570040" y="1886040"/>
            <a:ext cx="685800" cy="87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178080" y="2266920"/>
            <a:ext cx="174600" cy="176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587760" y="3067200"/>
            <a:ext cx="225360" cy="221760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2171880" y="2335320"/>
            <a:ext cx="390240" cy="3711600"/>
          </a:xfrm>
          <a:custGeom>
            <a:avLst/>
            <a:gdLst/>
            <a:ahLst/>
            <a:rect l="l" t="t" r="r" b="b"/>
            <a:pathLst>
              <a:path w="240" h="2280">
                <a:moveTo>
                  <a:pt x="0" y="228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711440" y="4141800"/>
            <a:ext cx="1876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783480" y="2940120"/>
            <a:ext cx="1458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861240" y="5186520"/>
            <a:ext cx="147600" cy="1476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3529080" y="4044960"/>
            <a:ext cx="14616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2092320" y="5948280"/>
            <a:ext cx="147600" cy="1461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457280" y="3537000"/>
            <a:ext cx="8701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447920" y="5421240"/>
            <a:ext cx="86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709040" y="2514600"/>
            <a:ext cx="825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7785000" y="47862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785000" y="47862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 тремя входами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8" name=""/>
          <p:cNvGrpSpPr/>
          <p:nvPr/>
        </p:nvGrpSpPr>
        <p:grpSpPr>
          <a:xfrm>
            <a:off x="152280" y="1828800"/>
            <a:ext cx="5132520" cy="3733920"/>
            <a:chOff x="152280" y="1828800"/>
            <a:chExt cx="5132520" cy="3733920"/>
          </a:xfrm>
        </p:grpSpPr>
        <p:sp>
          <p:nvSpPr>
            <p:cNvPr id="469" name=""/>
            <p:cNvSpPr/>
            <p:nvPr/>
          </p:nvSpPr>
          <p:spPr>
            <a:xfrm>
              <a:off x="3228840" y="2679840"/>
              <a:ext cx="704880" cy="901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933720" y="311940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75040" y="30607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92480" y="438156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897360" y="4821120"/>
              <a:ext cx="1166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38680" y="4762440"/>
              <a:ext cx="13176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868480" y="311940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2913120" y="3390120"/>
              <a:ext cx="1359000" cy="1430280"/>
            </a:xfrm>
            <a:custGeom>
              <a:avLst/>
              <a:gdLst/>
              <a:ahLst/>
              <a:rect l="l" t="t" r="r" b="b"/>
              <a:pathLst>
                <a:path w="1110" h="1170">
                  <a:moveTo>
                    <a:pt x="1110" y="0"/>
                  </a:moveTo>
                  <a:lnTo>
                    <a:pt x="1110" y="360"/>
                  </a:lnTo>
                  <a:lnTo>
                    <a:pt x="0" y="1032"/>
                  </a:lnTo>
                  <a:lnTo>
                    <a:pt x="0" y="1170"/>
                  </a:lnTo>
                  <a:lnTo>
                    <a:pt x="258" y="11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1914480" y="2422440"/>
              <a:ext cx="704880" cy="903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523880" y="26208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619360" y="2863800"/>
              <a:ext cx="617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22400" y="4660920"/>
              <a:ext cx="704880" cy="90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28680" y="5394240"/>
              <a:ext cx="1600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619360" y="5100480"/>
              <a:ext cx="57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95400" y="2276640"/>
              <a:ext cx="515880" cy="66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1452600" y="2562120"/>
              <a:ext cx="131760" cy="1317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1760400" y="3164040"/>
              <a:ext cx="168480" cy="1665000"/>
            </a:xfrm>
            <a:custGeom>
              <a:avLst/>
              <a:gdLst/>
              <a:ahLst/>
              <a:rect l="l" t="t" r="r" b="b"/>
              <a:pathLst>
                <a:path w="138" h="1362">
                  <a:moveTo>
                    <a:pt x="120" y="0"/>
                  </a:moveTo>
                  <a:lnTo>
                    <a:pt x="0" y="0"/>
                  </a:lnTo>
                  <a:lnTo>
                    <a:pt x="0" y="1362"/>
                  </a:lnTo>
                  <a:lnTo>
                    <a:pt x="138" y="136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95160" y="2612880"/>
              <a:ext cx="293760" cy="2787840"/>
            </a:xfrm>
            <a:custGeom>
              <a:avLst/>
              <a:gdLst/>
              <a:ahLst/>
              <a:rect l="l" t="t" r="r" b="b"/>
              <a:pathLst>
                <a:path w="240" h="2280">
                  <a:moveTo>
                    <a:pt x="0" y="228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51000" y="3970440"/>
              <a:ext cx="140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160880" y="3068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19560" y="475632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716120" y="389736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636480" y="5327640"/>
              <a:ext cx="111240" cy="109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60200" y="3516480"/>
              <a:ext cx="65268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152280" y="4932360"/>
              <a:ext cx="654120" cy="52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21040" y="1990800"/>
              <a:ext cx="307800" cy="1136520"/>
            </a:xfrm>
            <a:custGeom>
              <a:avLst/>
              <a:gdLst/>
              <a:ahLst/>
              <a:rect l="l" t="t" r="r" b="b"/>
              <a:pathLst>
                <a:path w="252" h="930">
                  <a:moveTo>
                    <a:pt x="0" y="0"/>
                  </a:moveTo>
                  <a:lnTo>
                    <a:pt x="0" y="930"/>
                  </a:lnTo>
                  <a:lnTo>
                    <a:pt x="252" y="93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2927520" y="1828800"/>
              <a:ext cx="653760" cy="52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587840" y="4346640"/>
              <a:ext cx="669960" cy="61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4638600" y="2687760"/>
              <a:ext cx="646200" cy="56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8" name=""/>
          <p:cNvGrpSpPr/>
          <p:nvPr/>
        </p:nvGrpSpPr>
        <p:grpSpPr>
          <a:xfrm>
            <a:off x="5410080" y="2895480"/>
            <a:ext cx="3194280" cy="2133720"/>
            <a:chOff x="5410080" y="2895480"/>
            <a:chExt cx="3194280" cy="2133720"/>
          </a:xfrm>
        </p:grpSpPr>
        <p:sp>
          <p:nvSpPr>
            <p:cNvPr id="499" name=""/>
            <p:cNvSpPr/>
            <p:nvPr/>
          </p:nvSpPr>
          <p:spPr>
            <a:xfrm>
              <a:off x="6039000" y="3019320"/>
              <a:ext cx="1427040" cy="1979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545160" y="3019320"/>
              <a:ext cx="0" cy="200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753240" y="311148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9000" y="3119400"/>
              <a:ext cx="57600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024600" y="4430520"/>
              <a:ext cx="574560" cy="59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5418000" y="33415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410080" y="4668840"/>
              <a:ext cx="622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459560" y="334944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459560" y="4684680"/>
              <a:ext cx="62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67760" y="4592520"/>
              <a:ext cx="183960" cy="1843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848720" y="2895480"/>
              <a:ext cx="755640" cy="50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7827840" y="4238640"/>
              <a:ext cx="723960" cy="64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6024600" y="3724200"/>
              <a:ext cx="574560" cy="59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433840" y="4000320"/>
              <a:ext cx="62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13" name=""/>
            <p:cNvGraphicFramePr/>
            <p:nvPr/>
          </p:nvGraphicFramePr>
          <p:xfrm>
            <a:off x="7915320" y="4190760"/>
            <a:ext cx="314280" cy="4716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915320" y="4190760"/>
                      <a:ext cx="314280" cy="4716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6" name=""/>
          <p:cNvGrpSpPr/>
          <p:nvPr/>
        </p:nvGrpSpPr>
        <p:grpSpPr>
          <a:xfrm>
            <a:off x="5540400" y="2590920"/>
            <a:ext cx="2689200" cy="3208320"/>
            <a:chOff x="5540400" y="2590920"/>
            <a:chExt cx="2689200" cy="3208320"/>
          </a:xfrm>
        </p:grpSpPr>
        <p:grpSp>
          <p:nvGrpSpPr>
            <p:cNvPr id="517" name=""/>
            <p:cNvGrpSpPr/>
            <p:nvPr/>
          </p:nvGrpSpPr>
          <p:grpSpPr>
            <a:xfrm>
              <a:off x="5545080" y="2595600"/>
              <a:ext cx="2679840" cy="3198960"/>
              <a:chOff x="5545080" y="2595600"/>
              <a:chExt cx="2679840" cy="3198960"/>
            </a:xfrm>
          </p:grpSpPr>
          <p:grpSp>
            <p:nvGrpSpPr>
              <p:cNvPr id="518" name=""/>
              <p:cNvGrpSpPr/>
              <p:nvPr/>
            </p:nvGrpSpPr>
            <p:grpSpPr>
              <a:xfrm>
                <a:off x="5545080" y="2595600"/>
                <a:ext cx="803160" cy="639720"/>
                <a:chOff x="5545080" y="2595600"/>
                <a:chExt cx="803160" cy="639720"/>
              </a:xfrm>
            </p:grpSpPr>
            <p:sp>
              <p:nvSpPr>
                <p:cNvPr id="519" name=""/>
                <p:cNvSpPr/>
                <p:nvPr/>
              </p:nvSpPr>
              <p:spPr>
                <a:xfrm>
                  <a:off x="5613480" y="259560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D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5545080" y="259560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1" name=""/>
              <p:cNvGrpSpPr/>
              <p:nvPr/>
            </p:nvGrpSpPr>
            <p:grpSpPr>
              <a:xfrm>
                <a:off x="6348240" y="2595600"/>
                <a:ext cx="730440" cy="639720"/>
                <a:chOff x="6348240" y="2595600"/>
                <a:chExt cx="730440" cy="63972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6416640" y="259560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>
                  <a:off x="6348240" y="259560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"/>
              <p:cNvGrpSpPr/>
              <p:nvPr/>
            </p:nvGrpSpPr>
            <p:grpSpPr>
              <a:xfrm>
                <a:off x="7078680" y="2595600"/>
                <a:ext cx="1146240" cy="639720"/>
                <a:chOff x="7078680" y="2595600"/>
                <a:chExt cx="1146240" cy="639720"/>
              </a:xfrm>
            </p:grpSpPr>
            <p:sp>
              <p:nvSpPr>
                <p:cNvPr id="525" name=""/>
                <p:cNvSpPr/>
                <p:nvPr/>
              </p:nvSpPr>
              <p:spPr>
                <a:xfrm>
                  <a:off x="7146720" y="259560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7078680" y="259560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7" name=""/>
              <p:cNvGrpSpPr/>
              <p:nvPr/>
            </p:nvGrpSpPr>
            <p:grpSpPr>
              <a:xfrm>
                <a:off x="5545080" y="3235320"/>
                <a:ext cx="803160" cy="639720"/>
                <a:chOff x="5545080" y="3235320"/>
                <a:chExt cx="803160" cy="639720"/>
              </a:xfrm>
            </p:grpSpPr>
            <p:sp>
              <p:nvSpPr>
                <p:cNvPr id="528" name=""/>
                <p:cNvSpPr/>
                <p:nvPr/>
              </p:nvSpPr>
              <p:spPr>
                <a:xfrm>
                  <a:off x="5613480" y="323532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5545080" y="323532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0" name=""/>
              <p:cNvGrpSpPr/>
              <p:nvPr/>
            </p:nvGrpSpPr>
            <p:grpSpPr>
              <a:xfrm>
                <a:off x="6348240" y="3235320"/>
                <a:ext cx="730440" cy="639720"/>
                <a:chOff x="6348240" y="3235320"/>
                <a:chExt cx="730440" cy="639720"/>
              </a:xfrm>
            </p:grpSpPr>
            <p:sp>
              <p:nvSpPr>
                <p:cNvPr id="531" name=""/>
                <p:cNvSpPr/>
                <p:nvPr/>
              </p:nvSpPr>
              <p:spPr>
                <a:xfrm>
                  <a:off x="6416640" y="323532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2" name=""/>
                <p:cNvSpPr/>
                <p:nvPr/>
              </p:nvSpPr>
              <p:spPr>
                <a:xfrm>
                  <a:off x="6348240" y="323532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3" name=""/>
              <p:cNvGrpSpPr/>
              <p:nvPr/>
            </p:nvGrpSpPr>
            <p:grpSpPr>
              <a:xfrm>
                <a:off x="7078680" y="3235320"/>
                <a:ext cx="1146240" cy="639720"/>
                <a:chOff x="7078680" y="3235320"/>
                <a:chExt cx="1146240" cy="639720"/>
              </a:xfrm>
            </p:grpSpPr>
            <p:sp>
              <p:nvSpPr>
                <p:cNvPr id="534" name=""/>
                <p:cNvSpPr/>
                <p:nvPr/>
              </p:nvSpPr>
              <p:spPr>
                <a:xfrm>
                  <a:off x="7146720" y="323532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5" name=""/>
                <p:cNvSpPr/>
                <p:nvPr/>
              </p:nvSpPr>
              <p:spPr>
                <a:xfrm>
                  <a:off x="7078680" y="323532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6" name=""/>
              <p:cNvGrpSpPr/>
              <p:nvPr/>
            </p:nvGrpSpPr>
            <p:grpSpPr>
              <a:xfrm>
                <a:off x="5545080" y="3875040"/>
                <a:ext cx="803160" cy="639720"/>
                <a:chOff x="5545080" y="3875040"/>
                <a:chExt cx="803160" cy="639720"/>
              </a:xfrm>
            </p:grpSpPr>
            <p:sp>
              <p:nvSpPr>
                <p:cNvPr id="537" name=""/>
                <p:cNvSpPr/>
                <p:nvPr/>
              </p:nvSpPr>
              <p:spPr>
                <a:xfrm>
                  <a:off x="5613480" y="387504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5545080" y="387504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39" name=""/>
              <p:cNvGrpSpPr/>
              <p:nvPr/>
            </p:nvGrpSpPr>
            <p:grpSpPr>
              <a:xfrm>
                <a:off x="6348240" y="3875040"/>
                <a:ext cx="730440" cy="639720"/>
                <a:chOff x="6348240" y="3875040"/>
                <a:chExt cx="730440" cy="639720"/>
              </a:xfrm>
            </p:grpSpPr>
            <p:sp>
              <p:nvSpPr>
                <p:cNvPr id="540" name=""/>
                <p:cNvSpPr/>
                <p:nvPr/>
              </p:nvSpPr>
              <p:spPr>
                <a:xfrm>
                  <a:off x="6416640" y="387504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Symbol"/>
                      <a:ea typeface="Symbol"/>
                    </a:rPr>
                    <a:t>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6348240" y="387504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2" name=""/>
              <p:cNvGrpSpPr/>
              <p:nvPr/>
            </p:nvGrpSpPr>
            <p:grpSpPr>
              <a:xfrm>
                <a:off x="7078680" y="3875040"/>
                <a:ext cx="1146240" cy="639720"/>
                <a:chOff x="7078680" y="3875040"/>
                <a:chExt cx="1146240" cy="639720"/>
              </a:xfrm>
            </p:grpSpPr>
            <p:sp>
              <p:nvSpPr>
                <p:cNvPr id="543" name=""/>
                <p:cNvSpPr/>
                <p:nvPr/>
              </p:nvSpPr>
              <p:spPr>
                <a:xfrm>
                  <a:off x="7146720" y="387504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>
                  <a:off x="7078680" y="387504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5" name=""/>
              <p:cNvGrpSpPr/>
              <p:nvPr/>
            </p:nvGrpSpPr>
            <p:grpSpPr>
              <a:xfrm>
                <a:off x="5545080" y="4514760"/>
                <a:ext cx="803160" cy="639720"/>
                <a:chOff x="5545080" y="4514760"/>
                <a:chExt cx="803160" cy="63972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5613480" y="4514760"/>
                  <a:ext cx="66672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5545080" y="4514760"/>
                  <a:ext cx="80316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6348240" y="4514760"/>
                <a:ext cx="730440" cy="639720"/>
                <a:chOff x="6348240" y="4514760"/>
                <a:chExt cx="730440" cy="63972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6416640" y="4514760"/>
                  <a:ext cx="59364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0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6348240" y="4514760"/>
                  <a:ext cx="7304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1" name=""/>
              <p:cNvGrpSpPr/>
              <p:nvPr/>
            </p:nvGrpSpPr>
            <p:grpSpPr>
              <a:xfrm>
                <a:off x="7078680" y="4514760"/>
                <a:ext cx="1146240" cy="639720"/>
                <a:chOff x="7078680" y="4514760"/>
                <a:chExt cx="1146240" cy="639720"/>
              </a:xfrm>
            </p:grpSpPr>
            <p:sp>
              <p:nvSpPr>
                <p:cNvPr id="552" name=""/>
                <p:cNvSpPr/>
                <p:nvPr/>
              </p:nvSpPr>
              <p:spPr>
                <a:xfrm>
                  <a:off x="7146720" y="4514760"/>
                  <a:ext cx="1009800" cy="63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7078680" y="4514760"/>
                  <a:ext cx="1146240" cy="639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4" name=""/>
              <p:cNvGrpSpPr/>
              <p:nvPr/>
            </p:nvGrpSpPr>
            <p:grpSpPr>
              <a:xfrm>
                <a:off x="5545080" y="5154480"/>
                <a:ext cx="803160" cy="640080"/>
                <a:chOff x="5545080" y="5154480"/>
                <a:chExt cx="803160" cy="640080"/>
              </a:xfrm>
            </p:grpSpPr>
            <p:sp>
              <p:nvSpPr>
                <p:cNvPr id="555" name=""/>
                <p:cNvSpPr/>
                <p:nvPr/>
              </p:nvSpPr>
              <p:spPr>
                <a:xfrm>
                  <a:off x="5613480" y="5154480"/>
                  <a:ext cx="66672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Х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6" name=""/>
                <p:cNvSpPr/>
                <p:nvPr/>
              </p:nvSpPr>
              <p:spPr>
                <a:xfrm>
                  <a:off x="5545080" y="5154480"/>
                  <a:ext cx="80316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57" name=""/>
              <p:cNvGrpSpPr/>
              <p:nvPr/>
            </p:nvGrpSpPr>
            <p:grpSpPr>
              <a:xfrm>
                <a:off x="6348240" y="5154480"/>
                <a:ext cx="730440" cy="640080"/>
                <a:chOff x="6348240" y="5154480"/>
                <a:chExt cx="730440" cy="640080"/>
              </a:xfrm>
            </p:grpSpPr>
            <p:sp>
              <p:nvSpPr>
                <p:cNvPr id="558" name=""/>
                <p:cNvSpPr/>
                <p:nvPr/>
              </p:nvSpPr>
              <p:spPr>
                <a:xfrm>
                  <a:off x="6416640" y="5154480"/>
                  <a:ext cx="59364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9" name=""/>
                <p:cNvSpPr/>
                <p:nvPr/>
              </p:nvSpPr>
              <p:spPr>
                <a:xfrm>
                  <a:off x="6348240" y="5154480"/>
                  <a:ext cx="7304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60" name=""/>
              <p:cNvGrpSpPr/>
              <p:nvPr/>
            </p:nvGrpSpPr>
            <p:grpSpPr>
              <a:xfrm>
                <a:off x="7078680" y="5154480"/>
                <a:ext cx="1146240" cy="640080"/>
                <a:chOff x="7078680" y="5154480"/>
                <a:chExt cx="1146240" cy="640080"/>
              </a:xfrm>
            </p:grpSpPr>
            <p:sp>
              <p:nvSpPr>
                <p:cNvPr id="561" name=""/>
                <p:cNvSpPr/>
                <p:nvPr/>
              </p:nvSpPr>
              <p:spPr>
                <a:xfrm>
                  <a:off x="7146720" y="5154480"/>
                  <a:ext cx="1009800" cy="640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4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Q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2" name=""/>
                <p:cNvSpPr/>
                <p:nvPr/>
              </p:nvSpPr>
              <p:spPr>
                <a:xfrm>
                  <a:off x="7078680" y="5154480"/>
                  <a:ext cx="1146240" cy="640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3" name=""/>
            <p:cNvSpPr/>
            <p:nvPr/>
          </p:nvSpPr>
          <p:spPr>
            <a:xfrm>
              <a:off x="5540400" y="2590920"/>
              <a:ext cx="2689200" cy="32083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/>
          <p:nvPr/>
        </p:nvSpPr>
        <p:spPr>
          <a:xfrm>
            <a:off x="1986120" y="3002040"/>
            <a:ext cx="1763640" cy="24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611440" y="3002040"/>
            <a:ext cx="0" cy="247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43200" y="3114720"/>
            <a:ext cx="9684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138400" y="3124080"/>
            <a:ext cx="71100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119320" y="4746600"/>
            <a:ext cx="711360" cy="7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1217520" y="340056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1208160" y="5040360"/>
            <a:ext cx="768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3740040" y="340992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3740040" y="5059440"/>
            <a:ext cx="76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3625920" y="4944960"/>
            <a:ext cx="228600" cy="228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4191120" y="292572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195800" y="4510080"/>
            <a:ext cx="895320" cy="7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rot="5400000">
            <a:off x="1903680" y="4974480"/>
            <a:ext cx="219240" cy="1890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4267080" y="4572000"/>
          <a:ext cx="314280" cy="4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4572000"/>
                    <a:ext cx="314280" cy="4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Реализация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триггер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о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абатыванием по фронту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732720" y="2943360"/>
            <a:ext cx="63792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370640" y="334152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316640" y="32893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699240" y="448308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7337520" y="4881600"/>
            <a:ext cx="105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7283520" y="482904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408720" y="3341520"/>
            <a:ext cx="1227240" cy="12956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6448320" y="3587760"/>
            <a:ext cx="1227240" cy="129384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45080" y="2711520"/>
            <a:ext cx="636480" cy="815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6181560" y="3110040"/>
            <a:ext cx="55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551560" y="4735440"/>
            <a:ext cx="6382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6181560" y="513396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405400" y="3381480"/>
            <a:ext cx="154080" cy="150804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575480" y="3295800"/>
            <a:ext cx="1000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628040" y="4822920"/>
            <a:ext cx="10008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359320" y="484812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178160" y="2446200"/>
            <a:ext cx="63828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4816440" y="2844720"/>
            <a:ext cx="749160" cy="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762440" y="2790720"/>
            <a:ext cx="11916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4145040" y="501480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4768920" y="5425920"/>
            <a:ext cx="75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4729320" y="5359320"/>
            <a:ext cx="118800" cy="120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520" bIns="38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854520" y="2844720"/>
            <a:ext cx="12272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3894120" y="3088440"/>
            <a:ext cx="1239840" cy="2336760"/>
          </a:xfrm>
          <a:custGeom>
            <a:avLst/>
            <a:gdLst/>
            <a:ahLst/>
            <a:rect l="l" t="t" r="r" b="b"/>
            <a:pathLst>
              <a:path w="1110" h="1170">
                <a:moveTo>
                  <a:pt x="1110" y="0"/>
                </a:moveTo>
                <a:lnTo>
                  <a:pt x="1110" y="360"/>
                </a:lnTo>
                <a:lnTo>
                  <a:pt x="0" y="1032"/>
                </a:lnTo>
                <a:lnTo>
                  <a:pt x="0" y="1170"/>
                </a:lnTo>
                <a:lnTo>
                  <a:pt x="258" y="117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990880" y="2212920"/>
            <a:ext cx="636480" cy="81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627360" y="2611440"/>
            <a:ext cx="55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997360" y="5267160"/>
            <a:ext cx="637920" cy="816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627360" y="5665680"/>
            <a:ext cx="525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798640" y="2884320"/>
            <a:ext cx="206640" cy="2535480"/>
          </a:xfrm>
          <a:custGeom>
            <a:avLst/>
            <a:gdLst/>
            <a:ahLst/>
            <a:rect l="l" t="t" r="r" b="b"/>
            <a:pathLst>
              <a:path w="138" h="1362">
                <a:moveTo>
                  <a:pt x="120" y="0"/>
                </a:moveTo>
                <a:lnTo>
                  <a:pt x="0" y="0"/>
                </a:lnTo>
                <a:lnTo>
                  <a:pt x="0" y="1362"/>
                </a:lnTo>
                <a:lnTo>
                  <a:pt x="138" y="136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5021280" y="27972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5075280" y="5353200"/>
            <a:ext cx="98280" cy="99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120" bIns="24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719440" y="5864400"/>
            <a:ext cx="264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214720" y="5553000"/>
            <a:ext cx="466560" cy="59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2625840" y="5811840"/>
            <a:ext cx="120600" cy="1191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800" bIns="37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120" y="2392200"/>
            <a:ext cx="2228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2062080" y="2367000"/>
            <a:ext cx="146160" cy="3470400"/>
          </a:xfrm>
          <a:custGeom>
            <a:avLst/>
            <a:gdLst/>
            <a:ahLst/>
            <a:rect l="l" t="t" r="r" b="b"/>
            <a:pathLst>
              <a:path w="132" h="3138">
                <a:moveTo>
                  <a:pt x="132" y="3138"/>
                </a:moveTo>
                <a:lnTo>
                  <a:pt x="0" y="3138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2016000" y="2340000"/>
            <a:ext cx="1000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870200" y="4138560"/>
            <a:ext cx="9349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1352520" y="3825720"/>
            <a:ext cx="465120" cy="59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1763640" y="4086360"/>
            <a:ext cx="119160" cy="1188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2120" y="4143240"/>
            <a:ext cx="583920" cy="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1200240" y="4145040"/>
            <a:ext cx="4205160" cy="2224080"/>
          </a:xfrm>
          <a:custGeom>
            <a:avLst/>
            <a:gdLst/>
            <a:ahLst/>
            <a:rect l="l" t="t" r="r" b="b"/>
            <a:pathLst>
              <a:path w="3852" h="2010">
                <a:moveTo>
                  <a:pt x="0" y="0"/>
                </a:moveTo>
                <a:lnTo>
                  <a:pt x="0" y="2010"/>
                </a:lnTo>
                <a:lnTo>
                  <a:pt x="3852" y="2010"/>
                </a:lnTo>
                <a:lnTo>
                  <a:pt x="3852" y="67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1154160" y="4098960"/>
            <a:ext cx="98280" cy="1000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615960" y="1981080"/>
            <a:ext cx="59040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609480" y="3740040"/>
            <a:ext cx="590760" cy="47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077320" y="2895480"/>
            <a:ext cx="933480" cy="6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26" name=""/>
          <p:cNvGraphicFramePr/>
          <p:nvPr/>
        </p:nvGraphicFramePr>
        <p:xfrm>
          <a:off x="8153280" y="4419720"/>
          <a:ext cx="263520" cy="3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153280" y="4419720"/>
                    <a:ext cx="263520" cy="3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Регист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1101600" y="2576520"/>
            <a:ext cx="1766880" cy="2289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1676520" y="2514600"/>
            <a:ext cx="82044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639800" y="2584440"/>
            <a:ext cx="0" cy="230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308320" y="2598840"/>
            <a:ext cx="0" cy="2297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1098720" y="253836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1128600" y="3537000"/>
            <a:ext cx="85248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1123920" y="2952720"/>
            <a:ext cx="547560" cy="7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1127160" y="4268880"/>
            <a:ext cx="853920" cy="55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2317680" y="251460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347920" y="3514680"/>
            <a:ext cx="852480" cy="55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2322360" y="2928960"/>
            <a:ext cx="547920" cy="7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609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09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633240" y="4573440"/>
            <a:ext cx="482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868480" y="282888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2868480" y="3813120"/>
            <a:ext cx="484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5310360" y="2009880"/>
            <a:ext cx="1217520" cy="1690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742000" y="200988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919840" y="2089080"/>
            <a:ext cx="49032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310360" y="209556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5297400" y="321480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6534000" y="229068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6521400" y="343044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6443640" y="335268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6781680" y="184644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835680" y="3051000"/>
            <a:ext cx="61920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310360" y="4761000"/>
            <a:ext cx="1217520" cy="1689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5742000" y="4761000"/>
            <a:ext cx="0" cy="170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5919840" y="4838760"/>
            <a:ext cx="4903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310360" y="4846680"/>
            <a:ext cx="49032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97400" y="5965920"/>
            <a:ext cx="49068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4583160" y="50356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4773600" y="61689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6521400" y="504180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6521400" y="6181560"/>
            <a:ext cx="530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6443640" y="6103800"/>
            <a:ext cx="157320" cy="157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781680" y="4597560"/>
            <a:ext cx="644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6835680" y="5802480"/>
            <a:ext cx="619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754600" y="3922560"/>
            <a:ext cx="466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4976640" y="3417840"/>
            <a:ext cx="327240" cy="2751120"/>
          </a:xfrm>
          <a:custGeom>
            <a:avLst/>
            <a:gdLst/>
            <a:ahLst/>
            <a:rect l="l" t="t" r="r" b="b"/>
            <a:pathLst>
              <a:path w="300" h="2520">
                <a:moveTo>
                  <a:pt x="300" y="0"/>
                </a:moveTo>
                <a:lnTo>
                  <a:pt x="0" y="0"/>
                </a:lnTo>
                <a:lnTo>
                  <a:pt x="0" y="25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4937040" y="6129360"/>
            <a:ext cx="98640" cy="98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680" bIns="22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444920" y="1905120"/>
            <a:ext cx="63684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4419720" y="4622760"/>
            <a:ext cx="635040" cy="4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576680" y="2305080"/>
            <a:ext cx="72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3" name=""/>
          <p:cNvGraphicFramePr/>
          <p:nvPr/>
        </p:nvGraphicFramePr>
        <p:xfrm>
          <a:off x="6832440" y="3048120"/>
          <a:ext cx="330480" cy="41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32440" y="30481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5" name=""/>
          <p:cNvGraphicFramePr/>
          <p:nvPr/>
        </p:nvGraphicFramePr>
        <p:xfrm>
          <a:off x="6832440" y="5791320"/>
          <a:ext cx="330480" cy="41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32440" y="5791320"/>
                    <a:ext cx="330480" cy="41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эле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Логическим элементо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называется устройство с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входами и одним выходом. На каждый вход может подаваться только два сигнала "0" или "1" и при каждом наборе сигналов на входах на выходе возникает один из сигналов "0" или "1"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игнал на выходе логического элемента однозначно определяется набором сигналов на его вх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2438280" y="1828800"/>
            <a:ext cx="4647960" cy="3338640"/>
            <a:chOff x="2438280" y="1828800"/>
            <a:chExt cx="4647960" cy="3338640"/>
          </a:xfrm>
        </p:grpSpPr>
        <p:sp>
          <p:nvSpPr>
            <p:cNvPr id="679" name=""/>
            <p:cNvSpPr/>
            <p:nvPr/>
          </p:nvSpPr>
          <p:spPr>
            <a:xfrm>
              <a:off x="4093560" y="3409920"/>
              <a:ext cx="972720" cy="12733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88160" y="3258000"/>
              <a:ext cx="978480" cy="1581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724560" y="4683240"/>
              <a:ext cx="363240" cy="4838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567240" y="516168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438280" y="2421000"/>
              <a:ext cx="4147920" cy="988560"/>
            </a:xfrm>
            <a:custGeom>
              <a:avLst/>
              <a:gdLst/>
              <a:ahLst/>
              <a:rect l="l" t="t" r="r" b="b"/>
              <a:pathLst>
                <a:path w="4782" h="1140">
                  <a:moveTo>
                    <a:pt x="1902" y="1140"/>
                  </a:moveTo>
                  <a:lnTo>
                    <a:pt x="0" y="1140"/>
                  </a:lnTo>
                  <a:lnTo>
                    <a:pt x="0" y="0"/>
                  </a:lnTo>
                  <a:lnTo>
                    <a:pt x="4782" y="0"/>
                  </a:lnTo>
                  <a:lnTo>
                    <a:pt x="4782" y="11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 flipH="1">
              <a:off x="4895640" y="2874240"/>
              <a:ext cx="169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3698280" y="1964160"/>
              <a:ext cx="624240" cy="89964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269960" y="2639880"/>
              <a:ext cx="0" cy="223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H="1" flipV="1">
              <a:off x="4223160" y="2691720"/>
              <a:ext cx="672120" cy="18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6545160" y="2832120"/>
              <a:ext cx="77400" cy="784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6545160" y="3316320"/>
              <a:ext cx="7740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6586200" y="4714920"/>
              <a:ext cx="0" cy="44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425640" y="5167440"/>
              <a:ext cx="338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549840" y="467856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6419880" y="3867480"/>
              <a:ext cx="66636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656160" y="1948320"/>
              <a:ext cx="78480" cy="7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740400" y="1828800"/>
              <a:ext cx="6660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20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20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6" name=""/>
          <p:cNvGrpSpPr/>
          <p:nvPr/>
        </p:nvGrpSpPr>
        <p:grpSpPr>
          <a:xfrm>
            <a:off x="1828800" y="5570640"/>
            <a:ext cx="5943600" cy="906480"/>
            <a:chOff x="1828800" y="5570640"/>
            <a:chExt cx="5943600" cy="906480"/>
          </a:xfrm>
        </p:grpSpPr>
        <p:sp>
          <p:nvSpPr>
            <p:cNvPr id="697" name=""/>
            <p:cNvSpPr/>
            <p:nvPr/>
          </p:nvSpPr>
          <p:spPr>
            <a:xfrm>
              <a:off x="2272680" y="5820120"/>
              <a:ext cx="5189040" cy="353880"/>
            </a:xfrm>
            <a:custGeom>
              <a:avLst/>
              <a:gdLst/>
              <a:ahLst/>
              <a:rect l="l" t="t" r="r" b="b"/>
              <a:pathLst>
                <a:path w="8172" h="558">
                  <a:moveTo>
                    <a:pt x="0" y="558"/>
                  </a:moveTo>
                  <a:lnTo>
                    <a:pt x="552" y="558"/>
                  </a:lnTo>
                  <a:lnTo>
                    <a:pt x="552" y="0"/>
                  </a:lnTo>
                  <a:lnTo>
                    <a:pt x="1110" y="0"/>
                  </a:lnTo>
                  <a:lnTo>
                    <a:pt x="1110" y="558"/>
                  </a:lnTo>
                  <a:lnTo>
                    <a:pt x="1680" y="558"/>
                  </a:lnTo>
                  <a:lnTo>
                    <a:pt x="1680" y="0"/>
                  </a:lnTo>
                  <a:lnTo>
                    <a:pt x="2232" y="0"/>
                  </a:lnTo>
                  <a:lnTo>
                    <a:pt x="2232" y="558"/>
                  </a:lnTo>
                  <a:lnTo>
                    <a:pt x="2802" y="558"/>
                  </a:lnTo>
                  <a:lnTo>
                    <a:pt x="2802" y="0"/>
                  </a:lnTo>
                  <a:lnTo>
                    <a:pt x="3360" y="0"/>
                  </a:lnTo>
                  <a:lnTo>
                    <a:pt x="3360" y="558"/>
                  </a:lnTo>
                  <a:lnTo>
                    <a:pt x="3930" y="558"/>
                  </a:lnTo>
                  <a:lnTo>
                    <a:pt x="3930" y="0"/>
                  </a:lnTo>
                  <a:lnTo>
                    <a:pt x="4500" y="0"/>
                  </a:lnTo>
                  <a:lnTo>
                    <a:pt x="4500" y="558"/>
                  </a:lnTo>
                  <a:lnTo>
                    <a:pt x="5052" y="558"/>
                  </a:lnTo>
                  <a:lnTo>
                    <a:pt x="5052" y="0"/>
                  </a:lnTo>
                  <a:lnTo>
                    <a:pt x="5622" y="0"/>
                  </a:lnTo>
                  <a:lnTo>
                    <a:pt x="5622" y="558"/>
                  </a:lnTo>
                  <a:lnTo>
                    <a:pt x="6192" y="558"/>
                  </a:lnTo>
                  <a:lnTo>
                    <a:pt x="6192" y="0"/>
                  </a:lnTo>
                  <a:lnTo>
                    <a:pt x="6762" y="0"/>
                  </a:lnTo>
                  <a:lnTo>
                    <a:pt x="6762" y="558"/>
                  </a:lnTo>
                  <a:lnTo>
                    <a:pt x="7320" y="558"/>
                  </a:lnTo>
                  <a:lnTo>
                    <a:pt x="7320" y="0"/>
                  </a:lnTo>
                  <a:lnTo>
                    <a:pt x="7890" y="0"/>
                  </a:lnTo>
                  <a:lnTo>
                    <a:pt x="7890" y="558"/>
                  </a:lnTo>
                  <a:lnTo>
                    <a:pt x="8172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 flipV="1">
              <a:off x="2121480" y="5701680"/>
              <a:ext cx="0" cy="582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2038320" y="6233400"/>
              <a:ext cx="573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103120" y="616464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2103120" y="5829480"/>
              <a:ext cx="3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444800" y="618012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828800" y="5570640"/>
              <a:ext cx="29700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ене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5" name=""/>
          <p:cNvGrpSpPr/>
          <p:nvPr/>
        </p:nvGrpSpPr>
        <p:grpSpPr>
          <a:xfrm>
            <a:off x="914400" y="2362320"/>
            <a:ext cx="3803400" cy="2449440"/>
            <a:chOff x="914400" y="2362320"/>
            <a:chExt cx="3803400" cy="2449440"/>
          </a:xfrm>
        </p:grpSpPr>
        <p:sp>
          <p:nvSpPr>
            <p:cNvPr id="706" name=""/>
            <p:cNvSpPr/>
            <p:nvPr/>
          </p:nvSpPr>
          <p:spPr>
            <a:xfrm>
              <a:off x="2526480" y="3520440"/>
              <a:ext cx="712800" cy="933120"/>
            </a:xfrm>
            <a:custGeom>
              <a:avLst/>
              <a:gdLst/>
              <a:ahLst/>
              <a:rect l="l" t="t" r="r" b="b"/>
              <a:pathLst>
                <a:path w="1122" h="1470">
                  <a:moveTo>
                    <a:pt x="0" y="0"/>
                  </a:moveTo>
                  <a:cubicBezTo>
                    <a:pt x="561" y="59"/>
                    <a:pt x="1122" y="118"/>
                    <a:pt x="1122" y="180"/>
                  </a:cubicBezTo>
                  <a:cubicBezTo>
                    <a:pt x="1122" y="242"/>
                    <a:pt x="0" y="310"/>
                    <a:pt x="0" y="372"/>
                  </a:cubicBezTo>
                  <a:cubicBezTo>
                    <a:pt x="0" y="434"/>
                    <a:pt x="1122" y="492"/>
                    <a:pt x="1122" y="552"/>
                  </a:cubicBezTo>
                  <a:cubicBezTo>
                    <a:pt x="1122" y="612"/>
                    <a:pt x="0" y="669"/>
                    <a:pt x="0" y="732"/>
                  </a:cubicBezTo>
                  <a:cubicBezTo>
                    <a:pt x="0" y="795"/>
                    <a:pt x="1122" y="867"/>
                    <a:pt x="1122" y="930"/>
                  </a:cubicBezTo>
                  <a:cubicBezTo>
                    <a:pt x="1122" y="993"/>
                    <a:pt x="0" y="1048"/>
                    <a:pt x="0" y="1110"/>
                  </a:cubicBezTo>
                  <a:cubicBezTo>
                    <a:pt x="0" y="1172"/>
                    <a:pt x="1122" y="1242"/>
                    <a:pt x="1122" y="1302"/>
                  </a:cubicBezTo>
                  <a:cubicBezTo>
                    <a:pt x="1122" y="1362"/>
                    <a:pt x="561" y="1416"/>
                    <a:pt x="0" y="147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2522520" y="3409920"/>
              <a:ext cx="716400" cy="1158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255760" y="4453560"/>
              <a:ext cx="266760" cy="354240"/>
            </a:xfrm>
            <a:custGeom>
              <a:avLst/>
              <a:gdLst/>
              <a:ahLst/>
              <a:rect l="l" t="t" r="r" b="b"/>
              <a:pathLst>
                <a:path w="420" h="558">
                  <a:moveTo>
                    <a:pt x="420" y="0"/>
                  </a:moveTo>
                  <a:lnTo>
                    <a:pt x="0" y="0"/>
                  </a:lnTo>
                  <a:lnTo>
                    <a:pt x="0" y="55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2141640" y="4804200"/>
              <a:ext cx="247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3113280" y="3128040"/>
              <a:ext cx="123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2236680" y="2461320"/>
              <a:ext cx="457200" cy="658800"/>
            </a:xfrm>
            <a:custGeom>
              <a:avLst/>
              <a:gdLst/>
              <a:ahLst/>
              <a:rect l="l" t="t" r="r" b="b"/>
              <a:pathLst>
                <a:path w="720" h="1038">
                  <a:moveTo>
                    <a:pt x="720" y="1038"/>
                  </a:moveTo>
                  <a:lnTo>
                    <a:pt x="0" y="1038"/>
                  </a:lnTo>
                  <a:lnTo>
                    <a:pt x="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2656080" y="2956320"/>
              <a:ext cx="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2621520" y="2994480"/>
              <a:ext cx="491400" cy="133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352400" y="447660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4234320" y="48081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4325760" y="44499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4230360" y="3855600"/>
              <a:ext cx="48744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ы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2206440" y="24498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2198520" y="2362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пит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3106080" y="3131640"/>
              <a:ext cx="1245960" cy="350280"/>
            </a:xfrm>
            <a:custGeom>
              <a:avLst/>
              <a:gdLst/>
              <a:ahLst/>
              <a:rect l="l" t="t" r="r" b="b"/>
              <a:pathLst>
                <a:path w="1962" h="552">
                  <a:moveTo>
                    <a:pt x="0" y="0"/>
                  </a:moveTo>
                  <a:lnTo>
                    <a:pt x="1962" y="0"/>
                  </a:lnTo>
                  <a:lnTo>
                    <a:pt x="1962" y="55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4321800" y="345168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 flipH="1">
              <a:off x="1055160" y="3520440"/>
              <a:ext cx="146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036080" y="4480560"/>
              <a:ext cx="0" cy="32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918000" y="4811760"/>
              <a:ext cx="24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009440" y="4453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14400" y="3901320"/>
              <a:ext cx="48780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ru-RU" sz="1200" spc="-1" strike="noStrike">
                  <a:solidFill>
                    <a:srgbClr val="000000"/>
                  </a:solidFill>
                  <a:latin typeface="Times New Roman"/>
                </a:rPr>
                <a:t>U</a:t>
              </a:r>
              <a:r>
                <a:rPr b="0" i="1" lang="ru-RU" sz="1200" spc="-1" strike="noStrike" baseline="-25000">
                  <a:solidFill>
                    <a:srgbClr val="000000"/>
                  </a:solidFill>
                  <a:latin typeface="Times New Roman"/>
                </a:rPr>
                <a:t>вх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05840" y="349740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8" name=""/>
          <p:cNvGrpSpPr/>
          <p:nvPr/>
        </p:nvGrpSpPr>
        <p:grpSpPr>
          <a:xfrm>
            <a:off x="5791320" y="2819520"/>
            <a:ext cx="2057400" cy="1752480"/>
            <a:chOff x="5791320" y="2819520"/>
            <a:chExt cx="2057400" cy="1752480"/>
          </a:xfrm>
        </p:grpSpPr>
        <p:sp>
          <p:nvSpPr>
            <p:cNvPr id="729" name=""/>
            <p:cNvSpPr/>
            <p:nvPr/>
          </p:nvSpPr>
          <p:spPr>
            <a:xfrm>
              <a:off x="6364440" y="2819520"/>
              <a:ext cx="788760" cy="116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791320" y="3403800"/>
              <a:ext cx="2057400" cy="1168200"/>
            </a:xfrm>
            <a:custGeom>
              <a:avLst/>
              <a:gdLst/>
              <a:ahLst/>
              <a:rect l="l" t="t" r="r" b="b"/>
              <a:pathLst>
                <a:path w="1830" h="960">
                  <a:moveTo>
                    <a:pt x="1218" y="0"/>
                  </a:moveTo>
                  <a:lnTo>
                    <a:pt x="1830" y="0"/>
                  </a:lnTo>
                  <a:lnTo>
                    <a:pt x="1830" y="960"/>
                  </a:lnTo>
                  <a:lnTo>
                    <a:pt x="0" y="960"/>
                  </a:lnTo>
                  <a:lnTo>
                    <a:pt x="0" y="12"/>
                  </a:lnTo>
                  <a:lnTo>
                    <a:pt x="510" y="12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7079400" y="3330360"/>
              <a:ext cx="141480" cy="153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3" name=""/>
          <p:cNvGrpSpPr/>
          <p:nvPr/>
        </p:nvGrpSpPr>
        <p:grpSpPr>
          <a:xfrm>
            <a:off x="1523880" y="1973160"/>
            <a:ext cx="5846760" cy="1455840"/>
            <a:chOff x="1523880" y="1973160"/>
            <a:chExt cx="5846760" cy="1455840"/>
          </a:xfrm>
        </p:grpSpPr>
        <p:sp>
          <p:nvSpPr>
            <p:cNvPr id="734" name=""/>
            <p:cNvSpPr/>
            <p:nvPr/>
          </p:nvSpPr>
          <p:spPr>
            <a:xfrm>
              <a:off x="1923840" y="241128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175120" y="241128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2175120" y="245700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923840" y="24609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916280" y="3112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1360" y="3231000"/>
              <a:ext cx="30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28720" y="323856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2583000" y="319284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746800" y="1973160"/>
              <a:ext cx="375120" cy="25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rot="5400000">
              <a:off x="1918080" y="31910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632320" y="210276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706760" y="221688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352680" y="2418840"/>
              <a:ext cx="708480" cy="983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3603960" y="241884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3603960" y="246456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3352680" y="246852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3345120" y="312048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057560" y="3246120"/>
              <a:ext cx="67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011840" y="32004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175640" y="198072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5400000">
              <a:off x="3347280" y="319464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061520" y="21103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3135600" y="22248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37240" y="32004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4366080" y="32155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4743360" y="242280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4995000" y="242280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5000" y="246852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743360" y="24724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4735800" y="312408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5448240" y="3250080"/>
              <a:ext cx="739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5402520" y="320400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566320" y="198468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 rot="5400000">
              <a:off x="4737600" y="3202560"/>
              <a:ext cx="87480" cy="7524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452200" y="211392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526280" y="2228400"/>
              <a:ext cx="126108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6172200" y="2430360"/>
              <a:ext cx="708480" cy="983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6423840" y="2430360"/>
              <a:ext cx="0" cy="99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6423840" y="2476080"/>
              <a:ext cx="3884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6172200" y="248004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6164640" y="3132000"/>
              <a:ext cx="28584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6877440" y="3257640"/>
              <a:ext cx="346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6831360" y="3211920"/>
              <a:ext cx="91440" cy="91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6995520" y="1992240"/>
              <a:ext cx="37512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rot="5400000">
              <a:off x="6166800" y="3206160"/>
              <a:ext cx="87480" cy="756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6881040" y="2121480"/>
              <a:ext cx="171360" cy="483840"/>
            </a:xfrm>
            <a:custGeom>
              <a:avLst/>
              <a:gdLst/>
              <a:ahLst/>
              <a:rect l="l" t="t" r="r" b="b"/>
              <a:pathLst>
                <a:path w="270" h="762">
                  <a:moveTo>
                    <a:pt x="0" y="762"/>
                  </a:moveTo>
                  <a:lnTo>
                    <a:pt x="270" y="762"/>
                  </a:lnTo>
                  <a:lnTo>
                    <a:pt x="2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5955120" y="2235960"/>
              <a:ext cx="1268640" cy="1017360"/>
            </a:xfrm>
            <a:custGeom>
              <a:avLst/>
              <a:gdLst/>
              <a:ahLst/>
              <a:rect l="l" t="t" r="r" b="b"/>
              <a:pathLst>
                <a:path w="2058" h="1602">
                  <a:moveTo>
                    <a:pt x="2058" y="1602"/>
                  </a:moveTo>
                  <a:lnTo>
                    <a:pt x="2058" y="0"/>
                  </a:lnTo>
                  <a:lnTo>
                    <a:pt x="0" y="0"/>
                  </a:lnTo>
                  <a:lnTo>
                    <a:pt x="0" y="570"/>
                  </a:lnTo>
                  <a:lnTo>
                    <a:pt x="348" y="57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5757120" y="32119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1523880" y="3013560"/>
              <a:ext cx="2854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3" name=""/>
          <p:cNvGrpSpPr/>
          <p:nvPr/>
        </p:nvGrpSpPr>
        <p:grpSpPr>
          <a:xfrm>
            <a:off x="1295280" y="3970440"/>
            <a:ext cx="6349680" cy="1668240"/>
            <a:chOff x="1295280" y="3970440"/>
            <a:chExt cx="6349680" cy="1668240"/>
          </a:xfrm>
        </p:grpSpPr>
        <p:sp>
          <p:nvSpPr>
            <p:cNvPr id="784" name=""/>
            <p:cNvSpPr/>
            <p:nvPr/>
          </p:nvSpPr>
          <p:spPr>
            <a:xfrm flipH="1">
              <a:off x="159048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 flipH="1">
              <a:off x="197748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flipH="1">
              <a:off x="236844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 flipH="1">
              <a:off x="275976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 flipH="1">
              <a:off x="31507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 flipH="1">
              <a:off x="35373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 flipH="1">
              <a:off x="392868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432396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>
              <a:off x="47088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5101920" y="408096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5492880" y="408600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 flipH="1">
              <a:off x="5884200" y="408312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flipH="1">
              <a:off x="6279120" y="4087080"/>
              <a:ext cx="382680" cy="12276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 flipH="1">
              <a:off x="666216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 flipH="1">
              <a:off x="7057440" y="4084560"/>
              <a:ext cx="382680" cy="1231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1778400" y="44312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560680" y="4434840"/>
              <a:ext cx="76932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3338640" y="443484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124880" y="44319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90716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8512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6467400" y="4435560"/>
              <a:ext cx="769680" cy="117720"/>
            </a:xfrm>
            <a:custGeom>
              <a:avLst/>
              <a:gdLst/>
              <a:ahLst/>
              <a:rect l="l" t="t" r="r" b="b"/>
              <a:pathLst>
                <a:path w="1272" h="288">
                  <a:moveTo>
                    <a:pt x="0" y="288"/>
                  </a:moveTo>
                  <a:lnTo>
                    <a:pt x="0" y="0"/>
                  </a:lnTo>
                  <a:lnTo>
                    <a:pt x="642" y="0"/>
                  </a:lnTo>
                  <a:lnTo>
                    <a:pt x="642" y="288"/>
                  </a:lnTo>
                  <a:lnTo>
                    <a:pt x="1272" y="28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1574640" y="4548600"/>
              <a:ext cx="195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1578600" y="515880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1980" y="180"/>
                  </a:lnTo>
                  <a:lnTo>
                    <a:pt x="1980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6480" y="180"/>
                  </a:lnTo>
                  <a:lnTo>
                    <a:pt x="648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578600" y="5509440"/>
              <a:ext cx="6061680" cy="114120"/>
            </a:xfrm>
            <a:custGeom>
              <a:avLst/>
              <a:gdLst/>
              <a:ahLst/>
              <a:rect l="l" t="t" r="r" b="b"/>
              <a:pathLst>
                <a:path w="8742" h="180">
                  <a:moveTo>
                    <a:pt x="0" y="180"/>
                  </a:moveTo>
                  <a:lnTo>
                    <a:pt x="4230" y="180"/>
                  </a:lnTo>
                  <a:lnTo>
                    <a:pt x="4230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1578600" y="4785480"/>
              <a:ext cx="6061680" cy="125640"/>
            </a:xfrm>
            <a:custGeom>
              <a:avLst/>
              <a:gdLst/>
              <a:ahLst/>
              <a:rect l="l" t="t" r="r" b="b"/>
              <a:pathLst>
                <a:path w="8742" h="198">
                  <a:moveTo>
                    <a:pt x="0" y="180"/>
                  </a:moveTo>
                  <a:lnTo>
                    <a:pt x="852" y="180"/>
                  </a:lnTo>
                  <a:lnTo>
                    <a:pt x="852" y="0"/>
                  </a:lnTo>
                  <a:lnTo>
                    <a:pt x="1980" y="0"/>
                  </a:lnTo>
                  <a:lnTo>
                    <a:pt x="1980" y="180"/>
                  </a:lnTo>
                  <a:lnTo>
                    <a:pt x="3102" y="180"/>
                  </a:lnTo>
                  <a:lnTo>
                    <a:pt x="3102" y="0"/>
                  </a:lnTo>
                  <a:lnTo>
                    <a:pt x="4230" y="0"/>
                  </a:lnTo>
                  <a:lnTo>
                    <a:pt x="4230" y="180"/>
                  </a:lnTo>
                  <a:lnTo>
                    <a:pt x="5352" y="180"/>
                  </a:lnTo>
                  <a:lnTo>
                    <a:pt x="5352" y="0"/>
                  </a:lnTo>
                  <a:lnTo>
                    <a:pt x="6480" y="0"/>
                  </a:lnTo>
                  <a:lnTo>
                    <a:pt x="6480" y="198"/>
                  </a:lnTo>
                  <a:lnTo>
                    <a:pt x="7602" y="198"/>
                  </a:lnTo>
                  <a:lnTo>
                    <a:pt x="7602" y="0"/>
                  </a:lnTo>
                  <a:lnTo>
                    <a:pt x="8742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245360" y="4434840"/>
              <a:ext cx="394920" cy="114120"/>
            </a:xfrm>
            <a:custGeom>
              <a:avLst/>
              <a:gdLst/>
              <a:ahLst/>
              <a:rect l="l" t="t" r="r" b="b"/>
              <a:pathLst>
                <a:path w="570" h="180">
                  <a:moveTo>
                    <a:pt x="0" y="180"/>
                  </a:moveTo>
                  <a:lnTo>
                    <a:pt x="0" y="0"/>
                  </a:lnTo>
                  <a:lnTo>
                    <a:pt x="57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7449840" y="4210200"/>
              <a:ext cx="195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322280" y="3970440"/>
              <a:ext cx="31176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1297080" y="43092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295280" y="466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1309680" y="503316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295280" y="5387400"/>
              <a:ext cx="409680" cy="2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четчи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524400" y="2289240"/>
            <a:ext cx="2257200" cy="2928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233960" y="2390760"/>
            <a:ext cx="12175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211640" y="2298600"/>
            <a:ext cx="0" cy="294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5065560" y="2317680"/>
            <a:ext cx="0" cy="2940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3664080" y="2411280"/>
            <a:ext cx="10890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673440" y="4626000"/>
            <a:ext cx="109080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5195880" y="2381400"/>
            <a:ext cx="1089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5234040" y="3660840"/>
            <a:ext cx="109044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084640" y="2739960"/>
            <a:ext cx="698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89548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925720" y="4844880"/>
            <a:ext cx="617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5781600" y="261288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5781600" y="3871800"/>
            <a:ext cx="61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118040" y="247644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1441440" y="27464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110120" y="4268880"/>
            <a:ext cx="9507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465280" y="5243400"/>
            <a:ext cx="122400" cy="1224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62160" y="405612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1254240" y="2257560"/>
            <a:ext cx="8460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516720" y="3355920"/>
            <a:ext cx="952560" cy="1293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477200" y="3984480"/>
            <a:ext cx="65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5060880" y="31114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5060880" y="4430880"/>
            <a:ext cx="1447920" cy="512640"/>
          </a:xfrm>
          <a:custGeom>
            <a:avLst/>
            <a:gdLst/>
            <a:ahLst/>
            <a:rect l="l" t="t" r="r" b="b"/>
            <a:pathLst>
              <a:path w="1068" h="330">
                <a:moveTo>
                  <a:pt x="0" y="0"/>
                </a:moveTo>
                <a:lnTo>
                  <a:pt x="498" y="0"/>
                </a:lnTo>
                <a:lnTo>
                  <a:pt x="498" y="330"/>
                </a:lnTo>
                <a:lnTo>
                  <a:pt x="1068" y="33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7688160" y="3462480"/>
            <a:ext cx="8463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40040" y="2892600"/>
            <a:ext cx="952560" cy="1293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3800520" y="3519360"/>
            <a:ext cx="333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727440" y="3462480"/>
            <a:ext cx="122400" cy="1220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960" bIns="39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1441440" y="452772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1457280" y="5300640"/>
            <a:ext cx="2676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2522520" y="3519360"/>
            <a:ext cx="325440" cy="178920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285920" y="4829040"/>
            <a:ext cx="846000" cy="5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ультиплекс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3033720" y="1909800"/>
            <a:ext cx="2876400" cy="4483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4138560" y="1944720"/>
            <a:ext cx="13701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M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140440" y="1941480"/>
            <a:ext cx="0" cy="4459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3795840" y="1917720"/>
            <a:ext cx="0" cy="4467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3068640" y="1952640"/>
            <a:ext cx="89856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3073320" y="229068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3141720" y="5664240"/>
            <a:ext cx="8985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240160" y="1903320"/>
            <a:ext cx="90036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272200" y="2959200"/>
            <a:ext cx="900000" cy="58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187960" y="2278080"/>
            <a:ext cx="57636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53044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51460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522520" y="59119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910120" y="216072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5910120" y="319896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3084480" y="299736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068640" y="3532320"/>
            <a:ext cx="89856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073320" y="3871800"/>
            <a:ext cx="5778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522520" y="374184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514600" y="4780080"/>
            <a:ext cx="511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084480" y="4578480"/>
            <a:ext cx="900000" cy="58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842000" y="2300400"/>
            <a:ext cx="10508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882800" y="2598840"/>
            <a:ext cx="295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832280" y="4280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016080" y="53578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676520" y="205740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37480" y="2398680"/>
            <a:ext cx="934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429000" y="2759040"/>
            <a:ext cx="1052640" cy="14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4491000" y="3452760"/>
            <a:ext cx="36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4410000" y="3387600"/>
            <a:ext cx="135000" cy="135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901880" y="5421240"/>
            <a:ext cx="2957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3079800" y="3451320"/>
            <a:ext cx="358560" cy="1977840"/>
          </a:xfrm>
          <a:custGeom>
            <a:avLst/>
            <a:gdLst/>
            <a:ahLst/>
            <a:rect l="l" t="t" r="r" b="b"/>
            <a:pathLst>
              <a:path w="240" h="1290">
                <a:moveTo>
                  <a:pt x="0" y="1290"/>
                </a:moveTo>
                <a:lnTo>
                  <a:pt x="0" y="0"/>
                </a:lnTo>
                <a:lnTo>
                  <a:pt x="240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1712880" y="4898880"/>
            <a:ext cx="9349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5884920" y="297504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5884920" y="4971960"/>
            <a:ext cx="155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6800760" y="4405320"/>
            <a:ext cx="93528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2674800" y="2597040"/>
            <a:ext cx="2157480" cy="1978200"/>
          </a:xfrm>
          <a:custGeom>
            <a:avLst/>
            <a:gdLst/>
            <a:ahLst/>
            <a:rect l="l" t="t" r="r" b="b"/>
            <a:pathLst>
              <a:path w="1440" h="1320">
                <a:moveTo>
                  <a:pt x="0" y="0"/>
                </a:moveTo>
                <a:lnTo>
                  <a:pt x="0" y="1320"/>
                </a:lnTo>
                <a:lnTo>
                  <a:pt x="1440" y="132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2611440" y="2533680"/>
            <a:ext cx="135000" cy="13500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мультиплексор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059280" y="1838160"/>
            <a:ext cx="3020760" cy="470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213080" y="1881360"/>
            <a:ext cx="143856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272200" y="1871640"/>
            <a:ext cx="0" cy="46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859200" y="1846440"/>
            <a:ext cx="0" cy="468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3048120" y="18892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3102120" y="2238480"/>
            <a:ext cx="60624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3124080" y="5788080"/>
            <a:ext cx="9464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5364000" y="18288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5372280" y="293688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5321160" y="2224080"/>
            <a:ext cx="6066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2514600" y="210168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2514600" y="319104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2522520" y="60404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080040" y="210168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080040" y="3191040"/>
            <a:ext cx="536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065400" y="298764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5364000" y="3522600"/>
            <a:ext cx="9446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322960" y="3879720"/>
            <a:ext cx="60624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097680" y="376092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089760" y="4851360"/>
            <a:ext cx="53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380200" y="4621320"/>
            <a:ext cx="94428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2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017960" y="2363760"/>
            <a:ext cx="858960" cy="5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4" name=""/>
          <p:cNvGrpSpPr/>
          <p:nvPr/>
        </p:nvGrpSpPr>
        <p:grpSpPr>
          <a:xfrm>
            <a:off x="838080" y="2057400"/>
            <a:ext cx="4023000" cy="3346560"/>
            <a:chOff x="838080" y="2057400"/>
            <a:chExt cx="4023000" cy="3346560"/>
          </a:xfrm>
        </p:grpSpPr>
        <p:sp>
          <p:nvSpPr>
            <p:cNvPr id="915" name=""/>
            <p:cNvSpPr/>
            <p:nvPr/>
          </p:nvSpPr>
          <p:spPr>
            <a:xfrm>
              <a:off x="846000" y="3849840"/>
              <a:ext cx="858960" cy="59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540160" y="2271600"/>
              <a:ext cx="965160" cy="1314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1085760" y="254628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532240" y="4091040"/>
              <a:ext cx="965160" cy="1312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1763640" y="5079960"/>
              <a:ext cx="123840" cy="123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838080" y="205740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1085760" y="4352760"/>
              <a:ext cx="145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1077840" y="5138640"/>
              <a:ext cx="147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1828800" y="3328920"/>
              <a:ext cx="685800" cy="1792440"/>
            </a:xfrm>
            <a:custGeom>
              <a:avLst/>
              <a:gdLst/>
              <a:ahLst/>
              <a:rect l="l" t="t" r="r" b="b"/>
              <a:pathLst>
                <a:path w="240" h="1290">
                  <a:moveTo>
                    <a:pt x="0" y="1290"/>
                  </a:moveTo>
                  <a:lnTo>
                    <a:pt x="0" y="0"/>
                  </a:lnTo>
                  <a:lnTo>
                    <a:pt x="2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871560" y="463392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3497400" y="467532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3497400" y="2924280"/>
              <a:ext cx="1056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4002120" y="4138560"/>
              <a:ext cx="858960" cy="59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8" name=""/>
          <p:cNvGrpSpPr/>
          <p:nvPr/>
        </p:nvGrpSpPr>
        <p:grpSpPr>
          <a:xfrm>
            <a:off x="4952880" y="2444760"/>
            <a:ext cx="3657600" cy="3092400"/>
            <a:chOff x="4952880" y="2444760"/>
            <a:chExt cx="3657600" cy="3092400"/>
          </a:xfrm>
        </p:grpSpPr>
        <p:sp>
          <p:nvSpPr>
            <p:cNvPr id="929" name=""/>
            <p:cNvSpPr/>
            <p:nvPr/>
          </p:nvSpPr>
          <p:spPr>
            <a:xfrm>
              <a:off x="5608800" y="2444760"/>
              <a:ext cx="2355840" cy="305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51560" y="2523960"/>
              <a:ext cx="10969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C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6326280" y="2454120"/>
              <a:ext cx="0" cy="307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7216920" y="2475000"/>
              <a:ext cx="0" cy="306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5715000" y="2544840"/>
              <a:ext cx="1136520" cy="73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5724360" y="3906720"/>
              <a:ext cx="11383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D9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5638680" y="2946240"/>
              <a:ext cx="730440" cy="103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405560" y="2514600"/>
              <a:ext cx="113688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445520" y="3848040"/>
              <a:ext cx="1137960" cy="73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7237440" y="2914560"/>
              <a:ext cx="728640" cy="10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952880" y="278280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952880" y="4092480"/>
              <a:ext cx="64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7964640" y="278280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7964640" y="4092480"/>
              <a:ext cx="64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ешифр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990720" y="2660760"/>
            <a:ext cx="3333600" cy="2673360"/>
            <a:chOff x="990720" y="2660760"/>
            <a:chExt cx="3333600" cy="2673360"/>
          </a:xfrm>
        </p:grpSpPr>
        <p:sp>
          <p:nvSpPr>
            <p:cNvPr id="945" name=""/>
            <p:cNvSpPr/>
            <p:nvPr/>
          </p:nvSpPr>
          <p:spPr>
            <a:xfrm>
              <a:off x="2335680" y="3470400"/>
              <a:ext cx="914400" cy="335160"/>
            </a:xfrm>
            <a:custGeom>
              <a:avLst/>
              <a:gdLst/>
              <a:ahLst/>
              <a:rect l="l" t="t" r="r" b="b"/>
              <a:pathLst>
                <a:path w="1440" h="528">
                  <a:moveTo>
                    <a:pt x="0" y="0"/>
                  </a:moveTo>
                  <a:lnTo>
                    <a:pt x="558" y="0"/>
                  </a:lnTo>
                  <a:lnTo>
                    <a:pt x="558" y="528"/>
                  </a:lnTo>
                  <a:lnTo>
                    <a:pt x="1440" y="52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346840" y="3165480"/>
              <a:ext cx="914400" cy="1345320"/>
            </a:xfrm>
            <a:custGeom>
              <a:avLst/>
              <a:gdLst/>
              <a:ahLst/>
              <a:rect l="l" t="t" r="r" b="b"/>
              <a:pathLst>
                <a:path w="1440" h="2118">
                  <a:moveTo>
                    <a:pt x="0" y="2118"/>
                  </a:moveTo>
                  <a:lnTo>
                    <a:pt x="900" y="2118"/>
                  </a:lnTo>
                  <a:lnTo>
                    <a:pt x="900" y="0"/>
                  </a:lnTo>
                  <a:lnTo>
                    <a:pt x="1440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990720" y="270432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3928320" y="26892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688200" y="398124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3699360" y="294840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920400" y="37335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3261240" y="266076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3257640" y="36914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703320" y="5017680"/>
              <a:ext cx="487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265200" y="472824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&amp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3920400" y="477396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Q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1893600" y="42138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309040" y="44805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893600" y="3173400"/>
              <a:ext cx="445680" cy="605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309040" y="3440160"/>
              <a:ext cx="56880" cy="568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1089720" y="2948400"/>
              <a:ext cx="148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575440" y="2776680"/>
              <a:ext cx="685440" cy="2057760"/>
            </a:xfrm>
            <a:custGeom>
              <a:avLst/>
              <a:gdLst/>
              <a:ahLst/>
              <a:rect l="l" t="t" r="r" b="b"/>
              <a:pathLst>
                <a:path w="1080" h="3240">
                  <a:moveTo>
                    <a:pt x="1080" y="0"/>
                  </a:moveTo>
                  <a:lnTo>
                    <a:pt x="0" y="0"/>
                  </a:lnTo>
                  <a:lnTo>
                    <a:pt x="0" y="3240"/>
                  </a:lnTo>
                  <a:lnTo>
                    <a:pt x="1080" y="324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545200" y="29217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1661040" y="294840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630800" y="292932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661040" y="3977280"/>
              <a:ext cx="228240" cy="514440"/>
            </a:xfrm>
            <a:custGeom>
              <a:avLst/>
              <a:gdLst/>
              <a:ahLst/>
              <a:rect l="l" t="t" r="r" b="b"/>
              <a:pathLst>
                <a:path w="360" h="810">
                  <a:moveTo>
                    <a:pt x="0" y="0"/>
                  </a:moveTo>
                  <a:lnTo>
                    <a:pt x="0" y="810"/>
                  </a:lnTo>
                  <a:lnTo>
                    <a:pt x="360" y="81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630800" y="395820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089720" y="3988800"/>
              <a:ext cx="2171520" cy="1238400"/>
            </a:xfrm>
            <a:custGeom>
              <a:avLst/>
              <a:gdLst/>
              <a:ahLst/>
              <a:rect l="l" t="t" r="r" b="b"/>
              <a:pathLst>
                <a:path w="3420" h="1950">
                  <a:moveTo>
                    <a:pt x="0" y="0"/>
                  </a:moveTo>
                  <a:lnTo>
                    <a:pt x="2700" y="0"/>
                  </a:lnTo>
                  <a:lnTo>
                    <a:pt x="2700" y="1950"/>
                  </a:lnTo>
                  <a:lnTo>
                    <a:pt x="3420" y="195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815560" y="4198320"/>
              <a:ext cx="445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773800" y="4160160"/>
              <a:ext cx="56880" cy="56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005840" y="3729600"/>
              <a:ext cx="3960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r>
                <a:rPr b="0" lang="en-US" sz="12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2" name=""/>
          <p:cNvSpPr/>
          <p:nvPr/>
        </p:nvSpPr>
        <p:spPr>
          <a:xfrm>
            <a:off x="5310360" y="2587680"/>
            <a:ext cx="2103120" cy="2725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5992920" y="2603520"/>
            <a:ext cx="97776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950080" y="259704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745320" y="2614680"/>
            <a:ext cx="0" cy="271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5334120" y="2620800"/>
            <a:ext cx="101592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5343480" y="3838680"/>
            <a:ext cx="101448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5337000" y="303516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6797520" y="2593800"/>
            <a:ext cx="1016280" cy="65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807240" y="3784680"/>
            <a:ext cx="10144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Q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16680" y="3087720"/>
            <a:ext cx="65088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47242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47242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7413480" y="288936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413480" y="406080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7935840" y="273528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Графические обознач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898640" y="2708280"/>
            <a:ext cx="9144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179280" y="220356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79280" y="334476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8080" y="1668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18080" y="28116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929600" y="2117880"/>
            <a:ext cx="909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811440" y="1973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73680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879800" y="2735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930920" y="2133720"/>
            <a:ext cx="99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14560" y="197316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792840" y="1973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238080" y="21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8058240" y="2171880"/>
          <a:ext cx="406440" cy="6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58240" y="217188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7842240" y="263700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3182760" y="221472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82760" y="33559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21560" y="1679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121560" y="282240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57880" y="273204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85880" y="420516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28880" y="4967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63640" y="420516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081160" y="4289400"/>
          <a:ext cx="746280" cy="677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81160" y="4289400"/>
                    <a:ext cx="74628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1852560" y="4890960"/>
            <a:ext cx="152280" cy="152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44480" y="1959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7928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0160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40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040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6860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29040" y="5000760"/>
            <a:ext cx="89532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63800" y="423864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4905360" y="4335480"/>
          <a:ext cx="1154160" cy="677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905360" y="4335480"/>
                    <a:ext cx="115416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4753080" y="4924440"/>
            <a:ext cx="152280" cy="1522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315432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5432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9312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09312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65840" y="423864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908840" y="500076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43600" y="423864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7956720" y="4403880"/>
          <a:ext cx="1187280" cy="609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956720" y="4403880"/>
                    <a:ext cx="118728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 flipV="1">
            <a:off x="6227640" y="4468320"/>
            <a:ext cx="55404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227640" y="5610240"/>
            <a:ext cx="55404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6166440" y="3933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166440" y="5076720"/>
            <a:ext cx="441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дноразрядный полу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7640" y="2590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88360" y="2895480"/>
            <a:ext cx="6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648320" y="21337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9132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438280" y="3505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364480" y="1828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364480" y="29718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25720" y="2133720"/>
            <a:ext cx="55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796000" y="49417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15312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4720" y="441972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36232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648320" y="419112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726080" y="4191120"/>
            <a:ext cx="4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657600" y="2362320"/>
            <a:ext cx="99072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500280"/>
            <a:ext cx="1218960" cy="2057400"/>
          </a:xfrm>
          <a:custGeom>
            <a:avLst/>
            <a:gdLst/>
            <a:ahLst/>
            <a:rect l="l" t="t" r="r" b="b"/>
            <a:pathLst>
              <a:path w="624" h="1344">
                <a:moveTo>
                  <a:pt x="0" y="0"/>
                </a:moveTo>
                <a:lnTo>
                  <a:pt x="0" y="1344"/>
                </a:lnTo>
                <a:lnTo>
                  <a:pt x="624" y="134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2286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352680" y="3429000"/>
            <a:ext cx="152640" cy="152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дноразрядный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лный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9880" y="28954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9528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895480" y="36576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8954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897640" y="31240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897640" y="3733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88000" y="28954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4267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314680" y="2590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336640" y="374796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31240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897640" y="25909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0574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2004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5181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5160" y="3505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45160" y="46483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36240" y="3809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00400" y="5181480"/>
            <a:ext cx="2971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114800" y="2666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2578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2895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202200" y="236232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93640" y="2666880"/>
            <a:ext cx="63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40384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619600" y="2362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4240" y="4114800"/>
            <a:ext cx="67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249960" y="38098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72200" y="3809880"/>
            <a:ext cx="11430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315200" y="464832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воичный суммато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2819520" y="1905120"/>
            <a:ext cx="3382920" cy="4190040"/>
            <a:chOff x="2819520" y="1905120"/>
            <a:chExt cx="3382920" cy="4190040"/>
          </a:xfrm>
        </p:grpSpPr>
        <p:grpSp>
          <p:nvGrpSpPr>
            <p:cNvPr id="161" name=""/>
            <p:cNvGrpSpPr/>
            <p:nvPr/>
          </p:nvGrpSpPr>
          <p:grpSpPr>
            <a:xfrm>
              <a:off x="3505320" y="1905120"/>
              <a:ext cx="1995120" cy="4190040"/>
              <a:chOff x="3505320" y="1905120"/>
              <a:chExt cx="1995120" cy="4190040"/>
            </a:xfrm>
          </p:grpSpPr>
          <p:sp>
            <p:nvSpPr>
              <p:cNvPr id="162" name=""/>
              <p:cNvSpPr/>
              <p:nvPr/>
            </p:nvSpPr>
            <p:spPr>
              <a:xfrm>
                <a:off x="3505320" y="1905120"/>
                <a:ext cx="1995120" cy="418104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054680" y="1905120"/>
                <a:ext cx="2520" cy="416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4986000" y="1925640"/>
                <a:ext cx="2520" cy="416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5" name=""/>
            <p:cNvSpPr/>
            <p:nvPr/>
          </p:nvSpPr>
          <p:spPr>
            <a:xfrm>
              <a:off x="358128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05520" y="19810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581280" y="3581280"/>
              <a:ext cx="457200" cy="14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ru-RU" sz="1800" spc="-1" strike="noStrike" baseline="-25000">
                  <a:solidFill>
                    <a:srgbClr val="000000"/>
                  </a:solidFill>
                  <a:latin typeface="Times New Roman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1952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1952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19520" y="37339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819520" y="480060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516640" y="2133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516640" y="327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81280" y="541008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81952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29200" y="5410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C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00800" y="5562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1981080"/>
              <a:ext cx="5335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S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реализ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124080" y="1981080"/>
            <a:ext cx="2488680" cy="4267080"/>
            <a:chOff x="3124080" y="1981080"/>
            <a:chExt cx="2488680" cy="4267080"/>
          </a:xfrm>
        </p:grpSpPr>
        <p:sp>
          <p:nvSpPr>
            <p:cNvPr id="181" name=""/>
            <p:cNvSpPr/>
            <p:nvPr/>
          </p:nvSpPr>
          <p:spPr>
            <a:xfrm>
              <a:off x="3718800" y="1981080"/>
              <a:ext cx="1293840" cy="1818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124080" y="232452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29840" y="340848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13000" y="23306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129840" y="286380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724560" y="4239360"/>
              <a:ext cx="1293840" cy="1818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138480" y="56678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018760" y="4588920"/>
              <a:ext cx="594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3138480" y="5122440"/>
              <a:ext cx="59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404160" y="3414600"/>
              <a:ext cx="1902600" cy="1174320"/>
            </a:xfrm>
            <a:custGeom>
              <a:avLst/>
              <a:gdLst/>
              <a:ahLst/>
              <a:rect l="l" t="t" r="r" b="b"/>
              <a:pathLst>
                <a:path w="1632" h="1098">
                  <a:moveTo>
                    <a:pt x="1380" y="0"/>
                  </a:moveTo>
                  <a:lnTo>
                    <a:pt x="1632" y="0"/>
                  </a:lnTo>
                  <a:lnTo>
                    <a:pt x="1632" y="558"/>
                  </a:lnTo>
                  <a:lnTo>
                    <a:pt x="0" y="558"/>
                  </a:lnTo>
                  <a:lnTo>
                    <a:pt x="0" y="1098"/>
                  </a:lnTo>
                  <a:lnTo>
                    <a:pt x="270" y="10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13000" y="5667840"/>
              <a:ext cx="299880" cy="580320"/>
            </a:xfrm>
            <a:custGeom>
              <a:avLst/>
              <a:gdLst/>
              <a:ahLst/>
              <a:rect l="l" t="t" r="r" b="b"/>
              <a:pathLst>
                <a:path w="258" h="498">
                  <a:moveTo>
                    <a:pt x="0" y="0"/>
                  </a:moveTo>
                  <a:lnTo>
                    <a:pt x="258" y="0"/>
                  </a:lnTo>
                  <a:lnTo>
                    <a:pt x="258" y="498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2675160" y="2590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75160" y="3124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90080" y="2057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52480" y="2022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675160" y="487692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675160" y="5410080"/>
            <a:ext cx="45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0080" y="4343400"/>
            <a:ext cx="4215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735720" y="198108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735720" y="4191120"/>
            <a:ext cx="69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4T15:56:50Z</dcterms:created>
  <dc:creator>lav</dc:creator>
  <dc:description/>
  <dc:language>en-US</dc:language>
  <cp:lastModifiedBy>Owner</cp:lastModifiedBy>
  <dcterms:modified xsi:type="dcterms:W3CDTF">2008-10-17T06:13:58Z</dcterms:modified>
  <cp:revision>26</cp:revision>
  <dc:subject/>
  <dc:title>Логические схемы</dc:title>
</cp:coreProperties>
</file>