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B9B-B22A-4746-8237-C5CA4524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E8A-7244-4F87-A86F-635B1E7D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1E8-1A83-45B0-B54C-492475ED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0EC-AE87-4F66-8849-38465AF8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B509-DB8B-4905-A4BB-59637E9D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07E-D6C5-4F34-B081-34040F3D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6FA-67E2-42DB-8057-2FDCD884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A88-456B-46BA-AB61-28E332CB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36F-88B9-4200-9A23-5A3167DB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CB5-87D5-4812-9C20-22AE8A3E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D4C-E057-4CAB-A720-8A1A5E36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2F5-0247-44E0-8E58-0C8A6996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C2AF-6801-4CB0-9586-6548474557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Язык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дексируем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 = array(45,12,34,5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1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2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3] = 5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5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ссоциативн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 = array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h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12,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at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3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John"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Kate"] = 3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employer["John"]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мерн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0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1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2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3] = 5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John"]["Salary"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Kate"]["Salary"] = 3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0]="01.02.2004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1]="10.05.2005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2]="06.10.2005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образование тип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Оператор пре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овый 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или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Цел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l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,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и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ещественн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т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Масс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образование тип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real = 4.8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rea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ing = "15$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strin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ing = "$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strin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сваивание по ссыл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1 = 4.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&amp;$number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1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2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3 = 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&amp;$number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1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2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3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 в переме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art = "stop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$start = "NY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op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ar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($start)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+ $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- $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*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/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%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присва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 5; // a=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+= 5; // a=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*= 5; // a=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/= 5; // a=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.= 5; // a=1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инкремента и декреме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=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b = $a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++$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a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b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c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клю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TM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ключение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P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ML-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 echo "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; 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срав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lt;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gt;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lt;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gt;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!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= 12 ? 5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amp;&amp; $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AND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||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OR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XOR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: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: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i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нач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нач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ault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рганизация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while(condi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;$j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анды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$i==5) 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$i==5) contin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икл для обхода масси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each (array as [$key =&gt;] $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 = array("John" =&gt; 12, "Kate" =&gt; 7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each ($employer as $key =&gt; $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employer[$key]."&lt;br/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value."&lt;br/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=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 first($k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BAL $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$j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++$j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$k+$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текстовыми поля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0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ое число: &lt;input type="text" name="num1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е число: &lt;input type="text" name="num2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sset($num1) &amp;&amp; isset($num2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num1+$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переключателя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1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radio" name="num" value="1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radio" name="num" value="2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й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ыбран переключатель 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sset($num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клю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html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&lt;html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ключение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ML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P-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код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htm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флажк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2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checkbo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 name="num[]" value="1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checkbo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 name="num[]" value="2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й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Выбраны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флажки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($num as $value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value."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вторизация пользоват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Авторизация пользователя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orm method="post" action="authorize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Имя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&lt;input type="text" name="user_name"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ль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&lt;input type="password" name="user_pass"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put type="submit" name=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t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айл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uthorize.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se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$user_name) &amp;&amp; isset($user_pass))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($user_name=="admin")&amp;&amp;($user_pass=="kpss"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star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logged_user = $user_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register("logged_use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er("Location: secretplace.ph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&gt;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 ввели неверный пароль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dy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айл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retplace.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star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!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is_registered(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gged_user"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er("Location: index.ph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ствуем Вас &lt;?php echo $logged_user; ?&gt;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ы на секретной странице !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ы работы с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ие сетевого соединения с СУБ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ед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ени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ботка выбранных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ие сетевого соединения с СУБ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крытие сетевого соединения с СУБ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Создаем соединение с Б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conn = OCILogon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ot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g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b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зда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предло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ыбрать все из таблицы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tmt = OCIParse($conn, "select * from perso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полне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Q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mess = @OCIExecute($stm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Обрабатываем исключительные ситу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!$mess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error = OCIError($stm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шибка при выборке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$error[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]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)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выбранных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OCIFetch($stmt)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id = OCIResult($stmt,"ID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a = OCIResult($stmt,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NAM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"$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-&gt;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$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r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6094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рытие сетевого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единения с СУБ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Разрываем соединение с Б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CILogoff($con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ментарии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адаем значения переменных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1 = 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2 = 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одим значение суммы переменных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1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2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на экр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num1 + $num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I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OCIError(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озвращает ошибку в виде ассоциативного массива из четырех элементов.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держит код ошибки Oracle;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троку с текстом ошибки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qltex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трока, содержащая выражение SQL, которое вызвало ошибку, а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указатель на место в выражении, которое вызвало ошиб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вращение значение после добавления запи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889280"/>
            <a:ext cx="8076960" cy="26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ql="INSERT INTO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person,beginDate,endDate,requestDate,allo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'$userID','$beginDate','$endDate','$sysDate',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ing id into :retid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tmt = OCIParse($conn,$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CIBindByName($stmt, ':retid', $retid, 3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mess = OCIExecute($stm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глашение об идентификатора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дентификатор состоит из одного или нескольких символов и начинается с буквы или символа подчерки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идентификаторах учитывается регистр симво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ина идентификаторов не ограничива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дентификатор не может совпадать с ключевым слово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Целое чис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 = 3; $count = 0xFF; $total = 07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ещественные чис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weight  = 5.67; $distance  = 5.67e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1 = "number = $number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2 = 'number = $number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r1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r2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$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2286000"/>
          <a:ext cx="7238880" cy="2895480"/>
        </p:xfrm>
        <a:graphic>
          <a:graphicData uri="http://schemas.openxmlformats.org/drawingml/2006/table">
            <a:tbl>
              <a:tblPr/>
              <a:tblGrid>
                <a:gridCol w="2590560"/>
                <a:gridCol w="464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GLOB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одержит ссылку на каждую переменную, доступную в данный момент в глобальной области видимости сценар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 либо установленные web-сервером, либо напрямую связанные с окружением выполнения текущего скрипт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62120" y="2286000"/>
          <a:ext cx="7238880" cy="3351240"/>
        </p:xfrm>
        <a:graphic>
          <a:graphicData uri="http://schemas.openxmlformats.org/drawingml/2006/table">
            <a:tbl>
              <a:tblPr/>
              <a:tblGrid>
                <a:gridCol w="2590560"/>
                <a:gridCol w="464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GE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P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POS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COOK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cooki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post-загрузку фай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ADD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HO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P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support</cp:lastModifiedBy>
  <dcterms:modified xsi:type="dcterms:W3CDTF">2007-04-17T07:45:43Z</dcterms:modified>
  <cp:revision>110</cp:revision>
  <dc:subject/>
  <dc:title>Язык структурированных запросов</dc:title>
</cp:coreProperties>
</file>