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7075-908D-4C5A-A80F-F04949A6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0AC5-2B78-4FDC-B2A9-A7949E8A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58BB-ABBC-4925-B52B-C654A002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4CA9-8E83-4569-8701-5D93C25B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B36E-4E16-4A70-AF15-13629498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B162-6C4C-4D01-996E-39E49278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83FC-3D75-4F2D-992B-72F12B2C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230B-6AD8-4EA0-9641-ADE1E3E7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261D-44AA-47AE-8688-695D6C02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F5E2-6672-4552-872A-6B7BFC22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122-567B-4957-AFE7-E9DD2960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77E7-E8D6-4814-9B33-73980DB0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3E86-B030-4B4C-A45F-4FD08E50D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пособы адресации в компьютерных сетя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файла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65240" y="2057400"/>
            <a:ext cx="5730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7.0.0.1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ocal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0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kk.ifmo.ru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8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2.ifmo.ru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9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uncis.ifmo.ru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21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sun.ifmo.ru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98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ets.ifmo.ru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46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ks.ifmo.ru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96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aterial.ifmo.ru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225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xvio.ifmo.ru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242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de.ifmo.r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28800" y="4267080"/>
            <a:ext cx="1066680" cy="175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289548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28800" y="2666520"/>
            <a:ext cx="4267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5880" y="2819520"/>
            <a:ext cx="533520" cy="19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4876920"/>
            <a:ext cx="99072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52280"/>
            <a:ext cx="8153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менное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м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760" y="2284560"/>
            <a:ext cx="4189320" cy="42685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3581280"/>
            <a:ext cx="2667240" cy="28195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1905120"/>
            <a:ext cx="4572000" cy="47242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3886200"/>
            <a:ext cx="2666880" cy="24382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50440" y="5257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54640" y="5867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9840" y="54100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e.ifmo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010280" y="43434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.ifmo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324480" y="426708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715000" y="220968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530760" y="2666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447920" y="243828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10400" y="28954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447920" y="388620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4600" y="5410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02760" y="38862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2438280" y="548640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118320" y="609588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res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тилиты для работы в се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PCONF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S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C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ETS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дентификация уз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ппаратный адре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E3-14-56-A5-C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тевой адре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92.168.0.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я компьютера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ifmo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 -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дре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838080"/>
            <a:ext cx="8381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Pv4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32 би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000010 01010100 01111100 0011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4.124.5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Pv6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128 б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ка подсе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ели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 на номер подсети и номер компьютера в подсе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111111 11000000 00000000 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55.192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ер подсе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000010 01000000 00000000 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64.0.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лассы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дре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01.xxx.xxx.xxx-127.xxx.xxx.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8.000.xxx.xxx-191.255.xxx.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2.000.000.xxx-223.255.255.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 -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дреса дл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окальных це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10.0.0.0 до 10.255.255.2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172.16.0.0 до 172.31.255.2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192.168.0.0 до 192.168.255.2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резервированны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адре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IP-адрес состоит из нулей, то это адрес отправителя сообщ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в адресе сети стоят нули, то это адрес компьютера, который принадлежит той же сети, что и отправитель сообщ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IP-адрес состоит из единиц, то это сообщение предназначено всем компьютерам текущей сет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в номере узла стоят единицы, то это сообщение предназначено всем компьютерам заданной се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дентификация проце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828440" y="2286000"/>
            <a:ext cx="5181840" cy="3193920"/>
            <a:chOff x="1828440" y="2286000"/>
            <a:chExt cx="5181840" cy="3193920"/>
          </a:xfrm>
        </p:grpSpPr>
        <p:sp>
          <p:nvSpPr>
            <p:cNvPr id="55" name=""/>
            <p:cNvSpPr/>
            <p:nvPr/>
          </p:nvSpPr>
          <p:spPr>
            <a:xfrm>
              <a:off x="1828440" y="229536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W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23720" y="229536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06400" y="228600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02040" y="229536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3149640"/>
              <a:ext cx="5181480" cy="1162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CP/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P-адре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28800" y="4317840"/>
              <a:ext cx="5181480" cy="1162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етевая кар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адре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рт и соке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343400" y="1317600"/>
          <a:ext cx="4800600" cy="40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317600"/>
                    <a:ext cx="480060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52280" y="1217520"/>
            <a:ext cx="4038840" cy="50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р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это целое число, определяющее прикладной процесс запущенный на компьюте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кет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овокупност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дресов и портов клиента и сервера, идентифицирующий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P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един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лужб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доменных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мен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1363680"/>
            <a:ext cx="89154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ужба доменных имен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 Name Service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DNS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уществляет преобразование доменного имен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числовой IP-адре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ьютеры, выполняющие такое преобразование,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DNS-сервер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д появлением служб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нформация необходимая для преобразование доменного имени 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дрес хранилась в файл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st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хос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мпьютер, главный компьютер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20:51:30Z</dcterms:created>
  <dc:creator>cde</dc:creator>
  <dc:description/>
  <dc:language>en-US</dc:language>
  <cp:lastModifiedBy>Owner</cp:lastModifiedBy>
  <dcterms:modified xsi:type="dcterms:W3CDTF">2009-03-15T15:31:18Z</dcterms:modified>
  <cp:revision>9</cp:revision>
  <dc:subject/>
  <dc:title>Компьютерные сети</dc:title>
</cp:coreProperties>
</file>