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EB44-2AAD-4162-B960-9EE9CF047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84C2-C019-4EB7-B4AA-8E824D0C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CD04-D09B-41E1-9EAB-E824E6EF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8125-83D2-4F25-8E4D-A713D429A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DD24-B5AF-472D-B68C-B4FC4BC158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1DF2-8F88-4BAE-8D7F-6E9425011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36DD7-9016-4BE3-AA83-29B1964C5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1C7E5-BCDF-464A-AAAE-EB1B1E6B5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6BF0-AE81-4EE6-9561-04E1DD256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5B32-5797-4510-95D3-557A73C4E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FF45-5C10-46FA-9E5D-4CE20AC43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202B-A1C9-462C-B0A6-F7B37DBE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E21B4-C770-42D2-97BA-603A8EE9CA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Сжатие данных и 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с проверкой на чет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362320" y="2286000"/>
          <a:ext cx="4038480" cy="3014640"/>
        </p:xfrm>
        <a:graphic>
          <a:graphicData uri="http://schemas.openxmlformats.org/drawingml/2006/table">
            <a:tbl>
              <a:tblPr/>
              <a:tblGrid>
                <a:gridCol w="2271600"/>
                <a:gridCol w="1766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овая 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ит четност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истанция Хемминга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ежду двумя кодовыми комбинациями равна количеству битов, отличающихся в этих комбинация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111010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1011111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 Хемминг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523880" y="1828800"/>
          <a:ext cx="6096240" cy="4657680"/>
        </p:xfrm>
        <a:graphic>
          <a:graphicData uri="http://schemas.openxmlformats.org/drawingml/2006/table">
            <a:tbl>
              <a:tblPr/>
              <a:tblGrid>
                <a:gridCol w="3048120"/>
                <a:gridCol w="30481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762120" y="1828800"/>
          <a:ext cx="7848360" cy="4673520"/>
        </p:xfrm>
        <a:graphic>
          <a:graphicData uri="http://schemas.openxmlformats.org/drawingml/2006/table">
            <a:tbl>
              <a:tblPr/>
              <a:tblGrid>
                <a:gridCol w="1582560"/>
                <a:gridCol w="1860480"/>
                <a:gridCol w="2805120"/>
                <a:gridCol w="1600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бинац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0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011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001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1110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110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001</a:t>
                      </a: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0101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1010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Избыточност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значает, что из исходных символов можно построить больше комбинаций, чем их применено в данном коде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Правило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Уменьшение числа используемых комбинаций приводит к повышению помехоустойчивос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лияние кодового расстояния на помехозащищенность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+1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инимальное кодовое расстоя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обнаружива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исло исправляемых ошибок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1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шибка не обнаруживаетс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бнаруживаются одиноч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ри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 =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равляются одиночные ошибки или обнаруживаются двойные ошибк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пределение числа контрольных символов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1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+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ина кодовой комбинац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информацион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исло контрольных симво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жатие данных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процесс, обеспечивающий уменьшение объема данных путем сокращения их избыточност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личают сжатия с потерей и без потери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длины сер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111 1111 1111 1111 1111 0000 0000 0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[20] 0 [12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 0 0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1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эффициент сжатия =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3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цесс 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я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0001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1 0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[24] 1 [8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0000 0000 0000 0000 0000 0000 1111 1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относительного кодирования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1473; 1480; 1477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476; -3; +7; -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Частотно-зависим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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01110011101100011011011011011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838080" y="274320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л-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сстановле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011111001110010110101001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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5257800" y="2746440"/>
          <a:ext cx="2971800" cy="2587680"/>
        </p:xfrm>
        <a:graphic>
          <a:graphicData uri="http://schemas.openxmlformats.org/drawingml/2006/table">
            <a:tbl>
              <a:tblPr/>
              <a:tblGrid>
                <a:gridCol w="1486080"/>
                <a:gridCol w="1485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Метод Лемпеля-Зив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, 4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ymbol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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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омехозащищенное кодиров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омехозащищенным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ся коды, позволяющие обнаружить и исправить ошибки в кодовых комбинация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ествуют код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ошибок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обнаружением и исправлением ошибок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6T19:25:14Z</dcterms:created>
  <dc:creator>cde</dc:creator>
  <dc:description/>
  <dc:language>en-US</dc:language>
  <cp:lastModifiedBy>Owner</cp:lastModifiedBy>
  <dcterms:modified xsi:type="dcterms:W3CDTF">2009-03-15T15:01:32Z</dcterms:modified>
  <cp:revision>19</cp:revision>
  <dc:subject/>
  <dc:title>Презентация PowerPoint</dc:title>
</cp:coreProperties>
</file>