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F7C-A5A5-4AA5-8A1F-EA24E5B69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C9C0-EB73-401D-A2AE-8CD2EC2A3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D546-7119-4CAA-9462-FBCCCA351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502DB-08CD-4CE4-A1E9-E2A7624C9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16AD-DCC9-45EE-8A61-31F75601F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DE678-D685-47F4-9594-4E95C111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3100-4584-4BBB-868B-3F0102CF3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B538-60C4-4B64-BE2E-32F8F5186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4939-5D4B-4FF9-A220-5F9E2D2DE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E086E-0457-46E4-95B7-7EEFF950A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F9A18-A14C-4BD8-AF13-292D5B7E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EC5C-74CB-4450-9100-3DA00D2AB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4E71-B453-4FA6-BE10-36C8272B9B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ведение в базы данны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0908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76400" y="379080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42000" y="379404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71040" y="2498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" name=""/>
          <p:cNvCxnSpPr>
            <a:stCxn id="63" idx="0"/>
            <a:endCxn id="59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8" name=""/>
          <p:cNvCxnSpPr>
            <a:stCxn id="61" idx="0"/>
            <a:endCxn id="59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9" name=""/>
          <p:cNvCxnSpPr>
            <a:stCxn id="59" idx="3"/>
            <a:endCxn id="65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05600" y="25146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491600" y="2498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491600" y="1584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74" idx="2"/>
            <a:endCxn id="70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65" idx="3"/>
            <a:endCxn id="70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8" name=""/>
          <p:cNvCxnSpPr>
            <a:stCxn id="70" idx="3"/>
            <a:endCxn id="72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9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7640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81520" y="50133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" name=""/>
          <p:cNvCxnSpPr>
            <a:stCxn id="79" idx="0"/>
            <a:endCxn id="63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4" name=""/>
          <p:cNvCxnSpPr>
            <a:stCxn id="81" idx="0"/>
            <a:endCxn id="63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91600" y="3413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70" idx="3"/>
            <a:endCxn id="85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205600" y="5257800"/>
            <a:ext cx="1410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щ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391520" y="5562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491600" y="56991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391520" y="4648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491600" y="4784760"/>
            <a:ext cx="11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трибу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88" idx="3"/>
          </p:cNvCxnSpPr>
          <p:nvPr/>
        </p:nvCxnSpPr>
        <p:spPr>
          <a:xfrm flipH="1">
            <a:off x="6885720" y="4992480"/>
            <a:ext cx="505800" cy="456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5" name=""/>
          <p:cNvCxnSpPr>
            <a:stCxn id="88" idx="3"/>
            <a:endCxn id="90" idx="2"/>
          </p:cNvCxnSpPr>
          <p:nvPr/>
        </p:nvCxnSpPr>
        <p:spPr>
          <a:xfrm>
            <a:off x="6886080" y="5447880"/>
            <a:ext cx="505800" cy="4597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6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61920" y="3884760"/>
            <a:ext cx="90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вяз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70" idx="2"/>
            <a:endCxn id="96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9" name=""/>
          <p:cNvCxnSpPr>
            <a:stCxn id="96" idx="2"/>
            <a:endCxn id="88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0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27080" y="2514600"/>
            <a:ext cx="15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руд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6320" y="36543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07160" y="3790800"/>
            <a:ext cx="77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 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81080" y="365760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57840" y="379404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от-ни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2057400"/>
            <a:ext cx="1371600" cy="1295280"/>
          </a:xfrm>
          <a:prstGeom prst="diamond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19360" y="2498760"/>
            <a:ext cx="63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0"/>
            <a:endCxn id="105" idx="2"/>
          </p:cNvCxnSpPr>
          <p:nvPr/>
        </p:nvCxnSpPr>
        <p:spPr>
          <a:xfrm flipH="1" flipV="1">
            <a:off x="1790280" y="3123720"/>
            <a:ext cx="91512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4" name=""/>
          <p:cNvCxnSpPr>
            <a:stCxn id="107" idx="0"/>
            <a:endCxn id="105" idx="2"/>
          </p:cNvCxnSpPr>
          <p:nvPr/>
        </p:nvCxnSpPr>
        <p:spPr>
          <a:xfrm flipV="1">
            <a:off x="799920" y="3123360"/>
            <a:ext cx="99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5" name=""/>
          <p:cNvCxnSpPr>
            <a:stCxn id="105" idx="3"/>
            <a:endCxn id="111" idx="1"/>
          </p:cNvCxnSpPr>
          <p:nvPr/>
        </p:nvCxnSpPr>
        <p:spPr>
          <a:xfrm>
            <a:off x="2743200" y="2704680"/>
            <a:ext cx="381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16" name=""/>
          <p:cNvSpPr/>
          <p:nvPr/>
        </p:nvSpPr>
        <p:spPr>
          <a:xfrm>
            <a:off x="4952880" y="2286000"/>
            <a:ext cx="1905120" cy="8380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31080" y="2514600"/>
            <a:ext cx="1557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лж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391520" y="23623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412760" y="2498760"/>
            <a:ext cx="139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азва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1447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3520" y="15843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Verdana"/>
              </a:rPr>
              <a:t>ИД_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2"/>
            <a:endCxn id="116" idx="3"/>
          </p:cNvCxnSpPr>
          <p:nvPr/>
        </p:nvCxnSpPr>
        <p:spPr>
          <a:xfrm flipH="1">
            <a:off x="6857640" y="1792080"/>
            <a:ext cx="534240" cy="9133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>
            <a:stCxn id="111" idx="3"/>
            <a:endCxn id="116" idx="1"/>
          </p:cNvCxnSpPr>
          <p:nvPr/>
        </p:nvCxnSpPr>
        <p:spPr>
          <a:xfrm>
            <a:off x="4495680" y="270468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4" name=""/>
          <p:cNvCxnSpPr>
            <a:stCxn id="116" idx="3"/>
            <a:endCxn id="118" idx="2"/>
          </p:cNvCxnSpPr>
          <p:nvPr/>
        </p:nvCxnSpPr>
        <p:spPr>
          <a:xfrm>
            <a:off x="6858000" y="2704680"/>
            <a:ext cx="53424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5" name=""/>
          <p:cNvSpPr/>
          <p:nvPr/>
        </p:nvSpPr>
        <p:spPr>
          <a:xfrm>
            <a:off x="76320" y="48769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2000" y="5013360"/>
            <a:ext cx="133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Фамил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981080" y="4876920"/>
            <a:ext cx="144792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359800" y="5013360"/>
            <a:ext cx="708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Им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9" name=""/>
          <p:cNvCxnSpPr>
            <a:stCxn id="125" idx="0"/>
            <a:endCxn id="109" idx="3"/>
          </p:cNvCxnSpPr>
          <p:nvPr/>
        </p:nvCxnSpPr>
        <p:spPr>
          <a:xfrm flipV="1">
            <a:off x="799920" y="4244400"/>
            <a:ext cx="1394280" cy="63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0" name=""/>
          <p:cNvCxnSpPr>
            <a:stCxn id="127" idx="0"/>
            <a:endCxn id="109" idx="4"/>
          </p:cNvCxnSpPr>
          <p:nvPr/>
        </p:nvCxnSpPr>
        <p:spPr>
          <a:xfrm flipV="1">
            <a:off x="2704680" y="4345920"/>
            <a:ext cx="1080" cy="53100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1" name=""/>
          <p:cNvSpPr/>
          <p:nvPr/>
        </p:nvSpPr>
        <p:spPr>
          <a:xfrm>
            <a:off x="7391520" y="3276720"/>
            <a:ext cx="1447560" cy="68868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10400" y="3413160"/>
            <a:ext cx="104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тавк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>
            <a:stCxn id="116" idx="3"/>
            <a:endCxn id="131" idx="2"/>
          </p:cNvCxnSpPr>
          <p:nvPr/>
        </p:nvCxnSpPr>
        <p:spPr>
          <a:xfrm>
            <a:off x="6858000" y="2704680"/>
            <a:ext cx="534240" cy="91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4952880" y="5029200"/>
            <a:ext cx="1905120" cy="838080"/>
          </a:xfrm>
          <a:prstGeom prst="rect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434920" y="5257800"/>
            <a:ext cx="95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Окла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391520" y="4610160"/>
            <a:ext cx="144756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7" name=""/>
          <p:cNvCxnSpPr>
            <a:stCxn id="134" idx="3"/>
            <a:endCxn id="136" idx="2"/>
          </p:cNvCxnSpPr>
          <p:nvPr/>
        </p:nvCxnSpPr>
        <p:spPr>
          <a:xfrm flipV="1">
            <a:off x="6886080" y="4953960"/>
            <a:ext cx="505800" cy="4942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8" name=""/>
          <p:cNvSpPr/>
          <p:nvPr/>
        </p:nvSpPr>
        <p:spPr>
          <a:xfrm>
            <a:off x="5214960" y="3443400"/>
            <a:ext cx="1371600" cy="1295280"/>
          </a:xfrm>
          <a:prstGeom prst="diamond">
            <a:avLst/>
          </a:prstGeom>
          <a:solidFill>
            <a:srgbClr val="c0c0c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547600" y="3884760"/>
            <a:ext cx="66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_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0" name=""/>
          <p:cNvCxnSpPr>
            <a:stCxn id="116" idx="2"/>
            <a:endCxn id="138" idx="0"/>
          </p:cNvCxnSpPr>
          <p:nvPr/>
        </p:nvCxnSpPr>
        <p:spPr>
          <a:xfrm flipH="1">
            <a:off x="5900040" y="3123720"/>
            <a:ext cx="5400" cy="291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41" name=""/>
          <p:cNvCxnSpPr>
            <a:stCxn id="138" idx="2"/>
            <a:endCxn id="134" idx="0"/>
          </p:cNvCxnSpPr>
          <p:nvPr/>
        </p:nvCxnSpPr>
        <p:spPr>
          <a:xfrm>
            <a:off x="5900400" y="4766760"/>
            <a:ext cx="5400" cy="2343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2" name=""/>
          <p:cNvSpPr/>
          <p:nvPr/>
        </p:nvSpPr>
        <p:spPr>
          <a:xfrm>
            <a:off x="2743560" y="2286000"/>
            <a:ext cx="410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8480" y="22860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943600" y="4648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952960" y="31240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00880" y="5559480"/>
            <a:ext cx="1447920" cy="689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0560" y="5695920"/>
            <a:ext cx="996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умм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"/>
          <p:cNvCxnSpPr>
            <a:stCxn id="134" idx="3"/>
            <a:endCxn id="146" idx="2"/>
          </p:cNvCxnSpPr>
          <p:nvPr/>
        </p:nvCxnSpPr>
        <p:spPr>
          <a:xfrm>
            <a:off x="6886080" y="5448240"/>
            <a:ext cx="515160" cy="4564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49" name=""/>
          <p:cNvSpPr/>
          <p:nvPr/>
        </p:nvSpPr>
        <p:spPr>
          <a:xfrm>
            <a:off x="7716240" y="4746600"/>
            <a:ext cx="76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т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Модель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совокупность математических объектов и отношений, составляющих абстрактную машину доступа к данным, с которой взаимодействует пользователь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и данны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птуальн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ерархическ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етев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Физическая модел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мод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ы реляционной модели были сформулированы в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97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году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.Ф.Кодд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 стать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d E.F. A Relational Model of Data for Large Shared Data Banks // CACM. – June 1970. – 13, #6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тно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ортеж, атрибу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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тепень отношения;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 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доме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теж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атрибут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}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1,2,3,4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{(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&gt; 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523880" y="3581280"/>
          <a:ext cx="6096240" cy="228600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7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568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69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68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, строка, столбе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ячейках таблицы структурно неделим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анные в одном столбце одного ти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имена столбцов уникальн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ждая строка таблицы уникальн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оки и столбцы таблицы размещаются в произвольном порядк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Реляционная алгебр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коллекция операций, которые принимают таблицы в качестве операндов и возвращают таблицы в качестве результат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кращ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1523880" y="2057400"/>
          <a:ext cx="6096240" cy="4064040"/>
        </p:xfrm>
        <a:graphic>
          <a:graphicData uri="http://schemas.openxmlformats.org/drawingml/2006/table">
            <a:tbl>
              <a:tblPr/>
              <a:tblGrid>
                <a:gridCol w="609624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ок литерату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йт К.Дж. Введение в системы баз данных. – М.: Издательский дом «Вильямс», 2005. – 1328 с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ириллов В.В. Основы проектирования реляционных баз данных. Учебное пособие. - СПб.: ИТМО, 1994. - 90 с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6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WHERE A.a &gt; 10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е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0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406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2b2b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.a, A.c, A.f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ъ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UN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SELECT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* 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FR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B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се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TERSECT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аз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95480" y="1905120"/>
            <a:ext cx="2590920" cy="2590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352680" y="3200400"/>
            <a:ext cx="2590920" cy="25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352680" y="3200400"/>
            <a:ext cx="2133720" cy="1295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MINUS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B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523880" y="2692440"/>
          <a:ext cx="6096240" cy="1955880"/>
        </p:xfrm>
        <a:graphic>
          <a:graphicData uri="http://schemas.openxmlformats.org/drawingml/2006/table">
            <a:tbl>
              <a:tblPr/>
              <a:tblGrid>
                <a:gridCol w="677880"/>
                <a:gridCol w="676440"/>
                <a:gridCol w="677880"/>
                <a:gridCol w="677880"/>
                <a:gridCol w="676080"/>
                <a:gridCol w="677880"/>
                <a:gridCol w="677880"/>
                <a:gridCol w="676440"/>
                <a:gridCol w="677880"/>
              </a:tblGrid>
              <a:tr h="652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3" name=""/>
          <p:cNvSpPr/>
          <p:nvPr/>
        </p:nvSpPr>
        <p:spPr>
          <a:xfrm flipV="1">
            <a:off x="2133720" y="1447920"/>
            <a:ext cx="9144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419112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43600" y="1447920"/>
            <a:ext cx="53352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аза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набор данных, организованный с определенной цель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управления базой данных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УБД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– это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лекс программных средст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который управляет доступом к базе да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a, A.b, B.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, B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A.a = B.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извед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9" name=""/>
          <p:cNvGraphicFramePr/>
          <p:nvPr/>
        </p:nvGraphicFramePr>
        <p:xfrm>
          <a:off x="1523880" y="1955880"/>
          <a:ext cx="6096240" cy="4064040"/>
        </p:xfrm>
        <a:graphic>
          <a:graphicData uri="http://schemas.openxmlformats.org/drawingml/2006/table">
            <a:tbl>
              <a:tblPr/>
              <a:tblGrid>
                <a:gridCol w="1016280"/>
                <a:gridCol w="1015920"/>
                <a:gridCol w="1015920"/>
                <a:gridCol w="1015920"/>
                <a:gridCol w="1015920"/>
                <a:gridCol w="1016280"/>
              </a:tblGrid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0" name=""/>
          <p:cNvSpPr/>
          <p:nvPr/>
        </p:nvSpPr>
        <p:spPr>
          <a:xfrm flipV="1">
            <a:off x="2023920" y="140472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005360" y="1495440"/>
            <a:ext cx="304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019920" y="14479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A.*, B.* FROM A, B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1523880" y="1879560"/>
          <a:ext cx="6096240" cy="406404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812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2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7" name=""/>
          <p:cNvSpPr/>
          <p:nvPr/>
        </p:nvSpPr>
        <p:spPr>
          <a:xfrm flipV="1">
            <a:off x="1890720" y="1433520"/>
            <a:ext cx="152388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3809880" y="144792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H="1" flipV="1">
            <a:off x="5243400" y="1419120"/>
            <a:ext cx="4572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638680" y="1371600"/>
            <a:ext cx="15242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DISTINCT A.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(SELECT X.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NOT EX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SELECT AX.*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FROM AX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HER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a=A.a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AX.x=X.x))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щнос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объект, который может быть идентифицирован некоторым способом, отличающим его от других объектов. Каждая сущность обладает набором атрибутов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Атрибут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отдельная характеристика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ущность состоит из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экземпляров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каждый из которых должен отличаться от другого экземпляра.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: сущность – «Город», экземпляры сущности «Город» – Пушкин, Павловск, Колпин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вязь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логическая ассоциация, устанавливаемая между сущностям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ь определяет количество экземпляров данной сущности, которое могут быть связаны с одним экземпляром другой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Связи бывают следующих типов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 одному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дин ко многи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многие ко многим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траны» 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Города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Союзы» - «Страны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 3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«Человек» - «Учетная запись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минимальный набор атрибутов, по значениям которых можно однозначно найти требуемый экземпляр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вичный ключ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сущности позволяет идентифицировать ее экземпляры, а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нешни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экземпляры сущности, которая находится в связи с данной сущность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ы сущнос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сущности нет необходимости ссылаться на другие сущнос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Зависимая сущность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Для определения экземпляра такой сущности необходимо сослаться на экземпляр независимой сущности, с которой связана зависимая сущ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аграмм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Сущность-связь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33520" y="1980720"/>
            <a:ext cx="80769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аграмма «Сущность-связь» разработана в 1976 году Питером Чен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14:30:36Z</dcterms:created>
  <dc:creator>lav</dc:creator>
  <dc:description/>
  <dc:language>en-US</dc:language>
  <cp:lastModifiedBy>support</cp:lastModifiedBy>
  <dcterms:modified xsi:type="dcterms:W3CDTF">2008-01-23T15:28:57Z</dcterms:modified>
  <cp:revision>142</cp:revision>
  <dc:subject/>
  <dc:title>Презентация PowerPoint</dc:title>
</cp:coreProperties>
</file>