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9.png" ContentType="image/png"/>
  <Override PartName="/ppt/media/image13.png" ContentType="image/png"/>
  <Override PartName="/ppt/media/image8.png" ContentType="image/png"/>
  <Override PartName="/ppt/media/image16.wmf" ContentType="image/x-wmf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wmf" ContentType="image/x-wmf"/>
  <Override PartName="/ppt/media/image18.wmf" ContentType="image/x-wmf"/>
  <Override PartName="/ppt/media/image17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4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CADA0-27B4-4045-9020-82569428F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49D90-9EBA-4B89-9DC8-73676A825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EDEB3-3343-4E84-8A6C-48B3507D1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8371E-56F3-4C57-A16E-0EA1268B7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01CFD-796C-40A6-A2F8-1C8CFEDAB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6A263-0D19-4A52-B082-7782391E5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AE4DC-F12F-4333-BEBC-05C8DB178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62989-F327-4152-BFFE-FF325AD1B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AEB64-3082-4DE7-8124-99B61B718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DF742-CC56-4CDE-82C6-ADC34F0AA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33716-1F6B-43C4-8FC5-8187AD9F2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82787-0EA9-43CF-B89A-76C2D88FA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195EC-4B4B-496E-9D46-4752C47784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14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6.wmf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14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14.png"/><Relationship Id="rId5" Type="http://schemas.openxmlformats.org/officeDocument/2006/relationships/image" Target="../media/image8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package" Target="../embeddings/oleObject1.xlsx"/><Relationship Id="rId9" Type="http://schemas.openxmlformats.org/officeDocument/2006/relationships/image" Target="../media/image18.wmf"/><Relationship Id="rId10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7.png"/><Relationship Id="rId12" Type="http://schemas.openxmlformats.org/officeDocument/2006/relationships/image" Target="../media/image7.png"/><Relationship Id="rId13" Type="http://schemas.openxmlformats.org/officeDocument/2006/relationships/package" Target="../embeddings/oleObject1.xlsx"/><Relationship Id="rId14" Type="http://schemas.openxmlformats.org/officeDocument/2006/relationships/image" Target="../media/image20.wmf"/><Relationship Id="rId15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4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Оборудование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компьютерных сете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Лямин Андрей Владимирови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Концентрато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3200400"/>
            <a:ext cx="91440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Концентратором называется повторитель, который имеет несколько портов и соединяет несколько физических линий связи. Концентратор всегда изменяет физическую топологию сети, но при этом оставляет без изменения ее логическую топологию. Если на какой-либо его порт поступает сообщение, он пересылает его на все остальны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3429000" y="1219320"/>
            <a:ext cx="2743200" cy="18763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1600200" y="274320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icroHub TP1008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6104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имер концентратора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с тремя портам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362320" y="1676520"/>
            <a:ext cx="6095880" cy="121896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895480" y="2895480"/>
            <a:ext cx="457200" cy="3812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352680" y="2895480"/>
            <a:ext cx="457200" cy="3812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971800" y="289548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411360" y="289548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952880" y="2895480"/>
            <a:ext cx="457200" cy="3812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410080" y="2895480"/>
            <a:ext cx="457200" cy="3812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029200" y="289548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468760" y="289548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10280" y="2895480"/>
            <a:ext cx="457200" cy="3812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467480" y="2895480"/>
            <a:ext cx="457200" cy="3812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086600" y="289548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526160" y="289548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666880" y="4495680"/>
            <a:ext cx="1371600" cy="10670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895480" y="4114800"/>
            <a:ext cx="457200" cy="3808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4114800"/>
            <a:ext cx="457200" cy="3808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965320" y="4114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417840" y="41148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724280" y="4495680"/>
            <a:ext cx="1371600" cy="10670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952880" y="4114800"/>
            <a:ext cx="457200" cy="3808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410080" y="4114800"/>
            <a:ext cx="457200" cy="3808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2720" y="4114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475240" y="41148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781680" y="4495680"/>
            <a:ext cx="1371600" cy="106704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010280" y="4114800"/>
            <a:ext cx="457200" cy="3808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467480" y="4114800"/>
            <a:ext cx="457200" cy="3808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080120" y="41148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532640" y="41148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124080" y="3276720"/>
            <a:ext cx="0" cy="838080"/>
          </a:xfrm>
          <a:prstGeom prst="line">
            <a:avLst/>
          </a:prstGeom>
          <a:ln w="507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181480" y="3276720"/>
            <a:ext cx="0" cy="838080"/>
          </a:xfrm>
          <a:prstGeom prst="line">
            <a:avLst/>
          </a:prstGeom>
          <a:ln w="507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238880" y="3276720"/>
            <a:ext cx="0" cy="838080"/>
          </a:xfrm>
          <a:prstGeom prst="line">
            <a:avLst/>
          </a:prstGeom>
          <a:ln w="507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5638680" y="3276720"/>
            <a:ext cx="0" cy="838080"/>
          </a:xfrm>
          <a:prstGeom prst="line">
            <a:avLst/>
          </a:prstGeom>
          <a:ln w="507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581280" y="3276720"/>
            <a:ext cx="0" cy="838080"/>
          </a:xfrm>
          <a:prstGeom prst="line">
            <a:avLst/>
          </a:prstGeom>
          <a:ln w="507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7696080" y="3276720"/>
            <a:ext cx="0" cy="838080"/>
          </a:xfrm>
          <a:prstGeom prst="line">
            <a:avLst/>
          </a:prstGeom>
          <a:ln w="507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3581280" y="2590920"/>
            <a:ext cx="0" cy="304560"/>
          </a:xfrm>
          <a:prstGeom prst="line">
            <a:avLst/>
          </a:prstGeom>
          <a:ln w="507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581280" y="2590920"/>
            <a:ext cx="3505320" cy="0"/>
          </a:xfrm>
          <a:prstGeom prst="line">
            <a:avLst/>
          </a:prstGeom>
          <a:ln w="507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086600" y="2590920"/>
            <a:ext cx="0" cy="304560"/>
          </a:xfrm>
          <a:prstGeom prst="line">
            <a:avLst/>
          </a:prstGeom>
          <a:ln w="507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029200" y="2590920"/>
            <a:ext cx="0" cy="304560"/>
          </a:xfrm>
          <a:prstGeom prst="line">
            <a:avLst/>
          </a:prstGeom>
          <a:ln w="507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5638680" y="2285640"/>
            <a:ext cx="0" cy="609480"/>
          </a:xfrm>
          <a:prstGeom prst="line">
            <a:avLst/>
          </a:prstGeom>
          <a:ln w="507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200400" y="2286000"/>
            <a:ext cx="4114800" cy="0"/>
          </a:xfrm>
          <a:prstGeom prst="line">
            <a:avLst/>
          </a:prstGeom>
          <a:ln w="507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315200" y="2286000"/>
            <a:ext cx="0" cy="609480"/>
          </a:xfrm>
          <a:prstGeom prst="line">
            <a:avLst/>
          </a:prstGeom>
          <a:ln w="507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200400" y="2286000"/>
            <a:ext cx="0" cy="609480"/>
          </a:xfrm>
          <a:prstGeom prst="line">
            <a:avLst/>
          </a:prstGeom>
          <a:ln w="507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7696080" y="1981080"/>
            <a:ext cx="0" cy="914400"/>
          </a:xfrm>
          <a:prstGeom prst="line">
            <a:avLst/>
          </a:prstGeom>
          <a:ln w="507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971800" y="1981080"/>
            <a:ext cx="4724280" cy="0"/>
          </a:xfrm>
          <a:prstGeom prst="line">
            <a:avLst/>
          </a:prstGeom>
          <a:ln w="507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257800" y="1981080"/>
            <a:ext cx="0" cy="914400"/>
          </a:xfrm>
          <a:prstGeom prst="line">
            <a:avLst/>
          </a:prstGeom>
          <a:ln w="507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971800" y="1981080"/>
            <a:ext cx="0" cy="914400"/>
          </a:xfrm>
          <a:prstGeom prst="line">
            <a:avLst/>
          </a:prstGeom>
          <a:ln w="5076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9680" y="2004840"/>
            <a:ext cx="201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Концентрато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9680" y="4876920"/>
            <a:ext cx="167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Компьюте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240" y="3962520"/>
            <a:ext cx="198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етевая карт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04200" y="6095880"/>
            <a:ext cx="570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бозначение: Т-передатчик;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приемник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4920" y="7596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имер сети на концентратор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49760" y="5883120"/>
            <a:ext cx="429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ехнологи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Ethernet 10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бит/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реда передачи: Витая пар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1981080" y="1428840"/>
            <a:ext cx="4724640" cy="4133880"/>
            <a:chOff x="1981080" y="1428840"/>
            <a:chExt cx="4724640" cy="4133880"/>
          </a:xfrm>
        </p:grpSpPr>
        <p:sp>
          <p:nvSpPr>
            <p:cNvPr id="144" name=""/>
            <p:cNvSpPr/>
            <p:nvPr/>
          </p:nvSpPr>
          <p:spPr>
            <a:xfrm>
              <a:off x="4343400" y="3638520"/>
              <a:ext cx="1246320" cy="153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 flipV="1">
              <a:off x="4343400" y="3079800"/>
              <a:ext cx="1959120" cy="558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 flipH="1" flipV="1">
              <a:off x="4309560" y="1814400"/>
              <a:ext cx="39960" cy="1859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H="1" flipV="1">
              <a:off x="2361960" y="3056040"/>
              <a:ext cx="1971720" cy="588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 flipH="1">
              <a:off x="3045960" y="3648240"/>
              <a:ext cx="1303560" cy="14522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9" name="" descr=""/>
            <p:cNvPicPr/>
            <p:nvPr/>
          </p:nvPicPr>
          <p:blipFill>
            <a:blip r:embed="rId1"/>
            <a:stretch/>
          </p:blipFill>
          <p:spPr>
            <a:xfrm>
              <a:off x="1981080" y="2647800"/>
              <a:ext cx="781200" cy="78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" descr=""/>
            <p:cNvPicPr/>
            <p:nvPr/>
          </p:nvPicPr>
          <p:blipFill>
            <a:blip r:embed="rId2"/>
            <a:stretch/>
          </p:blipFill>
          <p:spPr>
            <a:xfrm>
              <a:off x="2743200" y="4705200"/>
              <a:ext cx="781200" cy="78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" descr=""/>
            <p:cNvPicPr/>
            <p:nvPr/>
          </p:nvPicPr>
          <p:blipFill>
            <a:blip r:embed="rId3"/>
            <a:stretch/>
          </p:blipFill>
          <p:spPr>
            <a:xfrm>
              <a:off x="5181480" y="4781520"/>
              <a:ext cx="781200" cy="78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" descr=""/>
            <p:cNvPicPr/>
            <p:nvPr/>
          </p:nvPicPr>
          <p:blipFill>
            <a:blip r:embed="rId4"/>
            <a:stretch/>
          </p:blipFill>
          <p:spPr>
            <a:xfrm>
              <a:off x="3962520" y="1428840"/>
              <a:ext cx="780840" cy="78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" name="" descr=""/>
            <p:cNvPicPr/>
            <p:nvPr/>
          </p:nvPicPr>
          <p:blipFill>
            <a:blip r:embed="rId5"/>
            <a:stretch/>
          </p:blipFill>
          <p:spPr>
            <a:xfrm>
              <a:off x="3809880" y="3486240"/>
              <a:ext cx="1143000" cy="380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4" name="" descr=""/>
            <p:cNvPicPr/>
            <p:nvPr/>
          </p:nvPicPr>
          <p:blipFill>
            <a:blip r:embed="rId6"/>
            <a:stretch/>
          </p:blipFill>
          <p:spPr>
            <a:xfrm>
              <a:off x="6111720" y="2400480"/>
              <a:ext cx="594000" cy="110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"/>
            <p:cNvSpPr/>
            <p:nvPr/>
          </p:nvSpPr>
          <p:spPr>
            <a:xfrm>
              <a:off x="5108760" y="3352680"/>
              <a:ext cx="106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0 Мбит/с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802400" y="4038480"/>
              <a:ext cx="106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0 Мбит/с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507120" y="4495680"/>
              <a:ext cx="106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0 Мбит/с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668680" y="3429000"/>
              <a:ext cx="106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0 Мбит/с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346640" y="2558880"/>
              <a:ext cx="106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0 Мбит/с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Мос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0" y="3871800"/>
            <a:ext cx="9144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Мост делит физическую среду передачи сети на части, передавая информацию из одного сегмента в другой только в том случае, если адрес компьютера назначения принадлежит другой подсети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029200" y="287640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inyBrid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2438280" y="1371600"/>
            <a:ext cx="2314800" cy="2362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имер использования мост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380880" y="2001960"/>
          <a:ext cx="1676520" cy="1122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2001960"/>
                    <a:ext cx="1676520" cy="112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67" name=""/>
          <p:cNvGrpSpPr/>
          <p:nvPr/>
        </p:nvGrpSpPr>
        <p:grpSpPr>
          <a:xfrm>
            <a:off x="2441160" y="1981080"/>
            <a:ext cx="6322320" cy="3448080"/>
            <a:chOff x="2441160" y="1981080"/>
            <a:chExt cx="6322320" cy="3448080"/>
          </a:xfrm>
        </p:grpSpPr>
        <p:sp>
          <p:nvSpPr>
            <p:cNvPr id="168" name=""/>
            <p:cNvSpPr/>
            <p:nvPr/>
          </p:nvSpPr>
          <p:spPr>
            <a:xfrm flipV="1">
              <a:off x="6934320" y="3722760"/>
              <a:ext cx="1222200" cy="9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8004240" y="2590920"/>
              <a:ext cx="0" cy="2209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70" name="" descr=""/>
            <p:cNvPicPr/>
            <p:nvPr/>
          </p:nvPicPr>
          <p:blipFill>
            <a:blip r:embed="rId3"/>
            <a:stretch/>
          </p:blipFill>
          <p:spPr>
            <a:xfrm>
              <a:off x="7623000" y="4648320"/>
              <a:ext cx="781200" cy="78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1" name="" descr=""/>
            <p:cNvPicPr/>
            <p:nvPr/>
          </p:nvPicPr>
          <p:blipFill>
            <a:blip r:embed="rId4"/>
            <a:stretch/>
          </p:blipFill>
          <p:spPr>
            <a:xfrm>
              <a:off x="7623000" y="1981080"/>
              <a:ext cx="781200" cy="78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2" name="" descr=""/>
            <p:cNvPicPr/>
            <p:nvPr/>
          </p:nvPicPr>
          <p:blipFill>
            <a:blip r:embed="rId5"/>
            <a:stretch/>
          </p:blipFill>
          <p:spPr>
            <a:xfrm>
              <a:off x="7394400" y="3581280"/>
              <a:ext cx="1143000" cy="38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" name=""/>
            <p:cNvSpPr/>
            <p:nvPr/>
          </p:nvSpPr>
          <p:spPr>
            <a:xfrm>
              <a:off x="8079840" y="3886200"/>
              <a:ext cx="683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Hub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851600" y="210168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7851600" y="47689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V="1">
              <a:off x="3173400" y="3726000"/>
              <a:ext cx="1093680" cy="79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V="1">
              <a:off x="3200400" y="2590920"/>
              <a:ext cx="0" cy="2209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78" name="" descr=""/>
            <p:cNvPicPr/>
            <p:nvPr/>
          </p:nvPicPr>
          <p:blipFill>
            <a:blip r:embed="rId6"/>
            <a:stretch/>
          </p:blipFill>
          <p:spPr>
            <a:xfrm>
              <a:off x="2819520" y="4648320"/>
              <a:ext cx="780840" cy="78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9" name="" descr=""/>
            <p:cNvPicPr/>
            <p:nvPr/>
          </p:nvPicPr>
          <p:blipFill>
            <a:blip r:embed="rId7"/>
            <a:stretch/>
          </p:blipFill>
          <p:spPr>
            <a:xfrm>
              <a:off x="2819520" y="1981080"/>
              <a:ext cx="780840" cy="78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0" name="" descr=""/>
            <p:cNvPicPr/>
            <p:nvPr/>
          </p:nvPicPr>
          <p:blipFill>
            <a:blip r:embed="rId8"/>
            <a:stretch/>
          </p:blipFill>
          <p:spPr>
            <a:xfrm>
              <a:off x="2590920" y="3581280"/>
              <a:ext cx="1143000" cy="381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" name=""/>
            <p:cNvSpPr/>
            <p:nvPr/>
          </p:nvSpPr>
          <p:spPr>
            <a:xfrm>
              <a:off x="2441160" y="3886200"/>
              <a:ext cx="683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Hub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048120" y="210168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048120" y="47689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flipV="1">
              <a:off x="4191120" y="3656880"/>
              <a:ext cx="304560" cy="15228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V="1">
              <a:off x="6629400" y="3656880"/>
              <a:ext cx="304920" cy="15228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913560" y="3886200"/>
              <a:ext cx="886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ridge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324840" y="3886200"/>
              <a:ext cx="886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Bridge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706920" y="3733920"/>
              <a:ext cx="30747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343400" y="3276720"/>
              <a:ext cx="0" cy="3808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781680" y="3276720"/>
              <a:ext cx="0" cy="3808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343400" y="3352680"/>
              <a:ext cx="2438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176440" y="3016080"/>
              <a:ext cx="76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000 </a:t>
              </a: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м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886200" y="34290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495680" y="34290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324480" y="34290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934320" y="34290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Коммутато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0" y="3276720"/>
            <a:ext cx="91440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Коммутатор по назначению не отличается от моста, но обладает более высокой производитель-ностью так, как мост в каждый момент времени может осуществлять передачу кадров только между одной парой портов, а коммутатор одновременно поддерживает потоки данных между всеми своими портами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2590920"/>
            <a:ext cx="3505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PEX SRX1216 Dual Speed Switch 16 port 10/100 MBit/S (16UTP) 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1676520" y="1371600"/>
            <a:ext cx="3924360" cy="171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имер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использования коммутатор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8520" y="5883120"/>
            <a:ext cx="5142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ехнологи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Ethernet 10/100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бит/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реда передачи: Коаксиал/Витая пар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181320" y="1676520"/>
            <a:ext cx="4743360" cy="4400280"/>
            <a:chOff x="3181320" y="1676520"/>
            <a:chExt cx="4743360" cy="4400280"/>
          </a:xfrm>
        </p:grpSpPr>
        <p:sp>
          <p:nvSpPr>
            <p:cNvPr id="204" name=""/>
            <p:cNvSpPr/>
            <p:nvPr/>
          </p:nvSpPr>
          <p:spPr>
            <a:xfrm>
              <a:off x="5543640" y="3886200"/>
              <a:ext cx="1245960" cy="153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V="1">
              <a:off x="5543640" y="3327480"/>
              <a:ext cx="1958760" cy="558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 flipH="1" flipV="1">
              <a:off x="5543280" y="2286000"/>
              <a:ext cx="6120" cy="1635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 flipH="1" flipV="1">
              <a:off x="3561840" y="3303720"/>
              <a:ext cx="1971720" cy="588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 flipH="1">
              <a:off x="4246560" y="3895560"/>
              <a:ext cx="1303200" cy="1452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09" name="" descr=""/>
            <p:cNvPicPr/>
            <p:nvPr/>
          </p:nvPicPr>
          <p:blipFill>
            <a:blip r:embed="rId1"/>
            <a:stretch/>
          </p:blipFill>
          <p:spPr>
            <a:xfrm>
              <a:off x="3181320" y="2895480"/>
              <a:ext cx="781200" cy="78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0" name="" descr=""/>
            <p:cNvPicPr/>
            <p:nvPr/>
          </p:nvPicPr>
          <p:blipFill>
            <a:blip r:embed="rId2"/>
            <a:stretch/>
          </p:blipFill>
          <p:spPr>
            <a:xfrm>
              <a:off x="3943440" y="4952880"/>
              <a:ext cx="780840" cy="78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" descr=""/>
            <p:cNvPicPr/>
            <p:nvPr/>
          </p:nvPicPr>
          <p:blipFill>
            <a:blip r:embed="rId3"/>
            <a:stretch/>
          </p:blipFill>
          <p:spPr>
            <a:xfrm>
              <a:off x="7143840" y="2971800"/>
              <a:ext cx="780840" cy="78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2" name="" descr=""/>
            <p:cNvPicPr/>
            <p:nvPr/>
          </p:nvPicPr>
          <p:blipFill>
            <a:blip r:embed="rId4"/>
            <a:stretch/>
          </p:blipFill>
          <p:spPr>
            <a:xfrm>
              <a:off x="5010120" y="3733920"/>
              <a:ext cx="1143000" cy="380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3" name="" descr=""/>
            <p:cNvPicPr/>
            <p:nvPr/>
          </p:nvPicPr>
          <p:blipFill>
            <a:blip r:embed="rId5"/>
            <a:stretch/>
          </p:blipFill>
          <p:spPr>
            <a:xfrm>
              <a:off x="6629400" y="4591080"/>
              <a:ext cx="798480" cy="148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4" name=""/>
            <p:cNvSpPr/>
            <p:nvPr/>
          </p:nvSpPr>
          <p:spPr>
            <a:xfrm>
              <a:off x="5564520" y="2533680"/>
              <a:ext cx="106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0 Мбит/с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307200" y="3657600"/>
              <a:ext cx="106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0 Мбит/с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437080" y="5124600"/>
              <a:ext cx="1163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00 Мбит/с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735720" y="4483080"/>
              <a:ext cx="106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0 Мбит/с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964320" y="3067200"/>
              <a:ext cx="1061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10 Мбит/с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172040" y="2286000"/>
              <a:ext cx="2743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20" name="" descr=""/>
            <p:cNvPicPr/>
            <p:nvPr/>
          </p:nvPicPr>
          <p:blipFill>
            <a:blip r:embed="rId6"/>
            <a:stretch/>
          </p:blipFill>
          <p:spPr>
            <a:xfrm>
              <a:off x="3790800" y="1676520"/>
              <a:ext cx="781200" cy="78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1" name="" descr=""/>
            <p:cNvPicPr/>
            <p:nvPr/>
          </p:nvPicPr>
          <p:blipFill>
            <a:blip r:embed="rId7"/>
            <a:stretch/>
          </p:blipFill>
          <p:spPr>
            <a:xfrm>
              <a:off x="6534000" y="1676520"/>
              <a:ext cx="781200" cy="78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2" name=""/>
            <p:cNvSpPr/>
            <p:nvPr/>
          </p:nvSpPr>
          <p:spPr>
            <a:xfrm>
              <a:off x="3965400" y="17971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762600" y="17971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409920" y="301608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372440" y="30924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172040" y="507348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784920" y="55627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489640" y="32767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022800" y="33973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924520" y="41148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261040" y="41148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781520" y="37339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233" name=""/>
          <p:cNvGraphicFramePr/>
          <p:nvPr/>
        </p:nvGraphicFramePr>
        <p:xfrm>
          <a:off x="523800" y="1752480"/>
          <a:ext cx="1838520" cy="1710000"/>
        </p:xfrm>
        <a:graphic>
          <a:graphicData uri="http://schemas.openxmlformats.org/presentationml/2006/ole">
            <p:oleObj progId="Excel.Sheet.12" r:id="rId8" spid="">
              <p:embed/>
              <p:pic>
                <p:nvPicPr>
                  <p:cNvPr id="234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523800" y="1752480"/>
                    <a:ext cx="1838520" cy="171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Маршрутизато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0" y="2895480"/>
            <a:ext cx="91440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аршрутизатор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елит физическую среду передачи сети на части более эффективно, чем мост или коммутатор. Он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ожет пересылать пакеты на конкретный адрес, выбирать лучший путь для прохождения пакета и многое другое. Чем сложней и больше сеть, тем больше выгода от использования маршрутизаторов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895480" y="264780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sco 25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276720" y="1295280"/>
            <a:ext cx="4019400" cy="167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имер использования маршрутизатор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76320" y="1828800"/>
            <a:ext cx="7638480" cy="4648680"/>
            <a:chOff x="76320" y="1828800"/>
            <a:chExt cx="7638480" cy="4648680"/>
          </a:xfrm>
        </p:grpSpPr>
        <p:sp>
          <p:nvSpPr>
            <p:cNvPr id="241" name=""/>
            <p:cNvSpPr/>
            <p:nvPr/>
          </p:nvSpPr>
          <p:spPr>
            <a:xfrm>
              <a:off x="1828800" y="2514600"/>
              <a:ext cx="2133000" cy="2209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419360" y="4724280"/>
              <a:ext cx="1142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361960" y="4724280"/>
              <a:ext cx="1142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flipH="1">
              <a:off x="1828440" y="2514600"/>
              <a:ext cx="7560" cy="2133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 flipH="1">
              <a:off x="1820520" y="4800600"/>
              <a:ext cx="15480" cy="1066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46" name="" descr=""/>
            <p:cNvPicPr/>
            <p:nvPr/>
          </p:nvPicPr>
          <p:blipFill>
            <a:blip r:embed="rId1"/>
            <a:stretch/>
          </p:blipFill>
          <p:spPr>
            <a:xfrm>
              <a:off x="1295280" y="4572000"/>
              <a:ext cx="1142640" cy="38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7" name=""/>
            <p:cNvSpPr/>
            <p:nvPr/>
          </p:nvSpPr>
          <p:spPr>
            <a:xfrm>
              <a:off x="701640" y="6140160"/>
              <a:ext cx="446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S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>
              <a:off x="3885840" y="4800600"/>
              <a:ext cx="7560" cy="1066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49" name="" descr=""/>
            <p:cNvPicPr/>
            <p:nvPr/>
          </p:nvPicPr>
          <p:blipFill>
            <a:blip r:embed="rId2"/>
            <a:stretch/>
          </p:blipFill>
          <p:spPr>
            <a:xfrm>
              <a:off x="3352680" y="4572000"/>
              <a:ext cx="1142640" cy="38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0" name=""/>
            <p:cNvSpPr/>
            <p:nvPr/>
          </p:nvSpPr>
          <p:spPr>
            <a:xfrm>
              <a:off x="3652560" y="6140160"/>
              <a:ext cx="446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S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H="1">
              <a:off x="5943240" y="4800600"/>
              <a:ext cx="7560" cy="533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52" name="" descr=""/>
            <p:cNvPicPr/>
            <p:nvPr/>
          </p:nvPicPr>
          <p:blipFill>
            <a:blip r:embed="rId3"/>
            <a:stretch/>
          </p:blipFill>
          <p:spPr>
            <a:xfrm>
              <a:off x="5410080" y="4572000"/>
              <a:ext cx="1142640" cy="38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" name=""/>
            <p:cNvSpPr/>
            <p:nvPr/>
          </p:nvSpPr>
          <p:spPr>
            <a:xfrm>
              <a:off x="6472080" y="6140160"/>
              <a:ext cx="446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S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825720" y="2711160"/>
              <a:ext cx="445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1" lang="ru-RU" sz="1600" spc="-1" strike="noStrike">
                  <a:solidFill>
                    <a:srgbClr val="000000"/>
                  </a:solidFill>
                  <a:latin typeface="Times New Roman"/>
                </a:rPr>
                <a:t>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361960" y="2438280"/>
              <a:ext cx="990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56" name="" descr=""/>
            <p:cNvPicPr/>
            <p:nvPr/>
          </p:nvPicPr>
          <p:blipFill>
            <a:blip r:embed="rId4"/>
            <a:stretch/>
          </p:blipFill>
          <p:spPr>
            <a:xfrm>
              <a:off x="1295280" y="2286000"/>
              <a:ext cx="1142640" cy="38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7" name=""/>
            <p:cNvSpPr/>
            <p:nvPr/>
          </p:nvSpPr>
          <p:spPr>
            <a:xfrm>
              <a:off x="3430440" y="2438280"/>
              <a:ext cx="1350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58" name="" descr=""/>
            <p:cNvPicPr/>
            <p:nvPr/>
          </p:nvPicPr>
          <p:blipFill>
            <a:blip r:embed="rId5"/>
            <a:stretch/>
          </p:blipFill>
          <p:spPr>
            <a:xfrm>
              <a:off x="3028680" y="1828800"/>
              <a:ext cx="780840" cy="78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9" name="" descr=""/>
            <p:cNvPicPr/>
            <p:nvPr/>
          </p:nvPicPr>
          <p:blipFill>
            <a:blip r:embed="rId6"/>
            <a:stretch/>
          </p:blipFill>
          <p:spPr>
            <a:xfrm>
              <a:off x="4400280" y="1828800"/>
              <a:ext cx="780840" cy="78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0" name=""/>
            <p:cNvSpPr/>
            <p:nvPr/>
          </p:nvSpPr>
          <p:spPr>
            <a:xfrm>
              <a:off x="477720" y="5867280"/>
              <a:ext cx="1350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61" name="" descr=""/>
            <p:cNvPicPr/>
            <p:nvPr/>
          </p:nvPicPr>
          <p:blipFill>
            <a:blip r:embed="rId7"/>
            <a:stretch/>
          </p:blipFill>
          <p:spPr>
            <a:xfrm>
              <a:off x="76320" y="5257800"/>
              <a:ext cx="780840" cy="78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2" name="" descr=""/>
            <p:cNvPicPr/>
            <p:nvPr/>
          </p:nvPicPr>
          <p:blipFill>
            <a:blip r:embed="rId8"/>
            <a:stretch/>
          </p:blipFill>
          <p:spPr>
            <a:xfrm>
              <a:off x="1447560" y="5257800"/>
              <a:ext cx="780840" cy="78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3" name=""/>
            <p:cNvSpPr/>
            <p:nvPr/>
          </p:nvSpPr>
          <p:spPr>
            <a:xfrm>
              <a:off x="3220920" y="5867280"/>
              <a:ext cx="1350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64" name="" descr=""/>
            <p:cNvPicPr/>
            <p:nvPr/>
          </p:nvPicPr>
          <p:blipFill>
            <a:blip r:embed="rId9"/>
            <a:stretch/>
          </p:blipFill>
          <p:spPr>
            <a:xfrm>
              <a:off x="2819160" y="5257800"/>
              <a:ext cx="780840" cy="78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5" name="" descr=""/>
            <p:cNvPicPr/>
            <p:nvPr/>
          </p:nvPicPr>
          <p:blipFill>
            <a:blip r:embed="rId10"/>
            <a:stretch/>
          </p:blipFill>
          <p:spPr>
            <a:xfrm>
              <a:off x="4190760" y="5257800"/>
              <a:ext cx="780840" cy="78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"/>
            <p:cNvSpPr/>
            <p:nvPr/>
          </p:nvSpPr>
          <p:spPr>
            <a:xfrm>
              <a:off x="5964120" y="5867280"/>
              <a:ext cx="1350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67" name="" descr=""/>
            <p:cNvPicPr/>
            <p:nvPr/>
          </p:nvPicPr>
          <p:blipFill>
            <a:blip r:embed="rId11"/>
            <a:stretch/>
          </p:blipFill>
          <p:spPr>
            <a:xfrm>
              <a:off x="5562360" y="5257800"/>
              <a:ext cx="780840" cy="78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8" name="" descr=""/>
            <p:cNvPicPr/>
            <p:nvPr/>
          </p:nvPicPr>
          <p:blipFill>
            <a:blip r:embed="rId12"/>
            <a:stretch/>
          </p:blipFill>
          <p:spPr>
            <a:xfrm>
              <a:off x="6933960" y="5257800"/>
              <a:ext cx="780840" cy="78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"/>
            <p:cNvSpPr/>
            <p:nvPr/>
          </p:nvSpPr>
          <p:spPr>
            <a:xfrm>
              <a:off x="250200" y="53784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675800" y="53784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168000" y="19494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593600" y="19494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971440" y="53784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397040" y="53784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758920" y="53784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184520" y="53784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269720" y="1904760"/>
              <a:ext cx="525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M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193760" y="4190760"/>
              <a:ext cx="525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M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022560" y="4190760"/>
              <a:ext cx="525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M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232240" y="4190760"/>
              <a:ext cx="525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M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383920" y="210168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545840" y="25146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057040" y="25146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3809520" y="426708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222000" y="46926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419000" y="46926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3885840" y="48006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828440" y="48006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850400" y="426708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383920" y="46926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257440" y="46926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943240" y="48006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293" name=""/>
          <p:cNvGraphicFramePr/>
          <p:nvPr/>
        </p:nvGraphicFramePr>
        <p:xfrm>
          <a:off x="4952880" y="2712960"/>
          <a:ext cx="4114800" cy="1376280"/>
        </p:xfrm>
        <a:graphic>
          <a:graphicData uri="http://schemas.openxmlformats.org/presentationml/2006/ole">
            <p:oleObj progId="Excel.Sheet.12" r:id="rId13" spid="">
              <p:embed/>
              <p:pic>
                <p:nvPicPr>
                  <p:cNvPr id="294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952880" y="2712960"/>
                    <a:ext cx="4114800" cy="137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7924680" y="2286000"/>
            <a:ext cx="0" cy="1066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143000" y="2590920"/>
            <a:ext cx="0" cy="990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7924680" y="3746520"/>
            <a:ext cx="0" cy="10666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917960" y="4813200"/>
            <a:ext cx="29718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41600" y="4813200"/>
            <a:ext cx="9903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184400" y="3746520"/>
            <a:ext cx="0" cy="990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2965680" y="3401640"/>
            <a:ext cx="323280" cy="689760"/>
            <a:chOff x="2965680" y="3401640"/>
            <a:chExt cx="323280" cy="689760"/>
          </a:xfrm>
        </p:grpSpPr>
        <p:sp>
          <p:nvSpPr>
            <p:cNvPr id="302" name=""/>
            <p:cNvSpPr/>
            <p:nvPr/>
          </p:nvSpPr>
          <p:spPr>
            <a:xfrm flipH="1">
              <a:off x="3049560" y="3401640"/>
              <a:ext cx="239400" cy="420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H="1">
              <a:off x="2965680" y="3670920"/>
              <a:ext cx="239400" cy="42048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V="1">
              <a:off x="3049560" y="3670920"/>
              <a:ext cx="155520" cy="15120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05" name="" descr=""/>
          <p:cNvPicPr/>
          <p:nvPr/>
        </p:nvPicPr>
        <p:blipFill>
          <a:blip r:embed="rId1"/>
          <a:stretch/>
        </p:blipFill>
        <p:spPr>
          <a:xfrm>
            <a:off x="727200" y="3213000"/>
            <a:ext cx="780840" cy="781200"/>
          </a:xfrm>
          <a:prstGeom prst="rect">
            <a:avLst/>
          </a:prstGeom>
          <a:ln w="0">
            <a:noFill/>
          </a:ln>
        </p:spPr>
      </p:pic>
      <p:sp>
        <p:nvSpPr>
          <p:cNvPr id="306" name=""/>
          <p:cNvSpPr/>
          <p:nvPr/>
        </p:nvSpPr>
        <p:spPr>
          <a:xfrm>
            <a:off x="2894040" y="1409760"/>
            <a:ext cx="1707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Исходная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последовательность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2"/>
          <a:stretch/>
        </p:blipFill>
        <p:spPr>
          <a:xfrm>
            <a:off x="498600" y="4660920"/>
            <a:ext cx="1218960" cy="40644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724040" y="1962000"/>
            <a:ext cx="3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50120" y="2895480"/>
            <a:ext cx="78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ther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92240" y="5880240"/>
            <a:ext cx="4531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T - Заголовок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CP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;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 -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Заголовок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Е -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Заголовок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thernet; S -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Заголовок радио-пакет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 - Заголовок пакета РРР;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- Заголовок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oken 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3"/>
          <a:stretch/>
        </p:blipFill>
        <p:spPr>
          <a:xfrm>
            <a:off x="3241800" y="2603520"/>
            <a:ext cx="1085760" cy="1028520"/>
          </a:xfrm>
          <a:prstGeom prst="rect">
            <a:avLst/>
          </a:prstGeom>
          <a:ln w="0">
            <a:noFill/>
          </a:ln>
        </p:spPr>
      </p:pic>
      <p:pic>
        <p:nvPicPr>
          <p:cNvPr id="312" name="" descr=""/>
          <p:cNvPicPr/>
          <p:nvPr/>
        </p:nvPicPr>
        <p:blipFill>
          <a:blip r:embed="rId4"/>
          <a:stretch/>
        </p:blipFill>
        <p:spPr>
          <a:xfrm>
            <a:off x="4384800" y="4051440"/>
            <a:ext cx="914400" cy="1076040"/>
          </a:xfrm>
          <a:prstGeom prst="rect">
            <a:avLst/>
          </a:prstGeom>
          <a:ln w="0">
            <a:noFill/>
          </a:ln>
        </p:spPr>
      </p:pic>
      <p:pic>
        <p:nvPicPr>
          <p:cNvPr id="313" name="" descr=""/>
          <p:cNvPicPr/>
          <p:nvPr/>
        </p:nvPicPr>
        <p:blipFill>
          <a:blip r:embed="rId5"/>
          <a:stretch/>
        </p:blipFill>
        <p:spPr>
          <a:xfrm>
            <a:off x="2251080" y="4051440"/>
            <a:ext cx="914400" cy="1076040"/>
          </a:xfrm>
          <a:prstGeom prst="rect">
            <a:avLst/>
          </a:prstGeom>
          <a:ln w="0">
            <a:noFill/>
          </a:ln>
        </p:spPr>
      </p:pic>
      <p:pic>
        <p:nvPicPr>
          <p:cNvPr id="314" name="" descr=""/>
          <p:cNvPicPr/>
          <p:nvPr/>
        </p:nvPicPr>
        <p:blipFill>
          <a:blip r:embed="rId6"/>
          <a:stretch/>
        </p:blipFill>
        <p:spPr>
          <a:xfrm>
            <a:off x="5181480" y="4660920"/>
            <a:ext cx="1219320" cy="406440"/>
          </a:xfrm>
          <a:prstGeom prst="rect">
            <a:avLst/>
          </a:prstGeom>
          <a:ln w="0">
            <a:noFill/>
          </a:ln>
        </p:spPr>
      </p:pic>
      <p:pic>
        <p:nvPicPr>
          <p:cNvPr id="315" name="" descr=""/>
          <p:cNvPicPr/>
          <p:nvPr/>
        </p:nvPicPr>
        <p:blipFill>
          <a:blip r:embed="rId7"/>
          <a:stretch/>
        </p:blipFill>
        <p:spPr>
          <a:xfrm>
            <a:off x="7315200" y="4660920"/>
            <a:ext cx="1219320" cy="406440"/>
          </a:xfrm>
          <a:prstGeom prst="rect">
            <a:avLst/>
          </a:prstGeom>
          <a:ln w="0">
            <a:noFill/>
          </a:ln>
        </p:spPr>
      </p:pic>
      <p:grpSp>
        <p:nvGrpSpPr>
          <p:cNvPr id="316" name=""/>
          <p:cNvGrpSpPr/>
          <p:nvPr/>
        </p:nvGrpSpPr>
        <p:grpSpPr>
          <a:xfrm>
            <a:off x="4261320" y="3477600"/>
            <a:ext cx="323280" cy="690120"/>
            <a:chOff x="4261320" y="3477600"/>
            <a:chExt cx="323280" cy="690120"/>
          </a:xfrm>
        </p:grpSpPr>
        <p:sp>
          <p:nvSpPr>
            <p:cNvPr id="317" name=""/>
            <p:cNvSpPr/>
            <p:nvPr/>
          </p:nvSpPr>
          <p:spPr>
            <a:xfrm>
              <a:off x="4261320" y="3477600"/>
              <a:ext cx="239040" cy="4208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344840" y="3746880"/>
              <a:ext cx="239760" cy="42084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 flipV="1">
              <a:off x="4344840" y="3746880"/>
              <a:ext cx="155160" cy="151560"/>
            </a:xfrm>
            <a:prstGeom prst="line">
              <a:avLst/>
            </a:prstGeom>
            <a:ln w="255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20" name="" descr=""/>
          <p:cNvPicPr/>
          <p:nvPr/>
        </p:nvPicPr>
        <p:blipFill>
          <a:blip r:embed="rId8"/>
          <a:stretch/>
        </p:blipFill>
        <p:spPr>
          <a:xfrm>
            <a:off x="7601040" y="3181320"/>
            <a:ext cx="780840" cy="78120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/>
          <p:nvPr/>
        </p:nvSpPr>
        <p:spPr>
          <a:xfrm>
            <a:off x="2057400" y="1689120"/>
            <a:ext cx="838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057400" y="1612800"/>
            <a:ext cx="0" cy="152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895480" y="1612800"/>
            <a:ext cx="0" cy="152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981080" y="2070000"/>
            <a:ext cx="0" cy="152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86000" y="2070000"/>
            <a:ext cx="0" cy="152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981080" y="2146320"/>
            <a:ext cx="304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2743200" y="2070000"/>
            <a:ext cx="0" cy="152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048120" y="2070000"/>
            <a:ext cx="0" cy="152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2743200" y="2146320"/>
            <a:ext cx="304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2514600" y="1955880"/>
            <a:ext cx="3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600200" y="2298600"/>
            <a:ext cx="42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981080" y="2406600"/>
            <a:ext cx="0" cy="152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2286000" y="2406600"/>
            <a:ext cx="0" cy="152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981080" y="2482920"/>
            <a:ext cx="304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743200" y="2406600"/>
            <a:ext cx="0" cy="152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048120" y="2406600"/>
            <a:ext cx="0" cy="152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743200" y="2482920"/>
            <a:ext cx="304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390760" y="2292480"/>
            <a:ext cx="42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447920" y="2679840"/>
            <a:ext cx="58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I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981080" y="2787480"/>
            <a:ext cx="0" cy="152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286000" y="2787480"/>
            <a:ext cx="0" cy="152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981080" y="2863800"/>
            <a:ext cx="304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743200" y="2787480"/>
            <a:ext cx="0" cy="152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048120" y="2787480"/>
            <a:ext cx="0" cy="152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743200" y="2863800"/>
            <a:ext cx="304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238480" y="2673360"/>
            <a:ext cx="58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I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438280" y="19177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438280" y="222264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438280" y="25272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143760" y="1994040"/>
            <a:ext cx="30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477120" y="1720800"/>
            <a:ext cx="8380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477120" y="1644480"/>
            <a:ext cx="0" cy="152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7315200" y="1644480"/>
            <a:ext cx="0" cy="152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400800" y="2101680"/>
            <a:ext cx="0" cy="152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705720" y="2101680"/>
            <a:ext cx="0" cy="152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400800" y="2178000"/>
            <a:ext cx="304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7162920" y="2101680"/>
            <a:ext cx="0" cy="152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7467480" y="2101680"/>
            <a:ext cx="0" cy="152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162920" y="2178000"/>
            <a:ext cx="3045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6934320" y="1987560"/>
            <a:ext cx="30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019920" y="2330280"/>
            <a:ext cx="42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400800" y="2438280"/>
            <a:ext cx="0" cy="152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6705720" y="2438280"/>
            <a:ext cx="0" cy="152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400800" y="2514600"/>
            <a:ext cx="304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7162920" y="2438280"/>
            <a:ext cx="0" cy="152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7467480" y="2438280"/>
            <a:ext cx="0" cy="152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7162920" y="2514600"/>
            <a:ext cx="3045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810480" y="2324160"/>
            <a:ext cx="42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867280" y="2711520"/>
            <a:ext cx="58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I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400800" y="2819520"/>
            <a:ext cx="0" cy="152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705720" y="2819520"/>
            <a:ext cx="0" cy="152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6400800" y="2895480"/>
            <a:ext cx="304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7162920" y="2819520"/>
            <a:ext cx="0" cy="152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7467480" y="2819520"/>
            <a:ext cx="0" cy="152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7162920" y="2895480"/>
            <a:ext cx="3045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6657840" y="2705040"/>
            <a:ext cx="58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I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 flipV="1">
            <a:off x="6858000" y="194904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6858000" y="225396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 flipV="1">
            <a:off x="6858000" y="2558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694400" y="1460520"/>
            <a:ext cx="1707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Восстановленна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последовательность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115840" y="2819520"/>
            <a:ext cx="1031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oken 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295280" y="4038480"/>
            <a:ext cx="58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I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828800" y="4146480"/>
            <a:ext cx="0" cy="152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133720" y="4146480"/>
            <a:ext cx="0" cy="152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828800" y="4222800"/>
            <a:ext cx="304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6248520" y="5378400"/>
            <a:ext cx="58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I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6892920" y="5486400"/>
            <a:ext cx="0" cy="152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7197840" y="5486400"/>
            <a:ext cx="0" cy="152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6892920" y="5562720"/>
            <a:ext cx="304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6934320" y="4038480"/>
            <a:ext cx="58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I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7467480" y="4146480"/>
            <a:ext cx="0" cy="152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7772400" y="4146480"/>
            <a:ext cx="0" cy="152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7467480" y="4222800"/>
            <a:ext cx="304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3394080" y="3670200"/>
            <a:ext cx="581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I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927600" y="3778200"/>
            <a:ext cx="0" cy="152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232160" y="3778200"/>
            <a:ext cx="0" cy="152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927600" y="3854520"/>
            <a:ext cx="30456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" y="76320"/>
            <a:ext cx="86868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оцесс прохождения информационного пакет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9"/>
          <a:stretch/>
        </p:blipFill>
        <p:spPr>
          <a:xfrm>
            <a:off x="762120" y="2057400"/>
            <a:ext cx="780840" cy="781200"/>
          </a:xfrm>
          <a:prstGeom prst="rect">
            <a:avLst/>
          </a:prstGeom>
          <a:ln w="0">
            <a:noFill/>
          </a:ln>
        </p:spPr>
      </p:pic>
      <p:pic>
        <p:nvPicPr>
          <p:cNvPr id="400" name="" descr=""/>
          <p:cNvPicPr/>
          <p:nvPr/>
        </p:nvPicPr>
        <p:blipFill>
          <a:blip r:embed="rId10"/>
          <a:stretch/>
        </p:blipFill>
        <p:spPr>
          <a:xfrm>
            <a:off x="7601040" y="2057400"/>
            <a:ext cx="780840" cy="781200"/>
          </a:xfrm>
          <a:prstGeom prst="rect">
            <a:avLst/>
          </a:prstGeom>
          <a:ln w="0">
            <a:noFill/>
          </a:ln>
        </p:spPr>
      </p:pic>
      <p:sp>
        <p:nvSpPr>
          <p:cNvPr id="401" name=""/>
          <p:cNvSpPr/>
          <p:nvPr/>
        </p:nvSpPr>
        <p:spPr>
          <a:xfrm>
            <a:off x="449640" y="5029200"/>
            <a:ext cx="140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Маршрутизатор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024880" y="5029200"/>
            <a:ext cx="140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Маршрутизатор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7277400" y="5029200"/>
            <a:ext cx="140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Маршрутизатор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966600" y="2178000"/>
            <a:ext cx="32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7773480" y="21780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В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Сетевая технолог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04920" y="1523880"/>
            <a:ext cx="8610480" cy="418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етевая технология -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это согласованный набор стандартных протоколов и реализующих их программно-аппаратных средств, достаточный для построения компьютерной сети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етевые технологии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thernet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ken R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Характеристики технологий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thernet и Token R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76320" y="1752480"/>
          <a:ext cx="8915400" cy="4294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1752480"/>
                    <a:ext cx="8915400" cy="429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Линии связ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78720" y="1066680"/>
            <a:ext cx="43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Кабельные линии связ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00960" y="3505320"/>
            <a:ext cx="489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Беспроводные линии связ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09480" y="1981080"/>
            <a:ext cx="7772400" cy="1028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754200" y="3048120"/>
            <a:ext cx="161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Витая пар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623760" y="3048120"/>
            <a:ext cx="140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Коаксиа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086880" y="3048120"/>
            <a:ext cx="191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Оптоволокн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1447920" y="4040280"/>
            <a:ext cx="5257800" cy="2055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Интерфейс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7640" y="1066680"/>
            <a:ext cx="3177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нтерфейс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J-4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78720" y="2697120"/>
            <a:ext cx="303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нтерфейс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N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3962520" y="1523880"/>
            <a:ext cx="4190760" cy="4803480"/>
            <a:chOff x="3962520" y="1523880"/>
            <a:chExt cx="4190760" cy="4803480"/>
          </a:xfrm>
        </p:grpSpPr>
        <p:pic>
          <p:nvPicPr>
            <p:cNvPr id="62" name="" descr=""/>
            <p:cNvPicPr/>
            <p:nvPr/>
          </p:nvPicPr>
          <p:blipFill>
            <a:blip r:embed="rId1"/>
            <a:stretch/>
          </p:blipFill>
          <p:spPr>
            <a:xfrm>
              <a:off x="3962520" y="1523880"/>
              <a:ext cx="4190760" cy="1450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" descr=""/>
            <p:cNvPicPr/>
            <p:nvPr/>
          </p:nvPicPr>
          <p:blipFill>
            <a:blip r:embed="rId2"/>
            <a:stretch/>
          </p:blipFill>
          <p:spPr>
            <a:xfrm>
              <a:off x="3962520" y="2930400"/>
              <a:ext cx="4190760" cy="339696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Сетевая карт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835280" y="743040"/>
            <a:ext cx="4857480" cy="34480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76320" y="4114800"/>
            <a:ext cx="89913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Сетевая карта воспринимает команды и данные от сетевой операционной системы, преобразует эту информацию в один из стандартных форматов и передает ее в сеть через подключенный к карте кабель. Каждая карта имеет уникальный номер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730040" y="3486240"/>
            <a:ext cx="273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pex RE100TX PCI 10/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имер архитектуры сети на коаксиальном кабел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49760" y="5791320"/>
            <a:ext cx="429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ехнология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Ethernet 10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бит/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реда передачи: Коаксиа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773360" y="3562200"/>
            <a:ext cx="6456240" cy="19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371600" y="2952720"/>
            <a:ext cx="781200" cy="7812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2743200" y="2952720"/>
            <a:ext cx="781200" cy="78120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4114800" y="2952720"/>
            <a:ext cx="781200" cy="7812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4"/>
          <a:stretch/>
        </p:blipFill>
        <p:spPr>
          <a:xfrm>
            <a:off x="5486400" y="2952720"/>
            <a:ext cx="781200" cy="7812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5"/>
          <a:stretch/>
        </p:blipFill>
        <p:spPr>
          <a:xfrm>
            <a:off x="7772400" y="2819520"/>
            <a:ext cx="593640" cy="110484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6478920" y="3200400"/>
            <a:ext cx="106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0 Мбит/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Трансиве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6320" y="3548160"/>
            <a:ext cx="89913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рансивер устанавливается непосредственно на кабеле и питается от сетевой карты компьютера. С сетевой картой трансивер соединяется интерфейсным кабелем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I (Attachment Unit Interface)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5943600" y="1676520"/>
            <a:ext cx="2209680" cy="123012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685800" y="1600200"/>
            <a:ext cx="2438280" cy="130644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3400560" y="1593720"/>
            <a:ext cx="2238120" cy="1378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овторител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04920" y="3138480"/>
            <a:ext cx="87627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овторители соединяют сегменты, использую- щие одинаковые или разные типы носителя, восстанавливают сигнал, увеличивая дальность передачи, передают информацию в обоих направлениях. Использование повторителя позволяет расширить сеть, построенную с использованием коаксиального кабеля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486400" y="2800440"/>
            <a:ext cx="129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R-2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2057400" y="1066680"/>
            <a:ext cx="3962520" cy="2025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9T20:51:30Z</dcterms:created>
  <dc:creator>cde</dc:creator>
  <dc:description/>
  <dc:language>en-US</dc:language>
  <cp:lastModifiedBy>Owner</cp:lastModifiedBy>
  <dcterms:modified xsi:type="dcterms:W3CDTF">2009-03-15T15:31:30Z</dcterms:modified>
  <cp:revision>8</cp:revision>
  <dc:subject/>
  <dc:title>Компьютерные сети</dc:title>
</cp:coreProperties>
</file>