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embeddings/oleObject5.xlsx" ContentType="application/vnd.openxmlformats-officedocument.spreadsheetml.sheet"/>
  <Override PartName="/ppt/embeddings/oleObject6.xlsx" ContentType="application/vnd.openxmlformats-officedocument.spreadsheetml.shee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DE5BA-5CAF-43BD-8B0E-58B2AE717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21D9-6B8E-4199-B178-AA085DFE5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0C3-F90C-4286-91A5-BE142A0EA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A9AAD-0292-4141-942B-A3E2E2791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964A-BD00-49FB-AA89-449ECE46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2E05-CADF-4768-8344-2D8CC08C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C12F5-84E2-45BC-A3CF-14EBD2B4D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C5AD-1675-41E2-B9E3-BB84FDAF9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CABC-5F6B-4E1C-93EE-2B81EE2B2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A6F7-59C2-4E6D-9EDE-75C01D99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43A8-0D7B-44F2-90AD-47477340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812F-3CA2-4986-98D9-8FCDFA56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811C3-665F-4BB3-BD22-831EFD8220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7.wmf"/><Relationship Id="rId7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1.wmf"/><Relationship Id="rId7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3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6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7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8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15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15.wmf"/><Relationship Id="rId1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0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1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22.wmf"/><Relationship Id="rId9" Type="http://schemas.openxmlformats.org/officeDocument/2006/relationships/package" Target="../embeddings/oleObject5.xlsx"/><Relationship Id="rId10" Type="http://schemas.openxmlformats.org/officeDocument/2006/relationships/image" Target="../media/image23.wmf"/><Relationship Id="rId11" Type="http://schemas.openxmlformats.org/officeDocument/2006/relationships/package" Target="../embeddings/oleObject6.xlsx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ектирование баз данны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иггер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Триггеро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ют сочетание трех компонентов: событие, условие и действ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бытием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является операция в базе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Услов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логическое выражение, которое должно принимать значение «Истина» для того, чтобы выполнено действи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Действие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триггерная процедура.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OR REPLACE TRIGGER person_t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FORE INSERT ON pers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 EACH RO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GI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person_s.NEXTVAL INTO :new.id FROM DUAL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граничения целост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Целост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integrity - нетронутость, неприкосновенность, сохранность, целостность) понимается как правильность данных в любой момент времен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уппы правил целостност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лостность по первичным ключам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лостность по внешним ключам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лостность, определяемая пользователе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Целостность, определяемая пользовател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любой конкретной базы данных существует ряд дополнительных специфических правил, которые относятся к ней одной и определяются разработчиком. Чаще всего контролируетс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уникальность тех или иных атрибутов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иапазон значений (экзаменационная оценка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от 2 до 5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384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надлежность набору значений (пол "М"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ли "Ж"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ункциональная зависимость (ФЗ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R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таблица, 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произвольные подмножества ее полей. Тогд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B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функционально зависит от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пишу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 &gt; 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если каждое значение множеств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вязано только с одним значением множеств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6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981080" y="1752480"/>
          <a:ext cx="4648320" cy="185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464832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05120" y="3886200"/>
            <a:ext cx="46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еорема Хи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А, В и С поля таблицы. Если А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то таблицу можно представить как результат соединения ее проекций (А, В) и (А, С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7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981080" y="1752480"/>
          <a:ext cx="4648320" cy="1851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1752480"/>
                    <a:ext cx="464832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685800" y="4267080"/>
          <a:ext cx="3444840" cy="1597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67080"/>
                    <a:ext cx="3444840" cy="159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183280" y="4272120"/>
          <a:ext cx="3502080" cy="1863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183280" y="4272120"/>
                    <a:ext cx="350208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 flipH="1">
            <a:off x="2209680" y="3657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5880" y="36576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лная Ф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ле В находится 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лной функциона-льной зависимос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от составного поля А, если оно функционально зависит от А и не зависит функционально от любого подмножества поля 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атало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аталог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или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ловар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содержится подробная информация, касающаяся таблиц, индексов, ограничений поддержки целостности и т.д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вая нормальная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 первой нормальной форме (1НФ) тогда и только тогда, когда ни одна из ее строк не содержит в любом своем поле более одного значения и ни одно из ее ключевых полей не пуст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торая 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о второй нормальной форме (2НФ), если она удовлетворяет определению 1НФ и все ее поля, не входящие в первичный ключ, связаны полной функциональной зависимостью с первичным ключ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1806480" y="2209680"/>
          <a:ext cx="5813640" cy="1863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2209680"/>
                    <a:ext cx="5813640" cy="186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1828800" y="4343400"/>
            <a:ext cx="55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ность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рпл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806480" y="1752480"/>
          <a:ext cx="5432400" cy="1743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1752480"/>
                    <a:ext cx="5432400" cy="17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755640" y="4187880"/>
          <a:ext cx="3110040" cy="1442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5640" y="4187880"/>
                    <a:ext cx="311004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1" name=""/>
          <p:cNvGraphicFramePr/>
          <p:nvPr/>
        </p:nvGraphicFramePr>
        <p:xfrm>
          <a:off x="4468680" y="4202280"/>
          <a:ext cx="4341960" cy="1736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68680" y="4202280"/>
                    <a:ext cx="4341960" cy="173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 flipH="1">
            <a:off x="2514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943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етья 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лица находится в третьей нормальной форме (3НФ), если она удовлетворяет определению 2НФ и не одно из ее неключевых полей не зависит функционально от любого другого неключевого пол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2367000" y="2138400"/>
          <a:ext cx="4341600" cy="144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2138400"/>
                    <a:ext cx="434160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270160" y="3902040"/>
            <a:ext cx="55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Должность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рплат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H="1">
            <a:off x="2514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358128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2367000" y="1986120"/>
          <a:ext cx="4341600" cy="144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7000" y="1986120"/>
                    <a:ext cx="434160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685800" y="4202280"/>
          <a:ext cx="3263760" cy="1442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02280"/>
                    <a:ext cx="3263760" cy="14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5756400" y="4202280"/>
          <a:ext cx="2325600" cy="116172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56400" y="4202280"/>
                    <a:ext cx="2325600" cy="11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Нормальная форма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Бойса-Код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аблица находится в нормальной форме Бойса-Кодда (НФБК), если и только если любая функциональная зависимость между его полями сводится к полной функциональной зависимости от возможного ключ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лная декомпози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ной декомпозицией таблицы называют такую совокупность произвольного числа ее проекций, соединение которых полностью совпадает с содержимым таблиц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ногозначная зависим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А, В и С – поля таблицы. Поле 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ногозначно определя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поле В той же таблицы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&gt;&gt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, если множество значений поля В, соответствующее заданной паре (А, С), зависит только от значения А и не зависит от значения С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ELECT OBJECT_NAME, OBJECT_TYP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ROM USER_OBJECTS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LECT TABLE_NAME, COLUMN_NAME, DATA_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ROM USER_TAB_COLUM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ERE TABLE_NAME = '</a:t>
            </a:r>
            <a:r>
              <a:rPr b="0" i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название</a:t>
            </a:r>
            <a:r>
              <a:rPr b="0" i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_</a:t>
            </a:r>
            <a:r>
              <a:rPr b="0" i="1" lang="ru-RU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таблицы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1806480" y="2212920"/>
          <a:ext cx="4664160" cy="247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06480" y="2212920"/>
                    <a:ext cx="46641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1812960" y="4952880"/>
            <a:ext cx="550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лжность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Фамилия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&gt; (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лефон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еорема Фейги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усть А, В и С поля таблицы. Если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&gt;&gt; B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 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&gt;&gt;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о таблицу можно представить как результат соединения ее проекций (А, В) и (А, С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346480" y="1635120"/>
          <a:ext cx="4663800" cy="24796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6480" y="1635120"/>
                    <a:ext cx="466380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766800" y="4773600"/>
          <a:ext cx="3500280" cy="12463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6800" y="4773600"/>
                    <a:ext cx="3500280" cy="124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5033880" y="4800600"/>
          <a:ext cx="3348000" cy="186228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33880" y="4800600"/>
                    <a:ext cx="3348000" cy="186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 flipH="1">
            <a:off x="2514600" y="4191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43600" y="4191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етверт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 четвертой нормальной форме (4НФ), если она удовлетворяет определению НФБК и все многозначные зависимости являются функциональными зависимостями от ключ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125880" y="1676520"/>
          <a:ext cx="2508120" cy="631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5880" y="1676520"/>
                    <a:ext cx="2508120" cy="63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6" name=""/>
          <p:cNvGraphicFramePr/>
          <p:nvPr/>
        </p:nvGraphicFramePr>
        <p:xfrm>
          <a:off x="831960" y="3044880"/>
          <a:ext cx="1865160" cy="6570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1960" y="3044880"/>
                    <a:ext cx="1865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8" name=""/>
          <p:cNvGraphicFramePr/>
          <p:nvPr/>
        </p:nvGraphicFramePr>
        <p:xfrm>
          <a:off x="3581280" y="3032280"/>
          <a:ext cx="1690920" cy="642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032280"/>
                    <a:ext cx="169092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0" name=""/>
          <p:cNvGraphicFramePr/>
          <p:nvPr/>
        </p:nvGraphicFramePr>
        <p:xfrm>
          <a:off x="6170760" y="3032280"/>
          <a:ext cx="1596960" cy="642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0760" y="3032280"/>
                    <a:ext cx="1596960" cy="64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5338800" y="5661000"/>
          <a:ext cx="2585880" cy="6494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8800" y="5661000"/>
                    <a:ext cx="258588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 flipH="1">
            <a:off x="220968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4360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3434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824120" y="4510080"/>
          <a:ext cx="2595600" cy="6494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4120" y="4510080"/>
                    <a:ext cx="2595600" cy="64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 flipH="1">
            <a:off x="4648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24280" y="51814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4038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3124080" y="1676520"/>
          <a:ext cx="2514600" cy="833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24080" y="1676520"/>
                    <a:ext cx="2514600" cy="83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838080" y="3048120"/>
          <a:ext cx="1828800" cy="863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048120"/>
                    <a:ext cx="1828800" cy="8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581280" y="3029040"/>
          <a:ext cx="1676520" cy="8571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581280" y="3029040"/>
                    <a:ext cx="1676520" cy="85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6172200" y="3030480"/>
          <a:ext cx="1600200" cy="85572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72200" y="3030480"/>
                    <a:ext cx="160020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5334120" y="5665680"/>
          <a:ext cx="2514600" cy="104004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334120" y="5665680"/>
                    <a:ext cx="2514600" cy="10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4" name=""/>
          <p:cNvSpPr/>
          <p:nvPr/>
        </p:nvSpPr>
        <p:spPr>
          <a:xfrm flipH="1">
            <a:off x="220968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943600" y="2286000"/>
            <a:ext cx="5335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343400" y="2590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1828800" y="4165560"/>
          <a:ext cx="2666880" cy="1320840"/>
        </p:xfrm>
        <a:graphic>
          <a:graphicData uri="http://schemas.openxmlformats.org/presentationml/2006/ole">
            <p:oleObj progId="Excel.Sheet.12" r:id="rId1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4165560"/>
                    <a:ext cx="2666880" cy="132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 flipH="1">
            <a:off x="4648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219320" y="39625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724280" y="5181480"/>
            <a:ext cx="38124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934320" y="40384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ятая нормальная форм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Таблица находится в пятой нормальной форме (5НФ) тогда и только тогда, когда в каждой ее полной декомпозиции все проекции содержат потенциальный ключ. Таблица, не имеющая ни одной полной декомпозиции, также находится в 5НФ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дура нормал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исключить неполные ФЗ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исключить зависимости от неключевых полей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МЗ являлись также ФЗ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збить таблицу на проекции, чтобы в каждой ее полной декомпозиции все проекции содержали потенциальный ключ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тапы проект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мантическое моделиро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ормализация базы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пределение правил поддержки целостности базы данны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зависимые 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олжность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Названи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тавки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MARY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дстав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едставл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пустая именованная таблица, определяемая перечнем тех столбцов таблиц и признаками тех их строк, которые хотелось бы в ней увидет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язи многие ко многи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С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MARY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ИД_С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REFERENCES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олжность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N DELETE CAS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С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REFERENCES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отрудник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С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N DELETE CASCADE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висимые 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TABLE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Окла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(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ата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Сумм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PRIMARY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, Дата, Сумма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,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OREIGN KEY 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 REFERENCES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Должность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ИД_Д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N DELETE CASC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Требуется разработать систему, которая позволяет хранить информацию о книгах частной библиотеки и обеспечивает возможность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гост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просматривать список книг, подавать прошение на временное изъятие книг из библиотеки для ознакомления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5080" indent="-2854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озяину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добавлять и удалять  книги,  изменять расположение книг в шкафу, удовлетворять или отклонять прошения г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№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152280" y="1557360"/>
            <a:ext cx="8839440" cy="3959280"/>
            <a:chOff x="152280" y="1557360"/>
            <a:chExt cx="8839440" cy="3959280"/>
          </a:xfrm>
        </p:grpSpPr>
        <p:graphicFrame>
          <p:nvGraphicFramePr>
            <p:cNvPr id="201" name=""/>
            <p:cNvGraphicFramePr/>
            <p:nvPr/>
          </p:nvGraphicFramePr>
          <p:xfrm>
            <a:off x="152280" y="1557360"/>
            <a:ext cx="8839440" cy="39592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02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52280" y="1557360"/>
                      <a:ext cx="8839440" cy="3959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03" name=""/>
            <p:cNvSpPr/>
            <p:nvPr/>
          </p:nvSpPr>
          <p:spPr>
            <a:xfrm flipH="1">
              <a:off x="2568600" y="3254400"/>
              <a:ext cx="1117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410080" y="3614760"/>
              <a:ext cx="11430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г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жная по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№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71280" y="2624040"/>
            <a:ext cx="9072720" cy="2633760"/>
            <a:chOff x="71280" y="2624040"/>
            <a:chExt cx="9072720" cy="2633760"/>
          </a:xfrm>
        </p:grpSpPr>
        <p:graphicFrame>
          <p:nvGraphicFramePr>
            <p:cNvPr id="209" name=""/>
            <p:cNvGraphicFramePr/>
            <p:nvPr/>
          </p:nvGraphicFramePr>
          <p:xfrm>
            <a:off x="71280" y="2624040"/>
            <a:ext cx="9072720" cy="2633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1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280" y="2624040"/>
                      <a:ext cx="9072720" cy="263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1" name=""/>
            <p:cNvSpPr/>
            <p:nvPr/>
          </p:nvSpPr>
          <p:spPr>
            <a:xfrm flipH="1">
              <a:off x="2308320" y="3375000"/>
              <a:ext cx="434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114800" y="3657600"/>
              <a:ext cx="380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477120" y="3962520"/>
              <a:ext cx="4572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земпля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жная по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№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-76320" y="2666880"/>
            <a:ext cx="9299520" cy="2206800"/>
            <a:chOff x="-76320" y="2666880"/>
            <a:chExt cx="9299520" cy="2206800"/>
          </a:xfrm>
        </p:grpSpPr>
        <p:graphicFrame>
          <p:nvGraphicFramePr>
            <p:cNvPr id="218" name=""/>
            <p:cNvGraphicFramePr/>
            <p:nvPr/>
          </p:nvGraphicFramePr>
          <p:xfrm>
            <a:off x="-76320" y="2666880"/>
            <a:ext cx="9299520" cy="220680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1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76320" y="2666880"/>
                      <a:ext cx="9299520" cy="2206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0" name=""/>
            <p:cNvSpPr/>
            <p:nvPr/>
          </p:nvSpPr>
          <p:spPr>
            <a:xfrm flipH="1">
              <a:off x="1863360" y="3379680"/>
              <a:ext cx="785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895560" y="3635280"/>
              <a:ext cx="7858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481800" y="3127320"/>
              <a:ext cx="776160" cy="746280"/>
            </a:xfrm>
            <a:custGeom>
              <a:avLst/>
              <a:gdLst/>
              <a:ahLst/>
              <a:rect l="l" t="t" r="r" b="b"/>
              <a:pathLst>
                <a:path w="516" h="614">
                  <a:moveTo>
                    <a:pt x="516" y="0"/>
                  </a:moveTo>
                  <a:lnTo>
                    <a:pt x="232" y="0"/>
                  </a:lnTo>
                  <a:lnTo>
                    <a:pt x="232" y="614"/>
                  </a:lnTo>
                  <a:lnTo>
                    <a:pt x="0" y="61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472080" y="4197240"/>
              <a:ext cx="79560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№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0" y="2438280"/>
            <a:ext cx="8839080" cy="2916360"/>
            <a:chOff x="0" y="2438280"/>
            <a:chExt cx="8839080" cy="2916360"/>
          </a:xfrm>
        </p:grpSpPr>
        <p:graphicFrame>
          <p:nvGraphicFramePr>
            <p:cNvPr id="226" name=""/>
            <p:cNvGraphicFramePr/>
            <p:nvPr/>
          </p:nvGraphicFramePr>
          <p:xfrm>
            <a:off x="0" y="2438280"/>
            <a:ext cx="8839080" cy="29163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2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2438280"/>
                      <a:ext cx="8839080" cy="2916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28" name=""/>
            <p:cNvSpPr/>
            <p:nvPr/>
          </p:nvSpPr>
          <p:spPr>
            <a:xfrm flipH="1">
              <a:off x="1871640" y="3184560"/>
              <a:ext cx="70344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234120" y="2941560"/>
              <a:ext cx="736560" cy="1316160"/>
            </a:xfrm>
            <a:custGeom>
              <a:avLst/>
              <a:gdLst/>
              <a:ahLst/>
              <a:rect l="l" t="t" r="r" b="b"/>
              <a:pathLst>
                <a:path w="516" h="614">
                  <a:moveTo>
                    <a:pt x="516" y="0"/>
                  </a:moveTo>
                  <a:lnTo>
                    <a:pt x="232" y="0"/>
                  </a:lnTo>
                  <a:lnTo>
                    <a:pt x="232" y="614"/>
                  </a:lnTo>
                  <a:lnTo>
                    <a:pt x="0" y="61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233760" y="4589640"/>
              <a:ext cx="70308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3786120" y="2878200"/>
              <a:ext cx="7365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143240" y="3184560"/>
              <a:ext cx="384480" cy="801720"/>
            </a:xfrm>
            <a:custGeom>
              <a:avLst/>
              <a:gdLst/>
              <a:ahLst/>
              <a:rect l="l" t="t" r="r" b="b"/>
              <a:pathLst>
                <a:path w="270" h="561">
                  <a:moveTo>
                    <a:pt x="270" y="561"/>
                  </a:moveTo>
                  <a:lnTo>
                    <a:pt x="0" y="561"/>
                  </a:lnTo>
                  <a:lnTo>
                    <a:pt x="0" y="0"/>
                  </a:lnTo>
                  <a:lnTo>
                    <a:pt x="255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REATE VIEW C 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a, A.b, B.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,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A.a = B.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зд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Экземпляр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шение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ьзоват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нижная пол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о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сс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№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33520" y="2146320"/>
            <a:ext cx="8053200" cy="3263760"/>
            <a:chOff x="533520" y="2146320"/>
            <a:chExt cx="8053200" cy="3263760"/>
          </a:xfrm>
        </p:grpSpPr>
        <p:graphicFrame>
          <p:nvGraphicFramePr>
            <p:cNvPr id="237" name=""/>
            <p:cNvGraphicFramePr/>
            <p:nvPr/>
          </p:nvGraphicFramePr>
          <p:xfrm>
            <a:off x="615960" y="2146320"/>
            <a:ext cx="7970760" cy="326376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23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15960" y="2146320"/>
                      <a:ext cx="7970760" cy="3263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39" name=""/>
            <p:cNvSpPr/>
            <p:nvPr/>
          </p:nvSpPr>
          <p:spPr>
            <a:xfrm>
              <a:off x="2327400" y="2725920"/>
              <a:ext cx="64116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11560" y="2497320"/>
              <a:ext cx="662040" cy="14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273720" y="2497320"/>
              <a:ext cx="657360" cy="1171440"/>
            </a:xfrm>
            <a:custGeom>
              <a:avLst/>
              <a:gdLst/>
              <a:ahLst/>
              <a:rect l="l" t="t" r="r" b="b"/>
              <a:pathLst>
                <a:path w="516" h="614">
                  <a:moveTo>
                    <a:pt x="516" y="0"/>
                  </a:moveTo>
                  <a:lnTo>
                    <a:pt x="232" y="0"/>
                  </a:lnTo>
                  <a:lnTo>
                    <a:pt x="232" y="614"/>
                  </a:lnTo>
                  <a:lnTo>
                    <a:pt x="0" y="61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264360" y="3897360"/>
              <a:ext cx="666720" cy="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416480" y="2719440"/>
              <a:ext cx="358560" cy="768240"/>
            </a:xfrm>
            <a:custGeom>
              <a:avLst/>
              <a:gdLst/>
              <a:ahLst/>
              <a:rect l="l" t="t" r="r" b="b"/>
              <a:pathLst>
                <a:path w="270" h="561">
                  <a:moveTo>
                    <a:pt x="270" y="561"/>
                  </a:moveTo>
                  <a:lnTo>
                    <a:pt x="0" y="561"/>
                  </a:lnTo>
                  <a:lnTo>
                    <a:pt x="0" y="0"/>
                  </a:lnTo>
                  <a:lnTo>
                    <a:pt x="255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11560" y="2998800"/>
              <a:ext cx="685800" cy="1403280"/>
            </a:xfrm>
            <a:custGeom>
              <a:avLst/>
              <a:gdLst/>
              <a:ahLst/>
              <a:rect l="l" t="t" r="r" b="b"/>
              <a:pathLst>
                <a:path w="517" h="950">
                  <a:moveTo>
                    <a:pt x="517" y="950"/>
                  </a:moveTo>
                  <a:lnTo>
                    <a:pt x="232" y="950"/>
                  </a:lnTo>
                  <a:lnTo>
                    <a:pt x="232" y="0"/>
                  </a:lnTo>
                  <a:lnTo>
                    <a:pt x="0" y="0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3520" y="2739960"/>
              <a:ext cx="257040" cy="2090880"/>
            </a:xfrm>
            <a:custGeom>
              <a:avLst/>
              <a:gdLst/>
              <a:ahLst/>
              <a:rect l="l" t="t" r="r" b="b"/>
              <a:pathLst>
                <a:path w="144" h="1344">
                  <a:moveTo>
                    <a:pt x="144" y="0"/>
                  </a:moveTo>
                  <a:lnTo>
                    <a:pt x="0" y="0"/>
                  </a:lnTo>
                  <a:lnTo>
                    <a:pt x="0" y="1344"/>
                  </a:lnTo>
                  <a:lnTo>
                    <a:pt x="144" y="1344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урс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урс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логический указатель, который может использоваться в приложении для перемещения по набору строк, указывая поочередно на каждую из них и таким образом обеспечивая возможность адресации этих строк – по одной за один раз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CLARE C CURSOR F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a, A.b, B.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,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A.a = B.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PEN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ETCH C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анза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Транзак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это логическая единица работы, обычно включающая несколько операций над базой данных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нзакция начинается при выполнении операции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BEGIN TRANSAC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прекращается при выполнении операции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OMMI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ROLLBAC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Перевод денег со счета А на счет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BEGIN TRANSAC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ACCOUNT A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--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Списание денег со счета 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PDATE ACCOUNT B; --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Зачисление денег на счет 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 &lt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все выполнено нормально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THEN COMMIT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  -- Нормальное завер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 ROLLBACK;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 -- Аварийное заверш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4:30:36Z</dcterms:created>
  <dc:creator>lav</dc:creator>
  <dc:description/>
  <dc:language>en-US</dc:language>
  <cp:lastModifiedBy>support</cp:lastModifiedBy>
  <dcterms:modified xsi:type="dcterms:W3CDTF">2009-04-11T15:06:35Z</dcterms:modified>
  <cp:revision>146</cp:revision>
  <dc:subject/>
  <dc:title>Презентация PowerPoint</dc:title>
</cp:coreProperties>
</file>