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598C-D984-4CF0-ACFC-A3F93461B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E17A-72E8-4A44-9A59-66761851BA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1742-8C7D-4959-86FD-747ED327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B27D-25C8-4FC0-8A66-606001370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2A02-29CE-4CA4-8F63-66F17D879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4995-2924-4C23-9A5C-547C42211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3ED3-A657-42FA-904B-40FEACB9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2480B-2942-491B-8DC5-9B29D8D4A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3DCA-7E20-4018-AE7D-093C316CD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DAB4-1E8F-4BED-99E6-A346CB079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2AB0-6141-49C5-A4FC-BF8B60736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D46D-C2CE-4959-9540-D5618AEA4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F88E-7FA3-4B35-B416-9170F5C921B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ительные машин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ан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манда - это описание операции, которую должен выполнить компьютер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Группы команд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передачи данны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ческие и логические команд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Команды управл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стейшая ЭВ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857160" y="1908000"/>
            <a:ext cx="742968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1600200" y="477720"/>
            <a:ext cx="6107040" cy="5923080"/>
            <a:chOff x="1600200" y="477720"/>
            <a:chExt cx="6107040" cy="5923080"/>
          </a:xfrm>
        </p:grpSpPr>
        <p:sp>
          <p:nvSpPr>
            <p:cNvPr id="188" name=""/>
            <p:cNvSpPr/>
            <p:nvPr/>
          </p:nvSpPr>
          <p:spPr>
            <a:xfrm>
              <a:off x="5969880" y="805320"/>
              <a:ext cx="1066680" cy="1592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67880" y="78624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743520" y="804600"/>
              <a:ext cx="0" cy="160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248160" y="808920"/>
              <a:ext cx="0" cy="1596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928120" y="789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969880" y="2108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720480" y="781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39280" y="1726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308840" y="1726920"/>
              <a:ext cx="875880" cy="81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29880" y="16999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75600" y="17305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907160" y="1738080"/>
              <a:ext cx="0" cy="78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289760" y="17074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293720" y="2260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88412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28000" y="6984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47680" y="877680"/>
              <a:ext cx="7992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32640" y="70596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386880" y="911880"/>
              <a:ext cx="140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815200" y="77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929680" y="919440"/>
              <a:ext cx="1142640" cy="297000"/>
            </a:xfrm>
            <a:custGeom>
              <a:avLst/>
              <a:gdLst/>
              <a:ahLst/>
              <a:rect l="l" t="t" r="r" b="b"/>
              <a:pathLst>
                <a:path w="1800" h="468">
                  <a:moveTo>
                    <a:pt x="1572" y="0"/>
                  </a:moveTo>
                  <a:lnTo>
                    <a:pt x="1800" y="0"/>
                  </a:lnTo>
                  <a:lnTo>
                    <a:pt x="1800" y="468"/>
                  </a:lnTo>
                  <a:lnTo>
                    <a:pt x="0" y="468"/>
                  </a:lnTo>
                  <a:lnTo>
                    <a:pt x="0" y="210"/>
                  </a:lnTo>
                  <a:lnTo>
                    <a:pt x="162" y="2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"/>
            <p:cNvGrpSpPr/>
            <p:nvPr/>
          </p:nvGrpSpPr>
          <p:grpSpPr>
            <a:xfrm>
              <a:off x="4282200" y="767160"/>
              <a:ext cx="1016640" cy="841680"/>
              <a:chOff x="4282200" y="767160"/>
              <a:chExt cx="1016640" cy="841680"/>
            </a:xfrm>
          </p:grpSpPr>
          <p:sp>
            <p:nvSpPr>
              <p:cNvPr id="210" name=""/>
              <p:cNvSpPr/>
              <p:nvPr/>
            </p:nvSpPr>
            <p:spPr>
              <a:xfrm>
                <a:off x="4300920" y="797400"/>
                <a:ext cx="876240" cy="8114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4521960" y="770760"/>
                <a:ext cx="46476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4567680" y="801360"/>
                <a:ext cx="0" cy="79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4899240" y="808920"/>
                <a:ext cx="0" cy="78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4282200" y="77868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4285800" y="133092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876200" y="767160"/>
                <a:ext cx="422640" cy="274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Q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1965600" y="1711440"/>
              <a:ext cx="1352520" cy="106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2312640" y="1707480"/>
              <a:ext cx="643680" cy="47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A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6</a:t>
              </a:r>
              <a:r>
                <a:rPr b="0" lang="en-U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</a:t>
              </a: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56320" y="1726920"/>
              <a:ext cx="0" cy="103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323800" y="1715400"/>
              <a:ext cx="0" cy="105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923840" y="1696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33280" y="16772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931400" y="2077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923840" y="24400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741280" y="228744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4072680" y="91548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729440" y="222264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809680" y="2512080"/>
              <a:ext cx="1356120" cy="354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667200" y="25048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БУ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740960" y="477720"/>
              <a:ext cx="5714640" cy="1371600"/>
            </a:xfrm>
            <a:custGeom>
              <a:avLst/>
              <a:gdLst/>
              <a:ahLst/>
              <a:rect l="l" t="t" r="r" b="b"/>
              <a:pathLst>
                <a:path w="9000" h="2160">
                  <a:moveTo>
                    <a:pt x="8340" y="720"/>
                  </a:moveTo>
                  <a:lnTo>
                    <a:pt x="9000" y="720"/>
                  </a:lnTo>
                  <a:lnTo>
                    <a:pt x="9000" y="0"/>
                  </a:lnTo>
                  <a:lnTo>
                    <a:pt x="0" y="0"/>
                  </a:lnTo>
                  <a:lnTo>
                    <a:pt x="0" y="2160"/>
                  </a:lnTo>
                  <a:lnTo>
                    <a:pt x="360" y="216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166160" y="6793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177520" y="91548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280480" y="6606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196600" y="1849320"/>
              <a:ext cx="792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299560" y="15933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08080" y="20512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604120" y="18187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764320" y="158580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678400" y="557640"/>
              <a:ext cx="361800" cy="25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00200" y="1967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072680" y="1220400"/>
              <a:ext cx="236160" cy="1219320"/>
            </a:xfrm>
            <a:custGeom>
              <a:avLst/>
              <a:gdLst/>
              <a:ahLst/>
              <a:rect l="l" t="t" r="r" b="b"/>
              <a:pathLst>
                <a:path w="372" h="1920">
                  <a:moveTo>
                    <a:pt x="0" y="0"/>
                  </a:moveTo>
                  <a:lnTo>
                    <a:pt x="0" y="1920"/>
                  </a:lnTo>
                  <a:lnTo>
                    <a:pt x="372" y="19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042080" y="1193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318480" y="1830240"/>
              <a:ext cx="99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687840" y="157428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5400000">
              <a:off x="3954240" y="2943000"/>
              <a:ext cx="883800" cy="163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3592440" y="3594600"/>
              <a:ext cx="1608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3596040" y="3967920"/>
              <a:ext cx="160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8610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3577320" y="33202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748680" y="3323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061160" y="36324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122000" y="465372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3" name=""/>
            <p:cNvGrpSpPr/>
            <p:nvPr/>
          </p:nvGrpSpPr>
          <p:grpSpPr>
            <a:xfrm>
              <a:off x="3584520" y="4619520"/>
              <a:ext cx="925560" cy="666720"/>
              <a:chOff x="3584520" y="4619520"/>
              <a:chExt cx="925560" cy="666720"/>
            </a:xfrm>
          </p:grpSpPr>
          <p:sp>
            <p:nvSpPr>
              <p:cNvPr id="254" name=""/>
              <p:cNvSpPr/>
              <p:nvPr/>
            </p:nvSpPr>
            <p:spPr>
              <a:xfrm rot="5400000">
                <a:off x="3713760" y="448992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>
                <a:off x="3593520" y="482220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>
                <a:off x="3597480" y="507456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7" name=""/>
            <p:cNvSpPr/>
            <p:nvPr/>
          </p:nvSpPr>
          <p:spPr>
            <a:xfrm>
              <a:off x="4247640" y="45889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3543120" y="459288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996360" y="5042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255560" y="39373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851640" y="482544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>
              <a:off x="3920040" y="1830240"/>
              <a:ext cx="0" cy="1486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389340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95400" y="308772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592800" y="296208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3699000" y="4406040"/>
              <a:ext cx="0" cy="217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619440" y="42955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>
              <a:off x="4377240" y="4207680"/>
              <a:ext cx="0" cy="4114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9" name=""/>
            <p:cNvGrpSpPr/>
            <p:nvPr/>
          </p:nvGrpSpPr>
          <p:grpSpPr>
            <a:xfrm>
              <a:off x="3344760" y="5617800"/>
              <a:ext cx="925560" cy="666720"/>
              <a:chOff x="3344760" y="5617800"/>
              <a:chExt cx="925560" cy="666720"/>
            </a:xfrm>
          </p:grpSpPr>
          <p:sp>
            <p:nvSpPr>
              <p:cNvPr id="270" name=""/>
              <p:cNvSpPr/>
              <p:nvPr/>
            </p:nvSpPr>
            <p:spPr>
              <a:xfrm rot="5400000">
                <a:off x="3474000" y="5488200"/>
                <a:ext cx="666720" cy="9255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flipH="1">
                <a:off x="3353760" y="5820480"/>
                <a:ext cx="9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H="1">
                <a:off x="3357720" y="6072840"/>
                <a:ext cx="899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396972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318480" y="55872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64800" y="603684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11520" y="5816160"/>
              <a:ext cx="4647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V="1">
              <a:off x="4129560" y="5285880"/>
              <a:ext cx="7560" cy="346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35060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099320" y="53398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>
              <a:off x="347076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748520" y="2649600"/>
              <a:ext cx="2381040" cy="2724480"/>
            </a:xfrm>
            <a:custGeom>
              <a:avLst/>
              <a:gdLst/>
              <a:ahLst/>
              <a:rect l="l" t="t" r="r" b="b"/>
              <a:pathLst>
                <a:path w="3750" h="4290">
                  <a:moveTo>
                    <a:pt x="3750" y="4290"/>
                  </a:moveTo>
                  <a:lnTo>
                    <a:pt x="0" y="4290"/>
                  </a:lnTo>
                  <a:lnTo>
                    <a:pt x="0" y="0"/>
                  </a:lnTo>
                  <a:lnTo>
                    <a:pt x="342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099320" y="53470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05920" y="3200040"/>
              <a:ext cx="1600200" cy="3200760"/>
            </a:xfrm>
            <a:custGeom>
              <a:avLst/>
              <a:gdLst/>
              <a:ahLst/>
              <a:rect l="l" t="t" r="r" b="b"/>
              <a:pathLst>
                <a:path w="2520" h="5040">
                  <a:moveTo>
                    <a:pt x="0" y="4860"/>
                  </a:moveTo>
                  <a:lnTo>
                    <a:pt x="0" y="5040"/>
                  </a:lnTo>
                  <a:lnTo>
                    <a:pt x="2520" y="5040"/>
                  </a:lnTo>
                  <a:lnTo>
                    <a:pt x="2520" y="0"/>
                  </a:lnTo>
                  <a:lnTo>
                    <a:pt x="2022" y="0"/>
                  </a:lnTo>
                  <a:lnTo>
                    <a:pt x="2022" y="18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379480" y="42422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1721880" y="42346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440160" y="1803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85280" y="318276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77720" y="3758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77720" y="432612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785280" y="490140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777720" y="548064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210000" y="2619000"/>
              <a:ext cx="350280" cy="415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600960" y="2836080"/>
              <a:ext cx="180000" cy="2975760"/>
            </a:xfrm>
            <a:custGeom>
              <a:avLst/>
              <a:gdLst/>
              <a:ahLst/>
              <a:rect l="l" t="t" r="r" b="b"/>
              <a:pathLst>
                <a:path w="270" h="4458">
                  <a:moveTo>
                    <a:pt x="0" y="0"/>
                  </a:moveTo>
                  <a:lnTo>
                    <a:pt x="90" y="0"/>
                  </a:lnTo>
                  <a:lnTo>
                    <a:pt x="90" y="4458"/>
                  </a:lnTo>
                  <a:lnTo>
                    <a:pt x="270" y="44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67200" y="52484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6667200" y="466920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667200" y="409752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67200" y="3525840"/>
              <a:ext cx="11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36600" y="3495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40560" y="407088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636600" y="4638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636600" y="521784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6080" y="2797920"/>
              <a:ext cx="79560" cy="799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35920" y="34153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345440" y="3270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35920" y="3979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345440" y="3834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35920" y="455868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345440" y="44136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24400" y="512244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333920" y="497772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131960" y="5694120"/>
              <a:ext cx="21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341480" y="5549400"/>
              <a:ext cx="361800" cy="25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У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V="1">
              <a:off x="5634720" y="1829880"/>
              <a:ext cx="0" cy="379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210000" y="30952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52720" y="3316320"/>
              <a:ext cx="22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634720" y="3201840"/>
              <a:ext cx="559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206040" y="4234680"/>
              <a:ext cx="342720" cy="45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549120" y="445572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969880" y="388800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6087960" y="3316320"/>
              <a:ext cx="121680" cy="1257120"/>
            </a:xfrm>
            <a:custGeom>
              <a:avLst/>
              <a:gdLst/>
              <a:ahLst/>
              <a:rect l="l" t="t" r="r" b="b"/>
              <a:pathLst>
                <a:path w="192" h="1980">
                  <a:moveTo>
                    <a:pt x="180" y="1980"/>
                  </a:moveTo>
                  <a:lnTo>
                    <a:pt x="0" y="1980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53760" y="4538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977440" y="3201840"/>
              <a:ext cx="228240" cy="1150560"/>
            </a:xfrm>
            <a:custGeom>
              <a:avLst/>
              <a:gdLst/>
              <a:ahLst/>
              <a:rect l="l" t="t" r="r" b="b"/>
              <a:pathLst>
                <a:path w="360" h="1812">
                  <a:moveTo>
                    <a:pt x="0" y="0"/>
                  </a:moveTo>
                  <a:lnTo>
                    <a:pt x="0" y="1812"/>
                  </a:lnTo>
                  <a:lnTo>
                    <a:pt x="360" y="18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950800" y="31716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634720" y="5031000"/>
              <a:ext cx="115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863320" y="3430440"/>
              <a:ext cx="342720" cy="1600200"/>
            </a:xfrm>
            <a:custGeom>
              <a:avLst/>
              <a:gdLst/>
              <a:ahLst/>
              <a:rect l="l" t="t" r="r" b="b"/>
              <a:pathLst>
                <a:path w="540" h="2520">
                  <a:moveTo>
                    <a:pt x="0" y="2520"/>
                  </a:moveTo>
                  <a:lnTo>
                    <a:pt x="0" y="0"/>
                  </a:lnTo>
                  <a:lnTo>
                    <a:pt x="5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832720" y="50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634720" y="5602680"/>
              <a:ext cx="1143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72680" y="2409480"/>
              <a:ext cx="2125800" cy="430560"/>
            </a:xfrm>
            <a:custGeom>
              <a:avLst/>
              <a:gdLst/>
              <a:ahLst/>
              <a:rect l="l" t="t" r="r" b="b"/>
              <a:pathLst>
                <a:path w="4098" h="618">
                  <a:moveTo>
                    <a:pt x="4098" y="618"/>
                  </a:moveTo>
                  <a:lnTo>
                    <a:pt x="0" y="61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42080" y="240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V="1">
              <a:off x="3756240" y="177660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V="1">
              <a:off x="1695240" y="43142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V="1">
              <a:off x="5364360" y="17877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5329800" y="86184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4323960" y="430272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813640" y="17841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608080" y="2474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573880" y="25462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348880" y="430668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4072680" y="54309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7254000" y="873360"/>
              <a:ext cx="114120" cy="11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69840" y="531000"/>
              <a:ext cx="1432440" cy="81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06920" y="48528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950800" y="3852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5638320" y="4568760"/>
              <a:ext cx="445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а команд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228600" y="1752480"/>
            <a:ext cx="8686440" cy="4952880"/>
            <a:chOff x="228600" y="1752480"/>
            <a:chExt cx="8686440" cy="4952880"/>
          </a:xfrm>
        </p:grpSpPr>
        <p:grpSp>
          <p:nvGrpSpPr>
            <p:cNvPr id="347" name=""/>
            <p:cNvGrpSpPr/>
            <p:nvPr/>
          </p:nvGrpSpPr>
          <p:grpSpPr>
            <a:xfrm>
              <a:off x="236520" y="1757160"/>
              <a:ext cx="8668800" cy="4942440"/>
              <a:chOff x="236520" y="1757160"/>
              <a:chExt cx="8668800" cy="4942440"/>
            </a:xfrm>
          </p:grpSpPr>
          <p:grpSp>
            <p:nvGrpSpPr>
              <p:cNvPr id="348" name=""/>
              <p:cNvGrpSpPr/>
              <p:nvPr/>
            </p:nvGrpSpPr>
            <p:grpSpPr>
              <a:xfrm>
                <a:off x="236520" y="1757160"/>
                <a:ext cx="1837800" cy="678240"/>
                <a:chOff x="236520" y="1757160"/>
                <a:chExt cx="1837800" cy="67824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356040" y="1757160"/>
                  <a:ext cx="1599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Код</a:t>
                  </a:r>
                  <a:r>
                    <a:rPr b="1" lang="en-US" sz="24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36520" y="1757160"/>
                  <a:ext cx="183780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2074680" y="1757160"/>
                <a:ext cx="2171520" cy="678240"/>
                <a:chOff x="2074680" y="1757160"/>
                <a:chExt cx="2171520" cy="67824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2194200" y="1757160"/>
                  <a:ext cx="193212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немоника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2074680" y="1757160"/>
                  <a:ext cx="217152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246560" y="1757160"/>
                <a:ext cx="4658760" cy="678240"/>
                <a:chOff x="4246560" y="1757160"/>
                <a:chExt cx="4658760" cy="67824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365360" y="1757160"/>
                  <a:ext cx="4420800" cy="678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писание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246560" y="1757160"/>
                  <a:ext cx="4658760" cy="678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236520" y="2435760"/>
                <a:ext cx="1837800" cy="1065240"/>
                <a:chOff x="236520" y="2435760"/>
                <a:chExt cx="1837800" cy="10652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56040" y="2435760"/>
                  <a:ext cx="1599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236520" y="2435760"/>
                  <a:ext cx="183780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074680" y="2435760"/>
                <a:ext cx="2171520" cy="1065240"/>
                <a:chOff x="2074680" y="2435760"/>
                <a:chExt cx="2171520" cy="10652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194200" y="2435760"/>
                  <a:ext cx="193212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LO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074680" y="2435760"/>
                  <a:ext cx="217152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4246560" y="2435760"/>
                <a:ext cx="4658760" cy="1065240"/>
                <a:chOff x="4246560" y="2435760"/>
                <a:chExt cx="4658760" cy="10652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4365360" y="2435760"/>
                  <a:ext cx="4420800" cy="106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Загрузка в аккумулятор двоичного кода числа из ячейки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4246560" y="2435760"/>
                  <a:ext cx="4658760" cy="10652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236520" y="3501720"/>
                <a:ext cx="1837800" cy="1065600"/>
                <a:chOff x="236520" y="3501720"/>
                <a:chExt cx="1837800" cy="106560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356040" y="3501720"/>
                  <a:ext cx="1599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236520" y="3501720"/>
                  <a:ext cx="183780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2074680" y="3501720"/>
                <a:ext cx="2171520" cy="1065600"/>
                <a:chOff x="2074680" y="3501720"/>
                <a:chExt cx="2171520" cy="106560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2194200" y="3501720"/>
                  <a:ext cx="193212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STO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2074680" y="3501720"/>
                  <a:ext cx="217152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4246560" y="3501720"/>
                <a:ext cx="4658760" cy="1065600"/>
                <a:chOff x="4246560" y="3501720"/>
                <a:chExt cx="4658760" cy="106560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4365360" y="3501720"/>
                  <a:ext cx="4420800" cy="106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хранение двоичного кода числа,  хранящегося в аккумуляторе, в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4246560" y="3501720"/>
                  <a:ext cx="4658760" cy="10656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236520" y="4568040"/>
                <a:ext cx="1837800" cy="1258920"/>
                <a:chOff x="236520" y="4568040"/>
                <a:chExt cx="1837800" cy="12589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040" y="4568040"/>
                  <a:ext cx="1599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4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236520" y="4568040"/>
                  <a:ext cx="183780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2074680" y="4568040"/>
                <a:ext cx="2171520" cy="1258920"/>
                <a:chOff x="2074680" y="4568040"/>
                <a:chExt cx="2171520" cy="12589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2194200" y="4568040"/>
                  <a:ext cx="193212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ADD P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2074680" y="4568040"/>
                  <a:ext cx="217152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4246560" y="4568040"/>
                <a:ext cx="4658760" cy="1258920"/>
                <a:chOff x="4246560" y="4568040"/>
                <a:chExt cx="4658760" cy="125892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4365360" y="4568040"/>
                  <a:ext cx="4420800" cy="1258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уммирование двоичных кодов чисел, хранящихся в аккумуляторе и ячейке памяти с адресом </a:t>
                  </a: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P</a:t>
                  </a:r>
                  <a:r>
                    <a:rPr b="0" lang="ru-RU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, с записью результата в аккумулято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4246560" y="4568040"/>
                  <a:ext cx="4658760" cy="12589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36520" y="5827320"/>
                <a:ext cx="1837800" cy="872280"/>
                <a:chOff x="236520" y="5827320"/>
                <a:chExt cx="1837800" cy="87228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356040" y="5827320"/>
                  <a:ext cx="1599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8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36520" y="5827320"/>
                  <a:ext cx="183780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2074680" y="5827320"/>
                <a:ext cx="2171520" cy="872280"/>
                <a:chOff x="2074680" y="5827320"/>
                <a:chExt cx="2171520" cy="87228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2194200" y="5827320"/>
                  <a:ext cx="193212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Courier New"/>
                      <a:ea typeface="Courier New"/>
                    </a:rPr>
                    <a:t>HLT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2074680" y="5827320"/>
                  <a:ext cx="217152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246560" y="5827320"/>
                <a:ext cx="4658760" cy="872280"/>
                <a:chOff x="4246560" y="5827320"/>
                <a:chExt cx="4658760" cy="87228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365360" y="5827320"/>
                  <a:ext cx="4420800" cy="872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рекращение выполнения программы 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246560" y="5827320"/>
                  <a:ext cx="4658760" cy="8722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93" name=""/>
            <p:cNvSpPr/>
            <p:nvPr/>
          </p:nvSpPr>
          <p:spPr>
            <a:xfrm>
              <a:off x="228600" y="1752480"/>
              <a:ext cx="8686440" cy="49528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нешние устройст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внешней памяти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видеомонитор (дисплей)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виатур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манипуляторы джойстик, мышь, трекбол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интеры;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канер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устройства связ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лавиату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2547720" y="1600200"/>
            <a:ext cx="4996080" cy="5060520"/>
            <a:chOff x="2547720" y="1600200"/>
            <a:chExt cx="4996080" cy="5060520"/>
          </a:xfrm>
        </p:grpSpPr>
        <p:sp>
          <p:nvSpPr>
            <p:cNvPr id="398" name=""/>
            <p:cNvSpPr/>
            <p:nvPr/>
          </p:nvSpPr>
          <p:spPr>
            <a:xfrm rot="5400000">
              <a:off x="3093840" y="2682360"/>
              <a:ext cx="898920" cy="199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380760" y="3222720"/>
              <a:ext cx="4226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249440" y="32590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07240" y="3564000"/>
              <a:ext cx="6436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58408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090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3420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7960" y="388944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249440" y="36208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rot="5400000">
              <a:off x="4994640" y="1325520"/>
              <a:ext cx="898920" cy="1447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683960" y="189900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089680" y="191988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472032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08212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5444280" y="2260800"/>
              <a:ext cx="3769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806080" y="226080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380760" y="2695320"/>
              <a:ext cx="47052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561480" y="2933280"/>
              <a:ext cx="0" cy="289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88480" y="1600200"/>
              <a:ext cx="552240" cy="904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ГТИ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40720" y="2053440"/>
              <a:ext cx="579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539240" y="2499120"/>
              <a:ext cx="361800" cy="904680"/>
            </a:xfrm>
            <a:custGeom>
              <a:avLst/>
              <a:gdLst/>
              <a:ahLst/>
              <a:rect l="l" t="t" r="r" b="b"/>
              <a:pathLst>
                <a:path w="570" h="1425">
                  <a:moveTo>
                    <a:pt x="570" y="0"/>
                  </a:moveTo>
                  <a:lnTo>
                    <a:pt x="570" y="1425"/>
                  </a:lnTo>
                  <a:lnTo>
                    <a:pt x="0" y="142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539240" y="2499120"/>
              <a:ext cx="723960" cy="1266480"/>
            </a:xfrm>
            <a:custGeom>
              <a:avLst/>
              <a:gdLst/>
              <a:ahLst/>
              <a:rect l="l" t="t" r="r" b="b"/>
              <a:pathLst>
                <a:path w="1140" h="1995">
                  <a:moveTo>
                    <a:pt x="1140" y="0"/>
                  </a:moveTo>
                  <a:lnTo>
                    <a:pt x="1140" y="1995"/>
                  </a:lnTo>
                  <a:lnTo>
                    <a:pt x="0" y="1995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rot="10800000">
              <a:off x="5263200" y="4670280"/>
              <a:ext cx="899280" cy="199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6253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87160" y="2499120"/>
              <a:ext cx="0" cy="217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202360" y="472176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202360" y="524952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190840" y="580788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190840" y="6371640"/>
              <a:ext cx="4230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5863320" y="5539320"/>
              <a:ext cx="37728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48028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5842440" y="4634280"/>
              <a:ext cx="36180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371560" y="5554440"/>
              <a:ext cx="644040" cy="27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72880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982600" y="648000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685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946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272880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2990160" y="593748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2692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953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736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982600" y="539424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685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946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72880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982600" y="4851360"/>
              <a:ext cx="228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685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946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2880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7204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22812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8912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27204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23568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49704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27960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22812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48912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27204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22812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8912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27204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81492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77136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3236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81492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77892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3992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2284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77136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3236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1492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77136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403236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1492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358160" y="4127760"/>
              <a:ext cx="0" cy="2098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314240" y="619056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75240" y="644400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358160" y="62265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321800" y="564768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582800" y="59011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365720" y="568404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314240" y="510480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575240" y="53582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358160" y="514116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314240" y="4561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4575240" y="481536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358160" y="4597920"/>
              <a:ext cx="289440" cy="18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01040" y="2680200"/>
              <a:ext cx="1447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63200" y="2860920"/>
              <a:ext cx="1086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625360" y="3042000"/>
              <a:ext cx="723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5987160" y="3222720"/>
              <a:ext cx="361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4857120" y="26438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5219280" y="282492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581440" y="3005640"/>
              <a:ext cx="79920" cy="79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43240" y="3186720"/>
              <a:ext cx="79920" cy="79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168240" y="5684040"/>
              <a:ext cx="180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421680" y="5575320"/>
              <a:ext cx="104976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Прерывание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385320" y="2680200"/>
              <a:ext cx="144720" cy="542520"/>
            </a:xfrm>
            <a:custGeom>
              <a:avLst/>
              <a:gdLst>
                <a:gd name="textAreaLeft" fmla="*/ 0 w 144720"/>
                <a:gd name="textAreaRight" fmla="*/ 52200 w 144720"/>
                <a:gd name="textAreaTop" fmla="*/ 14040 h 542520"/>
                <a:gd name="textAreaBottom" fmla="*/ 528480 h 5425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494040" y="2794320"/>
              <a:ext cx="1049760" cy="3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Скан-код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очность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й на компьютер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, с которым возможно представление чисел в компьютере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Машинная эпсил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эпсилоном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из чисел, удовлетворяющих условию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, т.е.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in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{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 1+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&gt;1}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личина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 округлении методом отсечения определяется по формуле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а при округлении методом дополнения –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ый ноль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ным нулем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называется наименьшее представимое на компьютере положительное число, т.е. для любого другого представимого на компьютере числ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будет выполняться неравенство: 0&lt;</a:t>
            </a:r>
            <a:r>
              <a:rPr b="0" i="1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|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|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5" name=""/>
          <p:cNvGraphicFramePr/>
          <p:nvPr/>
        </p:nvGraphicFramePr>
        <p:xfrm>
          <a:off x="7772400" y="4086360"/>
          <a:ext cx="68580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4086360"/>
                    <a:ext cx="68580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ая бесконе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ной бесконечностью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зывается наименьшее из чисел удовлетворяющих неравенству |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|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–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любое число, которое можно представить на компьютере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еличина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определяется по формул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Symbol"/>
                <a:ea typeface="Symbol"/>
              </a:rPr>
              <a:t>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 </a:t>
            </a:r>
            <a:r>
              <a:rPr b="0" i="1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– количество разрядов, отведенное для хранения порядка числа в представлении с плавающей точк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9" name=""/>
          <p:cNvGraphicFramePr/>
          <p:nvPr/>
        </p:nvGraphicFramePr>
        <p:xfrm>
          <a:off x="7772400" y="3657600"/>
          <a:ext cx="78408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72400" y="3657600"/>
                    <a:ext cx="78408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опреде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ЭВ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это многофункциональное электронное устройство для накопления, обработки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лассы ЭВМ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Цифр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налоговые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г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с которым возможно представление чисел в компьютере определяется по формул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где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порядок числа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количество разрядов, отведенное для хранения мантиссы числа в представлении с плавающей точкой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3" name=""/>
          <p:cNvGraphicFramePr/>
          <p:nvPr/>
        </p:nvGraphicFramePr>
        <p:xfrm>
          <a:off x="2895480" y="2949480"/>
          <a:ext cx="914400" cy="55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949480"/>
                    <a:ext cx="914400" cy="55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1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ть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тогда 0.01-0.011+1=1,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в то же время 1-0.011+0.01=0.999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усть 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en-US" sz="2800" spc="-1" strike="noStrike" baseline="-30000">
                <a:solidFill>
                  <a:srgbClr val="000000"/>
                </a:solidFill>
                <a:latin typeface="Arial Unicode MS"/>
                <a:ea typeface="Times New Roman"/>
              </a:rPr>
              <a:t>m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=10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 Unicode MS"/>
                <a:ea typeface="Times New Roman"/>
              </a:rPr>
              <a:t>-2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и требуется вычислить сумму 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100+0.1+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.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/* 2000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агаемых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*/...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выборе формулы и порядка вычислений следует избегать вычитания близких чисел и деления на малые величины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переполнении или исчезновения порядка следует попытаться изменить последовательность действий, ввести масштабные коэффициен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и сложении следует располагать слагаемые в порядке возрастания абсолютных величин, стараясь, чтобы при каждом сложении порядки величин различались мало. При необходимости цикл суммирования разбивается на несколько более коротких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нципы постро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двоичного кодирова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программного управл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однородности памя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нцип адресност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бло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центральный процессор (ЦП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рифметико-логическое устройство (АЛУ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блок управления (БУ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регистры (Р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сновная память (ОП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438280" y="2019240"/>
            <a:ext cx="4190400" cy="3848040"/>
            <a:chOff x="2438280" y="2019240"/>
            <a:chExt cx="4190400" cy="3848040"/>
          </a:xfrm>
        </p:grpSpPr>
        <p:grpSp>
          <p:nvGrpSpPr>
            <p:cNvPr id="51" name=""/>
            <p:cNvGrpSpPr/>
            <p:nvPr/>
          </p:nvGrpSpPr>
          <p:grpSpPr>
            <a:xfrm>
              <a:off x="2449440" y="2023920"/>
              <a:ext cx="4166280" cy="3838680"/>
              <a:chOff x="2449440" y="2023920"/>
              <a:chExt cx="4166280" cy="3838680"/>
            </a:xfrm>
          </p:grpSpPr>
          <p:grpSp>
            <p:nvGrpSpPr>
              <p:cNvPr id="52" name=""/>
              <p:cNvGrpSpPr/>
              <p:nvPr/>
            </p:nvGrpSpPr>
            <p:grpSpPr>
              <a:xfrm>
                <a:off x="2449440" y="2023920"/>
                <a:ext cx="1750680" cy="639720"/>
                <a:chOff x="2449440" y="2023920"/>
                <a:chExt cx="1750680" cy="639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2615400" y="202392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Адрес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2449440" y="202392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" name=""/>
              <p:cNvGrpSpPr/>
              <p:nvPr/>
            </p:nvGrpSpPr>
            <p:grpSpPr>
              <a:xfrm>
                <a:off x="4200840" y="2023920"/>
                <a:ext cx="2414880" cy="639720"/>
                <a:chOff x="4200840" y="2023920"/>
                <a:chExt cx="2414880" cy="639720"/>
              </a:xfrm>
            </p:grpSpPr>
            <p:sp>
              <p:nvSpPr>
                <p:cNvPr id="56" name=""/>
                <p:cNvSpPr/>
                <p:nvPr/>
              </p:nvSpPr>
              <p:spPr>
                <a:xfrm>
                  <a:off x="4366800" y="202392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Ячейка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4200840" y="202392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8" name=""/>
              <p:cNvGrpSpPr/>
              <p:nvPr/>
            </p:nvGrpSpPr>
            <p:grpSpPr>
              <a:xfrm>
                <a:off x="2449440" y="2663640"/>
                <a:ext cx="1750680" cy="639720"/>
                <a:chOff x="2449440" y="2663640"/>
                <a:chExt cx="1750680" cy="639720"/>
              </a:xfrm>
            </p:grpSpPr>
            <p:sp>
              <p:nvSpPr>
                <p:cNvPr id="59" name=""/>
                <p:cNvSpPr/>
                <p:nvPr/>
              </p:nvSpPr>
              <p:spPr>
                <a:xfrm>
                  <a:off x="2615400" y="266364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449440" y="266364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1" name=""/>
              <p:cNvGrpSpPr/>
              <p:nvPr/>
            </p:nvGrpSpPr>
            <p:grpSpPr>
              <a:xfrm>
                <a:off x="4200840" y="2663640"/>
                <a:ext cx="2414880" cy="639720"/>
                <a:chOff x="4200840" y="2663640"/>
                <a:chExt cx="2414880" cy="63972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4366800" y="266364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010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840" y="266364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4" name=""/>
              <p:cNvGrpSpPr/>
              <p:nvPr/>
            </p:nvGrpSpPr>
            <p:grpSpPr>
              <a:xfrm>
                <a:off x="2449440" y="3303360"/>
                <a:ext cx="1750680" cy="639720"/>
                <a:chOff x="2449440" y="3303360"/>
                <a:chExt cx="1750680" cy="639720"/>
              </a:xfrm>
            </p:grpSpPr>
            <p:sp>
              <p:nvSpPr>
                <p:cNvPr id="65" name=""/>
                <p:cNvSpPr/>
                <p:nvPr/>
              </p:nvSpPr>
              <p:spPr>
                <a:xfrm>
                  <a:off x="2615400" y="330336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449440" y="330336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" name=""/>
              <p:cNvGrpSpPr/>
              <p:nvPr/>
            </p:nvGrpSpPr>
            <p:grpSpPr>
              <a:xfrm>
                <a:off x="4200840" y="3303360"/>
                <a:ext cx="2414880" cy="639720"/>
                <a:chOff x="4200840" y="3303360"/>
                <a:chExt cx="2414880" cy="63972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4366800" y="330336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101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200840" y="330336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0" name=""/>
              <p:cNvGrpSpPr/>
              <p:nvPr/>
            </p:nvGrpSpPr>
            <p:grpSpPr>
              <a:xfrm>
                <a:off x="2449440" y="3943080"/>
                <a:ext cx="1750680" cy="639720"/>
                <a:chOff x="2449440" y="3943080"/>
                <a:chExt cx="1750680" cy="63972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2615400" y="39430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0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2449440" y="39430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3" name=""/>
              <p:cNvGrpSpPr/>
              <p:nvPr/>
            </p:nvGrpSpPr>
            <p:grpSpPr>
              <a:xfrm>
                <a:off x="4200840" y="3943080"/>
                <a:ext cx="2414880" cy="639720"/>
                <a:chOff x="4200840" y="3943080"/>
                <a:chExt cx="2414880" cy="639720"/>
              </a:xfrm>
            </p:grpSpPr>
            <p:sp>
              <p:nvSpPr>
                <p:cNvPr id="74" name=""/>
                <p:cNvSpPr/>
                <p:nvPr/>
              </p:nvSpPr>
              <p:spPr>
                <a:xfrm>
                  <a:off x="4366800" y="39430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110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4200840" y="39430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6" name=""/>
              <p:cNvGrpSpPr/>
              <p:nvPr/>
            </p:nvGrpSpPr>
            <p:grpSpPr>
              <a:xfrm>
                <a:off x="2449440" y="4582800"/>
                <a:ext cx="1750680" cy="640080"/>
                <a:chOff x="2449440" y="4582800"/>
                <a:chExt cx="1750680" cy="640080"/>
              </a:xfrm>
            </p:grpSpPr>
            <p:sp>
              <p:nvSpPr>
                <p:cNvPr id="77" name=""/>
                <p:cNvSpPr/>
                <p:nvPr/>
              </p:nvSpPr>
              <p:spPr>
                <a:xfrm>
                  <a:off x="2615400" y="4582800"/>
                  <a:ext cx="14184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"/>
                <p:cNvSpPr/>
                <p:nvPr/>
              </p:nvSpPr>
              <p:spPr>
                <a:xfrm>
                  <a:off x="2449440" y="4582800"/>
                  <a:ext cx="17506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9" name=""/>
              <p:cNvGrpSpPr/>
              <p:nvPr/>
            </p:nvGrpSpPr>
            <p:grpSpPr>
              <a:xfrm>
                <a:off x="4200840" y="4582800"/>
                <a:ext cx="2414880" cy="640080"/>
                <a:chOff x="4200840" y="4582800"/>
                <a:chExt cx="2414880" cy="640080"/>
              </a:xfrm>
            </p:grpSpPr>
            <p:sp>
              <p:nvSpPr>
                <p:cNvPr id="80" name=""/>
                <p:cNvSpPr/>
                <p:nvPr/>
              </p:nvSpPr>
              <p:spPr>
                <a:xfrm>
                  <a:off x="4366800" y="4582800"/>
                  <a:ext cx="20826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…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1" name=""/>
                <p:cNvSpPr/>
                <p:nvPr/>
              </p:nvSpPr>
              <p:spPr>
                <a:xfrm>
                  <a:off x="4200840" y="4582800"/>
                  <a:ext cx="241488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2" name=""/>
              <p:cNvGrpSpPr/>
              <p:nvPr/>
            </p:nvGrpSpPr>
            <p:grpSpPr>
              <a:xfrm>
                <a:off x="2449440" y="5222880"/>
                <a:ext cx="1750680" cy="639720"/>
                <a:chOff x="2449440" y="5222880"/>
                <a:chExt cx="1750680" cy="639720"/>
              </a:xfrm>
            </p:grpSpPr>
            <p:sp>
              <p:nvSpPr>
                <p:cNvPr id="83" name=""/>
                <p:cNvSpPr/>
                <p:nvPr/>
              </p:nvSpPr>
              <p:spPr>
                <a:xfrm>
                  <a:off x="2615400" y="5222880"/>
                  <a:ext cx="14184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1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>
                  <a:off x="2449440" y="5222880"/>
                  <a:ext cx="17506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5" name=""/>
              <p:cNvGrpSpPr/>
              <p:nvPr/>
            </p:nvGrpSpPr>
            <p:grpSpPr>
              <a:xfrm>
                <a:off x="4200840" y="5222880"/>
                <a:ext cx="2414880" cy="639720"/>
                <a:chOff x="4200840" y="5222880"/>
                <a:chExt cx="2414880" cy="63972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4366800" y="5222880"/>
                  <a:ext cx="20826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010111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4200840" y="5222880"/>
                  <a:ext cx="241488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8" name=""/>
            <p:cNvSpPr/>
            <p:nvPr/>
          </p:nvSpPr>
          <p:spPr>
            <a:xfrm>
              <a:off x="2438280" y="2019240"/>
              <a:ext cx="4190400" cy="38480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ая памя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752480" y="1447920"/>
            <a:ext cx="5815080" cy="4865040"/>
            <a:chOff x="1752480" y="1447920"/>
            <a:chExt cx="5815080" cy="4865040"/>
          </a:xfrm>
        </p:grpSpPr>
        <p:sp>
          <p:nvSpPr>
            <p:cNvPr id="91" name=""/>
            <p:cNvSpPr/>
            <p:nvPr/>
          </p:nvSpPr>
          <p:spPr>
            <a:xfrm>
              <a:off x="4457520" y="15429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708800" y="1542960"/>
              <a:ext cx="0" cy="9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4708800" y="15886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57520" y="15926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449960" y="22442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169960" y="170892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752480" y="415656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W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449960" y="2907360"/>
              <a:ext cx="708480" cy="982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701240" y="2907360"/>
              <a:ext cx="0" cy="986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701240" y="2953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R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449960" y="29566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42400" y="36082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162400" y="3071160"/>
              <a:ext cx="308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690080" y="25225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470920" y="1592640"/>
              <a:ext cx="135216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17600" y="157356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MU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461640" y="160776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29120" y="159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428800" y="15775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504400" y="22568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463360" y="33228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450120" y="156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823440" y="1710720"/>
              <a:ext cx="2397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428800" y="2930040"/>
              <a:ext cx="46872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32320" y="159624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979360" y="157752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623040" y="161172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990520" y="160020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590560" y="158112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624760" y="33264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9852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985200" y="309780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607920" y="15735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683520" y="2253240"/>
              <a:ext cx="27108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584880" y="29530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56400" y="171468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643840" y="4202280"/>
              <a:ext cx="1352520" cy="21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990520" y="4183200"/>
              <a:ext cx="64368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M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34560" y="4217400"/>
              <a:ext cx="0" cy="209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002040" y="4206240"/>
              <a:ext cx="0" cy="2099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602080" y="4187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636280" y="593316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619440" y="4179600"/>
              <a:ext cx="42264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95040" y="4858920"/>
              <a:ext cx="27072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96400" y="5559480"/>
              <a:ext cx="46836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6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163960" y="3479040"/>
              <a:ext cx="4798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992760" y="2400480"/>
              <a:ext cx="468360" cy="1935720"/>
            </a:xfrm>
            <a:custGeom>
              <a:avLst/>
              <a:gdLst/>
              <a:ahLst/>
              <a:rect l="l" t="t" r="r" b="b"/>
              <a:pathLst>
                <a:path w="738" h="3048">
                  <a:moveTo>
                    <a:pt x="0" y="3048"/>
                  </a:moveTo>
                  <a:lnTo>
                    <a:pt x="228" y="3048"/>
                  </a:lnTo>
                  <a:lnTo>
                    <a:pt x="228" y="0"/>
                  </a:lnTo>
                  <a:lnTo>
                    <a:pt x="738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92760" y="3764520"/>
              <a:ext cx="457200" cy="1943280"/>
            </a:xfrm>
            <a:custGeom>
              <a:avLst/>
              <a:gdLst/>
              <a:ahLst/>
              <a:rect l="l" t="t" r="r" b="b"/>
              <a:pathLst>
                <a:path w="720" h="3060">
                  <a:moveTo>
                    <a:pt x="0" y="3060"/>
                  </a:moveTo>
                  <a:lnTo>
                    <a:pt x="498" y="3060"/>
                  </a:lnTo>
                  <a:lnTo>
                    <a:pt x="498" y="0"/>
                  </a:lnTo>
                  <a:lnTo>
                    <a:pt x="72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163960" y="4316760"/>
              <a:ext cx="47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480040" y="3479040"/>
              <a:ext cx="159840" cy="2598480"/>
            </a:xfrm>
            <a:custGeom>
              <a:avLst/>
              <a:gdLst/>
              <a:ahLst/>
              <a:rect l="l" t="t" r="r" b="b"/>
              <a:pathLst>
                <a:path w="252" h="4092">
                  <a:moveTo>
                    <a:pt x="0" y="0"/>
                  </a:moveTo>
                  <a:lnTo>
                    <a:pt x="0" y="4092"/>
                  </a:lnTo>
                  <a:lnTo>
                    <a:pt x="252" y="4092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480040" y="3479040"/>
              <a:ext cx="2990880" cy="571320"/>
            </a:xfrm>
            <a:custGeom>
              <a:avLst/>
              <a:gdLst/>
              <a:ahLst/>
              <a:rect l="l" t="t" r="r" b="b"/>
              <a:pathLst>
                <a:path w="4710" h="900">
                  <a:moveTo>
                    <a:pt x="0" y="900"/>
                  </a:moveTo>
                  <a:lnTo>
                    <a:pt x="4500" y="900"/>
                  </a:lnTo>
                  <a:lnTo>
                    <a:pt x="4500" y="0"/>
                  </a:lnTo>
                  <a:lnTo>
                    <a:pt x="4710" y="0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775160" y="33188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755000" y="155844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063560" y="1565280"/>
              <a:ext cx="504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449440" y="34560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453400" y="40233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2342880" y="166896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335320" y="146304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 flipV="1">
              <a:off x="2335320" y="34178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327760" y="321228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 flipV="1">
              <a:off x="6876720" y="165744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69160" y="1451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4152600" y="166500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145040" y="145944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V="1">
              <a:off x="4171680" y="30520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4164120" y="284652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5257440" y="16534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249880" y="1447920"/>
              <a:ext cx="26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5265360" y="3017880"/>
              <a:ext cx="56880" cy="10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257440" y="2811960"/>
              <a:ext cx="26640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8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словное обознач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11560" y="2205000"/>
            <a:ext cx="2355840" cy="305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924360" y="2284560"/>
            <a:ext cx="9349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851280" y="2205000"/>
            <a:ext cx="0" cy="30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32360" y="2205000"/>
            <a:ext cx="0" cy="3062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317760" y="2305080"/>
            <a:ext cx="113688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327480" y="3338640"/>
            <a:ext cx="113832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948200" y="2274840"/>
            <a:ext cx="11365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840200" y="2674800"/>
            <a:ext cx="7286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54304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556000" y="357336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567400" y="2543040"/>
            <a:ext cx="646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327480" y="4437000"/>
            <a:ext cx="1138320" cy="73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556000" y="4672080"/>
            <a:ext cx="645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регистр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состояния (Р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ккумулятор (А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команд (Р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адреса (РА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регистр данных (РД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четчик команд (СК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ЦП и ОП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1025640" y="3200400"/>
            <a:ext cx="7051680" cy="1590480"/>
            <a:chOff x="1025640" y="3200400"/>
            <a:chExt cx="7051680" cy="1590480"/>
          </a:xfrm>
        </p:grpSpPr>
        <p:sp>
          <p:nvSpPr>
            <p:cNvPr id="179" name=""/>
            <p:cNvSpPr/>
            <p:nvPr/>
          </p:nvSpPr>
          <p:spPr>
            <a:xfrm>
              <a:off x="1025640" y="320904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Ц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65720" y="3200400"/>
              <a:ext cx="1911600" cy="1581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ОП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991240" y="3742560"/>
              <a:ext cx="3128760" cy="542520"/>
            </a:xfrm>
            <a:prstGeom prst="leftRightArrow">
              <a:avLst>
                <a:gd name="adj1" fmla="val 43889"/>
                <a:gd name="adj2" fmla="val 8565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757680" y="3290400"/>
              <a:ext cx="1514880" cy="65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Шина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9-02-13T00:41:07Z</dcterms:modified>
  <cp:revision>37</cp:revision>
  <dc:subject/>
  <dc:title>Логические схемы</dc:title>
</cp:coreProperties>
</file>