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DC4-6531-4D4E-BE8A-AB614B00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B75-B174-42AB-AF1E-A13D0DF5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30B-204C-4A84-8D8D-C7F72652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17C7-925A-4A6D-A6F2-271EDF5E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EA9-5567-4F61-9959-25CEA283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AED6-54A1-4DEC-8CED-C172C8A0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1FFE-9A43-4B1F-846E-7CA70E18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514-35A0-461B-A92C-F3BAEFA2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9E2-6CAC-4521-B4BE-EC43A906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B42-240D-4982-ACE0-3439CF91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32D-AFA1-4EBF-86C6-4B2DE548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DFF-F8AA-45FA-B3FC-020C840D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AB1D-1316-4122-9CA9-F2257801C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3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ектирование баз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иггер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ггер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ют сочетание трех компонентов: событие, условие и действ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ыт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операция в базе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логическое выражение, которое должно принимать значение «Истина» для того, чтобы выполнено действ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триггерная процедура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OR REPLACE TRIGGER person_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FORE INSERT ON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EACH R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erson_s.NEXTVAL INTO :new.id FROM DU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граничения целос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ос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integrity - нетронутость, неприкосновенность, сохранность, целостность) понимается как правильность данных в любой момент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пы правил целостност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 по первичным ключа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 по внешним ключа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, определяемая пользовател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елостность, определяемая пользовател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любой конкретной базы данных существует ряд дополнительных специфических правил, которые относятся к ней одной и определяются разработчиком. Чаще всего контролируетс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никальность тех или иных атрибу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апазон значений (экзаменационная оцен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 2 до 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надлежность набору значений (пол "М"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ли "Ж"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ональная зависимость (ФЗ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таблица, 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произвольные подмножества ее полей. Тогд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кционально зависит о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пишу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&gt;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каждое значение множе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вязано только с одним значением множе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1752480"/>
          <a:ext cx="4648320" cy="18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464832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05120" y="3886200"/>
            <a:ext cx="46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Хи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поля таблицы. Если 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таблицу можно представить как результат соединения ее проекций (А, В) и (А, С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81080" y="1752480"/>
          <a:ext cx="4648320" cy="18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464832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4267080"/>
          <a:ext cx="3444840" cy="1597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3444840" cy="15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183280" y="4272120"/>
          <a:ext cx="3502080" cy="1863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3280" y="4272120"/>
                    <a:ext cx="35020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H="1">
            <a:off x="22096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ая Ф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е В находится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ной функциона-льной завис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т составного поля А, если оно функционально зависит от А и не зависит функционально от любого подмножества поля 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тало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талог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овар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одержится подробная информация, касающаяся таблиц, индексов, ограничений поддержки целостности и т.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ая нормальна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первой нормальной форме (1НФ) тогда и только тогда, когда ни одна из ее строк не содержит в любом своем поле более одного значения и ни одно из ее ключевых полей не пуст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тора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о второй нормальной форме (2НФ), если она удовлетворяет определению 1НФ и все ее поля, не входящие в первичный ключ, связаны полной функциональной зависимостью с первичным ключ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806480" y="2209680"/>
          <a:ext cx="5813640" cy="186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2209680"/>
                    <a:ext cx="581364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828800" y="434340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пл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806480" y="1752480"/>
          <a:ext cx="5432400" cy="17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1752480"/>
                    <a:ext cx="54324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55640" y="4187880"/>
          <a:ext cx="3110040" cy="144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187880"/>
                    <a:ext cx="3110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468680" y="4202280"/>
          <a:ext cx="4341960" cy="1736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8680" y="4202280"/>
                    <a:ext cx="434196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flipH="1">
            <a:off x="2514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ть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лица находится в третьей нормальной форме (3НФ), если она удовлетворяет определению 2НФ и не одно из ее неключевых полей не зависит функционально от любого другого неключевого пол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67000" y="2138400"/>
          <a:ext cx="4341600" cy="14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2138400"/>
                    <a:ext cx="43416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270160" y="390204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олжность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пл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14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367000" y="1986120"/>
          <a:ext cx="4341600" cy="14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1986120"/>
                    <a:ext cx="43416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85800" y="4202280"/>
          <a:ext cx="3263760" cy="144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02280"/>
                    <a:ext cx="32637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756400" y="4202280"/>
          <a:ext cx="2325600" cy="1161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56400" y="4202280"/>
                    <a:ext cx="2325600" cy="11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ормальная форм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ойса-Код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лица находится в нормальной форме Бойса-Кодда (НФБК), если и только если любая функциональная зависимость между его полями сводится к полной функциональной зависимости от возможного ключ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ая декомпози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ной декомпозицией таблицы называют такую совокупность произвольного числа ее проекций, соединение которых полностью совпадает с содержимым табл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значная зависи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– поля таблицы. Поле 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гозначно определя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е В той же таблицы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если множество значений поля В, соответствующее заданной паре (А, С), зависит только от значения А и не зависит от значения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OBJECT_NAME, OBJECT_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USER_OBJECTS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TABLE_NAME, COLUMN_NAME, DATA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USER_TAB_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 TABLE_NAME = '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название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таблицы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06480" y="2212920"/>
          <a:ext cx="466416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2212920"/>
                    <a:ext cx="46641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812960" y="495288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орема Фейг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поля таблицы. Есл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&gt;&gt; 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&gt;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таблицу можно представить как результат соединения ее проекций (А, В) и (А, С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346480" y="1635120"/>
          <a:ext cx="466380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6480" y="1635120"/>
                    <a:ext cx="466380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66800" y="4773600"/>
          <a:ext cx="3500280" cy="12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800" y="4773600"/>
                    <a:ext cx="350028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033880" y="4800600"/>
          <a:ext cx="3348000" cy="1862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3880" y="4800600"/>
                    <a:ext cx="33480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flipH="1">
            <a:off x="251460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етверт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четвертой нормальной форме (4НФ), если она удовлетворяет определению НФБК и все многозначные зависимости являются функциональными зависимостями от ключ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125880" y="1676520"/>
          <a:ext cx="2508120" cy="63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5880" y="1676520"/>
                    <a:ext cx="25081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831960" y="3044880"/>
          <a:ext cx="1865160" cy="65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3044880"/>
                    <a:ext cx="1865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81280" y="3032280"/>
          <a:ext cx="1690920" cy="642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032280"/>
                    <a:ext cx="16909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170760" y="3032280"/>
          <a:ext cx="1596960" cy="642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0760" y="3032280"/>
                    <a:ext cx="15969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8800" y="5661000"/>
          <a:ext cx="2585880" cy="649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8800" y="5661000"/>
                    <a:ext cx="2585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 flipH="1">
            <a:off x="220968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824120" y="4510080"/>
          <a:ext cx="2595600" cy="649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4120" y="4510080"/>
                    <a:ext cx="25956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4648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51814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4038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124080" y="1676520"/>
          <a:ext cx="2514600" cy="8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25146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8080" y="3048120"/>
          <a:ext cx="1828800" cy="863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048120"/>
                    <a:ext cx="18288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581280" y="3029040"/>
          <a:ext cx="1676520" cy="857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029040"/>
                    <a:ext cx="16765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172200" y="3030480"/>
          <a:ext cx="1600200" cy="8557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3030480"/>
                    <a:ext cx="16002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334120" y="5665680"/>
          <a:ext cx="2514600" cy="1040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5665680"/>
                    <a:ext cx="251460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 flipH="1">
            <a:off x="220968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28800" y="4165560"/>
          <a:ext cx="2666880" cy="1320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165560"/>
                    <a:ext cx="266688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flipH="1">
            <a:off x="4648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51814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038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ята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пятой нормальной форме (5НФ) тогда и только тогда, когда в каждой ее полной декомпозиции все проекции содержат потенциальный ключ. Таблица, не имеющая ни одной полной декомпозиции, также находится в 5Н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дура норм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исключить неполные Ф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исключить зависимости от неключевых пол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МЗ являлись также Ф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в каждой ее полной декомпозиции все проекции содержали потенциальный клю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тапы проект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мантическое модел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рмализация базы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правил поддержки целостности базы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зависимые 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Названи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тавк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ст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пустая именованная таблица, определяемая перечнем тех столбцов таблиц и признаками тех их строк, которые хотелось бы в ней увиде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язи многие ко многи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отрудник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висимые 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кла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ат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умм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Дата, Сумм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уется разработать систему, которая позволяет хранить информацию о книгах частной библиотеки и обеспечивает возможнос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т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осматривать список книг, подавать прошение на временное изъятие книг из библиотеки для ознакомл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зяин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обавлять и удалять  книги,  изменять расположение книг в шкафу, удовлетворять или отклонять прошения г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№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52280" y="1557360"/>
            <a:ext cx="8839440" cy="3959280"/>
            <a:chOff x="152280" y="1557360"/>
            <a:chExt cx="8839440" cy="3959280"/>
          </a:xfrm>
        </p:grpSpPr>
        <p:graphicFrame>
          <p:nvGraphicFramePr>
            <p:cNvPr id="201" name=""/>
            <p:cNvGraphicFramePr/>
            <p:nvPr/>
          </p:nvGraphicFramePr>
          <p:xfrm>
            <a:off x="152280" y="1557360"/>
            <a:ext cx="8839440" cy="3959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557360"/>
                      <a:ext cx="8839440" cy="39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 flipH="1">
              <a:off x="2568600" y="3254400"/>
              <a:ext cx="1117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10080" y="3614760"/>
              <a:ext cx="1143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№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1280" y="2624040"/>
            <a:ext cx="9072720" cy="2633760"/>
            <a:chOff x="71280" y="2624040"/>
            <a:chExt cx="9072720" cy="2633760"/>
          </a:xfrm>
        </p:grpSpPr>
        <p:graphicFrame>
          <p:nvGraphicFramePr>
            <p:cNvPr id="209" name=""/>
            <p:cNvGraphicFramePr/>
            <p:nvPr/>
          </p:nvGraphicFramePr>
          <p:xfrm>
            <a:off x="71280" y="2624040"/>
            <a:ext cx="9072720" cy="2633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280" y="2624040"/>
                      <a:ext cx="9072720" cy="26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 flipH="1">
              <a:off x="2308320" y="3375000"/>
              <a:ext cx="434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3657600"/>
              <a:ext cx="380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77120" y="3962520"/>
              <a:ext cx="457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земпля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76320" y="2666880"/>
            <a:ext cx="9299520" cy="2206800"/>
            <a:chOff x="-76320" y="2666880"/>
            <a:chExt cx="9299520" cy="2206800"/>
          </a:xfrm>
        </p:grpSpPr>
        <p:graphicFrame>
          <p:nvGraphicFramePr>
            <p:cNvPr id="218" name=""/>
            <p:cNvGraphicFramePr/>
            <p:nvPr/>
          </p:nvGraphicFramePr>
          <p:xfrm>
            <a:off x="-76320" y="2666880"/>
            <a:ext cx="9299520" cy="2206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76320" y="2666880"/>
                      <a:ext cx="9299520" cy="220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 flipH="1">
              <a:off x="1863360" y="3379680"/>
              <a:ext cx="785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5560" y="3635280"/>
              <a:ext cx="785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81800" y="3127320"/>
              <a:ext cx="776160" cy="74628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472080" y="4197240"/>
              <a:ext cx="795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0" y="2438280"/>
            <a:ext cx="8839080" cy="2916360"/>
            <a:chOff x="0" y="2438280"/>
            <a:chExt cx="8839080" cy="2916360"/>
          </a:xfrm>
        </p:grpSpPr>
        <p:graphicFrame>
          <p:nvGraphicFramePr>
            <p:cNvPr id="226" name=""/>
            <p:cNvGraphicFramePr/>
            <p:nvPr/>
          </p:nvGraphicFramePr>
          <p:xfrm>
            <a:off x="0" y="2438280"/>
            <a:ext cx="8839080" cy="2916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2438280"/>
                      <a:ext cx="8839080" cy="291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 flipH="1">
              <a:off x="1871640" y="3184560"/>
              <a:ext cx="703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4120" y="2941560"/>
              <a:ext cx="736560" cy="131616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33760" y="4589640"/>
              <a:ext cx="703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786120" y="2878200"/>
              <a:ext cx="736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43240" y="3184560"/>
              <a:ext cx="384480" cy="80172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70" y="561"/>
                  </a:moveTo>
                  <a:lnTo>
                    <a:pt x="0" y="561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VIEW C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земпля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33520" y="2146320"/>
            <a:ext cx="8053200" cy="3263760"/>
            <a:chOff x="533520" y="2146320"/>
            <a:chExt cx="8053200" cy="3263760"/>
          </a:xfrm>
        </p:grpSpPr>
        <p:graphicFrame>
          <p:nvGraphicFramePr>
            <p:cNvPr id="237" name=""/>
            <p:cNvGraphicFramePr/>
            <p:nvPr/>
          </p:nvGraphicFramePr>
          <p:xfrm>
            <a:off x="615960" y="2146320"/>
            <a:ext cx="7970760" cy="3263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2146320"/>
                      <a:ext cx="7970760" cy="32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2327400" y="2725920"/>
              <a:ext cx="641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1560" y="2497320"/>
              <a:ext cx="662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73720" y="2497320"/>
              <a:ext cx="657360" cy="117144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264360" y="3897360"/>
              <a:ext cx="666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16480" y="2719440"/>
              <a:ext cx="358560" cy="76824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70" y="561"/>
                  </a:moveTo>
                  <a:lnTo>
                    <a:pt x="0" y="561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11560" y="2998800"/>
              <a:ext cx="685800" cy="1403280"/>
            </a:xfrm>
            <a:custGeom>
              <a:avLst/>
              <a:gdLst/>
              <a:ahLst/>
              <a:rect l="l" t="t" r="r" b="b"/>
              <a:pathLst>
                <a:path w="517" h="950">
                  <a:moveTo>
                    <a:pt x="517" y="950"/>
                  </a:moveTo>
                  <a:lnTo>
                    <a:pt x="232" y="950"/>
                  </a:lnTo>
                  <a:lnTo>
                    <a:pt x="232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520" y="2739960"/>
              <a:ext cx="257040" cy="2090880"/>
            </a:xfrm>
            <a:custGeom>
              <a:avLst/>
              <a:gdLst/>
              <a:ahLst/>
              <a:rect l="l" t="t" r="r" b="b"/>
              <a:pathLst>
                <a:path w="144" h="1344">
                  <a:moveTo>
                    <a:pt x="144" y="0"/>
                  </a:moveTo>
                  <a:lnTo>
                    <a:pt x="0" y="0"/>
                  </a:lnTo>
                  <a:lnTo>
                    <a:pt x="0" y="1344"/>
                  </a:lnTo>
                  <a:lnTo>
                    <a:pt x="144" y="134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ур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урс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логический указатель, который может использоваться в приложении для перемещения по набору строк, указывая поочередно на каждую из них и таким образом обеспечивая возможность адресации этих строк – по одной за один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CLARE C CURSOR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N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ETCH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анза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анза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логическая единица работы, обычно включающая несколько операций над базой данных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закция начинается при выполнении операци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EGIN 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прекращается при выполнении операци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MM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OLL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ревод денег со счета А на счет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ACCOUNT A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Списание денег со счета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ACCOUNT B; --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Зачисление денег на счет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&l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се выполнено нормально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 COMMI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-- Нормальное завер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ROLLBACK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-- Аварийное завер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4:30:36Z</dcterms:created>
  <dc:creator>lav</dc:creator>
  <dc:description/>
  <dc:language>en-US</dc:language>
  <cp:lastModifiedBy>support</cp:lastModifiedBy>
  <dcterms:modified xsi:type="dcterms:W3CDTF">2009-04-11T15:06:35Z</dcterms:modified>
  <cp:revision>146</cp:revision>
  <dc:subject/>
  <dc:title>Презентация PowerPoint</dc:title>
</cp:coreProperties>
</file>