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239-4E7B-4421-8DDD-CCB4331E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F452-2D09-444C-AA1D-5AA10C8C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5DF-5558-4A7D-B6ED-85B00410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31BD-4F90-423A-BEDB-DE36923B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B89-FE48-4011-A262-659A68E0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06A-925A-4096-A324-C4379938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502D-E068-41BB-9ACB-F4F99CB4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D93-3D52-4991-AFF3-5942ACF3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68CB-0C51-4596-AF20-C44169EE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D409-0CC1-4477-8092-4CEAC76B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81A-9F66-44D7-BE69-7680045D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05B-771F-4B1F-8532-193701BD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23C5-6509-4E03-B7C8-E7F88FE22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4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5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5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4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2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2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3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6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37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37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6.wmf"/><Relationship Id="rId6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новные понят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лгебры лог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аблица истинност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2133720"/>
          <a:ext cx="8305920" cy="3886200"/>
        </p:xfrm>
        <a:graphic>
          <a:graphicData uri="http://schemas.openxmlformats.org/drawingml/2006/table">
            <a:tbl>
              <a:tblPr/>
              <a:tblGrid>
                <a:gridCol w="1278000"/>
                <a:gridCol w="1278000"/>
                <a:gridCol w="1277640"/>
                <a:gridCol w="1278000"/>
                <a:gridCol w="3194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... ,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, ... 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, ... 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, 1, ... 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, 1, ... 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ая форму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перпозици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функци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олученная с помощью подстановок этих функций друг в друга, 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ул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выражение, описывающее эту суперпозиц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записи формулы функции алгебры логики необходимо либо перечислить все ситуации, в которых она истинна, либо исключить все ситуации, в которых она лож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инимизаци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х функц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законов алгебры лог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Куайна-Макклас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карт Кар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мутативный зак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719440" y="2585880"/>
          <a:ext cx="322416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9440" y="2585880"/>
                    <a:ext cx="32241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895480" y="4000680"/>
          <a:ext cx="2895840" cy="72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4000680"/>
                    <a:ext cx="28958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ссоциативный закон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828800" y="2590920"/>
          <a:ext cx="5562720" cy="74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56272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928880" y="4044960"/>
          <a:ext cx="538632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8880" y="4044960"/>
                    <a:ext cx="538632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трибутивный зак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52480" y="2590920"/>
          <a:ext cx="58438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590920"/>
                    <a:ext cx="5843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676520" y="4038480"/>
          <a:ext cx="5943600" cy="7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038480"/>
                    <a:ext cx="59436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Теорема де Морга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819520" y="2494080"/>
          <a:ext cx="314316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494080"/>
                    <a:ext cx="31431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952720" y="3962520"/>
          <a:ext cx="291456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52720" y="3962520"/>
                    <a:ext cx="29145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войство идемпотен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166920" y="2568600"/>
          <a:ext cx="231948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6920" y="2568600"/>
                    <a:ext cx="23194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257640" y="4038480"/>
          <a:ext cx="2152440" cy="76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7640" y="4038480"/>
                    <a:ext cx="215244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войство поглощ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895480" y="2577960"/>
          <a:ext cx="31291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577960"/>
                    <a:ext cx="3129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838600" y="4038480"/>
          <a:ext cx="333360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38600" y="4038480"/>
                    <a:ext cx="33336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пераци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еременной с инверсие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276720" y="2446200"/>
          <a:ext cx="2361960" cy="9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446200"/>
                    <a:ext cx="23619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276720" y="3862440"/>
          <a:ext cx="2438280" cy="10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862440"/>
                    <a:ext cx="24382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терм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лгебра лог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ое высказы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ие связ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НЕ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И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ИЛИ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ЕСЛИ …, ТО …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… ТОГДА И ТОЛЬКО ТОГДА …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перации с константам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352680" y="1954080"/>
          <a:ext cx="237672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954080"/>
                    <a:ext cx="237672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352680" y="3976560"/>
          <a:ext cx="2210040" cy="17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976560"/>
                    <a:ext cx="221004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1981080"/>
          <a:ext cx="8001000" cy="24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00100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Куайна-Маккласк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од минимизации логических функций Куайна-Маккласки основан на том факте, что вынос общего множителя за скобки в формуле эквивалентен объединению двух строк в одну в таблице истинности. В комбинируемых строках должны совпадать все значения переменных, кроме одной - сравниваемые строки отличаются на одну единицу. Значение "не совпавшей" переменной безразлично и может быть обозначено звездочкой "*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600200" y="1828800"/>
          <a:ext cx="6095880" cy="40622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1752480"/>
          <a:ext cx="8686800" cy="4657680"/>
        </p:xfrm>
        <a:graphic>
          <a:graphicData uri="http://schemas.openxmlformats.org/drawingml/2006/table">
            <a:tbl>
              <a:tblPr/>
              <a:tblGrid>
                <a:gridCol w="2362320"/>
                <a:gridCol w="990720"/>
                <a:gridCol w="99036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536400"/>
          <a:ext cx="8686800" cy="2587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28600" y="3505320"/>
          <a:ext cx="8686800" cy="2587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28600" y="76320"/>
          <a:ext cx="8686800" cy="2587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8600" y="2895480"/>
          <a:ext cx="8686800" cy="1552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, 7, 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7, 4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28600" y="4648320"/>
          <a:ext cx="8686800" cy="103500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, 7, 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657600" y="5867280"/>
          <a:ext cx="160020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5867280"/>
                    <a:ext cx="160020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карт Карн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рта Карно представляет прямоугольник разделенный на квадраты, каждому из которых соответствует определенная комбинация всех входных переменных. Внутри каждого квадрата записывается значение функции на данной комбинации входных переменны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 карт Карн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346040" y="2362320"/>
          <a:ext cx="1295640" cy="1035000"/>
        </p:xfrm>
        <a:graphic>
          <a:graphicData uri="http://schemas.openxmlformats.org/drawingml/2006/table">
            <a:tbl>
              <a:tblPr/>
              <a:tblGrid>
                <a:gridCol w="647640"/>
                <a:gridCol w="648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501920" y="1828800"/>
          <a:ext cx="4078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82880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184480" y="1828800"/>
          <a:ext cx="40464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4480" y="18288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863640" y="2286000"/>
          <a:ext cx="4064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3640" y="228600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838080" y="2819520"/>
          <a:ext cx="4320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2819520"/>
                    <a:ext cx="432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800600" y="2362320"/>
          <a:ext cx="2514600" cy="10350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28560"/>
                <a:gridCol w="62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541840" y="1828800"/>
          <a:ext cx="40824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41840" y="182880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6224760" y="1828800"/>
          <a:ext cx="404640" cy="57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24760" y="18288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876920" y="1828800"/>
          <a:ext cx="40788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76920" y="182880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834240" y="1828800"/>
          <a:ext cx="404640" cy="571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34240" y="18288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292640" y="2286000"/>
          <a:ext cx="40644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92640" y="228600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267080" y="2819520"/>
          <a:ext cx="432000" cy="647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67080" y="2819520"/>
                    <a:ext cx="432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876920" y="1447920"/>
          <a:ext cx="407880" cy="576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76920" y="1447920"/>
                    <a:ext cx="4078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559480" y="1447920"/>
          <a:ext cx="404640" cy="571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59480" y="144792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224760" y="1447920"/>
          <a:ext cx="404640" cy="571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224760" y="144792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6831000" y="1447920"/>
          <a:ext cx="407880" cy="576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31000" y="1447920"/>
                    <a:ext cx="4078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4800600" y="4559400"/>
          <a:ext cx="2514600" cy="2070000"/>
        </p:xfrm>
        <a:graphic>
          <a:graphicData uri="http://schemas.openxmlformats.org/drawingml/2006/table">
            <a:tbl>
              <a:tblPr/>
              <a:tblGrid>
                <a:gridCol w="628560"/>
                <a:gridCol w="628560"/>
                <a:gridCol w="628920"/>
                <a:gridCol w="62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541840" y="3995640"/>
          <a:ext cx="408240" cy="5763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541840" y="399564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224760" y="3995640"/>
          <a:ext cx="404640" cy="5716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224760" y="399564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876920" y="3995640"/>
          <a:ext cx="407880" cy="5763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876920" y="399564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6834240" y="3995640"/>
          <a:ext cx="404640" cy="5716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834240" y="399564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876920" y="3614760"/>
          <a:ext cx="407880" cy="5763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876920" y="361476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559480" y="3614760"/>
          <a:ext cx="404640" cy="5713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5559480" y="361476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6224760" y="3614760"/>
          <a:ext cx="404640" cy="571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224760" y="361476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831000" y="3614760"/>
          <a:ext cx="407880" cy="5763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831000" y="361476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343400" y="5029200"/>
          <a:ext cx="406440" cy="6094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4343400" y="502920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4292640" y="5486400"/>
          <a:ext cx="431640" cy="64764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4292640" y="5486400"/>
                    <a:ext cx="431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4343400" y="4495680"/>
          <a:ext cx="406440" cy="6098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4343400" y="4495680"/>
                    <a:ext cx="406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292640" y="6019920"/>
          <a:ext cx="431640" cy="647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292640" y="6019920"/>
                    <a:ext cx="431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716280" y="5486400"/>
          <a:ext cx="468360" cy="6476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3716280" y="5486400"/>
                    <a:ext cx="46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3768840" y="4495680"/>
          <a:ext cx="439560" cy="6098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3768840" y="4495680"/>
                    <a:ext cx="4395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722760" y="6019920"/>
          <a:ext cx="468360" cy="6476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3722760" y="6019920"/>
                    <a:ext cx="46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733920" y="5029200"/>
          <a:ext cx="468360" cy="64764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3733920" y="5029200"/>
                    <a:ext cx="46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562720" y="2514600"/>
          <a:ext cx="2514600" cy="10350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28560"/>
                <a:gridCol w="62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303960" y="1981080"/>
          <a:ext cx="4078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960" y="198108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986520" y="1981080"/>
          <a:ext cx="40500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6520" y="1981080"/>
                    <a:ext cx="405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638680" y="1981080"/>
          <a:ext cx="40824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98108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7596360" y="1981080"/>
          <a:ext cx="40464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6360" y="198108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5054760" y="2438280"/>
          <a:ext cx="40608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54760" y="2438280"/>
                    <a:ext cx="406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029200" y="2971800"/>
          <a:ext cx="43164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2971800"/>
                    <a:ext cx="431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638680" y="1600200"/>
          <a:ext cx="40824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160020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321600" y="1600200"/>
          <a:ext cx="404640" cy="571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1600" y="16002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986520" y="1600200"/>
          <a:ext cx="405000" cy="571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86520" y="1600200"/>
                    <a:ext cx="405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7593120" y="1600200"/>
          <a:ext cx="407880" cy="576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93120" y="160020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85800" y="1819440"/>
          <a:ext cx="3860640" cy="465768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  <a:gridCol w="888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5410080" y="2438280"/>
            <a:ext cx="152424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943600" y="4572000"/>
          <a:ext cx="1600200" cy="853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3600" y="4572000"/>
                    <a:ext cx="16002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е опе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ъюнк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зъюн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плик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вивален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ая связка: «НЕ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ение:      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24120" y="2471760"/>
          <a:ext cx="4762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4120" y="2471760"/>
                    <a:ext cx="476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523880" y="3657600"/>
          <a:ext cx="6096240" cy="2057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791320" y="3657600"/>
          <a:ext cx="4762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657600"/>
                    <a:ext cx="476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666880" y="3749760"/>
          <a:ext cx="47628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74976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ъюн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гическая связка: «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         ;            ;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543480" y="2554200"/>
          <a:ext cx="95220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3480" y="2554200"/>
                    <a:ext cx="9522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60840" y="2548080"/>
          <a:ext cx="123048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60840" y="2548080"/>
                    <a:ext cx="12304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867280" y="2552760"/>
          <a:ext cx="130968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2552760"/>
                    <a:ext cx="13096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344484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981760" y="3521160"/>
          <a:ext cx="952560" cy="51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81760" y="3521160"/>
                    <a:ext cx="95256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24160" y="3505320"/>
          <a:ext cx="476280" cy="51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2416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143080" y="3505320"/>
          <a:ext cx="476280" cy="51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4308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зъюн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гическая связка: «ИЛ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          ;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405240" y="2554200"/>
          <a:ext cx="123012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554200"/>
                    <a:ext cx="12301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560840" y="2548080"/>
          <a:ext cx="123048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60840" y="2548080"/>
                    <a:ext cx="12304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447920" y="344484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124160" y="3505320"/>
          <a:ext cx="47628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416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143080" y="3505320"/>
          <a:ext cx="476280" cy="51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308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856120" y="3505320"/>
          <a:ext cx="1230480" cy="51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56120" y="3505320"/>
                    <a:ext cx="12304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мплик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ая связки:  «ЕСЛИ …, ТО», «ИЗ … СЛЕДУЕТ», «… ВЛЕЧЕТ …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ение: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408480" y="3043080"/>
          <a:ext cx="14684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3043080"/>
                    <a:ext cx="14684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447920" y="388620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124160" y="3886200"/>
          <a:ext cx="47628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416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143080" y="3886200"/>
          <a:ext cx="47628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4308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791320" y="3886200"/>
          <a:ext cx="146844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3886200"/>
                    <a:ext cx="14684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квивален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ая связки: «тогда и только тогда», «необходимо и достаточно», « … равносильно …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ение: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92360" y="3164040"/>
          <a:ext cx="127008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3164040"/>
                    <a:ext cx="12700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447920" y="388620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124160" y="3886200"/>
          <a:ext cx="47628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416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143080" y="3886200"/>
          <a:ext cx="47628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4308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816520" y="3886200"/>
          <a:ext cx="1270080" cy="51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16520" y="3886200"/>
                    <a:ext cx="12700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ая фун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ункцией алгебры логик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... 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от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переменных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... 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принимающих значения 0 или 1, называется функция, принимающая значения 0 или 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9:25:14Z</dcterms:created>
  <dc:creator>cde</dc:creator>
  <dc:description/>
  <dc:language>en-US</dc:language>
  <cp:lastModifiedBy>lav</cp:lastModifiedBy>
  <dcterms:modified xsi:type="dcterms:W3CDTF">2005-10-25T10:13:19Z</dcterms:modified>
  <cp:revision>35</cp:revision>
  <dc:subject/>
  <dc:title>Презентация PowerPoint</dc:title>
</cp:coreProperties>
</file>