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162-A819-4B66-9445-2F9DAA7F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524-F3F2-4A90-A392-D0820F58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4C8-3310-42F0-BD6D-4E1C4D81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705-4A63-4628-9CD6-276EF4A6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C5B-05CE-49A1-BCED-9FA1F2F7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AC1-F168-4619-AB3B-D4D8B7E5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3D5-90D8-4835-8CAC-78C6F236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2267-C938-458E-BDCE-145127C8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08A-E651-40EF-A05E-A404D801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E6BA-C2C7-4E35-B6DF-9C365F54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D25-775B-4502-A14E-8FF3ABDA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BCC-2B38-454E-AE65-BBC09676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05B4-B7C4-4B61-8223-166B698B2B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ительные машин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ан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анда - это описание операции, которую должен выполнить компьюте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руппы коман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анды передачи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ифметические и логические коман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анды 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ая ЭВ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57160" y="1908000"/>
            <a:ext cx="74296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600200" y="477720"/>
            <a:ext cx="6107040" cy="5923080"/>
            <a:chOff x="1600200" y="477720"/>
            <a:chExt cx="6107040" cy="5923080"/>
          </a:xfrm>
        </p:grpSpPr>
        <p:sp>
          <p:nvSpPr>
            <p:cNvPr id="188" name=""/>
            <p:cNvSpPr/>
            <p:nvPr/>
          </p:nvSpPr>
          <p:spPr>
            <a:xfrm>
              <a:off x="5969880" y="805320"/>
              <a:ext cx="1066680" cy="159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67880" y="78624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43520" y="804600"/>
              <a:ext cx="0" cy="160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48160" y="808920"/>
              <a:ext cx="0" cy="159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8120" y="7898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69880" y="2108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0480" y="7815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39280" y="1726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08840" y="1726920"/>
              <a:ext cx="875880" cy="81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29880" y="169992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5600" y="17305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07160" y="1738080"/>
              <a:ext cx="0" cy="78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89760" y="17074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93720" y="22608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84120" y="1696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28000" y="69840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47680" y="877680"/>
              <a:ext cx="79920" cy="7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32640" y="70596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86880" y="91188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5200" y="7786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29680" y="919440"/>
              <a:ext cx="1142640" cy="297000"/>
            </a:xfrm>
            <a:custGeom>
              <a:avLst/>
              <a:gdLst/>
              <a:ahLst/>
              <a:rect l="l" t="t" r="r" b="b"/>
              <a:pathLst>
                <a:path w="1800" h="468">
                  <a:moveTo>
                    <a:pt x="1572" y="0"/>
                  </a:moveTo>
                  <a:lnTo>
                    <a:pt x="1800" y="0"/>
                  </a:lnTo>
                  <a:lnTo>
                    <a:pt x="1800" y="468"/>
                  </a:lnTo>
                  <a:lnTo>
                    <a:pt x="0" y="468"/>
                  </a:lnTo>
                  <a:lnTo>
                    <a:pt x="0" y="210"/>
                  </a:lnTo>
                  <a:lnTo>
                    <a:pt x="162" y="2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282200" y="767160"/>
              <a:ext cx="1016640" cy="841680"/>
              <a:chOff x="4282200" y="767160"/>
              <a:chExt cx="1016640" cy="841680"/>
            </a:xfrm>
          </p:grpSpPr>
          <p:sp>
            <p:nvSpPr>
              <p:cNvPr id="210" name=""/>
              <p:cNvSpPr/>
              <p:nvPr/>
            </p:nvSpPr>
            <p:spPr>
              <a:xfrm>
                <a:off x="4300920" y="797400"/>
                <a:ext cx="876240" cy="81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21960" y="770760"/>
                <a:ext cx="464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7680" y="80136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99240" y="808920"/>
                <a:ext cx="0" cy="78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82200" y="77868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285800" y="133092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200" y="76716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965600" y="1711440"/>
              <a:ext cx="135252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12640" y="1707480"/>
              <a:ext cx="64368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56320" y="1726920"/>
              <a:ext cx="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23800" y="1715400"/>
              <a:ext cx="0" cy="10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23840" y="1696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33280" y="16772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31400" y="2077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23840" y="24400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41280" y="2287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72680" y="91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9440" y="22226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09680" y="2512080"/>
              <a:ext cx="1356120" cy="354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67200" y="250488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БУ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40960" y="477720"/>
              <a:ext cx="5714640" cy="1371600"/>
            </a:xfrm>
            <a:custGeom>
              <a:avLst/>
              <a:gdLst/>
              <a:ahLst/>
              <a:rect l="l" t="t" r="r" b="b"/>
              <a:pathLst>
                <a:path w="9000" h="2160">
                  <a:moveTo>
                    <a:pt x="8340" y="720"/>
                  </a:moveTo>
                  <a:lnTo>
                    <a:pt x="9000" y="720"/>
                  </a:lnTo>
                  <a:lnTo>
                    <a:pt x="9000" y="0"/>
                  </a:lnTo>
                  <a:lnTo>
                    <a:pt x="0" y="0"/>
                  </a:lnTo>
                  <a:lnTo>
                    <a:pt x="0" y="2160"/>
                  </a:lnTo>
                  <a:lnTo>
                    <a:pt x="360" y="216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66160" y="679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77520" y="915480"/>
              <a:ext cx="79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80480" y="66060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96600" y="1849320"/>
              <a:ext cx="79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560" y="159336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08080" y="205128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04120" y="18187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64320" y="158580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78400" y="557640"/>
              <a:ext cx="3618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0200" y="19674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72680" y="1220400"/>
              <a:ext cx="236160" cy="1219320"/>
            </a:xfrm>
            <a:custGeom>
              <a:avLst/>
              <a:gdLst/>
              <a:ahLst/>
              <a:rect l="l" t="t" r="r" b="b"/>
              <a:pathLst>
                <a:path w="372" h="1920">
                  <a:moveTo>
                    <a:pt x="0" y="0"/>
                  </a:moveTo>
                  <a:lnTo>
                    <a:pt x="0" y="1920"/>
                  </a:lnTo>
                  <a:lnTo>
                    <a:pt x="372" y="19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42080" y="11937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18480" y="183024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87840" y="157428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3954240" y="2943000"/>
              <a:ext cx="883800" cy="16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592440" y="3594600"/>
              <a:ext cx="160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596040" y="3967920"/>
              <a:ext cx="160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61080" y="3323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77320" y="33202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48680" y="3323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1160" y="363240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22000" y="465372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3584520" y="4619520"/>
              <a:ext cx="925560" cy="666720"/>
              <a:chOff x="3584520" y="4619520"/>
              <a:chExt cx="925560" cy="666720"/>
            </a:xfrm>
          </p:grpSpPr>
          <p:sp>
            <p:nvSpPr>
              <p:cNvPr id="254" name=""/>
              <p:cNvSpPr/>
              <p:nvPr/>
            </p:nvSpPr>
            <p:spPr>
              <a:xfrm rot="5400000">
                <a:off x="3713760" y="4489920"/>
                <a:ext cx="666720" cy="92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3593520" y="4822200"/>
                <a:ext cx="91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3597480" y="5074560"/>
                <a:ext cx="89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4247640" y="4588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43120" y="4592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96360" y="5042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5560" y="3937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51640" y="482544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20040" y="1830240"/>
              <a:ext cx="0" cy="148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3400" y="1803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5400" y="30877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92800" y="296208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99000" y="440604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19440" y="42955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77240" y="4207680"/>
              <a:ext cx="0" cy="41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344760" y="5617800"/>
              <a:ext cx="925560" cy="666720"/>
              <a:chOff x="3344760" y="5617800"/>
              <a:chExt cx="925560" cy="666720"/>
            </a:xfrm>
          </p:grpSpPr>
          <p:sp>
            <p:nvSpPr>
              <p:cNvPr id="270" name=""/>
              <p:cNvSpPr/>
              <p:nvPr/>
            </p:nvSpPr>
            <p:spPr>
              <a:xfrm rot="5400000">
                <a:off x="3474000" y="5488200"/>
                <a:ext cx="666720" cy="92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353760" y="5820480"/>
                <a:ext cx="91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357720" y="6072840"/>
                <a:ext cx="89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3969720" y="55872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18480" y="55872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64800" y="60368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11520" y="581616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129560" y="5285880"/>
              <a:ext cx="7560" cy="3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0600" y="42346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99320" y="53398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470760" y="1829880"/>
              <a:ext cx="0" cy="37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48520" y="2649600"/>
              <a:ext cx="2381040" cy="2724480"/>
            </a:xfrm>
            <a:custGeom>
              <a:avLst/>
              <a:gdLst/>
              <a:ahLst/>
              <a:rect l="l" t="t" r="r" b="b"/>
              <a:pathLst>
                <a:path w="3750" h="4290">
                  <a:moveTo>
                    <a:pt x="3750" y="4290"/>
                  </a:moveTo>
                  <a:lnTo>
                    <a:pt x="0" y="4290"/>
                  </a:lnTo>
                  <a:lnTo>
                    <a:pt x="0" y="0"/>
                  </a:lnTo>
                  <a:lnTo>
                    <a:pt x="34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99320" y="534708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5920" y="3200040"/>
              <a:ext cx="1600200" cy="3200760"/>
            </a:xfrm>
            <a:custGeom>
              <a:avLst/>
              <a:gdLst/>
              <a:ahLst/>
              <a:rect l="l" t="t" r="r" b="b"/>
              <a:pathLst>
                <a:path w="2520" h="5040">
                  <a:moveTo>
                    <a:pt x="0" y="4860"/>
                  </a:moveTo>
                  <a:lnTo>
                    <a:pt x="0" y="5040"/>
                  </a:lnTo>
                  <a:lnTo>
                    <a:pt x="2520" y="5040"/>
                  </a:lnTo>
                  <a:lnTo>
                    <a:pt x="2520" y="0"/>
                  </a:lnTo>
                  <a:lnTo>
                    <a:pt x="2022" y="0"/>
                  </a:lnTo>
                  <a:lnTo>
                    <a:pt x="2022" y="18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79480" y="424224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21880" y="42346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40160" y="1803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85280" y="318276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77720" y="375840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77720" y="432612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5280" y="490140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7720" y="548064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10000" y="261900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00960" y="2836080"/>
              <a:ext cx="180000" cy="2975760"/>
            </a:xfrm>
            <a:custGeom>
              <a:avLst/>
              <a:gdLst/>
              <a:ahLst/>
              <a:rect l="l" t="t" r="r" b="b"/>
              <a:pathLst>
                <a:path w="270" h="4458">
                  <a:moveTo>
                    <a:pt x="0" y="0"/>
                  </a:moveTo>
                  <a:lnTo>
                    <a:pt x="90" y="0"/>
                  </a:lnTo>
                  <a:lnTo>
                    <a:pt x="90" y="4458"/>
                  </a:lnTo>
                  <a:lnTo>
                    <a:pt x="270" y="44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67200" y="52484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67200" y="466920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67200" y="40975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67200" y="35258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36600" y="3495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40560" y="407088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36600" y="4638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36600" y="521784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6080" y="2797920"/>
              <a:ext cx="79560" cy="7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35920" y="34153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45440" y="32706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35920" y="39794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45440" y="38347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35920" y="45586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45440" y="44136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24400" y="51224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33920" y="49777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31960" y="56941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41480" y="55494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634720" y="1829880"/>
              <a:ext cx="0" cy="37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10000" y="309528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52720" y="33163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4720" y="3201840"/>
              <a:ext cx="55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06040" y="423468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49120" y="4455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69880" y="388800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87960" y="3316320"/>
              <a:ext cx="121680" cy="1257120"/>
            </a:xfrm>
            <a:custGeom>
              <a:avLst/>
              <a:gdLst/>
              <a:ahLst/>
              <a:rect l="l" t="t" r="r" b="b"/>
              <a:pathLst>
                <a:path w="192" h="1980">
                  <a:moveTo>
                    <a:pt x="180" y="1980"/>
                  </a:moveTo>
                  <a:lnTo>
                    <a:pt x="0" y="1980"/>
                  </a:ln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53760" y="45381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7440" y="3201840"/>
              <a:ext cx="228240" cy="1150560"/>
            </a:xfrm>
            <a:custGeom>
              <a:avLst/>
              <a:gdLst/>
              <a:ahLst/>
              <a:rect l="l" t="t" r="r" b="b"/>
              <a:pathLst>
                <a:path w="360" h="1812">
                  <a:moveTo>
                    <a:pt x="0" y="0"/>
                  </a:moveTo>
                  <a:lnTo>
                    <a:pt x="0" y="1812"/>
                  </a:lnTo>
                  <a:lnTo>
                    <a:pt x="360" y="18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50800" y="3171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4720" y="5031000"/>
              <a:ext cx="115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63320" y="3430440"/>
              <a:ext cx="342720" cy="1600200"/>
            </a:xfrm>
            <a:custGeom>
              <a:avLst/>
              <a:gdLst/>
              <a:ahLst/>
              <a:rect l="l" t="t" r="r" b="b"/>
              <a:pathLst>
                <a:path w="540" h="2520">
                  <a:moveTo>
                    <a:pt x="0" y="2520"/>
                  </a:moveTo>
                  <a:lnTo>
                    <a:pt x="0" y="0"/>
                  </a:lnTo>
                  <a:lnTo>
                    <a:pt x="5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32720" y="50004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34720" y="56026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72680" y="2409480"/>
              <a:ext cx="2125800" cy="430560"/>
            </a:xfrm>
            <a:custGeom>
              <a:avLst/>
              <a:gdLst/>
              <a:ahLst/>
              <a:rect l="l" t="t" r="r" b="b"/>
              <a:pathLst>
                <a:path w="4098" h="618">
                  <a:moveTo>
                    <a:pt x="4098" y="618"/>
                  </a:moveTo>
                  <a:lnTo>
                    <a:pt x="0" y="61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42080" y="24055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756240" y="177660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695240" y="431424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364360" y="17877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329800" y="86184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323960" y="43027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813640" y="17841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08080" y="24742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573880" y="25462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348880" y="43066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072680" y="54309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254000" y="8733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69840" y="531000"/>
              <a:ext cx="1432440" cy="81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06920" y="48528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Г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50800" y="38523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638320" y="4568760"/>
              <a:ext cx="44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 коман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28600" y="1752480"/>
            <a:ext cx="8686440" cy="4952880"/>
            <a:chOff x="228600" y="1752480"/>
            <a:chExt cx="8686440" cy="4952880"/>
          </a:xfrm>
        </p:grpSpPr>
        <p:grpSp>
          <p:nvGrpSpPr>
            <p:cNvPr id="347" name=""/>
            <p:cNvGrpSpPr/>
            <p:nvPr/>
          </p:nvGrpSpPr>
          <p:grpSpPr>
            <a:xfrm>
              <a:off x="236520" y="1757160"/>
              <a:ext cx="8668800" cy="4942440"/>
              <a:chOff x="236520" y="1757160"/>
              <a:chExt cx="8668800" cy="49424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36520" y="1757160"/>
                <a:ext cx="1837800" cy="678240"/>
                <a:chOff x="236520" y="1757160"/>
                <a:chExt cx="1837800" cy="6782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6040" y="1757160"/>
                  <a:ext cx="159912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Код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36520" y="1757160"/>
                  <a:ext cx="183780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2074680" y="1757160"/>
                <a:ext cx="2171520" cy="678240"/>
                <a:chOff x="2074680" y="1757160"/>
                <a:chExt cx="2171520" cy="6782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194200" y="1757160"/>
                  <a:ext cx="193212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немоник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074680" y="1757160"/>
                  <a:ext cx="217152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246560" y="1757160"/>
                <a:ext cx="4658760" cy="678240"/>
                <a:chOff x="4246560" y="1757160"/>
                <a:chExt cx="4658760" cy="6782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365360" y="1757160"/>
                  <a:ext cx="442080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Описани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246560" y="1757160"/>
                  <a:ext cx="465876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36520" y="2435760"/>
                <a:ext cx="1837800" cy="1065240"/>
                <a:chOff x="236520" y="2435760"/>
                <a:chExt cx="1837800" cy="10652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56040" y="2435760"/>
                  <a:ext cx="159912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6520" y="2435760"/>
                  <a:ext cx="183780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074680" y="2435760"/>
                <a:ext cx="2171520" cy="1065240"/>
                <a:chOff x="2074680" y="2435760"/>
                <a:chExt cx="2171520" cy="1065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194200" y="2435760"/>
                  <a:ext cx="193212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LOD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074680" y="2435760"/>
                  <a:ext cx="21715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246560" y="2435760"/>
                <a:ext cx="4658760" cy="1065240"/>
                <a:chOff x="4246560" y="2435760"/>
                <a:chExt cx="4658760" cy="10652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365360" y="2435760"/>
                  <a:ext cx="4420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Загрузка в аккумулятор двоичного кода числа из ячейки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246560" y="2435760"/>
                  <a:ext cx="46587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236520" y="3501720"/>
                <a:ext cx="1837800" cy="1065600"/>
                <a:chOff x="236520" y="3501720"/>
                <a:chExt cx="1837800" cy="10656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56040" y="3501720"/>
                  <a:ext cx="159912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36520" y="3501720"/>
                  <a:ext cx="183780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074680" y="3501720"/>
                <a:ext cx="2171520" cy="1065600"/>
                <a:chOff x="2074680" y="3501720"/>
                <a:chExt cx="2171520" cy="10656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194200" y="3501720"/>
                  <a:ext cx="193212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TO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74680" y="3501720"/>
                  <a:ext cx="217152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4246560" y="3501720"/>
                <a:ext cx="4658760" cy="1065600"/>
                <a:chOff x="4246560" y="3501720"/>
                <a:chExt cx="4658760" cy="10656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365360" y="3501720"/>
                  <a:ext cx="442080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хранение двоичного кода числа,  хранящегося в аккумуляторе, в ячейке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246560" y="3501720"/>
                  <a:ext cx="465876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36520" y="4568040"/>
                <a:ext cx="1837800" cy="1258920"/>
                <a:chOff x="236520" y="4568040"/>
                <a:chExt cx="1837800" cy="125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6040" y="4568040"/>
                  <a:ext cx="159912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36520" y="4568040"/>
                  <a:ext cx="183780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2074680" y="4568040"/>
                <a:ext cx="2171520" cy="1258920"/>
                <a:chOff x="2074680" y="4568040"/>
                <a:chExt cx="2171520" cy="125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194200" y="4568040"/>
                  <a:ext cx="193212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ADD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74680" y="4568040"/>
                  <a:ext cx="217152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246560" y="4568040"/>
                <a:ext cx="4658760" cy="1258920"/>
                <a:chOff x="4246560" y="4568040"/>
                <a:chExt cx="4658760" cy="12589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365360" y="4568040"/>
                  <a:ext cx="442080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уммирование двоичных кодов чисел, хранящихся в аккумуляторе и ячейке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, с записью результата в аккумулято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46560" y="4568040"/>
                  <a:ext cx="465876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36520" y="5827320"/>
                <a:ext cx="1837800" cy="872280"/>
                <a:chOff x="236520" y="5827320"/>
                <a:chExt cx="1837800" cy="8722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56040" y="5827320"/>
                  <a:ext cx="15991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36520" y="5827320"/>
                  <a:ext cx="183780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074680" y="5827320"/>
                <a:ext cx="2171520" cy="872280"/>
                <a:chOff x="2074680" y="5827320"/>
                <a:chExt cx="2171520" cy="8722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194200" y="5827320"/>
                  <a:ext cx="19321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HL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074680" y="5827320"/>
                  <a:ext cx="217152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4246560" y="5827320"/>
                <a:ext cx="4658760" cy="872280"/>
                <a:chOff x="4246560" y="5827320"/>
                <a:chExt cx="4658760" cy="872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365360" y="5827320"/>
                  <a:ext cx="442080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Прекращение выполнения программы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246560" y="5827320"/>
                  <a:ext cx="465876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228600" y="1752480"/>
              <a:ext cx="868644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е устрой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ройства внешней памят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деомонитор (дисплей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авиатур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нипуляторы джойстик, мышь, трекбо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нтер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ане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ройства связ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547720" y="1600200"/>
            <a:ext cx="4996080" cy="5060520"/>
            <a:chOff x="2547720" y="1600200"/>
            <a:chExt cx="4996080" cy="5060520"/>
          </a:xfrm>
        </p:grpSpPr>
        <p:sp>
          <p:nvSpPr>
            <p:cNvPr id="398" name=""/>
            <p:cNvSpPr/>
            <p:nvPr/>
          </p:nvSpPr>
          <p:spPr>
            <a:xfrm rot="5400000">
              <a:off x="3093840" y="2682360"/>
              <a:ext cx="898920" cy="199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80760" y="3222720"/>
              <a:ext cx="4226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49440" y="32590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07240" y="3564000"/>
              <a:ext cx="6436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8408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096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3420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796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49440" y="36208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5400000">
              <a:off x="4994640" y="1325520"/>
              <a:ext cx="8989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83960" y="189900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89680" y="1919880"/>
              <a:ext cx="64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0320" y="226080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82120" y="226080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44280" y="226080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06080" y="226080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80760" y="2695320"/>
              <a:ext cx="4705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61480" y="2933280"/>
              <a:ext cx="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8480" y="1600200"/>
              <a:ext cx="552240" cy="90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Г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40720" y="2053440"/>
              <a:ext cx="57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39240" y="2499120"/>
              <a:ext cx="361800" cy="904680"/>
            </a:xfrm>
            <a:custGeom>
              <a:avLst/>
              <a:gdLst/>
              <a:ahLst/>
              <a:rect l="l" t="t" r="r" b="b"/>
              <a:pathLst>
                <a:path w="570" h="1425">
                  <a:moveTo>
                    <a:pt x="570" y="0"/>
                  </a:moveTo>
                  <a:lnTo>
                    <a:pt x="570" y="1425"/>
                  </a:lnTo>
                  <a:lnTo>
                    <a:pt x="0" y="14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39240" y="2499120"/>
              <a:ext cx="723960" cy="1266480"/>
            </a:xfrm>
            <a:custGeom>
              <a:avLst/>
              <a:gdLst/>
              <a:ahLst/>
              <a:rect l="l" t="t" r="r" b="b"/>
              <a:pathLst>
                <a:path w="1140" h="1995">
                  <a:moveTo>
                    <a:pt x="1140" y="0"/>
                  </a:moveTo>
                  <a:lnTo>
                    <a:pt x="1140" y="1995"/>
                  </a:lnTo>
                  <a:lnTo>
                    <a:pt x="0" y="199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0800000">
              <a:off x="5263200" y="4670280"/>
              <a:ext cx="899280" cy="19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25360" y="249912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87160" y="249912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02360" y="472176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2360" y="524952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90840" y="580788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90840" y="637164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63320" y="553932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80280" y="46342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42440" y="46342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71560" y="5554440"/>
              <a:ext cx="64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2880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82600" y="648000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8524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4624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2880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90160" y="593748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9280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5380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672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82600" y="539424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8524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4624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2880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82600" y="485136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8524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4624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2880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7204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2812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8912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7204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3568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9704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7960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2812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8912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7204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2812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8912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7204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1492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7136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3236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1492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7892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3992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2284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136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3236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1492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7136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3236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1492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5816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1424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7524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5816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2180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8280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6572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1424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524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5816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1424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7524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5816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01040" y="26802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63200" y="2860920"/>
              <a:ext cx="108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25360" y="3042000"/>
              <a:ext cx="72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87160" y="322272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57120" y="26438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19280" y="2824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81440" y="30056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43240" y="318672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68240" y="568404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21680" y="5575320"/>
              <a:ext cx="10497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Прерыв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85320" y="2680200"/>
              <a:ext cx="144720" cy="542520"/>
            </a:xfrm>
            <a:custGeom>
              <a:avLst/>
              <a:gdLst>
                <a:gd name="textAreaLeft" fmla="*/ 0 w 144720"/>
                <a:gd name="textAreaRight" fmla="*/ 52200 w 144720"/>
                <a:gd name="textAreaTop" fmla="*/ 14040 h 542520"/>
                <a:gd name="textAreaBottom" fmla="*/ 528480 h 5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94040" y="2794320"/>
              <a:ext cx="10497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Скан-к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чность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ений на компьютер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шинная эпсил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ый но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ая бесконеч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, с которым возможно представление чисел в компьюте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шинная эпсил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ным эпсилоном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называется наименьшее из чисел, удовлетворяющих условию 1+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gt;1, т.е.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{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 1+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gt;1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округлении методом отсечения определяется по формуле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и округлении методом дополнения –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разрядов, отведенное для хранения мантиссы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ый нол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ным нулем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называется наименьшее представимое на компьютере положительное число, т.е. для любого другого представимого на компьютере числ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будет выполняться неравенство: 0&lt;</a:t>
            </a: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еличин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определяется по формул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количество разрядов, отведенное для хранения порядка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7772400" y="4086360"/>
          <a:ext cx="6858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086360"/>
                    <a:ext cx="6858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ая бесконе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ой бесконечн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наименьшее из чисел удовлетворяющих неравенству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бое число, которое можно представить на компьютер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еличин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определяется по формул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количество разрядов, отведенное для хранения порядка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7772400" y="3657600"/>
          <a:ext cx="7840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657600"/>
                    <a:ext cx="7840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В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многофункциональное электронное устройство для накопления, обработки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ассы ЭВ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ифров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налогов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 которым возможно представление чисел в компьютере определяется по формул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рядок числа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разрядов, отведенное для хранения мантиссы числа в представлении с плавающей точ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895480" y="2949480"/>
          <a:ext cx="914400" cy="5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949480"/>
                    <a:ext cx="9144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гда 0.01-0.011+1=1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 то же время 1-0.011+0.01=0.999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усть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 Unicode MS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и требуется вычислить сумму 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0+0.1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200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гаемы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/..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выборе формулы и порядка вычислений следует избегать вычитания близких чисел и деления на малые величи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переполнении или исчезновения порядка следует попытаться изменить последовательность действий, ввести масштабные коэффици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сложении следует располагать слагаемые в порядке возрастания абсолютных величин, стараясь, чтобы при каждом сложении порядки величин различались мало. При необходимости цикл суммирования разбивается на несколько более коротк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нципы постро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двоичного код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программного 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однородности пам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адре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бл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нтральный процессор (ЦП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 (АЛУ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лок управления (Б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гистры (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ая память (ОП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памя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38280" y="2019240"/>
            <a:ext cx="4190400" cy="3848040"/>
            <a:chOff x="2438280" y="2019240"/>
            <a:chExt cx="4190400" cy="3848040"/>
          </a:xfrm>
        </p:grpSpPr>
        <p:grpSp>
          <p:nvGrpSpPr>
            <p:cNvPr id="51" name=""/>
            <p:cNvGrpSpPr/>
            <p:nvPr/>
          </p:nvGrpSpPr>
          <p:grpSpPr>
            <a:xfrm>
              <a:off x="2449440" y="2023920"/>
              <a:ext cx="4166280" cy="3838680"/>
              <a:chOff x="2449440" y="2023920"/>
              <a:chExt cx="4166280" cy="383868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449440" y="2023920"/>
                <a:ext cx="1750680" cy="639720"/>
                <a:chOff x="2449440" y="2023920"/>
                <a:chExt cx="1750680" cy="639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2615400" y="202392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дре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449440" y="202392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4200840" y="2023920"/>
                <a:ext cx="2414880" cy="639720"/>
                <a:chOff x="4200840" y="2023920"/>
                <a:chExt cx="2414880" cy="6397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4366800" y="202392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чейк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00840" y="202392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2449440" y="2663640"/>
                <a:ext cx="1750680" cy="639720"/>
                <a:chOff x="2449440" y="2663640"/>
                <a:chExt cx="1750680" cy="6397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615400" y="266364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449440" y="266364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200840" y="2663640"/>
                <a:ext cx="2414880" cy="639720"/>
                <a:chOff x="4200840" y="2663640"/>
                <a:chExt cx="2414880" cy="6397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366800" y="266364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0101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200840" y="266364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2449440" y="3303360"/>
                <a:ext cx="1750680" cy="639720"/>
                <a:chOff x="2449440" y="3303360"/>
                <a:chExt cx="175068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2615400" y="330336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449440" y="330336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200840" y="3303360"/>
                <a:ext cx="2414880" cy="639720"/>
                <a:chOff x="4200840" y="3303360"/>
                <a:chExt cx="241488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366800" y="330336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0111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200840" y="330336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2449440" y="3943080"/>
                <a:ext cx="1750680" cy="639720"/>
                <a:chOff x="2449440" y="3943080"/>
                <a:chExt cx="175068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2615400" y="394308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49440" y="394308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200840" y="3943080"/>
                <a:ext cx="2414880" cy="639720"/>
                <a:chOff x="4200840" y="3943080"/>
                <a:chExt cx="241488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366800" y="394308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111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200840" y="394308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449440" y="4582800"/>
                <a:ext cx="1750680" cy="640080"/>
                <a:chOff x="2449440" y="4582800"/>
                <a:chExt cx="1750680" cy="6400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15400" y="4582800"/>
                  <a:ext cx="14184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449440" y="4582800"/>
                  <a:ext cx="17506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200840" y="4582800"/>
                <a:ext cx="2414880" cy="640080"/>
                <a:chOff x="4200840" y="4582800"/>
                <a:chExt cx="2414880" cy="6400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366800" y="4582800"/>
                  <a:ext cx="2082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200840" y="4582800"/>
                  <a:ext cx="24148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449440" y="5222880"/>
                <a:ext cx="1750680" cy="639720"/>
                <a:chOff x="2449440" y="5222880"/>
                <a:chExt cx="175068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15400" y="522288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449440" y="522288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200840" y="5222880"/>
                <a:ext cx="2414880" cy="639720"/>
                <a:chOff x="4200840" y="5222880"/>
                <a:chExt cx="241488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366800" y="522288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101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200840" y="522288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2438280" y="2019240"/>
              <a:ext cx="4190400" cy="3848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памя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52480" y="1447920"/>
            <a:ext cx="5815080" cy="4865040"/>
            <a:chOff x="1752480" y="1447920"/>
            <a:chExt cx="5815080" cy="4865040"/>
          </a:xfrm>
        </p:grpSpPr>
        <p:sp>
          <p:nvSpPr>
            <p:cNvPr id="91" name=""/>
            <p:cNvSpPr/>
            <p:nvPr/>
          </p:nvSpPr>
          <p:spPr>
            <a:xfrm>
              <a:off x="4457520" y="1542960"/>
              <a:ext cx="708480" cy="9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08800" y="1542960"/>
              <a:ext cx="0" cy="9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08800" y="15886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57520" y="15926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49960" y="22442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69960" y="1708920"/>
              <a:ext cx="30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52480" y="415656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49960" y="2907360"/>
              <a:ext cx="708480" cy="9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01240" y="2907360"/>
              <a:ext cx="0" cy="9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01240" y="29530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9960" y="29566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42400" y="36082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62400" y="3071160"/>
              <a:ext cx="30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90080" y="2522520"/>
              <a:ext cx="270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70920" y="1592640"/>
              <a:ext cx="135216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17600" y="157356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61640" y="160776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29120" y="159624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28800" y="1577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04400" y="2256840"/>
              <a:ext cx="27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63360" y="33228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50120" y="15696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23440" y="171072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28800" y="2930040"/>
              <a:ext cx="468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32320" y="1596240"/>
              <a:ext cx="135252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9360" y="157752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23040" y="161172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90520" y="160020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90560" y="15811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4760" y="33264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85200" y="171468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5200" y="309780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7920" y="15735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83520" y="2253240"/>
              <a:ext cx="27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4880" y="2953080"/>
              <a:ext cx="468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56400" y="171468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43840" y="4202280"/>
              <a:ext cx="135252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90520" y="418320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34560" y="421740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02040" y="420624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02080" y="41871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36280" y="59331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19440" y="41796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95040" y="4858920"/>
              <a:ext cx="270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6400" y="5559480"/>
              <a:ext cx="468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3960" y="347904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92760" y="2400480"/>
              <a:ext cx="468360" cy="1935720"/>
            </a:xfrm>
            <a:custGeom>
              <a:avLst/>
              <a:gdLst/>
              <a:ahLst/>
              <a:rect l="l" t="t" r="r" b="b"/>
              <a:pathLst>
                <a:path w="738" h="3048">
                  <a:moveTo>
                    <a:pt x="0" y="3048"/>
                  </a:moveTo>
                  <a:lnTo>
                    <a:pt x="228" y="3048"/>
                  </a:lnTo>
                  <a:lnTo>
                    <a:pt x="228" y="0"/>
                  </a:lnTo>
                  <a:lnTo>
                    <a:pt x="7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92760" y="3764520"/>
              <a:ext cx="457200" cy="1943280"/>
            </a:xfrm>
            <a:custGeom>
              <a:avLst/>
              <a:gdLst/>
              <a:ahLst/>
              <a:rect l="l" t="t" r="r" b="b"/>
              <a:pathLst>
                <a:path w="720" h="3060">
                  <a:moveTo>
                    <a:pt x="0" y="3060"/>
                  </a:moveTo>
                  <a:lnTo>
                    <a:pt x="498" y="3060"/>
                  </a:lnTo>
                  <a:lnTo>
                    <a:pt x="498" y="0"/>
                  </a:lnTo>
                  <a:lnTo>
                    <a:pt x="7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63960" y="431676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0040" y="3479040"/>
              <a:ext cx="159840" cy="2598480"/>
            </a:xfrm>
            <a:custGeom>
              <a:avLst/>
              <a:gdLst/>
              <a:ahLst/>
              <a:rect l="l" t="t" r="r" b="b"/>
              <a:pathLst>
                <a:path w="252" h="4092">
                  <a:moveTo>
                    <a:pt x="0" y="0"/>
                  </a:moveTo>
                  <a:lnTo>
                    <a:pt x="0" y="4092"/>
                  </a:lnTo>
                  <a:lnTo>
                    <a:pt x="252" y="409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80040" y="3479040"/>
              <a:ext cx="2990880" cy="571320"/>
            </a:xfrm>
            <a:custGeom>
              <a:avLst/>
              <a:gdLst/>
              <a:ahLst/>
              <a:rect l="l" t="t" r="r" b="b"/>
              <a:pathLst>
                <a:path w="4710" h="900">
                  <a:moveTo>
                    <a:pt x="0" y="900"/>
                  </a:moveTo>
                  <a:lnTo>
                    <a:pt x="4500" y="900"/>
                  </a:lnTo>
                  <a:lnTo>
                    <a:pt x="4500" y="0"/>
                  </a:lnTo>
                  <a:lnTo>
                    <a:pt x="471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75160" y="331884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5000" y="155844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63560" y="156528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9440" y="34560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53400" y="40233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342880" y="166896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35320" y="146304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335320" y="341784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27760" y="32122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876720" y="165744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69160" y="145152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152600" y="166500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45040" y="145944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71680" y="30520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4120" y="284652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257440" y="16534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49880" y="14479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265360" y="30178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7440" y="281196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ловное обозна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11560" y="2205000"/>
            <a:ext cx="2355840" cy="30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2284560"/>
            <a:ext cx="9349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1280" y="2205000"/>
            <a:ext cx="0" cy="30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220500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17760" y="2305080"/>
            <a:ext cx="11368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27480" y="3338640"/>
            <a:ext cx="11383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48200" y="2274840"/>
            <a:ext cx="11365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40200" y="2674800"/>
            <a:ext cx="728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254304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357336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7400" y="254304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27480" y="4437000"/>
            <a:ext cx="11383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467208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регист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состояния (Р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кумулятор (А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команд (Р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адреса (Р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данных (Р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четчик команд (С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заимосвязь ЦП и 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25640" y="3200400"/>
            <a:ext cx="7051680" cy="1590480"/>
            <a:chOff x="1025640" y="3200400"/>
            <a:chExt cx="7051680" cy="1590480"/>
          </a:xfrm>
        </p:grpSpPr>
        <p:sp>
          <p:nvSpPr>
            <p:cNvPr id="179" name=""/>
            <p:cNvSpPr/>
            <p:nvPr/>
          </p:nvSpPr>
          <p:spPr>
            <a:xfrm>
              <a:off x="1025640" y="3209040"/>
              <a:ext cx="191160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Ц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65720" y="3200400"/>
              <a:ext cx="191160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91240" y="3742560"/>
              <a:ext cx="3128760" cy="542520"/>
            </a:xfrm>
            <a:prstGeom prst="leftRightArrow">
              <a:avLst>
                <a:gd name="adj1" fmla="val 43889"/>
                <a:gd name="adj2" fmla="val 85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7680" y="3290400"/>
              <a:ext cx="1514880" cy="6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Шин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56:50Z</dcterms:created>
  <dc:creator>lav</dc:creator>
  <dc:description/>
  <dc:language>en-US</dc:language>
  <cp:lastModifiedBy>Owner</cp:lastModifiedBy>
  <dcterms:modified xsi:type="dcterms:W3CDTF">2009-02-13T00:41:07Z</dcterms:modified>
  <cp:revision>37</cp:revision>
  <dc:subject/>
  <dc:title>Логические схемы</dc:title>
</cp:coreProperties>
</file>