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E03A-65C0-48A0-A149-560DCAAF8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4776-A39D-4E75-B0A6-5F2C543F3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51CAD-882E-4BD1-B44D-3605035EA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5CE9B-1A58-49A0-B73E-B67B879E6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BA3C-3A4D-4122-8860-38CA6983D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7388-0D0F-4662-BED7-8561B59BB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306A8-C19C-498F-B4C9-B55377FF4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8D8E-3723-419B-9223-04AA2BE4E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798D-EE81-4899-B2AC-D476E27C3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7FE7-EBD9-45C5-8B31-172495B2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C4FA6-C767-475B-AF18-3AEE961A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871E-B8A8-4793-9CE1-FD583EA48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DA2B4-D069-4D2A-A626-8985DCBD7B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280" y="1219320"/>
            <a:ext cx="883944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абота с базами данны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CONSTRAINT person_id UNIQU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UNIQUE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UNIQUE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NIQU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IQUE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вичны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вичны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PRIMARY KE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нешни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 REFERENCES status(id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нешни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 NUMBER(4)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status REFERENCES Status(id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нешний 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 NUMBER(4),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FERENCES status(id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акция на уда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us NUMBER(4),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id PRIMARY KEY (id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person_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statu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FERENCES status(id) ON DELETE CASCAD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ипы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685800" y="1962000"/>
          <a:ext cx="7772400" cy="4591080"/>
        </p:xfrm>
        <a:graphic>
          <a:graphicData uri="http://schemas.openxmlformats.org/drawingml/2006/table">
            <a:tbl>
              <a:tblPr/>
              <a:tblGrid>
                <a:gridCol w="2362320"/>
                <a:gridCol w="5410080"/>
              </a:tblGrid>
              <a:tr h="442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ип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NUMBER(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p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,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щественное число с точностью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вплоть до 38 цифр (общим количеством цифр) и масштабом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(числом цифр справа от десятичной точки). Масштаб может находится в диапазоне от -84 до 127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HAR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(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ize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ьные данные фиксированной длины равной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байт.  Максимум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оставляет 2000 байт, а минимум 1 байт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RCHAR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(</a:t>
                      </a: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size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)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рока переменной длины, максимальный размер которой не может превышать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символов или байтов. Максимальное значение </a:t>
                      </a:r>
                      <a:r>
                        <a:rPr b="0" i="1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ize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- 4000.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2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DATE</a:t>
                      </a: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храняет информацию о дате. Использует формат "YYYY-MM-DD"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верка услов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status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PRIMARY KE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 VARCHAR2(9) NOT NULL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NSTRAINT status_nam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ECK (name IN ('Owner','Guest'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status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PRIMARY KEY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ame VARCHAR2(9) NOT NULL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ECK (name IN ('Owner','Guest'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даление табли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OP TABLE Publication CASCADE CONSTRAINT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менение табли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TER TABLE countr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DD (cnt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UMBER(2,2)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HECK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cnt &lt; 10.5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isa VARCHAR2(3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TER TABLE count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ODIFY (cnt NUMBER(3,2)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LTER TABLE department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ROP PRIMARY KEY CASCAD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следователь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SEQUENCE customers_se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RT WITH     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CREMENT BY  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CYCLE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иггеры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OR REPLACE TRIGGER person_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FORE INSERT ON per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EACH R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person_s.NEXTV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O :new.id FROM DUAL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рифметические операто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, 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, 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, 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, ‘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||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* FROM employees WHERE -salary &lt; 0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UPDATE employees SET salary = salary * 1.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'Name is ' || last_name FROM employees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слов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т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=, !=, &lt;, &gt;, &lt;=, &gt;=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ав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S [NOT] NULL, LIKE, [NOT] BETWEEN, [NOT] IN, EXIST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авн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O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триц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A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нъю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изъюнкц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ast_na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last_name LIKE 'A_b%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ast_nam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upper(last_name) LIKE 'A_B%'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* FROM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sal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ETWEEN 2000 AND 300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* FROM employe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department_id NOT IN (10, 20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ции над результатами выполнения двух запро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762120" y="2133720"/>
          <a:ext cx="7696080" cy="4064040"/>
        </p:xfrm>
        <a:graphic>
          <a:graphicData uri="http://schemas.openxmlformats.org/drawingml/2006/table">
            <a:tbl>
              <a:tblPr/>
              <a:tblGrid>
                <a:gridCol w="2438280"/>
                <a:gridCol w="5257800"/>
              </a:tblGrid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ерато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N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все строки выбранные запросами без дублирова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UNION 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все строки выбранные запросами, включая дублиро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INTERSEC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строки, которые выбраны и первым, и вторым запрос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INU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строки, которые выбраны первым запросом и отсутствуют во втором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lo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depart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lo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NION AL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depart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lo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TERSEC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depart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location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N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location_id  FROM department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ещественный тип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09480" y="2133720"/>
          <a:ext cx="7848720" cy="4213080"/>
        </p:xfrm>
        <a:graphic>
          <a:graphicData uri="http://schemas.openxmlformats.org/drawingml/2006/table">
            <a:tbl>
              <a:tblPr/>
              <a:tblGrid>
                <a:gridCol w="2616480"/>
                <a:gridCol w="2616120"/>
                <a:gridCol w="261612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нны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9,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6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ceeds 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7,-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7456123.8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7,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Exceeds preci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1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4,5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000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2,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000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.00000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NUMBER(2,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0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.000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ULL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на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stName, FirstNam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ddle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Pers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Status IS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LastName, FirstName</a:t>
            </a:r>
            <a:r>
              <a:rPr b="0" lang="ru-RU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MiddleNa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Perso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HERE Status IS NOT NUL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становлени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рядка сортировк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job_id = 'CLERK'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DER BY commission DESC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last_name, department_id, sal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RDER BY department_id ASC, salary DESC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ерархические опер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ELECT employee_id, last_name, manager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FROM employees START WITH employee_id =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ONNECT BY PRIOR employee_id = manager_id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MPLOYEE_ID LAST_NAME                 MANAGER_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----------- ------------------------- ---------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1 Kochhar                          1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8 Greenberg                       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09 Faviet 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0 Chen   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1 Sciarra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2 Urman  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113 Popp                             10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200 Whalen                           1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ункци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85800" y="1981080"/>
          <a:ext cx="7772400" cy="4103640"/>
        </p:xfrm>
        <a:graphic>
          <a:graphicData uri="http://schemas.openxmlformats.org/drawingml/2006/table">
            <a:tbl>
              <a:tblPr/>
              <a:tblGrid>
                <a:gridCol w="1981080"/>
                <a:gridCol w="5791320"/>
              </a:tblGrid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Функ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минимальное значения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максимальное значени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cou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количество запис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вращает сумму значений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_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бразует строку в дату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</a:rPr>
                        <a:t>to_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образует дату или число в строку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ъединение записей в запрос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count(*) FROM employee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epartment_id, MIN(salary), MAX(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BY department_i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S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epartment_id, MIN(salary), MAX(salar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job_id = 'CLERK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BY department_id DES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спользование услов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epartment_id, MIN(salary), MAX(salary)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BY department_i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AVING MIN(salary) &lt; 5000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PARTMENT_ID MIN(SALARY) MAX(SALARY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----------- ----------- -----------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40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4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3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50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11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5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210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82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6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4200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900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ложенные запро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salary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ELECT sal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department_id =3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salary NOT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ELECT salar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employ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department_id = 30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просы,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спользующ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I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SELECT DISTINCT A.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ROM 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ERE NOT EXISTS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(SELECT X.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FROM X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WHERE NOT EX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X.a=A.a)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сключение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ублирующихся записе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ISTINCT city, st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ddr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state IN (‘CA’,’NY’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ND city IS NOT NUL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просы, использующие соеди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pr.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person pr, status 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pr.status=s.id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PER(s.name) LIKE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'%ГОСТЬ%'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p.description AS “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Название книги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”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OUNT(c.publication) AS “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Кол-во экземпляров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”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publication p, copy 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p.id=c.public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GROUP BY c.publicati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ме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не может иметь длину более 30 симво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должно начинаться только с симво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ена должны быть уникальны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я не должно совпадать с ключевыми словами в систем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acle.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даление запис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LETE FROM person WHERE id=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LETE FROM pers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LETE FROM per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i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OT IN (SELECT person FROM request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бавление запис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E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O person(lastName,firstName,middleName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VALUES (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етров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,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митрий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,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Геннадьевич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SER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O staff(person,position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ID, 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рограммист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person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новление запис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DATE shelf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description='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Верхняя полка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'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i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1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DATE cop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T shelf = 1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фологическая моде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325520" y="2276640"/>
          <a:ext cx="6413400" cy="2676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25520" y="2276640"/>
                    <a:ext cx="6413400" cy="267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2712960" y="3508200"/>
            <a:ext cx="52092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138560" y="3325680"/>
            <a:ext cx="533520" cy="180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80240" y="3325680"/>
            <a:ext cx="528480" cy="943200"/>
          </a:xfrm>
          <a:custGeom>
            <a:avLst/>
            <a:gdLst/>
            <a:ahLst/>
            <a:rect l="l" t="t" r="r" b="b"/>
            <a:pathLst>
              <a:path w="516" h="614">
                <a:moveTo>
                  <a:pt x="516" y="0"/>
                </a:moveTo>
                <a:lnTo>
                  <a:pt x="232" y="0"/>
                </a:lnTo>
                <a:lnTo>
                  <a:pt x="232" y="614"/>
                </a:lnTo>
                <a:lnTo>
                  <a:pt x="0" y="61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5872320" y="4452840"/>
            <a:ext cx="53640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84800" y="3503520"/>
            <a:ext cx="298440" cy="619200"/>
          </a:xfrm>
          <a:custGeom>
            <a:avLst/>
            <a:gdLst/>
            <a:ahLst/>
            <a:rect l="l" t="t" r="r" b="b"/>
            <a:pathLst>
              <a:path w="270" h="561">
                <a:moveTo>
                  <a:pt x="270" y="561"/>
                </a:moveTo>
                <a:lnTo>
                  <a:pt x="0" y="561"/>
                </a:lnTo>
                <a:lnTo>
                  <a:pt x="0" y="0"/>
                </a:lnTo>
                <a:lnTo>
                  <a:pt x="255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712960" y="3728880"/>
            <a:ext cx="552600" cy="1130400"/>
          </a:xfrm>
          <a:custGeom>
            <a:avLst/>
            <a:gdLst/>
            <a:ahLst/>
            <a:rect l="l" t="t" r="r" b="b"/>
            <a:pathLst>
              <a:path w="517" h="950">
                <a:moveTo>
                  <a:pt x="517" y="950"/>
                </a:moveTo>
                <a:lnTo>
                  <a:pt x="232" y="950"/>
                </a:lnTo>
                <a:lnTo>
                  <a:pt x="232" y="0"/>
                </a:lnTo>
                <a:lnTo>
                  <a:pt x="0" y="0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258920" y="2571840"/>
            <a:ext cx="206280" cy="869760"/>
          </a:xfrm>
          <a:custGeom>
            <a:avLst/>
            <a:gdLst/>
            <a:ahLst/>
            <a:rect l="l" t="t" r="r" b="b"/>
            <a:pathLst>
              <a:path w="144" h="1344">
                <a:moveTo>
                  <a:pt x="144" y="0"/>
                </a:moveTo>
                <a:lnTo>
                  <a:pt x="0" y="0"/>
                </a:lnTo>
                <a:lnTo>
                  <a:pt x="0" y="1344"/>
                </a:lnTo>
                <a:lnTo>
                  <a:pt x="144" y="13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63600" y="3557520"/>
            <a:ext cx="206280" cy="347760"/>
          </a:xfrm>
          <a:custGeom>
            <a:avLst/>
            <a:gdLst/>
            <a:ahLst/>
            <a:rect l="l" t="t" r="r" b="b"/>
            <a:pathLst>
              <a:path w="144" h="1344">
                <a:moveTo>
                  <a:pt x="144" y="0"/>
                </a:moveTo>
                <a:lnTo>
                  <a:pt x="0" y="0"/>
                </a:lnTo>
                <a:lnTo>
                  <a:pt x="0" y="1344"/>
                </a:lnTo>
                <a:lnTo>
                  <a:pt x="144" y="1344"/>
                </a:lnTo>
              </a:path>
            </a:pathLst>
          </a:custGeom>
          <a:noFill/>
          <a:ln w="1584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итерал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'Hello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'ORACLE.dbs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'Jackie''s raincoat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urier New"/>
              </a:rPr>
              <a:t>'09-MAR-98'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ментар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/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Таблица с описание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ечатных издани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*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CREATE TABLE Pub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NUMBER(4) PRIMARY KEY, -- Первичный клю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escription VARCHAR2(500) NOT NULL -- Описа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здание табли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граничени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NOT NUL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CONSTRAINT person_id NOT NU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кращен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person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d NUMBER(4) NOT NULL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ir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ast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ddleName VARCHAR2(50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login VARCHAR2(9)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assword VARCHAR2(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1T14:24:45Z</dcterms:created>
  <dc:creator>lav</dc:creator>
  <dc:description/>
  <dc:language>en-US</dc:language>
  <cp:lastModifiedBy>lyamin</cp:lastModifiedBy>
  <dcterms:modified xsi:type="dcterms:W3CDTF">2012-04-06T09:54:05Z</dcterms:modified>
  <cp:revision>70</cp:revision>
  <dc:subject/>
  <dc:title>Язык структурированных запросов</dc:title>
</cp:coreProperties>
</file>