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BF9-87A8-4A92-91BC-79EF51DB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C62-0397-48E9-959E-2D415D33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CF8-378C-41E3-83F5-473BE20C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D6C-EFB6-4F38-A4FE-8C826DF8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B51-340E-41CF-8C72-497B0520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A3E-7A63-4D0B-8DA5-71F1C3E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870-7F2B-4C31-B9A9-58E5C104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E4B-7C79-4333-9E93-293B4069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A13-2CE1-416A-829F-65CF57B9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20F-9F53-4BE2-8791-B2E055E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742-1442-4A81-AB61-737F998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30B-C144-4678-9FB4-04619BF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B081-33D3-4A62-B046-F286229C6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ай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772400" cy="43102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441440"/>
                <a:gridCol w="1149480"/>
              </a:tblGrid>
              <a:tr h="67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 / К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айт / М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байт / ГБ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шибки неверного использования пристав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ж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ши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процесс формирования определенного представления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лее узком смысле под термином "кодирование"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способ записи чисел с помощью заданного набора специальных знаков (цифр). Существуют позиционные и непозиционны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ание 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ание позиционной системы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количество различных знаков или символов, используемых для изображения цифр в данн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цел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веществ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ое значаще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ол-во различных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зиционные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(используются цифры 0, 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ьмеричная (используются цифры 0, 1, ..., 7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надцатеричная (для первых целых чисел от нуля до девяти используются цифры 0, 1, ..., 9, а для следующих чисел – от десяти до пятнадцати – в качестве цифр используются символы A, B, C, D, E, F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имущества двои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ее реализации нужны технические устройства с двумя устойчивыми состояния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ение информации посредством только двух состояний надежно и помехоустойчив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 применение аппарата булевой алгебры для выполнения логических преобразований информац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арифметика намного проще десятич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восьмеричных и шестнадцатеричных чисел в двоичную систему и обратно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11 010 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010 111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2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вод целых десятичных чисел в систему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2133720"/>
          <a:ext cx="6095880" cy="36226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627920" y="5881680"/>
            <a:ext cx="215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ласть исследований инфор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ом информатика обозначают совокупность дисциплин, изучающих свойства информации, а также способы представления, накопления, обработки и передачи информации с помощью технических средств. В англоязычных странах применяют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омпьютерная нау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правильной десятичной дроби в систему счисления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2898720"/>
          <a:ext cx="2361960" cy="258768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047560" y="290988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ый код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ение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азрядного целого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сновани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-1] – положи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отрица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числа в дополнительном к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е допол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]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учить инверсию заданного числа [заменить все цифры 0 на 1, а все цифры 1 заменить на 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бавить 1 к инверсии задан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11010101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истеме счисления с основание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записать в ви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мантиссой числа, 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рядком. Такой способ записи чисел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м с плавающей точ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тисса должна быть правильной дробью, первая цифра которой отлична от нул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1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.101=0.1010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нят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овокупность сведений об окружающем мире, являющихся объектом хранения, передачи и пре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мин информация ведет свое происхождение от латинского сло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nformat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значающего разъяснение, изложение, осведомлен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 способствует увеличению знаний людей об окружающем мире. Окружающий мир познается в процессе получ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ы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прерывные фор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ат информацию, воплощенную в образах (зрительных, слуховы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скретным форм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тносятся те, в которых информация представляется с помощью конечного множества различных знаков, например, текст, математическая формула, блок-схема алгорит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фор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2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74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95520" y="2666520"/>
            <a:ext cx="2971800" cy="2971800"/>
            <a:chOff x="2495520" y="2666520"/>
            <a:chExt cx="2971800" cy="2971800"/>
          </a:xfrm>
        </p:grpSpPr>
        <p:grpSp>
          <p:nvGrpSpPr>
            <p:cNvPr id="53" name=""/>
            <p:cNvGrpSpPr/>
            <p:nvPr/>
          </p:nvGrpSpPr>
          <p:grpSpPr>
            <a:xfrm>
              <a:off x="2495520" y="2785680"/>
              <a:ext cx="2971800" cy="2743200"/>
              <a:chOff x="2495520" y="2785680"/>
              <a:chExt cx="2971800" cy="2743200"/>
            </a:xfrm>
          </p:grpSpPr>
          <p:sp>
            <p:nvSpPr>
              <p:cNvPr id="54" name=""/>
              <p:cNvSpPr/>
              <p:nvPr/>
            </p:nvSpPr>
            <p:spPr>
              <a:xfrm>
                <a:off x="2495520" y="48430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5520" y="55288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5520" y="41572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5520" y="34714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5520" y="27856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614320" y="2666520"/>
              <a:ext cx="2743200" cy="2971800"/>
              <a:chOff x="2614320" y="2666520"/>
              <a:chExt cx="2743200" cy="29718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46717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3575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9859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3001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6143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523960" y="2690640"/>
            <a:ext cx="2914560" cy="2914560"/>
            <a:chOff x="2523960" y="2690640"/>
            <a:chExt cx="2914560" cy="2914560"/>
          </a:xfrm>
        </p:grpSpPr>
        <p:sp>
          <p:nvSpPr>
            <p:cNvPr id="66" name=""/>
            <p:cNvSpPr/>
            <p:nvPr/>
          </p:nvSpPr>
          <p:spPr>
            <a:xfrm>
              <a:off x="3224160" y="3367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4440" y="40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41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33680" y="2690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146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23960" y="3381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368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33680" y="4757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3368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04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0044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44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688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688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6240" y="408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6240" y="476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716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14640" y="339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05280" y="408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88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146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1360" y="4776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884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52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10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00840" y="2700360"/>
            <a:ext cx="2914560" cy="2914560"/>
            <a:chOff x="6000840" y="2700360"/>
            <a:chExt cx="2914560" cy="2914560"/>
          </a:xfrm>
        </p:grpSpPr>
        <p:sp>
          <p:nvSpPr>
            <p:cNvPr id="92" name=""/>
            <p:cNvSpPr/>
            <p:nvPr/>
          </p:nvSpPr>
          <p:spPr>
            <a:xfrm>
              <a:off x="6701040" y="337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91320" y="4071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1040" y="27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05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0840" y="3390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056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0560" y="476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056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73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732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5376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376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3120" y="4091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63120" y="47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04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91520" y="3405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2160" y="4091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58240" y="4786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1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79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личество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информа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характеризующей состояние, в котором пребывает объект, можно определить, используя формулу Шенно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-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м, что текст строится на основе 64 символов, и частота появления каждого из них одинакова, т.е. все символы равновероятны. Тогда количество информации в одном символе будет рав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64) = 6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8.417-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ЭК 60027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и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39:10Z</dcterms:created>
  <dc:creator>cde</dc:creator>
  <dc:description/>
  <dc:language>en-US</dc:language>
  <cp:lastModifiedBy>Owner</cp:lastModifiedBy>
  <dcterms:modified xsi:type="dcterms:W3CDTF">2007-09-11T21:25:32Z</dcterms:modified>
  <cp:revision>29</cp:revision>
  <dc:subject/>
  <dc:title>Презентация PowerPoint</dc:title>
</cp:coreProperties>
</file>