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F34-C402-4F72-9B5A-0FD8870A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EB1-6652-4882-89B3-CB6FDD25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F9B7-F20C-444E-BC00-CFABEA81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11F9-12DD-4A11-B945-7236D706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682-293A-4601-94FB-9A8AACFD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A2F-F56D-43F2-A8C2-8F01C400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8EE-E8AC-4663-966A-C3EE8A01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9DC-5ED3-4B54-B774-3BC423A6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4138-32E9-41A7-BD01-6E54BF65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1A4-DBC3-4CFE-A613-1D530491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899-B479-4906-940A-4689DFC4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AC1-F9DB-47F6-8FD3-5229D7EF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FE11-5BFB-4B7A-848D-7054D4315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бота с базами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CONSTRAINT person_id UNI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UNI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UNIQUE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QUE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REFERENCES status(id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REFERENCES Status(id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ERENCES status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акция на уда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ERENCES status(id) ON DELETE CASC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962000"/>
          <a:ext cx="7772400" cy="4591080"/>
        </p:xfrm>
        <a:graphic>
          <a:graphicData uri="http://schemas.openxmlformats.org/drawingml/2006/table">
            <a:tbl>
              <a:tblPr/>
              <a:tblGrid>
                <a:gridCol w="2362320"/>
                <a:gridCol w="541008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MBER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щественное число с точностью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плоть до 38 цифр (общим количеством цифр) и масштабом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числом цифр справа от десятичной точки). Масштаб может находится в диапазоне от -84 до 12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iz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ьные данные фиксированной длины равно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айт.  Максимум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оставляет 2000 байт, а минимум 1 бай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RCHAR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iz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а переменной длины, максимальный размер которой не может превышать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имволов или байтов. Максимальное значе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000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храняет информацию о дате. Использует формат "YYYY-MM-DD"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status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 VARCHAR2(9) NOT NULL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status_n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 (name IN ('Owner','Guest'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status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 VARCHAR2(9) NOT NULL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 (name IN ('Owner','Guest'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дале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OP TABLE Publication CASCADE CONSTRAIN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не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count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(cnt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(2,2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nt &lt; 10.5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isa VARCHAR2(3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IFY (cnt NUMBER(3,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depart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OP PRIMARY KEY CASC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ледова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SEQUENCE customers_s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RT WITH    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REMENT BY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CYC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игге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OR REPLACE TRIGGER person_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FORE INSERT ON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EACH R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erson_s.NEXTV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:new.id FROM DU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рифмет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* FROM employees WHERE -salary &lt; 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UPDATE employees SET salary = salary * 1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'Name is ' || last_name FROM employe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ло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, !=, &lt;, &gt;, &lt;=, 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[NOT] NULL, LIKE, [NOT] BETWEEN, [NOT] IN, EXIS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иц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з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ast_n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last_name LIKE 'A_b%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ast_n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upper(last_name) LIKE 'A_B%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al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WEEN 2000 AND 3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department_id NOT IN (10, 2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ции над результатами выполнения двух запро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2133720"/>
          <a:ext cx="7696080" cy="4064040"/>
        </p:xfrm>
        <a:graphic>
          <a:graphicData uri="http://schemas.openxmlformats.org/drawingml/2006/table">
            <a:tbl>
              <a:tblPr/>
              <a:tblGrid>
                <a:gridCol w="2438280"/>
                <a:gridCol w="52578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все строки выбранные запросами без дубл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ION 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все строки выбранные запросами, включая дуб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RS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троки, которые выбраны и первым, и вторым запрос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I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троки, которые выбраны первым запросом и отсутствуют во втор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ON 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ещественный тип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2133720"/>
          <a:ext cx="7848720" cy="4213080"/>
        </p:xfrm>
        <a:graphic>
          <a:graphicData uri="http://schemas.openxmlformats.org/drawingml/2006/table">
            <a:tbl>
              <a:tblPr/>
              <a:tblGrid>
                <a:gridCol w="2616480"/>
                <a:gridCol w="2616120"/>
                <a:gridCol w="26161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9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eds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7,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7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eds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4,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2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2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L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на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Name, FirstNam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Pers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tatus IS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Name, FirstNam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Pers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tatus IS NOT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тановлен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рядка сортиров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job_id = 'CLERK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ER BY commission DES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last_name, department_id, sa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ER BY department_id ASC, salary DES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ерархические опе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employee_id, last_name, manager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 START WITH employee_id =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BY PRIOR employee_id = manager_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_ID LAST_NAME                 MANAGER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 ------------------------- 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1 Kochhar                       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8 Greenberg                       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9 Faviet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0 Chen 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1 Sciarra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2 Urman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3 Popp 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00 Whalen                          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981080"/>
          <a:ext cx="7772400" cy="4103640"/>
        </p:xfrm>
        <a:graphic>
          <a:graphicData uri="http://schemas.openxmlformats.org/drawingml/2006/table">
            <a:tbl>
              <a:tblPr/>
              <a:tblGrid>
                <a:gridCol w="1981080"/>
                <a:gridCol w="579132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минимальное знач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максимальное зна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количество запис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умму значе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_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ет строку в дат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_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ет дату или число в стро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динение записей в запро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count(*) FROM employe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job_id = 'CLERK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 DES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пользование услов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VING MIN(salary) &lt; 500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PARTMENT_ID MIN(SALARY) MAX(SALAR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----------- ----------- ----------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5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ложенные за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alary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sal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department_id =3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alary NO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sal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department_id = 3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просы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пользующ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LECT DISTINCT A.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ROM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ERE NOT EXIS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(SELECT X.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ROM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ERE NOT 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.a=A.a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ключе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ублирующихся запис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ISTINCT city,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tate IN (‘CA’,’NY’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 city IS NOT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просы, использующие соеди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r.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erson pr, status 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pr.status=s.id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PER(s.name) LIK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'%ГОСТЬ%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.description AS 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Название книг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(c.publication) AS 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Кол-во экземпляров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ublication p, copy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p.id=c.pub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c.public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не может иметь длину более 30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должно начинаться только с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а должны быть уникальн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не должно совпадать с ключевыми словами в систем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да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 WHERE id=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T IN (SELECT person FROM reques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бав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person(lastName,firstName,middleNa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S (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тров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,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митрий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,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Геннадьевич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staff(person,posi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ID, 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рограммист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ers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нов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sh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scription=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ерхняя полк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cop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shelf = 1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фологическая мод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25520" y="2276640"/>
          <a:ext cx="6413400" cy="26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5520" y="2276640"/>
                    <a:ext cx="641340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712960" y="3508200"/>
            <a:ext cx="5209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38560" y="3325680"/>
            <a:ext cx="53352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80240" y="3325680"/>
            <a:ext cx="528480" cy="943200"/>
          </a:xfrm>
          <a:custGeom>
            <a:avLst/>
            <a:gdLst/>
            <a:ahLst/>
            <a:rect l="l" t="t" r="r" b="b"/>
            <a:pathLst>
              <a:path w="516" h="614">
                <a:moveTo>
                  <a:pt x="516" y="0"/>
                </a:moveTo>
                <a:lnTo>
                  <a:pt x="232" y="0"/>
                </a:lnTo>
                <a:lnTo>
                  <a:pt x="232" y="614"/>
                </a:lnTo>
                <a:lnTo>
                  <a:pt x="0" y="61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872320" y="4452840"/>
            <a:ext cx="5364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4800" y="3503520"/>
            <a:ext cx="298440" cy="619200"/>
          </a:xfrm>
          <a:custGeom>
            <a:avLst/>
            <a:gdLst/>
            <a:ahLst/>
            <a:rect l="l" t="t" r="r" b="b"/>
            <a:pathLst>
              <a:path w="270" h="561">
                <a:moveTo>
                  <a:pt x="270" y="561"/>
                </a:moveTo>
                <a:lnTo>
                  <a:pt x="0" y="561"/>
                </a:lnTo>
                <a:lnTo>
                  <a:pt x="0" y="0"/>
                </a:lnTo>
                <a:lnTo>
                  <a:pt x="25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12960" y="3728880"/>
            <a:ext cx="552600" cy="1130400"/>
          </a:xfrm>
          <a:custGeom>
            <a:avLst/>
            <a:gdLst/>
            <a:ahLst/>
            <a:rect l="l" t="t" r="r" b="b"/>
            <a:pathLst>
              <a:path w="517" h="950">
                <a:moveTo>
                  <a:pt x="517" y="950"/>
                </a:moveTo>
                <a:lnTo>
                  <a:pt x="232" y="950"/>
                </a:lnTo>
                <a:lnTo>
                  <a:pt x="232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258920" y="2571840"/>
            <a:ext cx="206280" cy="869760"/>
          </a:xfrm>
          <a:custGeom>
            <a:avLst/>
            <a:gdLst/>
            <a:ahLst/>
            <a:rect l="l" t="t" r="r" b="b"/>
            <a:pathLst>
              <a:path w="144" h="1344">
                <a:moveTo>
                  <a:pt x="144" y="0"/>
                </a:moveTo>
                <a:lnTo>
                  <a:pt x="0" y="0"/>
                </a:lnTo>
                <a:lnTo>
                  <a:pt x="0" y="1344"/>
                </a:lnTo>
                <a:lnTo>
                  <a:pt x="144" y="13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3600" y="3557520"/>
            <a:ext cx="206280" cy="347760"/>
          </a:xfrm>
          <a:custGeom>
            <a:avLst/>
            <a:gdLst/>
            <a:ahLst/>
            <a:rect l="l" t="t" r="r" b="b"/>
            <a:pathLst>
              <a:path w="144" h="1344">
                <a:moveTo>
                  <a:pt x="144" y="0"/>
                </a:moveTo>
                <a:lnTo>
                  <a:pt x="0" y="0"/>
                </a:lnTo>
                <a:lnTo>
                  <a:pt x="0" y="1344"/>
                </a:lnTo>
                <a:lnTo>
                  <a:pt x="144" y="13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терал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Hello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ORACLE.dbs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Jackie''s raincoat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09-MAR-98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ента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Таблица с описани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чатных изда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CREATE TABLE Pub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NUMBER(4) PRIMARY KEY, -- Первичный клю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escription VARCHAR2(500) NOT NULL -- Опис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зда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CONSTRAINT person_id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кращен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lyamin</cp:lastModifiedBy>
  <dcterms:modified xsi:type="dcterms:W3CDTF">2012-04-06T09:54:05Z</dcterms:modified>
  <cp:revision>70</cp:revision>
  <dc:subject/>
  <dc:title>Язык структурированных запросов</dc:title>
</cp:coreProperties>
</file>