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305-19A3-4D2B-B780-5AFB04E4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4B9-4AA2-4B9B-B2CD-92D871F9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CCC-BC63-47A2-A70A-69E483DC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1D4-1B07-4DA8-BA5F-7C768CA8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A8F-594B-4395-A5FB-AE21E421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181-A309-4351-AB86-2AC9F155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34F-FBBF-4733-A7D3-0316E131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CB3-7CEF-4FD7-8D30-F9E93AF5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D0C-CA35-49A1-98F6-890BFB5D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B72-E0C0-4A65-979F-363B9751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4EE-6F3F-4A93-84CB-B5A08677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9C0-F29C-4425-9A69-3836B70C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F374-CBC9-43AF-9E9D-0ED802D32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одель взаимодействия открытых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Звезд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57400" y="1523880"/>
            <a:ext cx="4743360" cy="4133880"/>
            <a:chOff x="2057400" y="1523880"/>
            <a:chExt cx="4743360" cy="4133880"/>
          </a:xfrm>
        </p:grpSpPr>
        <p:sp>
          <p:nvSpPr>
            <p:cNvPr id="68" name=""/>
            <p:cNvSpPr/>
            <p:nvPr/>
          </p:nvSpPr>
          <p:spPr>
            <a:xfrm>
              <a:off x="4419720" y="373392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19720" y="3174480"/>
              <a:ext cx="1958760" cy="55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386240" y="1909800"/>
              <a:ext cx="3960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437920" y="315108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122640" y="374328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05740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28195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5257800" y="48769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4038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6019920" y="28195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3886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Кольцо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647800" y="2266920"/>
            <a:ext cx="3543480" cy="3143160"/>
            <a:chOff x="2647800" y="2266920"/>
            <a:chExt cx="3543480" cy="3143160"/>
          </a:xfrm>
        </p:grpSpPr>
        <p:sp>
          <p:nvSpPr>
            <p:cNvPr id="81" name=""/>
            <p:cNvSpPr/>
            <p:nvPr/>
          </p:nvSpPr>
          <p:spPr>
            <a:xfrm>
              <a:off x="4419720" y="2495520"/>
              <a:ext cx="137160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971800" y="2495520"/>
              <a:ext cx="144792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334120" y="3562200"/>
              <a:ext cx="4572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1800" y="3486240"/>
              <a:ext cx="45720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29000" y="493380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4038480" y="2266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64780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41008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4952880" y="4552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3048120" y="462924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евовид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2286000"/>
            <a:ext cx="5429160" cy="3448080"/>
            <a:chOff x="1828800" y="2286000"/>
            <a:chExt cx="5429160" cy="3448080"/>
          </a:xfrm>
        </p:grpSpPr>
        <p:sp>
          <p:nvSpPr>
            <p:cNvPr id="93" name=""/>
            <p:cNvSpPr/>
            <p:nvPr/>
          </p:nvSpPr>
          <p:spPr>
            <a:xfrm flipH="1">
              <a:off x="3214800" y="2395440"/>
              <a:ext cx="1371600" cy="137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3560" y="2371680"/>
              <a:ext cx="13716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05000" y="3841920"/>
              <a:ext cx="906480" cy="144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33880" y="3828960"/>
              <a:ext cx="709560" cy="154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46480" y="3854520"/>
              <a:ext cx="9061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86520" y="3903840"/>
              <a:ext cx="747720" cy="13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505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648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64771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828800" y="4933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3962520" y="22860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26668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54100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мешан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71640" y="1523880"/>
            <a:ext cx="7962840" cy="4362480"/>
            <a:chOff x="971640" y="1523880"/>
            <a:chExt cx="7962840" cy="4362480"/>
          </a:xfrm>
        </p:grpSpPr>
        <p:sp>
          <p:nvSpPr>
            <p:cNvPr id="108" name=""/>
            <p:cNvSpPr/>
            <p:nvPr/>
          </p:nvSpPr>
          <p:spPr>
            <a:xfrm>
              <a:off x="1450800" y="3108240"/>
              <a:ext cx="443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655280" y="3070080"/>
              <a:ext cx="885960" cy="77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63560" y="3827520"/>
              <a:ext cx="230040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77880" y="3886200"/>
              <a:ext cx="98640" cy="157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6040" y="4073400"/>
              <a:ext cx="260280" cy="14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1561680" y="5454720"/>
              <a:ext cx="262260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4240" y="3745080"/>
              <a:ext cx="1146240" cy="14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786720" y="3139560"/>
              <a:ext cx="1881000" cy="55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781680" y="190512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802040" y="3096720"/>
              <a:ext cx="1968480" cy="59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528880" y="3693960"/>
              <a:ext cx="1257480" cy="141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191120" y="5105520"/>
              <a:ext cx="1371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6172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6324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815328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76201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5181480" y="47242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4419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5695920" y="2495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3276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057400" y="25146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97164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1219320" y="34290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3505320" y="35812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1219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4"/>
            <a:stretch/>
          </p:blipFill>
          <p:spPr>
            <a:xfrm>
              <a:off x="3809880" y="5105520"/>
              <a:ext cx="78120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ные виды се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не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общество множества международных и национальных компьютерных с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ран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нутренняя сеть орган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спользующая стандарты, протоколы и технологии Интер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стран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поративная Интра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взаимодействия  открытых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аимодействия открытых сист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Systems Interconnecti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OS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подразумевает обеспечение взаимодействия систем по определенным правил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крыт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любая система, которая построена в соответствии с открытыми спецификаци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дународной организацией по стандарт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976320"/>
          <a:ext cx="9144000" cy="56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91440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7444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токол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это правила, определяющие взаимодействие между системами в рамках одного уров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5146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терфей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функций, который нижележащий уровень предоставляет вышележащ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343400"/>
            <a:ext cx="836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ек протокол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протоколов разных уровней, достаточный для организации взаимодействия сист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и протоко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BIOS/S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ответствие стеков протоколов модел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2235240"/>
          <a:ext cx="8839440" cy="40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35240"/>
                    <a:ext cx="883944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4479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NetWor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et - сеть, и work - работа)  - это система обмена информацией между компьютер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733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ая цель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беспечение пользователям потенциальной возможности доступа к локальным ресурсам всех компьютеров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9920" y="609480"/>
            <a:ext cx="50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б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810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изводи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дежность и 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ширяемость и масштабируе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зрачность и управляем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вместимость (гетерогенно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сети классифицируются по следующим признака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епень географического распростра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сштаб производственного подразде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особ управ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уктура (топология) связ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тепени географического распростран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286000"/>
            <a:ext cx="88394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к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Local Area Network, L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б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Area Networ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W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ские сети (Metropolitan Area Network, M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масштабу производственного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дразде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отдел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кампус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поративн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572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пособу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рав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«Клиент - сервер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ие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объект (компьютер или программа), запрашива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 объект (компьютер или программа), предоставля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норангов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топологии связей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Общая шин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Звезд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Кольцо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древовидной тополог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о смешанной тополог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Общая шин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23880" y="3048120"/>
            <a:ext cx="6191280" cy="780840"/>
            <a:chOff x="1523880" y="3048120"/>
            <a:chExt cx="6191280" cy="780840"/>
          </a:xfrm>
        </p:grpSpPr>
        <p:sp>
          <p:nvSpPr>
            <p:cNvPr id="60" name=""/>
            <p:cNvSpPr/>
            <p:nvPr/>
          </p:nvSpPr>
          <p:spPr>
            <a:xfrm>
              <a:off x="1925640" y="3657600"/>
              <a:ext cx="540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38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8954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42670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56386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6934320" y="304812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support</cp:lastModifiedBy>
  <dcterms:modified xsi:type="dcterms:W3CDTF">2007-04-17T06:16:54Z</dcterms:modified>
  <cp:revision>5</cp:revision>
  <dc:subject/>
  <dc:title>Компьютерные сети</dc:title>
</cp:coreProperties>
</file>