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EF0-1752-4F52-B925-2E7ED498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BBB-895D-4A89-BD07-ABA4ECBD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0F7-5355-4F69-8FFD-FFDE9D19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53B-F655-48B5-BB9C-F5CCCA75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89C-EF50-475B-8201-F8CE9BF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38F-2D3D-4DE3-A49B-9F968DE2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4E6-589D-4EA1-8206-9A3DA27F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33B-A49F-429C-803E-311AB8A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7F0-A7B6-4C76-9440-E096197E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23C-4FF3-4F08-9A00-D4A58F3C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4C1-3E48-4E0F-8608-6424E350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5BA-C225-4AD7-A1BD-59A9C30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09CD-5F2B-4A14-9E04-FF61BD5A6F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ительные машин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ан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анда - это описание операции, которую должен выполнить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уппы коман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передачи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ческие и логические ком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ая ЭВ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57160" y="1908000"/>
            <a:ext cx="74296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600200" y="477720"/>
            <a:ext cx="6107040" cy="5923080"/>
            <a:chOff x="1600200" y="477720"/>
            <a:chExt cx="6107040" cy="5923080"/>
          </a:xfrm>
        </p:grpSpPr>
        <p:sp>
          <p:nvSpPr>
            <p:cNvPr id="188" name=""/>
            <p:cNvSpPr/>
            <p:nvPr/>
          </p:nvSpPr>
          <p:spPr>
            <a:xfrm>
              <a:off x="5969880" y="805320"/>
              <a:ext cx="1066680" cy="159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67880" y="78624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43520" y="804600"/>
              <a:ext cx="0" cy="160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160" y="808920"/>
              <a:ext cx="0" cy="15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789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69880" y="2108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0480" y="781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39280" y="1726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08840" y="1726920"/>
              <a:ext cx="875880" cy="81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29880" y="16999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5600" y="17305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7160" y="1738080"/>
              <a:ext cx="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89760" y="17074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3720" y="2260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412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28000" y="6984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7680" y="877680"/>
              <a:ext cx="7992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2640" y="70596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86880" y="91188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5200" y="77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9680" y="919440"/>
              <a:ext cx="1142640" cy="297000"/>
            </a:xfrm>
            <a:custGeom>
              <a:avLst/>
              <a:gdLst/>
              <a:ahLst/>
              <a:rect l="l" t="t" r="r" b="b"/>
              <a:pathLst>
                <a:path w="1800" h="468">
                  <a:moveTo>
                    <a:pt x="1572" y="0"/>
                  </a:moveTo>
                  <a:lnTo>
                    <a:pt x="1800" y="0"/>
                  </a:lnTo>
                  <a:lnTo>
                    <a:pt x="1800" y="468"/>
                  </a:lnTo>
                  <a:lnTo>
                    <a:pt x="0" y="468"/>
                  </a:lnTo>
                  <a:lnTo>
                    <a:pt x="0" y="210"/>
                  </a:lnTo>
                  <a:lnTo>
                    <a:pt x="162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282200" y="767160"/>
              <a:ext cx="1016640" cy="841680"/>
              <a:chOff x="4282200" y="767160"/>
              <a:chExt cx="1016640" cy="841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00920" y="797400"/>
                <a:ext cx="876240" cy="81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1960" y="770760"/>
                <a:ext cx="464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7680" y="80136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99240" y="808920"/>
                <a:ext cx="0" cy="78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82200" y="77868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85800" y="133092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200" y="76716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65600" y="1711440"/>
              <a:ext cx="135252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12640" y="1707480"/>
              <a:ext cx="6436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56320" y="1726920"/>
              <a:ext cx="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3800" y="1715400"/>
              <a:ext cx="0" cy="10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384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33280" y="16772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31400" y="2077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23840" y="24400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1280" y="228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2680" y="91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9440" y="22226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9680" y="2512080"/>
              <a:ext cx="1356120" cy="354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7200" y="25048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Б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0960" y="477720"/>
              <a:ext cx="5714640" cy="1371600"/>
            </a:xfrm>
            <a:custGeom>
              <a:avLst/>
              <a:gdLst/>
              <a:ahLst/>
              <a:rect l="l" t="t" r="r" b="b"/>
              <a:pathLst>
                <a:path w="9000" h="2160">
                  <a:moveTo>
                    <a:pt x="8340" y="720"/>
                  </a:moveTo>
                  <a:lnTo>
                    <a:pt x="9000" y="72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2160"/>
                  </a:lnTo>
                  <a:lnTo>
                    <a:pt x="360" y="216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160" y="679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77520" y="91548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0480" y="6606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6600" y="184932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560" y="15933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8080" y="20512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4120" y="18187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64320" y="15858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78400" y="557640"/>
              <a:ext cx="361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1967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72680" y="1220400"/>
              <a:ext cx="236160" cy="1219320"/>
            </a:xfrm>
            <a:custGeom>
              <a:avLst/>
              <a:gdLst/>
              <a:ahLst/>
              <a:rect l="l" t="t" r="r" b="b"/>
              <a:pathLst>
                <a:path w="372" h="1920">
                  <a:moveTo>
                    <a:pt x="0" y="0"/>
                  </a:moveTo>
                  <a:lnTo>
                    <a:pt x="0" y="1920"/>
                  </a:lnTo>
                  <a:lnTo>
                    <a:pt x="372" y="19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2080" y="1193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8480" y="183024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7840" y="157428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3954240" y="2943000"/>
              <a:ext cx="883800" cy="16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592440" y="3594600"/>
              <a:ext cx="16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596040" y="3967920"/>
              <a:ext cx="160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610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77320" y="33202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86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1160" y="36324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2000" y="46537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584520" y="4619520"/>
              <a:ext cx="925560" cy="666720"/>
              <a:chOff x="3584520" y="4619520"/>
              <a:chExt cx="925560" cy="666720"/>
            </a:xfrm>
          </p:grpSpPr>
          <p:sp>
            <p:nvSpPr>
              <p:cNvPr id="254" name=""/>
              <p:cNvSpPr/>
              <p:nvPr/>
            </p:nvSpPr>
            <p:spPr>
              <a:xfrm rot="5400000">
                <a:off x="3713760" y="448992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3593520" y="482220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597480" y="507456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247640" y="4588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43120" y="4592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6360" y="5042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5560" y="3937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1640" y="482544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0040" y="1830240"/>
              <a:ext cx="0" cy="148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340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400" y="3087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92800" y="29620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9000" y="440604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2955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77240" y="4207680"/>
              <a:ext cx="0" cy="41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44760" y="5617800"/>
              <a:ext cx="925560" cy="666720"/>
              <a:chOff x="3344760" y="5617800"/>
              <a:chExt cx="925560" cy="66672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3474000" y="548820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353760" y="582048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357720" y="607284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96972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1848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64800" y="6036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1520" y="581616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129560" y="5285880"/>
              <a:ext cx="7560" cy="3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060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99320" y="53398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47076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48520" y="2649600"/>
              <a:ext cx="2381040" cy="2724480"/>
            </a:xfrm>
            <a:custGeom>
              <a:avLst/>
              <a:gdLst/>
              <a:ahLst/>
              <a:rect l="l" t="t" r="r" b="b"/>
              <a:pathLst>
                <a:path w="3750" h="4290">
                  <a:moveTo>
                    <a:pt x="3750" y="4290"/>
                  </a:moveTo>
                  <a:lnTo>
                    <a:pt x="0" y="4290"/>
                  </a:lnTo>
                  <a:lnTo>
                    <a:pt x="0" y="0"/>
                  </a:lnTo>
                  <a:lnTo>
                    <a:pt x="34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9320" y="53470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5920" y="3200040"/>
              <a:ext cx="1600200" cy="3200760"/>
            </a:xfrm>
            <a:custGeom>
              <a:avLst/>
              <a:gdLst/>
              <a:ahLst/>
              <a:rect l="l" t="t" r="r" b="b"/>
              <a:pathLst>
                <a:path w="2520" h="5040">
                  <a:moveTo>
                    <a:pt x="0" y="4860"/>
                  </a:moveTo>
                  <a:lnTo>
                    <a:pt x="0" y="5040"/>
                  </a:lnTo>
                  <a:lnTo>
                    <a:pt x="2520" y="5040"/>
                  </a:lnTo>
                  <a:lnTo>
                    <a:pt x="2520" y="0"/>
                  </a:lnTo>
                  <a:lnTo>
                    <a:pt x="2022" y="0"/>
                  </a:lnTo>
                  <a:lnTo>
                    <a:pt x="2022" y="18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9480" y="42422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2188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016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5280" y="318276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7720" y="3758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7720" y="432612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5280" y="4901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7720" y="548064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0000" y="26190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00960" y="2836080"/>
              <a:ext cx="180000" cy="2975760"/>
            </a:xfrm>
            <a:custGeom>
              <a:avLst/>
              <a:gdLst/>
              <a:ahLst/>
              <a:rect l="l" t="t" r="r" b="b"/>
              <a:pathLst>
                <a:path w="270" h="4458">
                  <a:moveTo>
                    <a:pt x="0" y="0"/>
                  </a:moveTo>
                  <a:lnTo>
                    <a:pt x="90" y="0"/>
                  </a:lnTo>
                  <a:lnTo>
                    <a:pt x="90" y="4458"/>
                  </a:lnTo>
                  <a:lnTo>
                    <a:pt x="270" y="44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67200" y="5248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67200" y="46692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67200" y="4097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67200" y="3525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6600" y="3495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0560" y="40708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36600" y="4638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6600" y="521784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6080" y="2797920"/>
              <a:ext cx="7956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35920" y="34153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45440" y="3270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5920" y="3979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5440" y="3834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35920" y="455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45440" y="4413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4400" y="5122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33920" y="4977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1960" y="56941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1480" y="5549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63472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10000" y="30952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2720" y="3316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4720" y="3201840"/>
              <a:ext cx="55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6040" y="42346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49120" y="4455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69880" y="38880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7960" y="3316320"/>
              <a:ext cx="121680" cy="1257120"/>
            </a:xfrm>
            <a:custGeom>
              <a:avLst/>
              <a:gdLst/>
              <a:ahLst/>
              <a:rect l="l" t="t" r="r" b="b"/>
              <a:pathLst>
                <a:path w="192" h="1980">
                  <a:moveTo>
                    <a:pt x="180" y="1980"/>
                  </a:moveTo>
                  <a:lnTo>
                    <a:pt x="0" y="1980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53760" y="4538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440" y="3201840"/>
              <a:ext cx="228240" cy="1150560"/>
            </a:xfrm>
            <a:custGeom>
              <a:avLst/>
              <a:gdLst/>
              <a:ahLst/>
              <a:rect l="l" t="t" r="r" b="b"/>
              <a:pathLst>
                <a:path w="360" h="1812">
                  <a:moveTo>
                    <a:pt x="0" y="0"/>
                  </a:moveTo>
                  <a:lnTo>
                    <a:pt x="0" y="1812"/>
                  </a:lnTo>
                  <a:lnTo>
                    <a:pt x="360" y="18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0800" y="3171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4720" y="5031000"/>
              <a:ext cx="11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3320" y="3430440"/>
              <a:ext cx="342720" cy="1600200"/>
            </a:xfrm>
            <a:custGeom>
              <a:avLst/>
              <a:gdLst/>
              <a:ahLst/>
              <a:rect l="l" t="t" r="r" b="b"/>
              <a:pathLst>
                <a:path w="540" h="2520">
                  <a:moveTo>
                    <a:pt x="0" y="2520"/>
                  </a:moveTo>
                  <a:lnTo>
                    <a:pt x="0" y="0"/>
                  </a:lnTo>
                  <a:lnTo>
                    <a:pt x="5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32720" y="50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34720" y="5602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72680" y="2409480"/>
              <a:ext cx="2125800" cy="430560"/>
            </a:xfrm>
            <a:custGeom>
              <a:avLst/>
              <a:gdLst/>
              <a:ahLst/>
              <a:rect l="l" t="t" r="r" b="b"/>
              <a:pathLst>
                <a:path w="4098" h="618">
                  <a:moveTo>
                    <a:pt x="4098" y="618"/>
                  </a:moveTo>
                  <a:lnTo>
                    <a:pt x="0" y="61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42080" y="240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56240" y="177660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695240" y="43142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364360" y="17877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329800" y="8618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960" y="43027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813640" y="17841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8080" y="2474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573880" y="25462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348880" y="43066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072680" y="54309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254000" y="8733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9840" y="531000"/>
              <a:ext cx="1432440" cy="81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6920" y="4852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0800" y="3852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38320" y="4568760"/>
              <a:ext cx="44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коман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8600" y="1752480"/>
            <a:ext cx="8686440" cy="4952880"/>
            <a:chOff x="228600" y="1752480"/>
            <a:chExt cx="8686440" cy="4952880"/>
          </a:xfrm>
        </p:grpSpPr>
        <p:grpSp>
          <p:nvGrpSpPr>
            <p:cNvPr id="347" name=""/>
            <p:cNvGrpSpPr/>
            <p:nvPr/>
          </p:nvGrpSpPr>
          <p:grpSpPr>
            <a:xfrm>
              <a:off x="236520" y="1757160"/>
              <a:ext cx="8668800" cy="4942440"/>
              <a:chOff x="236520" y="1757160"/>
              <a:chExt cx="8668800" cy="49424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36520" y="1757160"/>
                <a:ext cx="1837800" cy="678240"/>
                <a:chOff x="236520" y="1757160"/>
                <a:chExt cx="1837800" cy="6782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6040" y="1757160"/>
                  <a:ext cx="1599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Код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520" y="1757160"/>
                  <a:ext cx="183780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074680" y="1757160"/>
                <a:ext cx="2171520" cy="678240"/>
                <a:chOff x="2074680" y="1757160"/>
                <a:chExt cx="2171520" cy="678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194200" y="1757160"/>
                  <a:ext cx="1932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немон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74680" y="1757160"/>
                  <a:ext cx="217152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246560" y="1757160"/>
                <a:ext cx="4658760" cy="678240"/>
                <a:chOff x="4246560" y="1757160"/>
                <a:chExt cx="4658760" cy="678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365360" y="1757160"/>
                  <a:ext cx="442080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пис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46560" y="1757160"/>
                  <a:ext cx="465876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36520" y="2435760"/>
                <a:ext cx="1837800" cy="1065240"/>
                <a:chOff x="236520" y="2435760"/>
                <a:chExt cx="1837800" cy="1065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56040" y="2435760"/>
                  <a:ext cx="1599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6520" y="2435760"/>
                  <a:ext cx="18378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074680" y="2435760"/>
                <a:ext cx="2171520" cy="1065240"/>
                <a:chOff x="2074680" y="2435760"/>
                <a:chExt cx="2171520" cy="1065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194200" y="2435760"/>
                  <a:ext cx="1932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LO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074680" y="2435760"/>
                  <a:ext cx="21715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246560" y="2435760"/>
                <a:ext cx="4658760" cy="1065240"/>
                <a:chOff x="4246560" y="2435760"/>
                <a:chExt cx="4658760" cy="1065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365360" y="2435760"/>
                  <a:ext cx="4420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Загрузка в аккумулятор двоичного кода числа из ячейки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46560" y="2435760"/>
                  <a:ext cx="4658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36520" y="3501720"/>
                <a:ext cx="1837800" cy="1065600"/>
                <a:chOff x="236520" y="3501720"/>
                <a:chExt cx="1837800" cy="1065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56040" y="3501720"/>
                  <a:ext cx="1599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6520" y="3501720"/>
                  <a:ext cx="183780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074680" y="3501720"/>
                <a:ext cx="2171520" cy="1065600"/>
                <a:chOff x="2074680" y="3501720"/>
                <a:chExt cx="2171520" cy="1065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194200" y="3501720"/>
                  <a:ext cx="1932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TO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74680" y="3501720"/>
                  <a:ext cx="217152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246560" y="3501720"/>
                <a:ext cx="4658760" cy="1065600"/>
                <a:chOff x="4246560" y="3501720"/>
                <a:chExt cx="4658760" cy="1065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365360" y="3501720"/>
                  <a:ext cx="442080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хранение двоичного кода числа,  хранящегося в аккумуляторе, в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246560" y="3501720"/>
                  <a:ext cx="465876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6520" y="4568040"/>
                <a:ext cx="1837800" cy="1258920"/>
                <a:chOff x="236520" y="4568040"/>
                <a:chExt cx="1837800" cy="125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6040" y="4568040"/>
                  <a:ext cx="1599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6520" y="4568040"/>
                  <a:ext cx="183780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074680" y="4568040"/>
                <a:ext cx="2171520" cy="1258920"/>
                <a:chOff x="2074680" y="4568040"/>
                <a:chExt cx="2171520" cy="125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94200" y="4568040"/>
                  <a:ext cx="1932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AD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74680" y="4568040"/>
                  <a:ext cx="217152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46560" y="4568040"/>
                <a:ext cx="4658760" cy="1258920"/>
                <a:chOff x="4246560" y="4568040"/>
                <a:chExt cx="4658760" cy="1258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365360" y="4568040"/>
                  <a:ext cx="442080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уммирование двоичных кодов чисел, хранящихся в аккумуляторе и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, с записью результата в аккумулято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46560" y="4568040"/>
                  <a:ext cx="465876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36520" y="5827320"/>
                <a:ext cx="1837800" cy="872280"/>
                <a:chOff x="236520" y="5827320"/>
                <a:chExt cx="1837800" cy="872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56040" y="5827320"/>
                  <a:ext cx="1599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36520" y="5827320"/>
                  <a:ext cx="183780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74680" y="5827320"/>
                <a:ext cx="2171520" cy="872280"/>
                <a:chOff x="2074680" y="5827320"/>
                <a:chExt cx="2171520" cy="87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94200" y="5827320"/>
                  <a:ext cx="1932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HL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5827320"/>
                  <a:ext cx="21715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246560" y="5827320"/>
                <a:ext cx="4658760" cy="872280"/>
                <a:chOff x="4246560" y="5827320"/>
                <a:chExt cx="4658760" cy="872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365360" y="5827320"/>
                  <a:ext cx="442080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рекращение выполнения программ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246560" y="5827320"/>
                  <a:ext cx="465876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228600" y="1752480"/>
              <a:ext cx="868644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е устр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внешней памя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деомонитор (дисплей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виату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нипуляторы джойстик, мышь, трекбо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те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ане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связ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47720" y="1600200"/>
            <a:ext cx="4996080" cy="5060520"/>
            <a:chOff x="2547720" y="1600200"/>
            <a:chExt cx="4996080" cy="5060520"/>
          </a:xfrm>
        </p:grpSpPr>
        <p:sp>
          <p:nvSpPr>
            <p:cNvPr id="398" name=""/>
            <p:cNvSpPr/>
            <p:nvPr/>
          </p:nvSpPr>
          <p:spPr>
            <a:xfrm rot="5400000">
              <a:off x="3093840" y="2682360"/>
              <a:ext cx="898920" cy="199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80760" y="3222720"/>
              <a:ext cx="42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49440" y="32590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7240" y="3564000"/>
              <a:ext cx="6436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08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0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420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7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440" y="36208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5400000">
              <a:off x="4994640" y="1325520"/>
              <a:ext cx="8989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83960" y="189900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89680" y="191988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032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8212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428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0608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80760" y="2695320"/>
              <a:ext cx="47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1480" y="2933280"/>
              <a:ext cx="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8480" y="1600200"/>
              <a:ext cx="552240" cy="90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0720" y="2053440"/>
              <a:ext cx="5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9240" y="2499120"/>
              <a:ext cx="361800" cy="904680"/>
            </a:xfrm>
            <a:custGeom>
              <a:avLst/>
              <a:gdLst/>
              <a:ahLst/>
              <a:rect l="l" t="t" r="r" b="b"/>
              <a:pathLst>
                <a:path w="570" h="1425">
                  <a:moveTo>
                    <a:pt x="570" y="0"/>
                  </a:moveTo>
                  <a:lnTo>
                    <a:pt x="570" y="1425"/>
                  </a:lnTo>
                  <a:lnTo>
                    <a:pt x="0" y="14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39240" y="2499120"/>
              <a:ext cx="723960" cy="1266480"/>
            </a:xfrm>
            <a:custGeom>
              <a:avLst/>
              <a:gdLst/>
              <a:ahLst/>
              <a:rect l="l" t="t" r="r" b="b"/>
              <a:pathLst>
                <a:path w="1140" h="1995">
                  <a:moveTo>
                    <a:pt x="1140" y="0"/>
                  </a:moveTo>
                  <a:lnTo>
                    <a:pt x="1140" y="1995"/>
                  </a:lnTo>
                  <a:lnTo>
                    <a:pt x="0" y="19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800000">
              <a:off x="5263200" y="4670280"/>
              <a:ext cx="899280" cy="19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53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871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02360" y="472176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2360" y="524952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90840" y="580788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0840" y="637164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63320" y="553932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028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4244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1560" y="555444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2880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82600" y="648000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85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46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880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0160" y="593748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92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3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6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82600" y="539424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85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46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2600" y="485136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5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6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2880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7204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2812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8912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204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3568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9704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960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2812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8912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204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812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8912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204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1492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7136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3236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1492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892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3992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2284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136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236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1492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7136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236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492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5816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14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5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5816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21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82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65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4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5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5816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4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5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816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01040" y="2680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63200" y="2860920"/>
              <a:ext cx="108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25360" y="30420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87160" y="322272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57120" y="26438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19280" y="2824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81440" y="30056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240" y="318672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68240" y="568404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1680" y="5575320"/>
              <a:ext cx="10497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Преры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85320" y="2680200"/>
              <a:ext cx="144720" cy="542520"/>
            </a:xfrm>
            <a:custGeom>
              <a:avLst/>
              <a:gdLst>
                <a:gd name="textAreaLeft" fmla="*/ 0 w 144720"/>
                <a:gd name="textAreaRight" fmla="*/ 52200 w 144720"/>
                <a:gd name="textAreaTop" fmla="*/ 14040 h 542520"/>
                <a:gd name="textAreaBottom" fmla="*/ 528480 h 5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94040" y="2794320"/>
              <a:ext cx="1049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кан-к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ност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й на компьютер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, с которым возможно представление чисел в компьюте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эпсилоном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из чисел, удовлетворяющих условию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, т.е.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руглении методом отсечения определяется по формул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округлении методом дополнения –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нулем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представимое на компьютере положительное число, т.е. для любого другого представимого на компьютере числ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удет выполняться неравенство: 0&lt;</a:t>
            </a: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772400" y="4086360"/>
          <a:ext cx="685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086360"/>
                    <a:ext cx="685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ой бесконечн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наименьшее из чисел удовлетворяющих неравенству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е число, которое можно представить на компьютер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772400" y="3657600"/>
          <a:ext cx="7840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657600"/>
                    <a:ext cx="784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В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многофункциональное электронное устройство для накопления, обработки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ссы ЭВ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ифр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алог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которым возможно представление чисел в компьютере определяется по формул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рядок числа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95480" y="2949480"/>
          <a:ext cx="91440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49480"/>
                    <a:ext cx="9144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 0.01-0.011+1=1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 то же время 1-0.011+0.01=0.99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усть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и требуется вычислить сумму 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+0.1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20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гаем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..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выборе формулы и порядка вычислений следует избегать вычитания близких чисел и деления на малые велич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переполнении или исчезновения порядка следует попытаться изменить последовательность действий, ввести масштабные коэффици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сложении следует располагать слагаемые в порядке возрастания абсолютных величин, стараясь, чтобы при каждом сложении порядки величин различались мало. При необходимости цикл суммирования разбивается на несколько более корот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ы постро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двоичного код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ограмм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однородности пам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адре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бл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нтральный процессор (ЦП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 (АЛУ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лок управления (Б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истры (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ая память (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8280" y="2019240"/>
            <a:ext cx="4190400" cy="3848040"/>
            <a:chOff x="2438280" y="2019240"/>
            <a:chExt cx="4190400" cy="3848040"/>
          </a:xfrm>
        </p:grpSpPr>
        <p:grpSp>
          <p:nvGrpSpPr>
            <p:cNvPr id="51" name=""/>
            <p:cNvGrpSpPr/>
            <p:nvPr/>
          </p:nvGrpSpPr>
          <p:grpSpPr>
            <a:xfrm>
              <a:off x="2449440" y="2023920"/>
              <a:ext cx="4166280" cy="3838680"/>
              <a:chOff x="2449440" y="2023920"/>
              <a:chExt cx="4166280" cy="38386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449440" y="2023920"/>
                <a:ext cx="1750680" cy="639720"/>
                <a:chOff x="2449440" y="2023920"/>
                <a:chExt cx="1750680" cy="639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615400" y="202392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дре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449440" y="202392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200840" y="2023920"/>
                <a:ext cx="2414880" cy="639720"/>
                <a:chOff x="4200840" y="2023920"/>
                <a:chExt cx="2414880" cy="639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366800" y="202392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чейк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00840" y="202392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449440" y="2663640"/>
                <a:ext cx="1750680" cy="639720"/>
                <a:chOff x="2449440" y="2663640"/>
                <a:chExt cx="1750680" cy="639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615400" y="266364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49440" y="266364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00840" y="2663640"/>
                <a:ext cx="2414880" cy="639720"/>
                <a:chOff x="4200840" y="2663640"/>
                <a:chExt cx="241488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66800" y="266364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0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00840" y="266364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449440" y="3303360"/>
                <a:ext cx="1750680" cy="639720"/>
                <a:chOff x="2449440" y="3303360"/>
                <a:chExt cx="175068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615400" y="330336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449440" y="330336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200840" y="3303360"/>
                <a:ext cx="2414880" cy="639720"/>
                <a:chOff x="4200840" y="3303360"/>
                <a:chExt cx="241488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366800" y="330336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01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200840" y="330336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449440" y="3943080"/>
                <a:ext cx="1750680" cy="639720"/>
                <a:chOff x="2449440" y="3943080"/>
                <a:chExt cx="175068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615400" y="39430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9440" y="39430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200840" y="3943080"/>
                <a:ext cx="2414880" cy="639720"/>
                <a:chOff x="4200840" y="3943080"/>
                <a:chExt cx="24148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366800" y="39430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1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00840" y="39430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449440" y="4582800"/>
                <a:ext cx="1750680" cy="640080"/>
                <a:chOff x="2449440" y="4582800"/>
                <a:chExt cx="1750680" cy="640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15400" y="4582800"/>
                  <a:ext cx="14184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449440" y="4582800"/>
                  <a:ext cx="17506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200840" y="4582800"/>
                <a:ext cx="2414880" cy="640080"/>
                <a:chOff x="4200840" y="4582800"/>
                <a:chExt cx="2414880" cy="640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366800" y="4582800"/>
                  <a:ext cx="2082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200840" y="4582800"/>
                  <a:ext cx="24148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449440" y="5222880"/>
                <a:ext cx="1750680" cy="639720"/>
                <a:chOff x="2449440" y="5222880"/>
                <a:chExt cx="175068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15400" y="52228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449440" y="52228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200840" y="5222880"/>
                <a:ext cx="2414880" cy="639720"/>
                <a:chOff x="4200840" y="5222880"/>
                <a:chExt cx="24148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366800" y="52228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0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00840" y="52228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2438280" y="2019240"/>
              <a:ext cx="4190400" cy="3848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52480" y="1447920"/>
            <a:ext cx="5815080" cy="4865040"/>
            <a:chOff x="1752480" y="1447920"/>
            <a:chExt cx="5815080" cy="4865040"/>
          </a:xfrm>
        </p:grpSpPr>
        <p:sp>
          <p:nvSpPr>
            <p:cNvPr id="91" name=""/>
            <p:cNvSpPr/>
            <p:nvPr/>
          </p:nvSpPr>
          <p:spPr>
            <a:xfrm>
              <a:off x="4457520" y="15429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8800" y="1542960"/>
              <a:ext cx="0" cy="9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08800" y="15886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7520" y="15926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9960" y="22442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9960" y="170892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415656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9960" y="29073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01240" y="2907360"/>
              <a:ext cx="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1240" y="2953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29566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2400" y="36082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2400" y="307116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0080" y="25225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0920" y="1592640"/>
              <a:ext cx="135216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17600" y="157356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1640" y="160776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120" y="159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8800" y="1577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4400" y="22568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3360" y="3322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0120" y="156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23440" y="171072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8800" y="2930040"/>
              <a:ext cx="468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2320" y="159624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9360" y="157752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23040" y="161172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0520" y="160020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0560" y="15811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4760" y="33264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852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5200" y="309780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7920" y="1573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83520" y="22532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4880" y="29530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64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3840" y="420228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0520" y="41832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4560" y="421740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2040" y="420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4187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6280" y="5933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19440" y="417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95040" y="48589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6400" y="55594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3960" y="347904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92760" y="2400480"/>
              <a:ext cx="468360" cy="1935720"/>
            </a:xfrm>
            <a:custGeom>
              <a:avLst/>
              <a:gdLst/>
              <a:ahLst/>
              <a:rect l="l" t="t" r="r" b="b"/>
              <a:pathLst>
                <a:path w="738" h="3048">
                  <a:moveTo>
                    <a:pt x="0" y="3048"/>
                  </a:moveTo>
                  <a:lnTo>
                    <a:pt x="228" y="3048"/>
                  </a:lnTo>
                  <a:lnTo>
                    <a:pt x="228" y="0"/>
                  </a:lnTo>
                  <a:lnTo>
                    <a:pt x="7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2760" y="3764520"/>
              <a:ext cx="457200" cy="1943280"/>
            </a:xfrm>
            <a:custGeom>
              <a:avLst/>
              <a:gdLst/>
              <a:ahLst/>
              <a:rect l="l" t="t" r="r" b="b"/>
              <a:pathLst>
                <a:path w="720" h="3060">
                  <a:moveTo>
                    <a:pt x="0" y="3060"/>
                  </a:moveTo>
                  <a:lnTo>
                    <a:pt x="498" y="3060"/>
                  </a:lnTo>
                  <a:lnTo>
                    <a:pt x="498" y="0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3960" y="43167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0040" y="3479040"/>
              <a:ext cx="159840" cy="2598480"/>
            </a:xfrm>
            <a:custGeom>
              <a:avLst/>
              <a:gdLst/>
              <a:ahLst/>
              <a:rect l="l" t="t" r="r" b="b"/>
              <a:pathLst>
                <a:path w="252" h="4092">
                  <a:moveTo>
                    <a:pt x="0" y="0"/>
                  </a:moveTo>
                  <a:lnTo>
                    <a:pt x="0" y="4092"/>
                  </a:lnTo>
                  <a:lnTo>
                    <a:pt x="252" y="40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0040" y="3479040"/>
              <a:ext cx="2990880" cy="571320"/>
            </a:xfrm>
            <a:custGeom>
              <a:avLst/>
              <a:gdLst/>
              <a:ahLst/>
              <a:rect l="l" t="t" r="r" b="b"/>
              <a:pathLst>
                <a:path w="4710" h="900">
                  <a:moveTo>
                    <a:pt x="0" y="900"/>
                  </a:moveTo>
                  <a:lnTo>
                    <a:pt x="4500" y="900"/>
                  </a:lnTo>
                  <a:lnTo>
                    <a:pt x="4500" y="0"/>
                  </a:lnTo>
                  <a:lnTo>
                    <a:pt x="471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5160" y="33188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5000" y="15584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63560" y="156528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34560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3400" y="4023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42880" y="166896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35320" y="146304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35320" y="34178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7760" y="3212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876720" y="16574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69160" y="1451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52600" y="166500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5040" y="14594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71680" y="30520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4120" y="2846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257440" y="16534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49880" y="14479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265360" y="30178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440" y="28119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ное обозна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11560" y="2205000"/>
            <a:ext cx="2355840" cy="30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284560"/>
            <a:ext cx="9349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205000"/>
            <a:ext cx="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22050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7760" y="2305080"/>
            <a:ext cx="11368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7480" y="3338640"/>
            <a:ext cx="1138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8200" y="2274840"/>
            <a:ext cx="11365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40200" y="2674800"/>
            <a:ext cx="728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54304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357336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7400" y="25430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437000"/>
            <a:ext cx="11383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467208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регис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состояния (Р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кумулятор (А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команд (Р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адреса (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данных (Р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четчик команд (С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ЦП и 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25640" y="3200400"/>
            <a:ext cx="7051680" cy="1590480"/>
            <a:chOff x="1025640" y="3200400"/>
            <a:chExt cx="7051680" cy="1590480"/>
          </a:xfrm>
        </p:grpSpPr>
        <p:sp>
          <p:nvSpPr>
            <p:cNvPr id="179" name=""/>
            <p:cNvSpPr/>
            <p:nvPr/>
          </p:nvSpPr>
          <p:spPr>
            <a:xfrm>
              <a:off x="1025640" y="320904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5720" y="320040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1240" y="3742560"/>
              <a:ext cx="3128760" cy="542520"/>
            </a:xfrm>
            <a:prstGeom prst="leftRightArrow">
              <a:avLst>
                <a:gd name="adj1" fmla="val 43889"/>
                <a:gd name="adj2" fmla="val 85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7680" y="3290400"/>
              <a:ext cx="151488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Ши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9-02-13T00:41:07Z</dcterms:modified>
  <cp:revision>37</cp:revision>
  <dc:subject/>
  <dc:title>Логические схемы</dc:title>
</cp:coreProperties>
</file>