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F64-11A4-4CE9-8E0F-07D843CE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41F-25B3-4E72-A3FD-AD49BB2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D20-0DD1-463A-8115-C9EFC4A14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03C-CC63-4458-933C-40E19085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216-CA20-4C8C-9CBC-A56EA38A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5D4-646C-4D61-B8B2-ACB88093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816-7AA4-465F-B86E-55E98540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82C-29C7-4C9B-9C1F-9016D2AA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69C-D562-4846-AD89-179242B3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3C5-BDF4-4621-94B6-E633413B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EDE-0081-4D85-87FC-26E408BE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A47-EF33-4806-9849-AC33A93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DD20-CB2B-49C3-90CB-77BE031507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жатие данных и 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с проверкой на че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2286000"/>
          <a:ext cx="4038480" cy="3014640"/>
        </p:xfrm>
        <a:graphic>
          <a:graphicData uri="http://schemas.openxmlformats.org/drawingml/2006/table">
            <a:tbl>
              <a:tblPr/>
              <a:tblGrid>
                <a:gridCol w="2271600"/>
                <a:gridCol w="176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овая 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 чет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танция Хемми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 двумя кодовыми комбинациями равна количеству битов, отличающихся в этих комбинац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11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1111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82880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848360" cy="4673520"/>
        </p:xfrm>
        <a:graphic>
          <a:graphicData uri="http://schemas.openxmlformats.org/drawingml/2006/table">
            <a:tbl>
              <a:tblPr/>
              <a:tblGrid>
                <a:gridCol w="1582560"/>
                <a:gridCol w="1860480"/>
                <a:gridCol w="280512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значает, что из исходных символов можно построить больше комбинаций, чем их применено в данном код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меньшение числа используемых комбинаций приводит к повышению помехоустойч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ияние кодового расстояния на помехозащищеннос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обнаружива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справля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шибка не обнаружи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наруживаются одиноч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равляются одиночные ошибки или обнаруживаются двой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 числа контрольных символ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информацион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контроль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роцесс, обеспечивающий уменьшение объема данных путем сокращения их избыточ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сжатия с потерей и без потери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длины сер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1 1111 1111 1111 1111 0000 0000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[20] 0 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 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сжатия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я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000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4] 1 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 0000 0000 0000 0000 0000 1111 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тносительного кодир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1473; 1480; 147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-3; +7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но-зависим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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01110011101100011011011011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74320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11001110010110101001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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Лемпеля-З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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ехозащищен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коды, позволяющие обнаружить и исправить ошибки в кодовых комбинац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к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ошиб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и исправлением ошиб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Owner</cp:lastModifiedBy>
  <dcterms:modified xsi:type="dcterms:W3CDTF">2009-03-15T15:01:32Z</dcterms:modified>
  <cp:revision>19</cp:revision>
  <dc:subject/>
  <dc:title>Презентация PowerPoint</dc:title>
</cp:coreProperties>
</file>