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020-D51D-4DE5-8D83-372887EE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97A-1DC6-493D-AB73-C3B16491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EE0-8F1E-4079-9C33-B0A50A46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817-D104-4EC4-8C9C-48121149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D42F-9DD5-4E45-B9B6-9C060AE2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736-981F-4CA1-9DED-E3B5CBC5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122-A53B-4472-A5D6-BC444DA0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926-C954-49A7-9291-BB9DDB88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4AE-565D-44F4-AB16-3DC76B7E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B08-9B3C-4685-B12E-FF7722DC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020-3CF4-4618-A4B9-937E171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526-E0EF-4A06-ABE3-BE52A35C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DDF1-6245-46FA-A543-3A78E7A026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сновы теории алгоритм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остуслов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51080" y="3691080"/>
            <a:ext cx="2811600" cy="1288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25840" y="2549520"/>
            <a:ext cx="21448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2232000"/>
            <a:ext cx="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78128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5120" y="433872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7672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96728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5760" y="2216160"/>
            <a:ext cx="17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е и рекурсивные алгорит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, в состав которого входит цикл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ерацио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iteratio - повторени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курсив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recursio - возвращение), если обращение к этому алгоритму может производится из него сам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45080" y="1828800"/>
            <a:ext cx="130788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3680" y="3098880"/>
            <a:ext cx="1387440" cy="725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7960" y="5407200"/>
            <a:ext cx="1227240" cy="434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8600" y="6035760"/>
            <a:ext cx="130644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87680" y="22654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28940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83076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5280" y="345924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2160" y="3459240"/>
            <a:ext cx="0" cy="167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381200" y="514836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8840" y="515304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8840" y="5848200"/>
            <a:ext cx="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7680" y="476568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11280" y="4896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00480" y="2943360"/>
            <a:ext cx="0" cy="19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00480" y="2968560"/>
            <a:ext cx="11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684600"/>
            <a:ext cx="54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2280" y="3141720"/>
            <a:ext cx="689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8840" y="2441520"/>
            <a:ext cx="1242720" cy="436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4840" y="4017960"/>
            <a:ext cx="1355760" cy="743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55400" y="24382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63680" y="32004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09960" y="39783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2240" y="5396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9960" y="6019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урсивный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1120" y="1905120"/>
            <a:ext cx="17240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9960" y="2933640"/>
            <a:ext cx="1096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2735280"/>
            <a:ext cx="1832040" cy="958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2880" y="3849840"/>
            <a:ext cx="2151000" cy="63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95680" y="4984920"/>
            <a:ext cx="1619280" cy="5745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815080"/>
            <a:ext cx="17258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52840" y="25020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4640" y="4651200"/>
            <a:ext cx="0" cy="3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54640" y="556740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8120" y="32036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32036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0400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630680"/>
            <a:ext cx="28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52640" y="2732040"/>
            <a:ext cx="71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50040" y="2784600"/>
            <a:ext cx="909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855960"/>
            <a:ext cx="2151000" cy="63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1981080"/>
            <a:ext cx="1371600" cy="441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7360" y="297180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3981600"/>
          <a:ext cx="2133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81600"/>
                    <a:ext cx="2133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562720" y="3992400"/>
          <a:ext cx="76176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992400"/>
                    <a:ext cx="7617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267080" y="5105520"/>
          <a:ext cx="32724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5105520"/>
                    <a:ext cx="3272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625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истема обозначений, предназначенная для неформального представления идей в процессе разработки алгоритм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и 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ы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_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рагмент_псевдок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ы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данных определяет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претацию конкретных да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ции, которые можно с ними выполня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типам данных относя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цел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действительн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символьный]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логический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и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структура, содержащая в себе несколько однотипных элементов. Для упорядочивания элементов массива используются индексы. Индексы записываются в скобках после имени массива. Массив с одним индексом называется одномерным, с двумя - двумерным и т.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)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0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1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=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lt; 10) do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M[N]:=M[N-1]+M[N-2]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N:=N+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}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]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, состоящая из элементов не обязательно одного типа. Отдельные элементы записи называют полями. Поле в свою очередь тоже может быть запис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ir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множество записей, каждая из которых содержит специальное поле - указатель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спис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ух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ьцев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совокупность четко определенных правил для решения задачи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описания алгоритма наиболее часто используют следующие способ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есный (на естественном язык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ный (на языке программирова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фический (с помощью геометрических фигу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рев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разветвленный список, каждая запись которого может содержать несколько указателей. Записи, входящие в дерево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ла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Узлы, у которых все указатели пустые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стья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Верхний, начальный узел дерева называется корневым уз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 данных, организованная по принципу "последним пришел - первым ушел" (Last In - First Out, LIF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21240" y="3933720"/>
            <a:ext cx="1742400" cy="2178000"/>
            <a:chOff x="3621240" y="3933720"/>
            <a:chExt cx="1742400" cy="2178000"/>
          </a:xfrm>
        </p:grpSpPr>
        <p:sp>
          <p:nvSpPr>
            <p:cNvPr id="187" name=""/>
            <p:cNvSpPr/>
            <p:nvPr/>
          </p:nvSpPr>
          <p:spPr>
            <a:xfrm>
              <a:off x="4056840" y="4151520"/>
              <a:ext cx="871200" cy="1960200"/>
            </a:xfrm>
            <a:custGeom>
              <a:avLst/>
              <a:gdLst/>
              <a:ahLst/>
              <a:rect l="l" t="t" r="r" b="b"/>
              <a:pathLst>
                <a:path w="720" h="1620">
                  <a:moveTo>
                    <a:pt x="0" y="0"/>
                  </a:moveTo>
                  <a:lnTo>
                    <a:pt x="0" y="1620"/>
                  </a:lnTo>
                  <a:lnTo>
                    <a:pt x="720" y="162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56840" y="5022720"/>
              <a:ext cx="87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56840" y="48045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6840" y="45867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56840" y="436932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7440" y="5022720"/>
              <a:ext cx="435600" cy="1089000"/>
            </a:xfrm>
            <a:custGeom>
              <a:avLst/>
              <a:gdLst/>
              <a:ahLst/>
              <a:rect l="l" t="t" r="r" b="b"/>
              <a:pathLst>
                <a:path w="360" h="900">
                  <a:moveTo>
                    <a:pt x="180" y="900"/>
                  </a:moveTo>
                  <a:lnTo>
                    <a:pt x="180" y="720"/>
                  </a:lnTo>
                  <a:lnTo>
                    <a:pt x="0" y="630"/>
                  </a:lnTo>
                  <a:lnTo>
                    <a:pt x="360" y="468"/>
                  </a:lnTo>
                  <a:lnTo>
                    <a:pt x="0" y="270"/>
                  </a:lnTo>
                  <a:lnTo>
                    <a:pt x="180" y="18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0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0"/>
                  </a:move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1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360"/>
                  </a:moveTo>
                  <a:lnTo>
                    <a:pt x="54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руктура данных, организованная по принципу "первым пришел – первым ушел"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340000" y="4068720"/>
            <a:ext cx="3744720" cy="1274760"/>
            <a:chOff x="2340000" y="4068720"/>
            <a:chExt cx="3744720" cy="1274760"/>
          </a:xfrm>
        </p:grpSpPr>
        <p:sp>
          <p:nvSpPr>
            <p:cNvPr id="198" name=""/>
            <p:cNvSpPr/>
            <p:nvPr/>
          </p:nvSpPr>
          <p:spPr>
            <a:xfrm>
              <a:off x="3245760" y="4578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7440" y="5343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75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390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020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217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32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476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40000" y="408780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Хвос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68360" y="406872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Голо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9064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240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эш-табл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ш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метод, обеспечивающий прямой доступ к записям без использования каких-либо дополнительных структ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5640" y="3500280"/>
          <a:ext cx="7631280" cy="2587680"/>
        </p:xfrm>
        <a:graphic>
          <a:graphicData uri="http://schemas.openxmlformats.org/drawingml/2006/table">
            <a:tbl>
              <a:tblPr/>
              <a:tblGrid>
                <a:gridCol w="1544760"/>
                <a:gridCol w="1979640"/>
                <a:gridCol w="1539720"/>
                <a:gridCol w="256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II-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масс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6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алгоритма принято оценивать количеством элементарных операций, например сравнений, которые необходимо выполнить для решения задачи, а также количеством памяти, которая требуется для выполнения алгоритм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 включает изучение ситуаций, в которых алгоритм демонстрирует свои наилучшие свойства, ситуаций, когда его эффективность минимальна, а также оценку его средней производ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880" y="1981080"/>
            <a:ext cx="8534160" cy="4724280"/>
            <a:chOff x="380880" y="1981080"/>
            <a:chExt cx="8534160" cy="4724280"/>
          </a:xfrm>
        </p:grpSpPr>
        <p:grpSp>
          <p:nvGrpSpPr>
            <p:cNvPr id="218" name=""/>
            <p:cNvGrpSpPr/>
            <p:nvPr/>
          </p:nvGrpSpPr>
          <p:grpSpPr>
            <a:xfrm>
              <a:off x="387000" y="1986480"/>
              <a:ext cx="8521200" cy="4712400"/>
              <a:chOff x="387000" y="1986480"/>
              <a:chExt cx="8521200" cy="47124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87000" y="1986480"/>
                <a:ext cx="2611440" cy="963360"/>
                <a:chOff x="387000" y="1986480"/>
                <a:chExt cx="2611440" cy="9633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77000" y="1986480"/>
                  <a:ext cx="243144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Название алгоритм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7000" y="1986480"/>
                  <a:ext cx="261144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98800" y="1986480"/>
                <a:ext cx="1969560" cy="963360"/>
                <a:chOff x="2998800" y="1986480"/>
                <a:chExt cx="1969560" cy="963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8808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ин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с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9880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68720" y="1986480"/>
                <a:ext cx="1969560" cy="963360"/>
                <a:chOff x="4968720" y="1986480"/>
                <a:chExt cx="1969560" cy="963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5800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редне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6872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938640" y="1986480"/>
                <a:ext cx="1969560" cy="963360"/>
                <a:chOff x="6938640" y="1986480"/>
                <a:chExt cx="1969560" cy="963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02792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акс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93864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87000" y="2950200"/>
                <a:ext cx="2611440" cy="749160"/>
                <a:chOff x="387000" y="2950200"/>
                <a:chExt cx="2611440" cy="7491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7000" y="295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ключение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7000" y="295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998800" y="2950200"/>
                <a:ext cx="1969560" cy="749160"/>
                <a:chOff x="2998800" y="2950200"/>
                <a:chExt cx="1969560" cy="7491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8808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9880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68720" y="2950200"/>
                <a:ext cx="1969560" cy="749160"/>
                <a:chOff x="4968720" y="2950200"/>
                <a:chExt cx="1969560" cy="749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05800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+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2)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6872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38640" y="2950200"/>
                <a:ext cx="1969560" cy="749160"/>
                <a:chOff x="6938640" y="2950200"/>
                <a:chExt cx="1969560" cy="7491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2792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3864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87000" y="3700080"/>
                <a:ext cx="2611440" cy="749160"/>
                <a:chOff x="387000" y="3700080"/>
                <a:chExt cx="2611440" cy="749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7000" y="370008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ыборо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7000" y="370008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998800" y="3700080"/>
                <a:ext cx="1969560" cy="749160"/>
                <a:chOff x="2998800" y="3700080"/>
                <a:chExt cx="1969560" cy="749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8808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9880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968720" y="3700080"/>
                <a:ext cx="1969560" cy="749160"/>
                <a:chOff x="4968720" y="3700080"/>
                <a:chExt cx="1969560" cy="749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5800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6872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938640" y="3700080"/>
                <a:ext cx="1969560" cy="749160"/>
                <a:chOff x="6938640" y="3700080"/>
                <a:chExt cx="1969560" cy="749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2792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3864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000" y="4449600"/>
                <a:ext cx="2611440" cy="749880"/>
                <a:chOff x="387000" y="4449600"/>
                <a:chExt cx="2611440" cy="749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7000" y="4449600"/>
                  <a:ext cx="243144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бменная сортиров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7000" y="4449600"/>
                  <a:ext cx="261144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98800" y="4449600"/>
                <a:ext cx="1969560" cy="749880"/>
                <a:chOff x="2998800" y="4449600"/>
                <a:chExt cx="1969560" cy="749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8808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9880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968720" y="4449600"/>
                <a:ext cx="1969560" cy="749880"/>
                <a:chOff x="4968720" y="4449600"/>
                <a:chExt cx="1969560" cy="749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5800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6872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38640" y="4449600"/>
                <a:ext cx="1969560" cy="749880"/>
                <a:chOff x="6938640" y="4449600"/>
                <a:chExt cx="1969560" cy="749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2792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3864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87000" y="5200200"/>
                <a:ext cx="2611440" cy="749160"/>
                <a:chOff x="387000" y="5200200"/>
                <a:chExt cx="2611440" cy="749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77000" y="520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оследователь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7000" y="520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998800" y="5200200"/>
                <a:ext cx="1969560" cy="749160"/>
                <a:chOff x="2998800" y="5200200"/>
                <a:chExt cx="1969560" cy="749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08808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9880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68720" y="5200200"/>
                <a:ext cx="1969560" cy="749160"/>
                <a:chOff x="4968720" y="5200200"/>
                <a:chExt cx="1969560" cy="749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05800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6872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8640" y="5200200"/>
                <a:ext cx="1969560" cy="749160"/>
                <a:chOff x="6938640" y="5200200"/>
                <a:chExt cx="1969560" cy="749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02792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864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7000" y="5949720"/>
                <a:ext cx="2611440" cy="749160"/>
                <a:chOff x="387000" y="5949720"/>
                <a:chExt cx="2611440" cy="749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77000" y="594972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Двоич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7000" y="594972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998800" y="5949720"/>
                <a:ext cx="1969560" cy="749160"/>
                <a:chOff x="2998800" y="5949720"/>
                <a:chExt cx="1969560" cy="7491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08808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9880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68720" y="5949720"/>
                <a:ext cx="1969560" cy="749160"/>
                <a:chOff x="4968720" y="5949720"/>
                <a:chExt cx="1969560" cy="749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5800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6872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938640" y="5949720"/>
                <a:ext cx="1969560" cy="749160"/>
                <a:chOff x="6938640" y="5949720"/>
                <a:chExt cx="1969560" cy="749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2792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3864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380880" y="1981080"/>
              <a:ext cx="853416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-останов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595680"/>
            <a:ext cx="2060640" cy="598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3149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9080" y="3573360"/>
            <a:ext cx="2060640" cy="598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48240" y="41911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ввода-вывода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352680"/>
            <a:ext cx="3581280" cy="1295640"/>
          </a:xfrm>
          <a:prstGeom prst="parallelogram">
            <a:avLst>
              <a:gd name="adj" fmla="val 691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657600"/>
            <a:ext cx="133488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048120"/>
            <a:ext cx="3429000" cy="207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09680" y="2895480"/>
            <a:ext cx="5257800" cy="1706400"/>
            <a:chOff x="2209680" y="2895480"/>
            <a:chExt cx="5257800" cy="1706400"/>
          </a:xfrm>
        </p:grpSpPr>
        <p:sp>
          <p:nvSpPr>
            <p:cNvPr id="61" name=""/>
            <p:cNvSpPr/>
            <p:nvPr/>
          </p:nvSpPr>
          <p:spPr>
            <a:xfrm>
              <a:off x="3119400" y="2895480"/>
              <a:ext cx="2892600" cy="1706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2000" y="3749400"/>
              <a:ext cx="8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3480" y="374940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492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09680" y="3092040"/>
              <a:ext cx="13813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6520" y="3070080"/>
              <a:ext cx="1380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6360" y="3458880"/>
              <a:ext cx="1350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572000" y="198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17920" y="1752480"/>
            <a:ext cx="2117160" cy="3917520"/>
            <a:chOff x="3517920" y="1752480"/>
            <a:chExt cx="2117160" cy="3917520"/>
          </a:xfrm>
        </p:grpSpPr>
        <p:sp>
          <p:nvSpPr>
            <p:cNvPr id="72" name=""/>
            <p:cNvSpPr/>
            <p:nvPr/>
          </p:nvSpPr>
          <p:spPr>
            <a:xfrm>
              <a:off x="3517920" y="221868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17920" y="336924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3040" y="4503960"/>
              <a:ext cx="2102040" cy="69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45360" y="175248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45360" y="291816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45360" y="408456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45360" y="520380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лени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79760" y="1874880"/>
            <a:ext cx="3972600" cy="3687480"/>
            <a:chOff x="2579760" y="1874880"/>
            <a:chExt cx="3972600" cy="3687480"/>
          </a:xfrm>
        </p:grpSpPr>
        <p:sp>
          <p:nvSpPr>
            <p:cNvPr id="81" name=""/>
            <p:cNvSpPr/>
            <p:nvPr/>
          </p:nvSpPr>
          <p:spPr>
            <a:xfrm>
              <a:off x="3444120" y="2455200"/>
              <a:ext cx="2283120" cy="1044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1040" y="3744000"/>
              <a:ext cx="1741320" cy="58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9760" y="3692880"/>
              <a:ext cx="17413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1320" y="2957400"/>
              <a:ext cx="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82640" y="2957400"/>
              <a:ext cx="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6600" y="187488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82640" y="4272840"/>
              <a:ext cx="0" cy="6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8720" y="43117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2640" y="4930920"/>
              <a:ext cx="22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2160" y="49435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редусловие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2803680"/>
            <a:ext cx="2033640" cy="930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4008600"/>
            <a:ext cx="1551240" cy="5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480" y="326232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30640" y="2665440"/>
            <a:ext cx="0" cy="21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2268360"/>
            <a:ext cx="0" cy="55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62640" y="4973760"/>
            <a:ext cx="92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737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6560" y="37018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1480" y="4525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0920" y="480060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0640" y="264168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5:12Z</dcterms:modified>
  <cp:revision>35</cp:revision>
  <dc:subject/>
  <dc:title>Алгоритмы</dc:title>
</cp:coreProperties>
</file>