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29.bin" ContentType="application/vnd.openxmlformats-officedocument.oleObject"/>
  <Override PartName="/ppt/embeddings/oleObject4.bin" ContentType="application/vnd.openxmlformats-officedocument.oleObject"/>
  <Override PartName="/ppt/embeddings/oleObject18.bin" ContentType="application/vnd.openxmlformats-officedocument.oleObject"/>
  <Override PartName="/ppt/embeddings/oleObject30.bin" ContentType="application/vnd.openxmlformats-officedocument.oleObject"/>
  <Override PartName="/ppt/embeddings/oleObject19.bin" ContentType="application/vnd.openxmlformats-officedocument.oleObject"/>
  <Override PartName="/ppt/embeddings/oleObject5.bin" ContentType="application/vnd.openxmlformats-officedocument.oleObject"/>
  <Override PartName="/ppt/embeddings/oleObject28.bin" ContentType="application/vnd.openxmlformats-officedocument.oleObject"/>
  <Override PartName="/ppt/embeddings/oleObject21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embeddings/oleObject13.bin" ContentType="application/vnd.openxmlformats-officedocument.oleObject"/>
  <Override PartName="/ppt/embeddings/oleObject3.bin" ContentType="application/vnd.openxmlformats-officedocument.oleObject"/>
  <Override PartName="/ppt/embeddings/oleObject17.bin" ContentType="application/vnd.openxmlformats-officedocument.oleObject"/>
  <Override PartName="/ppt/embeddings/oleObject2.bin" ContentType="application/vnd.openxmlformats-officedocument.oleObject"/>
  <Override PartName="/ppt/embeddings/oleObject16.bin" ContentType="application/vnd.openxmlformats-officedocument.oleObject"/>
  <Override PartName="/ppt/embeddings/oleObject1.bin" ContentType="application/vnd.openxmlformats-officedocument.oleObject"/>
  <Override PartName="/ppt/embeddings/oleObject15.bin" ContentType="application/vnd.openxmlformats-officedocument.oleObject"/>
  <Override PartName="/ppt/embeddings/oleObject14.bin" ContentType="application/vnd.openxmlformats-officedocument.oleObject"/>
  <Override PartName="/ppt/embeddings/oleObject22.bin" ContentType="application/vnd.openxmlformats-officedocument.oleObject"/>
  <Override PartName="/ppt/embeddings/oleObject23.bin" ContentType="application/vnd.openxmlformats-officedocument.oleObject"/>
  <Override PartName="/ppt/embeddings/oleObject24.bin" ContentType="application/vnd.openxmlformats-officedocument.oleObject"/>
  <Override PartName="/ppt/embeddings/oleObject25.bin" ContentType="application/vnd.openxmlformats-officedocument.oleObject"/>
  <Override PartName="/ppt/embeddings/oleObject26.bin" ContentType="application/vnd.openxmlformats-officedocument.oleObject"/>
  <Override PartName="/ppt/embeddings/oleObject20.bin" ContentType="application/vnd.openxmlformats-officedocument.oleObject"/>
  <Override PartName="/ppt/embeddings/oleObject27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BEEB-D32C-4BEB-B328-1C75D372F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4C56-FC6C-4BF2-B8B8-5253DE46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B99D-5009-481B-8458-0692B6754A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66A2E-BF89-46CA-977B-1F169FAAE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375D-D7F7-44DC-A195-F05139CA8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1139-630D-41EB-8225-B9E7CEF4B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D1D5-86DA-41B5-AC68-2885F5293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9DE6-EA1B-4885-9436-7838BED1E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2B98-6E29-444F-A470-BAFD93A71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9CFF-DDE5-4EB5-83D7-F9EFD1075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6DEC-A7B6-471A-9208-4500728E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BD246-B981-4526-8B88-41DF4DC0F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0533-331B-4AC1-8994-CAE6FB746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wmf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5.wm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wmf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0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1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0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1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2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3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34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3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3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34.wmf"/><Relationship Id="rId29" Type="http://schemas.openxmlformats.org/officeDocument/2006/relationships/oleObject" Target="../embeddings/oleObject15.bin"/><Relationship Id="rId30" Type="http://schemas.openxmlformats.org/officeDocument/2006/relationships/image" Target="../media/image30.wmf"/><Relationship Id="rId31" Type="http://schemas.openxmlformats.org/officeDocument/2006/relationships/oleObject" Target="../embeddings/oleObject16.bin"/><Relationship Id="rId32" Type="http://schemas.openxmlformats.org/officeDocument/2006/relationships/image" Target="../media/image31.wmf"/><Relationship Id="rId33" Type="http://schemas.openxmlformats.org/officeDocument/2006/relationships/oleObject" Target="../embeddings/oleObject17.bin"/><Relationship Id="rId34" Type="http://schemas.openxmlformats.org/officeDocument/2006/relationships/image" Target="../media/image30.wmf"/><Relationship Id="rId35" Type="http://schemas.openxmlformats.org/officeDocument/2006/relationships/oleObject" Target="../embeddings/oleObject18.bin"/><Relationship Id="rId36" Type="http://schemas.openxmlformats.org/officeDocument/2006/relationships/image" Target="../media/image31.wmf"/><Relationship Id="rId37" Type="http://schemas.openxmlformats.org/officeDocument/2006/relationships/oleObject" Target="../embeddings/oleObject19.bin"/><Relationship Id="rId38" Type="http://schemas.openxmlformats.org/officeDocument/2006/relationships/image" Target="../media/image34.wmf"/><Relationship Id="rId39" Type="http://schemas.openxmlformats.org/officeDocument/2006/relationships/oleObject" Target="../embeddings/oleObject20.bin"/><Relationship Id="rId40" Type="http://schemas.openxmlformats.org/officeDocument/2006/relationships/image" Target="../media/image35.wmf"/><Relationship Id="rId41" Type="http://schemas.openxmlformats.org/officeDocument/2006/relationships/oleObject" Target="../embeddings/oleObject21.bin"/><Relationship Id="rId42" Type="http://schemas.openxmlformats.org/officeDocument/2006/relationships/image" Target="../media/image35.wmf"/><Relationship Id="rId43" Type="http://schemas.openxmlformats.org/officeDocument/2006/relationships/oleObject" Target="../embeddings/oleObject22.bin"/><Relationship Id="rId44" Type="http://schemas.openxmlformats.org/officeDocument/2006/relationships/image" Target="../media/image34.wmf"/><Relationship Id="rId45" Type="http://schemas.openxmlformats.org/officeDocument/2006/relationships/oleObject" Target="../embeddings/oleObject23.bin"/><Relationship Id="rId46" Type="http://schemas.openxmlformats.org/officeDocument/2006/relationships/image" Target="../media/image32.wmf"/><Relationship Id="rId47" Type="http://schemas.openxmlformats.org/officeDocument/2006/relationships/oleObject" Target="../embeddings/oleObject24.bin"/><Relationship Id="rId48" Type="http://schemas.openxmlformats.org/officeDocument/2006/relationships/image" Target="../media/image33.wmf"/><Relationship Id="rId49" Type="http://schemas.openxmlformats.org/officeDocument/2006/relationships/oleObject" Target="../embeddings/oleObject25.bin"/><Relationship Id="rId50" Type="http://schemas.openxmlformats.org/officeDocument/2006/relationships/image" Target="../media/image32.wmf"/><Relationship Id="rId51" Type="http://schemas.openxmlformats.org/officeDocument/2006/relationships/oleObject" Target="../embeddings/oleObject26.bin"/><Relationship Id="rId52" Type="http://schemas.openxmlformats.org/officeDocument/2006/relationships/image" Target="../media/image33.wmf"/><Relationship Id="rId53" Type="http://schemas.openxmlformats.org/officeDocument/2006/relationships/oleObject" Target="../embeddings/oleObject27.bin"/><Relationship Id="rId54" Type="http://schemas.openxmlformats.org/officeDocument/2006/relationships/image" Target="../media/image36.wmf"/><Relationship Id="rId55" Type="http://schemas.openxmlformats.org/officeDocument/2006/relationships/oleObject" Target="../embeddings/oleObject28.bin"/><Relationship Id="rId56" Type="http://schemas.openxmlformats.org/officeDocument/2006/relationships/image" Target="../media/image37.wmf"/><Relationship Id="rId57" Type="http://schemas.openxmlformats.org/officeDocument/2006/relationships/oleObject" Target="../embeddings/oleObject29.bin"/><Relationship Id="rId58" Type="http://schemas.openxmlformats.org/officeDocument/2006/relationships/image" Target="../media/image37.wmf"/><Relationship Id="rId59" Type="http://schemas.openxmlformats.org/officeDocument/2006/relationships/oleObject" Target="../embeddings/oleObject30.bin"/><Relationship Id="rId60" Type="http://schemas.openxmlformats.org/officeDocument/2006/relationships/image" Target="../media/image36.wmf"/><Relationship Id="rId6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3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3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34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29.wmf"/><Relationship Id="rId2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wmf"/><Relationship Id="rId1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9.wmf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Основные понятия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алгебры лог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аблица истинност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2133720"/>
          <a:ext cx="8305920" cy="3886200"/>
        </p:xfrm>
        <a:graphic>
          <a:graphicData uri="http://schemas.openxmlformats.org/drawingml/2006/table">
            <a:tbl>
              <a:tblPr/>
              <a:tblGrid>
                <a:gridCol w="1278000"/>
                <a:gridCol w="1278000"/>
                <a:gridCol w="1277640"/>
                <a:gridCol w="1278000"/>
                <a:gridCol w="3194280"/>
              </a:tblGrid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, ... ,</a:t>
                      </a:r>
                      <a:r>
                        <a:rPr b="0" i="1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i="1" lang="ru-RU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0, 0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8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0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1, 1, ... ,1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орму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уперпозицией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функций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...,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функция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полученная с помощью подстановок этих функций друг в друга, 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формул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выражение, описывающее эту суперпозицию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записи формулы функции алгебры логики необходимо либо перечислить все ситуации, в которых она истинна, либо исключить все ситуации, в которых она ложна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инимиз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х функц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законов алгебры логик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уайна-Макклас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тод карт Карн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ммута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2719440" y="2585880"/>
          <a:ext cx="32241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19440" y="2585880"/>
                    <a:ext cx="32241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895480" y="4000680"/>
          <a:ext cx="2895840" cy="723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95480" y="4000680"/>
                    <a:ext cx="2895840" cy="72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Ассоциативный закон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1828800" y="2590920"/>
          <a:ext cx="5562720" cy="74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28800" y="2590920"/>
                    <a:ext cx="5562720" cy="74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2" name=""/>
          <p:cNvGraphicFramePr/>
          <p:nvPr/>
        </p:nvGraphicFramePr>
        <p:xfrm>
          <a:off x="1928880" y="4044960"/>
          <a:ext cx="5386320" cy="755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28880" y="4044960"/>
                    <a:ext cx="538632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стрибутивный закон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752480" y="2590920"/>
          <a:ext cx="5843880" cy="74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590920"/>
                    <a:ext cx="584388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7" name=""/>
          <p:cNvGraphicFramePr/>
          <p:nvPr/>
        </p:nvGraphicFramePr>
        <p:xfrm>
          <a:off x="1676520" y="4038480"/>
          <a:ext cx="5943600" cy="716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4038480"/>
                    <a:ext cx="594360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Теорема де Морган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819520" y="2494080"/>
          <a:ext cx="3143160" cy="84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19520" y="2494080"/>
                    <a:ext cx="3143160" cy="84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2952720" y="3962520"/>
          <a:ext cx="2914560" cy="78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952720" y="3962520"/>
                    <a:ext cx="2914560" cy="78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идемпотен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3166920" y="2568600"/>
          <a:ext cx="2319480" cy="7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66920" y="2568600"/>
                    <a:ext cx="2319480" cy="7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3257640" y="4038480"/>
          <a:ext cx="2152440" cy="760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57640" y="4038480"/>
                    <a:ext cx="2152440" cy="76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Свойство поглощ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895480" y="2577960"/>
          <a:ext cx="3129120" cy="7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577960"/>
                    <a:ext cx="312912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2838600" y="4038480"/>
          <a:ext cx="3333600" cy="74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38600" y="4038480"/>
                    <a:ext cx="3333600" cy="74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я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переменной с инверсие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3276720" y="2446200"/>
          <a:ext cx="2361960" cy="98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76720" y="2446200"/>
                    <a:ext cx="23619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3276720" y="3862440"/>
          <a:ext cx="2438280" cy="1014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3862440"/>
                    <a:ext cx="2438280" cy="101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терми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Алгебра логи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ое высказыв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ие связки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НЕ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ИЛИ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ЕСЛИ …, ТО …»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«… ТОГДА И ТОЛЬКО ТОГДА …"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перации с константами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3352680" y="1954080"/>
          <a:ext cx="2376720" cy="1703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954080"/>
                    <a:ext cx="2376720" cy="170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352680" y="3976560"/>
          <a:ext cx="2210040" cy="1738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352680" y="3976560"/>
                    <a:ext cx="2210040" cy="17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" name=""/>
          <p:cNvGraphicFramePr/>
          <p:nvPr/>
        </p:nvGraphicFramePr>
        <p:xfrm>
          <a:off x="533520" y="1981080"/>
          <a:ext cx="8001000" cy="2400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981080"/>
                    <a:ext cx="8001000" cy="240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уайна-Маккласки</a:t>
            </a: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83818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етод минимизации логических функций Куайна-Маккласки основан на том факте, что вынос общего множителя за скобки в формуле эквивалентен объединению двух строк в одну в таблице истинности. В комбинируемых строках должны совпадать все значения переменных, кроме одной - сравниваемые строки отличаются на одну единицу. Значение "не совпавшей" переменной безразлично и может быть обозначено звездочкой "*"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1600200" y="1828800"/>
          <a:ext cx="6095880" cy="4062240"/>
        </p:xfrm>
        <a:graphic>
          <a:graphicData uri="http://schemas.openxmlformats.org/drawingml/2006/table">
            <a:tbl>
              <a:tblPr/>
              <a:tblGrid>
                <a:gridCol w="1523880"/>
                <a:gridCol w="1524240"/>
                <a:gridCol w="1523880"/>
                <a:gridCol w="152388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28600" y="1752480"/>
          <a:ext cx="8686800" cy="4657680"/>
        </p:xfrm>
        <a:graphic>
          <a:graphicData uri="http://schemas.openxmlformats.org/drawingml/2006/table">
            <a:tbl>
              <a:tblPr/>
              <a:tblGrid>
                <a:gridCol w="2362320"/>
                <a:gridCol w="990720"/>
                <a:gridCol w="99036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3" name=""/>
          <p:cNvGraphicFramePr/>
          <p:nvPr/>
        </p:nvGraphicFramePr>
        <p:xfrm>
          <a:off x="228600" y="53640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4" name=""/>
          <p:cNvGraphicFramePr/>
          <p:nvPr/>
        </p:nvGraphicFramePr>
        <p:xfrm>
          <a:off x="228600" y="3505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228600" y="76320"/>
          <a:ext cx="8686800" cy="2587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228600" y="2895480"/>
          <a:ext cx="8686800" cy="155268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7, 4, 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228600" y="4648320"/>
          <a:ext cx="8686800" cy="1035000"/>
        </p:xfrm>
        <a:graphic>
          <a:graphicData uri="http://schemas.openxmlformats.org/drawingml/2006/table">
            <a:tbl>
              <a:tblPr/>
              <a:tblGrid>
                <a:gridCol w="2362320"/>
                <a:gridCol w="990360"/>
                <a:gridCol w="990720"/>
                <a:gridCol w="990720"/>
                <a:gridCol w="888840"/>
                <a:gridCol w="2463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омера стро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 едини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, 4, 7, 8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657600" y="5867280"/>
          <a:ext cx="1600200" cy="85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7600" y="5867280"/>
                    <a:ext cx="160020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карт Карно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арта Карно представляет прямоугольник разделенный на квадраты, каждому из которых соответствует определенная комбинация всех входных переменных. Внутри каждого квадрата записывается значение функции на данной комбинации входных переменны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ы карт Карн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346040" y="2362320"/>
          <a:ext cx="1295640" cy="1035000"/>
        </p:xfrm>
        <a:graphic>
          <a:graphicData uri="http://schemas.openxmlformats.org/drawingml/2006/table">
            <a:tbl>
              <a:tblPr/>
              <a:tblGrid>
                <a:gridCol w="647640"/>
                <a:gridCol w="648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1501920" y="182880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01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"/>
          <p:cNvGraphicFramePr/>
          <p:nvPr/>
        </p:nvGraphicFramePr>
        <p:xfrm>
          <a:off x="2184480" y="1828800"/>
          <a:ext cx="40464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8448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8" name=""/>
          <p:cNvGraphicFramePr/>
          <p:nvPr/>
        </p:nvGraphicFramePr>
        <p:xfrm>
          <a:off x="863640" y="2286000"/>
          <a:ext cx="40644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63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838080" y="2819520"/>
          <a:ext cx="432000" cy="6476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4800600" y="236232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3" name=""/>
          <p:cNvGraphicFramePr/>
          <p:nvPr/>
        </p:nvGraphicFramePr>
        <p:xfrm>
          <a:off x="5541840" y="1828800"/>
          <a:ext cx="408240" cy="576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541840" y="18288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5" name=""/>
          <p:cNvGraphicFramePr/>
          <p:nvPr/>
        </p:nvGraphicFramePr>
        <p:xfrm>
          <a:off x="6224760" y="1828800"/>
          <a:ext cx="404640" cy="571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22476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4876920" y="1828800"/>
          <a:ext cx="40788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876920" y="18288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9" name=""/>
          <p:cNvGraphicFramePr/>
          <p:nvPr/>
        </p:nvGraphicFramePr>
        <p:xfrm>
          <a:off x="6834240" y="18288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834240" y="18288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1" name=""/>
          <p:cNvGraphicFramePr/>
          <p:nvPr/>
        </p:nvGraphicFramePr>
        <p:xfrm>
          <a:off x="4292640" y="2286000"/>
          <a:ext cx="406440" cy="6094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4292640" y="22860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4267080" y="2819520"/>
          <a:ext cx="432000" cy="6476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4267080" y="2819520"/>
                    <a:ext cx="43200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5" name=""/>
          <p:cNvGraphicFramePr/>
          <p:nvPr/>
        </p:nvGraphicFramePr>
        <p:xfrm>
          <a:off x="4876920" y="1447920"/>
          <a:ext cx="407880" cy="57600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487692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7" name=""/>
          <p:cNvGraphicFramePr/>
          <p:nvPr/>
        </p:nvGraphicFramePr>
        <p:xfrm>
          <a:off x="5559480" y="1447920"/>
          <a:ext cx="404640" cy="57132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555948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9" name=""/>
          <p:cNvGraphicFramePr/>
          <p:nvPr/>
        </p:nvGraphicFramePr>
        <p:xfrm>
          <a:off x="6224760" y="1447920"/>
          <a:ext cx="404640" cy="57132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200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224760" y="144792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1" name=""/>
          <p:cNvGraphicFramePr/>
          <p:nvPr/>
        </p:nvGraphicFramePr>
        <p:xfrm>
          <a:off x="6831000" y="1447920"/>
          <a:ext cx="407880" cy="57600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202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31000" y="1447920"/>
                    <a:ext cx="407880" cy="57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3" name=""/>
          <p:cNvGraphicFramePr/>
          <p:nvPr/>
        </p:nvGraphicFramePr>
        <p:xfrm>
          <a:off x="4800600" y="4559400"/>
          <a:ext cx="2514600" cy="2070000"/>
        </p:xfrm>
        <a:graphic>
          <a:graphicData uri="http://schemas.openxmlformats.org/drawingml/2006/table">
            <a:tbl>
              <a:tblPr/>
              <a:tblGrid>
                <a:gridCol w="628560"/>
                <a:gridCol w="628560"/>
                <a:gridCol w="62892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4" name=""/>
          <p:cNvGraphicFramePr/>
          <p:nvPr/>
        </p:nvGraphicFramePr>
        <p:xfrm>
          <a:off x="5541840" y="3995640"/>
          <a:ext cx="408240" cy="576360"/>
        </p:xfrm>
        <a:graphic>
          <a:graphicData uri="http://schemas.openxmlformats.org/presentationml/2006/ole">
            <p:oleObj r:id="rId29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30"/>
                  <a:stretch/>
                </p:blipFill>
                <p:spPr>
                  <a:xfrm>
                    <a:off x="5541840" y="399564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6" name=""/>
          <p:cNvGraphicFramePr/>
          <p:nvPr/>
        </p:nvGraphicFramePr>
        <p:xfrm>
          <a:off x="6224760" y="3995640"/>
          <a:ext cx="404640" cy="571680"/>
        </p:xfrm>
        <a:graphic>
          <a:graphicData uri="http://schemas.openxmlformats.org/presentationml/2006/ole">
            <p:oleObj r:id="rId3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2"/>
                  <a:stretch/>
                </p:blipFill>
                <p:spPr>
                  <a:xfrm>
                    <a:off x="622476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8" name=""/>
          <p:cNvGraphicFramePr/>
          <p:nvPr/>
        </p:nvGraphicFramePr>
        <p:xfrm>
          <a:off x="4876920" y="3995640"/>
          <a:ext cx="407880" cy="57636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876920" y="399564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834240" y="3995640"/>
          <a:ext cx="404640" cy="57168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6834240" y="399564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4876920" y="3614760"/>
          <a:ext cx="407880" cy="576360"/>
        </p:xfrm>
        <a:graphic>
          <a:graphicData uri="http://schemas.openxmlformats.org/presentationml/2006/ole">
            <p:oleObj r:id="rId37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38"/>
                  <a:stretch/>
                </p:blipFill>
                <p:spPr>
                  <a:xfrm>
                    <a:off x="487692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5559480" y="3614760"/>
          <a:ext cx="404640" cy="571320"/>
        </p:xfrm>
        <a:graphic>
          <a:graphicData uri="http://schemas.openxmlformats.org/presentationml/2006/ole">
            <p:oleObj r:id="rId39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40"/>
                  <a:stretch/>
                </p:blipFill>
                <p:spPr>
                  <a:xfrm>
                    <a:off x="555948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224760" y="3614760"/>
          <a:ext cx="404640" cy="571320"/>
        </p:xfrm>
        <a:graphic>
          <a:graphicData uri="http://schemas.openxmlformats.org/presentationml/2006/ole">
            <p:oleObj r:id="rId4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42"/>
                  <a:stretch/>
                </p:blipFill>
                <p:spPr>
                  <a:xfrm>
                    <a:off x="6224760" y="3614760"/>
                    <a:ext cx="404640" cy="571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8" name=""/>
          <p:cNvGraphicFramePr/>
          <p:nvPr/>
        </p:nvGraphicFramePr>
        <p:xfrm>
          <a:off x="6831000" y="3614760"/>
          <a:ext cx="407880" cy="576360"/>
        </p:xfrm>
        <a:graphic>
          <a:graphicData uri="http://schemas.openxmlformats.org/presentationml/2006/ole">
            <p:oleObj r:id="rId43" spid="">
              <p:embed/>
              <p:pic>
                <p:nvPicPr>
                  <p:cNvPr id="219" name="" descr=""/>
                  <p:cNvPicPr/>
                  <p:nvPr/>
                </p:nvPicPr>
                <p:blipFill>
                  <a:blip r:embed="rId44"/>
                  <a:stretch/>
                </p:blipFill>
                <p:spPr>
                  <a:xfrm>
                    <a:off x="6831000" y="361476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0" name=""/>
          <p:cNvGraphicFramePr/>
          <p:nvPr/>
        </p:nvGraphicFramePr>
        <p:xfrm>
          <a:off x="4343400" y="5029200"/>
          <a:ext cx="406440" cy="609480"/>
        </p:xfrm>
        <a:graphic>
          <a:graphicData uri="http://schemas.openxmlformats.org/presentationml/2006/ole">
            <p:oleObj r:id="rId45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46"/>
                  <a:stretch/>
                </p:blipFill>
                <p:spPr>
                  <a:xfrm>
                    <a:off x="4343400" y="5029200"/>
                    <a:ext cx="40644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2" name=""/>
          <p:cNvGraphicFramePr/>
          <p:nvPr/>
        </p:nvGraphicFramePr>
        <p:xfrm>
          <a:off x="4292640" y="5486400"/>
          <a:ext cx="431640" cy="647640"/>
        </p:xfrm>
        <a:graphic>
          <a:graphicData uri="http://schemas.openxmlformats.org/presentationml/2006/ole">
            <p:oleObj r:id="rId47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48"/>
                  <a:stretch/>
                </p:blipFill>
                <p:spPr>
                  <a:xfrm>
                    <a:off x="4292640" y="54864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4" name=""/>
          <p:cNvGraphicFramePr/>
          <p:nvPr/>
        </p:nvGraphicFramePr>
        <p:xfrm>
          <a:off x="4343400" y="4495680"/>
          <a:ext cx="406440" cy="609840"/>
        </p:xfrm>
        <a:graphic>
          <a:graphicData uri="http://schemas.openxmlformats.org/presentationml/2006/ole">
            <p:oleObj r:id="rId49" spid="">
              <p:embed/>
              <p:pic>
                <p:nvPicPr>
                  <p:cNvPr id="225" name="" descr=""/>
                  <p:cNvPicPr/>
                  <p:nvPr/>
                </p:nvPicPr>
                <p:blipFill>
                  <a:blip r:embed="rId50"/>
                  <a:stretch/>
                </p:blipFill>
                <p:spPr>
                  <a:xfrm>
                    <a:off x="4343400" y="4495680"/>
                    <a:ext cx="4064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6" name=""/>
          <p:cNvGraphicFramePr/>
          <p:nvPr/>
        </p:nvGraphicFramePr>
        <p:xfrm>
          <a:off x="4292640" y="6019920"/>
          <a:ext cx="431640" cy="647640"/>
        </p:xfrm>
        <a:graphic>
          <a:graphicData uri="http://schemas.openxmlformats.org/presentationml/2006/ole">
            <p:oleObj r:id="rId5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52"/>
                  <a:stretch/>
                </p:blipFill>
                <p:spPr>
                  <a:xfrm>
                    <a:off x="4292640" y="601992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8" name=""/>
          <p:cNvGraphicFramePr/>
          <p:nvPr/>
        </p:nvGraphicFramePr>
        <p:xfrm>
          <a:off x="3716280" y="5486400"/>
          <a:ext cx="468360" cy="647640"/>
        </p:xfrm>
        <a:graphic>
          <a:graphicData uri="http://schemas.openxmlformats.org/presentationml/2006/ole">
            <p:oleObj r:id="rId5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54"/>
                  <a:stretch/>
                </p:blipFill>
                <p:spPr>
                  <a:xfrm>
                    <a:off x="3716280" y="54864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0" name=""/>
          <p:cNvGraphicFramePr/>
          <p:nvPr/>
        </p:nvGraphicFramePr>
        <p:xfrm>
          <a:off x="3768840" y="4495680"/>
          <a:ext cx="439560" cy="609840"/>
        </p:xfrm>
        <a:graphic>
          <a:graphicData uri="http://schemas.openxmlformats.org/presentationml/2006/ole">
            <p:oleObj r:id="rId55" spid="">
              <p:embed/>
              <p:pic>
                <p:nvPicPr>
                  <p:cNvPr id="231" name="" descr=""/>
                  <p:cNvPicPr/>
                  <p:nvPr/>
                </p:nvPicPr>
                <p:blipFill>
                  <a:blip r:embed="rId56"/>
                  <a:stretch/>
                </p:blipFill>
                <p:spPr>
                  <a:xfrm>
                    <a:off x="3768840" y="4495680"/>
                    <a:ext cx="4395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2" name=""/>
          <p:cNvGraphicFramePr/>
          <p:nvPr/>
        </p:nvGraphicFramePr>
        <p:xfrm>
          <a:off x="3722760" y="6019920"/>
          <a:ext cx="468360" cy="647640"/>
        </p:xfrm>
        <a:graphic>
          <a:graphicData uri="http://schemas.openxmlformats.org/presentationml/2006/ole">
            <p:oleObj r:id="rId57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58"/>
                  <a:stretch/>
                </p:blipFill>
                <p:spPr>
                  <a:xfrm>
                    <a:off x="3722760" y="601992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4" name=""/>
          <p:cNvGraphicFramePr/>
          <p:nvPr/>
        </p:nvGraphicFramePr>
        <p:xfrm>
          <a:off x="3733920" y="5029200"/>
          <a:ext cx="468360" cy="647640"/>
        </p:xfrm>
        <a:graphic>
          <a:graphicData uri="http://schemas.openxmlformats.org/presentationml/2006/ole">
            <p:oleObj r:id="rId59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60"/>
                  <a:stretch/>
                </p:blipFill>
                <p:spPr>
                  <a:xfrm>
                    <a:off x="3733920" y="5029200"/>
                    <a:ext cx="46836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5562720" y="2514600"/>
          <a:ext cx="2514600" cy="1035000"/>
        </p:xfrm>
        <a:graphic>
          <a:graphicData uri="http://schemas.openxmlformats.org/drawingml/2006/table">
            <a:tbl>
              <a:tblPr/>
              <a:tblGrid>
                <a:gridCol w="628560"/>
                <a:gridCol w="628920"/>
                <a:gridCol w="628560"/>
                <a:gridCol w="62856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38" name=""/>
          <p:cNvGraphicFramePr/>
          <p:nvPr/>
        </p:nvGraphicFramePr>
        <p:xfrm>
          <a:off x="6303960" y="1981080"/>
          <a:ext cx="407880" cy="57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960" y="198108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0" name=""/>
          <p:cNvGraphicFramePr/>
          <p:nvPr/>
        </p:nvGraphicFramePr>
        <p:xfrm>
          <a:off x="6986520" y="1981080"/>
          <a:ext cx="405000" cy="57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86520" y="198108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5638680" y="1981080"/>
          <a:ext cx="408240" cy="57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638680" y="198108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4" name=""/>
          <p:cNvGraphicFramePr/>
          <p:nvPr/>
        </p:nvGraphicFramePr>
        <p:xfrm>
          <a:off x="7596360" y="1981080"/>
          <a:ext cx="404640" cy="571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4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596360" y="198108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6" name=""/>
          <p:cNvGraphicFramePr/>
          <p:nvPr/>
        </p:nvGraphicFramePr>
        <p:xfrm>
          <a:off x="5054760" y="2438280"/>
          <a:ext cx="406080" cy="6098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54760" y="2438280"/>
                    <a:ext cx="40608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5029200" y="2971800"/>
          <a:ext cx="431640" cy="647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029200" y="2971800"/>
                    <a:ext cx="431640" cy="64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0" name=""/>
          <p:cNvGraphicFramePr/>
          <p:nvPr/>
        </p:nvGraphicFramePr>
        <p:xfrm>
          <a:off x="5638680" y="1600200"/>
          <a:ext cx="408240" cy="576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638680" y="1600200"/>
                    <a:ext cx="40824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2" name=""/>
          <p:cNvGraphicFramePr/>
          <p:nvPr/>
        </p:nvGraphicFramePr>
        <p:xfrm>
          <a:off x="6321600" y="1600200"/>
          <a:ext cx="404640" cy="5716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321600" y="1600200"/>
                    <a:ext cx="40464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4" name=""/>
          <p:cNvGraphicFramePr/>
          <p:nvPr/>
        </p:nvGraphicFramePr>
        <p:xfrm>
          <a:off x="6986520" y="1600200"/>
          <a:ext cx="405000" cy="5716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986520" y="1600200"/>
                    <a:ext cx="405000" cy="57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7593120" y="1600200"/>
          <a:ext cx="407880" cy="57636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593120" y="1600200"/>
                    <a:ext cx="407880" cy="57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685800" y="1819440"/>
          <a:ext cx="3860640" cy="4657680"/>
        </p:xfrm>
        <a:graphic>
          <a:graphicData uri="http://schemas.openxmlformats.org/drawingml/2006/table">
            <a:tbl>
              <a:tblPr/>
              <a:tblGrid>
                <a:gridCol w="990720"/>
                <a:gridCol w="990360"/>
                <a:gridCol w="990720"/>
                <a:gridCol w="888840"/>
              </a:tblGrid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9" name=""/>
          <p:cNvSpPr/>
          <p:nvPr/>
        </p:nvSpPr>
        <p:spPr>
          <a:xfrm>
            <a:off x="5410080" y="2438280"/>
            <a:ext cx="1524240" cy="1143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0" name=""/>
          <p:cNvGraphicFramePr/>
          <p:nvPr/>
        </p:nvGraphicFramePr>
        <p:xfrm>
          <a:off x="5943600" y="4572000"/>
          <a:ext cx="1600200" cy="85392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5943600" y="4572000"/>
                    <a:ext cx="1600200" cy="85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ие опер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ъюнкция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триц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а: «НЕ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.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3624120" y="2471760"/>
          <a:ext cx="476280" cy="59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24120" y="247176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23880" y="3657600"/>
          <a:ext cx="6096240" cy="205704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6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791320" y="3657600"/>
          <a:ext cx="476280" cy="59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657600"/>
                    <a:ext cx="476280" cy="59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666880" y="374976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66880" y="374976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;            ;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543480" y="2554200"/>
          <a:ext cx="95220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43480" y="2554200"/>
                    <a:ext cx="95220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5867280" y="2552760"/>
          <a:ext cx="1309680" cy="557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2552760"/>
                    <a:ext cx="1309680" cy="5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981760" y="3521160"/>
          <a:ext cx="95256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81760" y="3521160"/>
                    <a:ext cx="95256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изъю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огическая связка: «ИЛИ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бозначение:          ;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405240" y="2554200"/>
          <a:ext cx="1230120" cy="517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5240" y="2554200"/>
                    <a:ext cx="123012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4560840" y="2548080"/>
          <a:ext cx="123048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60840" y="254808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447920" y="344484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4124160" y="3505320"/>
          <a:ext cx="476280" cy="517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2416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2143080" y="3505320"/>
          <a:ext cx="476280" cy="517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143080" y="3505320"/>
                    <a:ext cx="4762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2" name=""/>
          <p:cNvGraphicFramePr/>
          <p:nvPr/>
        </p:nvGraphicFramePr>
        <p:xfrm>
          <a:off x="5856120" y="3505320"/>
          <a:ext cx="1230480" cy="5173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856120" y="3505320"/>
                    <a:ext cx="12304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мплика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 «ЕСЛИ …, ТО», «ИЗ … СЛЕДУЕТ», «… ВЛЕЧЕТ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408480" y="3043080"/>
          <a:ext cx="1468440" cy="55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08480" y="3043080"/>
                    <a:ext cx="1468440" cy="55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9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3" name=""/>
          <p:cNvGraphicFramePr/>
          <p:nvPr/>
        </p:nvGraphicFramePr>
        <p:xfrm>
          <a:off x="5791320" y="3886200"/>
          <a:ext cx="1468440" cy="558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791320" y="3886200"/>
                    <a:ext cx="1468440" cy="55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Эквивален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огическая связки: «тогда и только тогда», «необходимо и достаточно», « … равносильно …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бозначение:           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92360" y="3164040"/>
          <a:ext cx="1270080" cy="517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360" y="3164040"/>
                    <a:ext cx="127008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1447920" y="3886200"/>
          <a:ext cx="6095880" cy="2803680"/>
        </p:xfrm>
        <a:graphic>
          <a:graphicData uri="http://schemas.openxmlformats.org/drawingml/2006/table">
            <a:tbl>
              <a:tblPr/>
              <a:tblGrid>
                <a:gridCol w="2031840"/>
                <a:gridCol w="2031840"/>
                <a:gridCol w="2032200"/>
              </a:tblGrid>
              <a:tr h="609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0" name=""/>
          <p:cNvGraphicFramePr/>
          <p:nvPr/>
        </p:nvGraphicFramePr>
        <p:xfrm>
          <a:off x="4124160" y="3886200"/>
          <a:ext cx="476280" cy="517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2416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2143080" y="3886200"/>
          <a:ext cx="476280" cy="517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143080" y="3886200"/>
                    <a:ext cx="4762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4" name=""/>
          <p:cNvGraphicFramePr/>
          <p:nvPr/>
        </p:nvGraphicFramePr>
        <p:xfrm>
          <a:off x="5816520" y="3886200"/>
          <a:ext cx="1270080" cy="517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816520" y="3886200"/>
                    <a:ext cx="1270080" cy="517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огическая функц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ункцией алгебры логик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f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 от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еременных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... ,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принимающих значения 0 или 1, называется функция, принимающая значения 0 или 1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lav</cp:lastModifiedBy>
  <dcterms:modified xsi:type="dcterms:W3CDTF">2005-10-25T10:13:19Z</dcterms:modified>
  <cp:revision>35</cp:revision>
  <dc:subject/>
  <dc:title>Презентация PowerPoint</dc:title>
</cp:coreProperties>
</file>