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894A-1CA4-43CA-8121-613A5BF9A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9DB5-638D-4769-BFE1-89368AC80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1C671-FE1D-48BA-AC5D-5FACFAFBC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10B7-DE7F-4D2B-A03E-E1175BEC3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DA8A-14D2-46CE-8CF9-C9991B97E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43C8-55CF-4C9C-8525-00605177C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131FF-AEDB-4E7E-8E87-C9AC60B04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E9BC-AF69-44AA-A23C-C577D65D0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B669-CDA5-49BA-9D5A-B54E21037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A9DE1-6F53-4E53-87C5-1A2CB302D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6DE6-B295-4D36-A28A-975EFE37D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70E38-1DC9-459A-820E-6AD747EE7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0DA2-A089-44ED-90A9-6552C1E19D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Модель взаимодействия открытых систем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опология «Звезда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2057400" y="1523880"/>
            <a:ext cx="4743360" cy="4133880"/>
            <a:chOff x="2057400" y="1523880"/>
            <a:chExt cx="4743360" cy="4133880"/>
          </a:xfrm>
        </p:grpSpPr>
        <p:sp>
          <p:nvSpPr>
            <p:cNvPr id="68" name=""/>
            <p:cNvSpPr/>
            <p:nvPr/>
          </p:nvSpPr>
          <p:spPr>
            <a:xfrm>
              <a:off x="4419720" y="3733920"/>
              <a:ext cx="1245960" cy="1531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 flipV="1">
              <a:off x="4419720" y="3174480"/>
              <a:ext cx="1958760" cy="559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 flipV="1">
              <a:off x="4386240" y="1909800"/>
              <a:ext cx="39600" cy="185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2437920" y="3151080"/>
              <a:ext cx="1971720" cy="5889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3122640" y="3743280"/>
              <a:ext cx="1303200" cy="1452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3" name="" descr=""/>
            <p:cNvPicPr/>
            <p:nvPr/>
          </p:nvPicPr>
          <p:blipFill>
            <a:blip r:embed="rId1"/>
            <a:stretch/>
          </p:blipFill>
          <p:spPr>
            <a:xfrm>
              <a:off x="2057400" y="274320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" descr=""/>
            <p:cNvPicPr/>
            <p:nvPr/>
          </p:nvPicPr>
          <p:blipFill>
            <a:blip r:embed="rId2"/>
            <a:stretch/>
          </p:blipFill>
          <p:spPr>
            <a:xfrm>
              <a:off x="2819520" y="480060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" descr=""/>
            <p:cNvPicPr/>
            <p:nvPr/>
          </p:nvPicPr>
          <p:blipFill>
            <a:blip r:embed="rId3"/>
            <a:stretch/>
          </p:blipFill>
          <p:spPr>
            <a:xfrm>
              <a:off x="5257800" y="487692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" descr=""/>
            <p:cNvPicPr/>
            <p:nvPr/>
          </p:nvPicPr>
          <p:blipFill>
            <a:blip r:embed="rId4"/>
            <a:stretch/>
          </p:blipFill>
          <p:spPr>
            <a:xfrm>
              <a:off x="4038480" y="152388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" descr=""/>
            <p:cNvPicPr/>
            <p:nvPr/>
          </p:nvPicPr>
          <p:blipFill>
            <a:blip r:embed="rId5"/>
            <a:stretch/>
          </p:blipFill>
          <p:spPr>
            <a:xfrm>
              <a:off x="6019920" y="2819520"/>
              <a:ext cx="78084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8" name="" descr=""/>
            <p:cNvPicPr/>
            <p:nvPr/>
          </p:nvPicPr>
          <p:blipFill>
            <a:blip r:embed="rId6"/>
            <a:stretch/>
          </p:blipFill>
          <p:spPr>
            <a:xfrm>
              <a:off x="3886200" y="3581280"/>
              <a:ext cx="1143000" cy="3812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опология «Кольцо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647800" y="2266920"/>
            <a:ext cx="3543480" cy="3143160"/>
            <a:chOff x="2647800" y="2266920"/>
            <a:chExt cx="3543480" cy="3143160"/>
          </a:xfrm>
        </p:grpSpPr>
        <p:sp>
          <p:nvSpPr>
            <p:cNvPr id="81" name=""/>
            <p:cNvSpPr/>
            <p:nvPr/>
          </p:nvSpPr>
          <p:spPr>
            <a:xfrm>
              <a:off x="4419720" y="2495520"/>
              <a:ext cx="1371600" cy="106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2971800" y="2495520"/>
              <a:ext cx="1447920" cy="9907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5334120" y="3562200"/>
              <a:ext cx="457200" cy="137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971800" y="3486240"/>
              <a:ext cx="457200" cy="14475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29000" y="4933800"/>
              <a:ext cx="1905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4038480" y="226692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2647800" y="310500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" descr=""/>
            <p:cNvPicPr/>
            <p:nvPr/>
          </p:nvPicPr>
          <p:blipFill>
            <a:blip r:embed="rId3"/>
            <a:stretch/>
          </p:blipFill>
          <p:spPr>
            <a:xfrm>
              <a:off x="5410080" y="310500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" descr=""/>
            <p:cNvPicPr/>
            <p:nvPr/>
          </p:nvPicPr>
          <p:blipFill>
            <a:blip r:embed="rId4"/>
            <a:stretch/>
          </p:blipFill>
          <p:spPr>
            <a:xfrm>
              <a:off x="4952880" y="455292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" descr=""/>
            <p:cNvPicPr/>
            <p:nvPr/>
          </p:nvPicPr>
          <p:blipFill>
            <a:blip r:embed="rId5"/>
            <a:stretch/>
          </p:blipFill>
          <p:spPr>
            <a:xfrm>
              <a:off x="3048120" y="4629240"/>
              <a:ext cx="780840" cy="780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ревовидная тополог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828800" y="2286000"/>
            <a:ext cx="5429160" cy="3448080"/>
            <a:chOff x="1828800" y="2286000"/>
            <a:chExt cx="5429160" cy="3448080"/>
          </a:xfrm>
        </p:grpSpPr>
        <p:sp>
          <p:nvSpPr>
            <p:cNvPr id="93" name=""/>
            <p:cNvSpPr/>
            <p:nvPr/>
          </p:nvSpPr>
          <p:spPr>
            <a:xfrm flipH="1">
              <a:off x="3214800" y="2395440"/>
              <a:ext cx="1371600" cy="1373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543560" y="2371680"/>
              <a:ext cx="1371600" cy="13716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2205000" y="3841920"/>
              <a:ext cx="906480" cy="1444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233880" y="3828960"/>
              <a:ext cx="709560" cy="15433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5046480" y="3854520"/>
              <a:ext cx="906120" cy="1444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86520" y="3903840"/>
              <a:ext cx="747720" cy="1382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3505320" y="495288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4648320" y="495288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1" name="" descr=""/>
            <p:cNvPicPr/>
            <p:nvPr/>
          </p:nvPicPr>
          <p:blipFill>
            <a:blip r:embed="rId3"/>
            <a:stretch/>
          </p:blipFill>
          <p:spPr>
            <a:xfrm>
              <a:off x="6477120" y="495288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4"/>
            <a:stretch/>
          </p:blipFill>
          <p:spPr>
            <a:xfrm>
              <a:off x="1828800" y="493380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5"/>
            <a:stretch/>
          </p:blipFill>
          <p:spPr>
            <a:xfrm>
              <a:off x="3962520" y="2286000"/>
              <a:ext cx="114300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2666880" y="3657600"/>
              <a:ext cx="1143000" cy="38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" descr=""/>
            <p:cNvPicPr/>
            <p:nvPr/>
          </p:nvPicPr>
          <p:blipFill>
            <a:blip r:embed="rId7"/>
            <a:stretch/>
          </p:blipFill>
          <p:spPr>
            <a:xfrm>
              <a:off x="5410080" y="3657600"/>
              <a:ext cx="1143000" cy="3808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мешанная тополог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971640" y="1523880"/>
            <a:ext cx="7962840" cy="4362480"/>
            <a:chOff x="971640" y="1523880"/>
            <a:chExt cx="7962840" cy="4362480"/>
          </a:xfrm>
        </p:grpSpPr>
        <p:sp>
          <p:nvSpPr>
            <p:cNvPr id="108" name=""/>
            <p:cNvSpPr/>
            <p:nvPr/>
          </p:nvSpPr>
          <p:spPr>
            <a:xfrm>
              <a:off x="1450800" y="3108240"/>
              <a:ext cx="44341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1655280" y="3070080"/>
              <a:ext cx="885960" cy="773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663560" y="3827520"/>
              <a:ext cx="2300400" cy="2221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577880" y="3886200"/>
              <a:ext cx="98640" cy="1576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956040" y="4073400"/>
              <a:ext cx="260280" cy="1428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H="1" flipV="1">
              <a:off x="1561680" y="5454720"/>
              <a:ext cx="2622600" cy="63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834240" y="3745080"/>
              <a:ext cx="1146240" cy="14302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 flipV="1">
              <a:off x="6786720" y="3139560"/>
              <a:ext cx="1881000" cy="554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flipV="1">
              <a:off x="6781680" y="1905120"/>
              <a:ext cx="0" cy="18288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 flipV="1">
              <a:off x="4802040" y="3096720"/>
              <a:ext cx="1968480" cy="592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5528880" y="3693960"/>
              <a:ext cx="1257480" cy="14130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 flipV="1">
              <a:off x="4191120" y="5105520"/>
              <a:ext cx="1371600" cy="4572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0" name="" descr=""/>
            <p:cNvPicPr/>
            <p:nvPr/>
          </p:nvPicPr>
          <p:blipFill>
            <a:blip r:embed="rId1"/>
            <a:stretch/>
          </p:blipFill>
          <p:spPr>
            <a:xfrm>
              <a:off x="6172200" y="3581280"/>
              <a:ext cx="1143000" cy="38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1" name="" descr=""/>
            <p:cNvPicPr/>
            <p:nvPr/>
          </p:nvPicPr>
          <p:blipFill>
            <a:blip r:embed="rId2"/>
            <a:stretch/>
          </p:blipFill>
          <p:spPr>
            <a:xfrm>
              <a:off x="6324480" y="152388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2" name="" descr=""/>
            <p:cNvPicPr/>
            <p:nvPr/>
          </p:nvPicPr>
          <p:blipFill>
            <a:blip r:embed="rId3"/>
            <a:stretch/>
          </p:blipFill>
          <p:spPr>
            <a:xfrm>
              <a:off x="8153280" y="274320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" descr=""/>
            <p:cNvPicPr/>
            <p:nvPr/>
          </p:nvPicPr>
          <p:blipFill>
            <a:blip r:embed="rId4"/>
            <a:stretch/>
          </p:blipFill>
          <p:spPr>
            <a:xfrm>
              <a:off x="7620120" y="480060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" descr=""/>
            <p:cNvPicPr/>
            <p:nvPr/>
          </p:nvPicPr>
          <p:blipFill>
            <a:blip r:embed="rId5"/>
            <a:stretch/>
          </p:blipFill>
          <p:spPr>
            <a:xfrm>
              <a:off x="5181480" y="472428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" descr=""/>
            <p:cNvPicPr/>
            <p:nvPr/>
          </p:nvPicPr>
          <p:blipFill>
            <a:blip r:embed="rId6"/>
            <a:stretch/>
          </p:blipFill>
          <p:spPr>
            <a:xfrm>
              <a:off x="4419720" y="251460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" descr=""/>
            <p:cNvPicPr/>
            <p:nvPr/>
          </p:nvPicPr>
          <p:blipFill>
            <a:blip r:embed="rId7"/>
            <a:stretch/>
          </p:blipFill>
          <p:spPr>
            <a:xfrm>
              <a:off x="5695920" y="249552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" name="" descr=""/>
            <p:cNvPicPr/>
            <p:nvPr/>
          </p:nvPicPr>
          <p:blipFill>
            <a:blip r:embed="rId8"/>
            <a:stretch/>
          </p:blipFill>
          <p:spPr>
            <a:xfrm>
              <a:off x="3276720" y="251460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" descr=""/>
            <p:cNvPicPr/>
            <p:nvPr/>
          </p:nvPicPr>
          <p:blipFill>
            <a:blip r:embed="rId9"/>
            <a:stretch/>
          </p:blipFill>
          <p:spPr>
            <a:xfrm>
              <a:off x="2057400" y="2514600"/>
              <a:ext cx="78120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9" name="" descr=""/>
            <p:cNvPicPr/>
            <p:nvPr/>
          </p:nvPicPr>
          <p:blipFill>
            <a:blip r:embed="rId10"/>
            <a:stretch/>
          </p:blipFill>
          <p:spPr>
            <a:xfrm>
              <a:off x="971640" y="251460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" descr=""/>
            <p:cNvPicPr/>
            <p:nvPr/>
          </p:nvPicPr>
          <p:blipFill>
            <a:blip r:embed="rId11"/>
            <a:stretch/>
          </p:blipFill>
          <p:spPr>
            <a:xfrm>
              <a:off x="1219320" y="342900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" descr=""/>
            <p:cNvPicPr/>
            <p:nvPr/>
          </p:nvPicPr>
          <p:blipFill>
            <a:blip r:embed="rId12"/>
            <a:stretch/>
          </p:blipFill>
          <p:spPr>
            <a:xfrm>
              <a:off x="3505320" y="358128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13"/>
            <a:stretch/>
          </p:blipFill>
          <p:spPr>
            <a:xfrm>
              <a:off x="1219320" y="4952880"/>
              <a:ext cx="780840" cy="78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14"/>
            <a:stretch/>
          </p:blipFill>
          <p:spPr>
            <a:xfrm>
              <a:off x="3809880" y="5105520"/>
              <a:ext cx="781200" cy="780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Частные виды сете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114300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нтернет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то сообщество множества международных и национальных компьютерных сет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нтранет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внутренняя сеть организац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использующая стандарты, протоколы и технологии Интернет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Экстранет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рпоративная Интранет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458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одель взаимодействия  открытых систе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84582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дель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заимодействия открытых систе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Open Systems Interconnectio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OS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подразумевает обеспечение взаимодействия систем по определенным правила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Открытая систем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это любая система, которая построена в соответствии с открытыми спецификациям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одель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SI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работана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Международной организацией по стандартизац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S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76320"/>
            <a:ext cx="91440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одель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0" y="976320"/>
          <a:ext cx="9144000" cy="5653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76320"/>
                    <a:ext cx="9144000" cy="565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33520" y="744480"/>
            <a:ext cx="8305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отокол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это правила, определяющие взаимодействие между системами в рамках одного уровня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2514600"/>
            <a:ext cx="815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нтерфей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это набор функций, который нижележащий уровень предоставляет вышележащем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57200" y="4343400"/>
            <a:ext cx="8364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тек протоколо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это набор протоколов разных уровней, достаточный для организации взаимодействия систе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теки протокол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PX/SP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tBIOS/SM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оответствие стеков протоколов модели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OS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152280" y="2235240"/>
          <a:ext cx="8839440" cy="401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35240"/>
                    <a:ext cx="8839440" cy="40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1447920"/>
            <a:ext cx="83818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Компьютерная сет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er NetWork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net - сеть, и work - работа)  - это система обмена информацией между компьютерам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3733920"/>
            <a:ext cx="807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новная цель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обеспечение пользователям потенциальной возможности доступа к локальным ресурсам всех компьютеров се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69920" y="609480"/>
            <a:ext cx="5040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понят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ребов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1981080"/>
            <a:ext cx="777240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изводитель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дежность и безопас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асширяемость и масштабируем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зрачность и управляемос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овместимость (гетерогенность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0"/>
            <a:ext cx="77724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мпьютерные сети классифицируются по следующим признакам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2286000"/>
            <a:ext cx="7772400" cy="36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тепень географического распростране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асштаб производственного подразделе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пособ управления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труктура (топология) связей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85800" y="30492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 степени географического распространения различают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280" y="2286000"/>
            <a:ext cx="883944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окальные се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Local Area Network, LAN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лобальные сет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e Area Network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WAN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родские сети (Metropolitan Area Network, MAN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304920" y="304920"/>
            <a:ext cx="853416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 масштабу производственного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дразделения различают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85800" y="1981080"/>
            <a:ext cx="777240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ти отдел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ти кампусов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рпоративные се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57200" y="457200"/>
            <a:ext cx="81532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 способу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правления различают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ти «Клиент - сервер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Клиент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 объект (компьютер или программа), запрашивающий некоторые услуг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ервер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 объект (компьютер или программа), предоставляющий некоторые услуг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дноранговые се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85800" y="45720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 топологии связей различают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ти с топологией «Общая шина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ти с топологией «Звезда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ти с топологией «Кольцо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ти с древовидной топологией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ети со смешанной топологи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опология «Общая шина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1523880" y="3048120"/>
            <a:ext cx="6191280" cy="780840"/>
            <a:chOff x="1523880" y="3048120"/>
            <a:chExt cx="6191280" cy="780840"/>
          </a:xfrm>
        </p:grpSpPr>
        <p:sp>
          <p:nvSpPr>
            <p:cNvPr id="60" name=""/>
            <p:cNvSpPr/>
            <p:nvPr/>
          </p:nvSpPr>
          <p:spPr>
            <a:xfrm>
              <a:off x="1925640" y="3657600"/>
              <a:ext cx="5408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1" name="" descr=""/>
            <p:cNvPicPr/>
            <p:nvPr/>
          </p:nvPicPr>
          <p:blipFill>
            <a:blip r:embed="rId1"/>
            <a:stretch/>
          </p:blipFill>
          <p:spPr>
            <a:xfrm>
              <a:off x="1523880" y="304812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2895480" y="304812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3"/>
            <a:stretch/>
          </p:blipFill>
          <p:spPr>
            <a:xfrm>
              <a:off x="4267080" y="304812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4" name="" descr=""/>
            <p:cNvPicPr/>
            <p:nvPr/>
          </p:nvPicPr>
          <p:blipFill>
            <a:blip r:embed="rId4"/>
            <a:stretch/>
          </p:blipFill>
          <p:spPr>
            <a:xfrm>
              <a:off x="5638680" y="3048120"/>
              <a:ext cx="781200" cy="78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" descr=""/>
            <p:cNvPicPr/>
            <p:nvPr/>
          </p:nvPicPr>
          <p:blipFill>
            <a:blip r:embed="rId5"/>
            <a:stretch/>
          </p:blipFill>
          <p:spPr>
            <a:xfrm>
              <a:off x="6934320" y="3048120"/>
              <a:ext cx="780840" cy="78084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9T20:51:30Z</dcterms:created>
  <dc:creator>cde</dc:creator>
  <dc:description/>
  <dc:language>en-US</dc:language>
  <cp:lastModifiedBy>support</cp:lastModifiedBy>
  <dcterms:modified xsi:type="dcterms:W3CDTF">2007-04-17T06:16:54Z</dcterms:modified>
  <cp:revision>5</cp:revision>
  <dc:subject/>
  <dc:title>Компьютерные сети</dc:title>
</cp:coreProperties>
</file>