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E93C-0CE2-4676-87DB-A9EEAE200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20CB-EA4A-4E0B-B93D-407CC0FDC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EB2C-051D-4F35-8496-95C7AEE37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7846-BD87-4E7B-BAA0-FE986217E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1B17-57A0-4C52-BE50-139A04014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C75A-DBCA-418F-8FBE-3C152F219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FF4C-E211-45A8-9248-85A8FA293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FF83-FF3B-4C08-95C8-224CE30DE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958C-EBBD-4BF6-957A-1D01972E0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DF8C-E25F-44F5-9FB2-FDCC00E8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EF4C-B5BB-4388-9A73-BC3546AB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D2AF-7973-4EE0-B0CC-696FA1A9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8BD88-0CAC-4B30-B7DF-9361458F85A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жатие данных и помехозащищенное кодиров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д с проверкой на четн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362320" y="2286000"/>
          <a:ext cx="4038480" cy="3014640"/>
        </p:xfrm>
        <a:graphic>
          <a:graphicData uri="http://schemas.openxmlformats.org/drawingml/2006/table">
            <a:tbl>
              <a:tblPr/>
              <a:tblGrid>
                <a:gridCol w="2271600"/>
                <a:gridCol w="17668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овая комбина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ит четно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д Хемминг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истанция Хемминг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жду двумя кодовыми комбинациями равна количеству битов, отличающихся в этих комбинация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01110101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1011111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д Хемминг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23880" y="1828800"/>
          <a:ext cx="6096240" cy="465768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мв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111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0011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1100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110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001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10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01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762120" y="1828800"/>
          <a:ext cx="7848360" cy="4673520"/>
        </p:xfrm>
        <a:graphic>
          <a:graphicData uri="http://schemas.openxmlformats.org/drawingml/2006/table">
            <a:tbl>
              <a:tblPr/>
              <a:tblGrid>
                <a:gridCol w="1582560"/>
                <a:gridCol w="1860480"/>
                <a:gridCol w="2805120"/>
                <a:gridCol w="1600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мв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бина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0100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111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0011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1100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110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001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10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01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збыточн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збыточност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означает, что из исходных символов можно построить больше комбинаций, чем их применено в данном код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авило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Уменьшение числа используемых комбинаций приводит к повышению помехоустойчиво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лияние кодового расстояния на помехозащищенность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д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инимальное кодовое расстоя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исло обнаруживаемых ошибо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исло исправляемых ошибо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 = 1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шибка не обнаруживаетс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 =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наруживаются одиночные ошиб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 =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равляются одиночные ошибки или обнаруживаются двойные ошиб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пределение числа контрольных символов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1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ина кодовой комбин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исло информационных символ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исло контрольных символ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жатие данны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жатие данных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процесс, обеспечивающий уменьшение объема данных путем сокращения их избыточност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личают сжатия с потерей и без потери информаци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дирование длины сер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111 1111 1111 1111 1111 0000 0000 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 [20] 0 [1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 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00 0 0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1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эффициент сжатия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/3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цесс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сстановления информ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0 000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0 1 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24] 1 [8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00 0000 0000 0000 0000 0000 1111 11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етод относительного кодирования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476; 1473; 1480; 1477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476; -3; +7; -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Частотно-зависимое кодиров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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1110111001110110001101101101101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838080" y="2743200"/>
          <a:ext cx="2971800" cy="2587680"/>
        </p:xfrm>
        <a:graphic>
          <a:graphicData uri="http://schemas.openxmlformats.org/drawingml/2006/table">
            <a:tbl>
              <a:tblPr/>
              <a:tblGrid>
                <a:gridCol w="1486080"/>
                <a:gridCol w="1485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мв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-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5257800" y="2746440"/>
          <a:ext cx="2971800" cy="2587680"/>
        </p:xfrm>
        <a:graphic>
          <a:graphicData uri="http://schemas.openxmlformats.org/drawingml/2006/table">
            <a:tbl>
              <a:tblPr/>
              <a:tblGrid>
                <a:gridCol w="1486080"/>
                <a:gridCol w="1485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мв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сстановление информ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11111001110010110101001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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5257800" y="2746440"/>
          <a:ext cx="2971800" cy="2587680"/>
        </p:xfrm>
        <a:graphic>
          <a:graphicData uri="http://schemas.openxmlformats.org/drawingml/2006/table">
            <a:tbl>
              <a:tblPr/>
              <a:tblGrid>
                <a:gridCol w="1486080"/>
                <a:gridCol w="1485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мв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етод Лемпеля-Зив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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, 4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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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омехозащищенное кодиров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мехозащищенным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зываются коды, позволяющие обнаружить и исправить ошибки в кодовых комбинациях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уществуют код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обнаружением ошибок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обнаружением и исправлением ошибок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19:25:14Z</dcterms:created>
  <dc:creator>cde</dc:creator>
  <dc:description/>
  <dc:language>en-US</dc:language>
  <cp:lastModifiedBy>Owner</cp:lastModifiedBy>
  <dcterms:modified xsi:type="dcterms:W3CDTF">2009-03-15T15:01:32Z</dcterms:modified>
  <cp:revision>19</cp:revision>
  <dc:subject/>
  <dc:title>Презентация PowerPoint</dc:title>
</cp:coreProperties>
</file>