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8A1-A73C-4C89-B24B-5F22E243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423-C4B3-472F-85A8-55FD5602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540-63B2-4950-A4D6-68A9E105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25F-A662-4353-9961-2FF6D9DE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B59-14B6-461E-82E9-018D1CE1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256-8750-478E-8FA3-544C85F5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B4B-6703-47F3-9710-A81A4610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B6F-56C4-47AB-B3A2-CFCEE9B7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015-39C5-4A96-8CAA-279B71A3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54F-A522-43D0-BC8E-C579A674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457-DDDA-43A6-AAC0-F18E5CE2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83A-C5DB-49A1-B314-90302FC7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170F-8CF1-4FCF-8B55-5EB91246ED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жатие данных и 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с проверкой на чет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362320" y="2286000"/>
          <a:ext cx="4038480" cy="3014640"/>
        </p:xfrm>
        <a:graphic>
          <a:graphicData uri="http://schemas.openxmlformats.org/drawingml/2006/table">
            <a:tbl>
              <a:tblPr/>
              <a:tblGrid>
                <a:gridCol w="2271600"/>
                <a:gridCol w="1766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овая 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т чет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танция Хеммин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 двумя кодовыми комбинациями равна количеству битов, отличающихся в этих комбинац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1110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1111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828800"/>
          <a:ext cx="6096240" cy="465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1828800"/>
          <a:ext cx="7848360" cy="4673520"/>
        </p:xfrm>
        <a:graphic>
          <a:graphicData uri="http://schemas.openxmlformats.org/drawingml/2006/table">
            <a:tbl>
              <a:tblPr/>
              <a:tblGrid>
                <a:gridCol w="1582560"/>
                <a:gridCol w="1860480"/>
                <a:gridCol w="280512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значает, что из исходных символов можно построить больше комбинаций, чем их применено в данном код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о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Уменьшение числа используемых комбинаций приводит к повышению помехоустойчив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ияние кодового расстояния на помехозащищенност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имальное кодовое расстоя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обнаружива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исправля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шибка не обнаружив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наруживаются одиноч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равляются одиночные ошибки или обнаруживаются двой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 числа контрольных символ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ина кодовой комбин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информацион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контроль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роцесс, обеспечивающий уменьшение объема данных путем сокращения их избыточ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ют сжатия с потерей и без потери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длины сер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111 1111 1111 1111 1111 0000 0000 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[20] 0 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 0 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сжатия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я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000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24] 1 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 0000 0000 0000 0000 0000 1111 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относительного кодиро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1473; 1480; 147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-3; +7; 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отно-зависим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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011100111011000110110110110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274320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11001110010110101001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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Лемпеля-З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, 4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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ехозащищенны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коды, позволяющие обнаружить и исправить ошибки в кодовых комбинация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ют к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ошиб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и исправлением ошиб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Owner</cp:lastModifiedBy>
  <dcterms:modified xsi:type="dcterms:W3CDTF">2009-03-15T15:01:32Z</dcterms:modified>
  <cp:revision>19</cp:revision>
  <dc:subject/>
  <dc:title>Презентация PowerPoint</dc:title>
</cp:coreProperties>
</file>