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FD58-112F-415C-AF92-FAB42CA7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53C-04E3-460B-A0BD-AE03E1BB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426-BE3F-4EE0-AC68-EA4614DE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4966-77E3-4473-A4AF-8855BA3F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F79-99B8-477C-AFBF-21CBE14E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F55-FFEC-4A5E-ADFC-54434FE0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9301-D019-4EC3-8EF2-5CEC1DAE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8303-21D6-4C1B-8E82-A8D1F748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FAA-DE4C-476A-B7D4-880C0700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09F-ACD6-48E4-A5C5-69CEFB5F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829-F1CC-4871-BD56-44EAA8F9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B695-42E9-4E20-A5F6-BD172ECC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FFE4-60ED-42B8-8E13-7E1FE2A07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одель взаимодействия открытых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Звезд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057400" y="1523880"/>
            <a:ext cx="4743360" cy="4133880"/>
            <a:chOff x="2057400" y="1523880"/>
            <a:chExt cx="4743360" cy="4133880"/>
          </a:xfrm>
        </p:grpSpPr>
        <p:sp>
          <p:nvSpPr>
            <p:cNvPr id="68" name=""/>
            <p:cNvSpPr/>
            <p:nvPr/>
          </p:nvSpPr>
          <p:spPr>
            <a:xfrm>
              <a:off x="4419720" y="3733920"/>
              <a:ext cx="124596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419720" y="3174480"/>
              <a:ext cx="1958760" cy="55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4386240" y="1909800"/>
              <a:ext cx="39600" cy="18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2437920" y="315108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122640" y="3743280"/>
              <a:ext cx="1303200" cy="14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2057400" y="2743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2819520" y="4800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5257800" y="48769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4038480" y="15238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6019920" y="281952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6"/>
            <a:stretch/>
          </p:blipFill>
          <p:spPr>
            <a:xfrm>
              <a:off x="38862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Кольцо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647800" y="2266920"/>
            <a:ext cx="3543480" cy="3143160"/>
            <a:chOff x="2647800" y="2266920"/>
            <a:chExt cx="3543480" cy="3143160"/>
          </a:xfrm>
        </p:grpSpPr>
        <p:sp>
          <p:nvSpPr>
            <p:cNvPr id="81" name=""/>
            <p:cNvSpPr/>
            <p:nvPr/>
          </p:nvSpPr>
          <p:spPr>
            <a:xfrm>
              <a:off x="4419720" y="2495520"/>
              <a:ext cx="137160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971800" y="2495520"/>
              <a:ext cx="144792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334120" y="3562200"/>
              <a:ext cx="45720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71800" y="3486240"/>
              <a:ext cx="45720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29000" y="493380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4038480" y="22669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647800" y="31050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5410080" y="31050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4952880" y="45529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3048120" y="462924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евовидная топ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2286000"/>
            <a:ext cx="5429160" cy="3448080"/>
            <a:chOff x="1828800" y="2286000"/>
            <a:chExt cx="5429160" cy="3448080"/>
          </a:xfrm>
        </p:grpSpPr>
        <p:sp>
          <p:nvSpPr>
            <p:cNvPr id="93" name=""/>
            <p:cNvSpPr/>
            <p:nvPr/>
          </p:nvSpPr>
          <p:spPr>
            <a:xfrm flipH="1">
              <a:off x="3214800" y="2395440"/>
              <a:ext cx="1371600" cy="137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43560" y="2371680"/>
              <a:ext cx="137160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205000" y="3841920"/>
              <a:ext cx="906480" cy="144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33880" y="3828960"/>
              <a:ext cx="709560" cy="154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046480" y="3854520"/>
              <a:ext cx="9061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86520" y="3903840"/>
              <a:ext cx="747720" cy="13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505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648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64771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1828800" y="49338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3962520" y="228600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2666880" y="365760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5410080" y="3657600"/>
              <a:ext cx="114300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мешанная топ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71640" y="1523880"/>
            <a:ext cx="7962840" cy="4362480"/>
            <a:chOff x="971640" y="1523880"/>
            <a:chExt cx="7962840" cy="4362480"/>
          </a:xfrm>
        </p:grpSpPr>
        <p:sp>
          <p:nvSpPr>
            <p:cNvPr id="108" name=""/>
            <p:cNvSpPr/>
            <p:nvPr/>
          </p:nvSpPr>
          <p:spPr>
            <a:xfrm>
              <a:off x="1450800" y="3108240"/>
              <a:ext cx="443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655280" y="3070080"/>
              <a:ext cx="885960" cy="77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63560" y="3827520"/>
              <a:ext cx="230040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77880" y="3886200"/>
              <a:ext cx="98640" cy="157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6040" y="4073400"/>
              <a:ext cx="260280" cy="142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1561680" y="5454720"/>
              <a:ext cx="262260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4240" y="3745080"/>
              <a:ext cx="1146240" cy="14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786720" y="3139560"/>
              <a:ext cx="1881000" cy="55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781680" y="1905120"/>
              <a:ext cx="0" cy="18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802040" y="3096720"/>
              <a:ext cx="1968480" cy="59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528880" y="3693960"/>
              <a:ext cx="1257480" cy="141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191120" y="5105520"/>
              <a:ext cx="13716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61722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6324480" y="15238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8153280" y="2743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7620120" y="4800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5181480" y="47242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441972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5695920" y="24955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327672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2057400" y="25146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97164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1219320" y="34290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3505320" y="35812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3"/>
            <a:stretch/>
          </p:blipFill>
          <p:spPr>
            <a:xfrm>
              <a:off x="1219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4"/>
            <a:stretch/>
          </p:blipFill>
          <p:spPr>
            <a:xfrm>
              <a:off x="3809880" y="5105520"/>
              <a:ext cx="78120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ные виды се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рне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ообщество множества международных и национальных компьютерных с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ран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нутренняя сеть организ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спользующая стандарты, протоколы и технологии Интерн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кстране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поративная Интран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взаимодействия  открытых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аимодействия открытых сист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Systems Interconnectio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OS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подразумевает обеспечение взаимодействия систем по определенным правил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крыт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любая система, которая построена в соответствии с открытыми спецификация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ждународной организацией по стандартиз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976320"/>
          <a:ext cx="9144000" cy="56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91440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7444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токол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это правила, определяющие взаимодействие между системами в рамках одного уров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5146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терфей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набор функций, который нижележащий уровень предоставляет вышележащ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343400"/>
            <a:ext cx="836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ек протокол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набор протоколов разных уровней, достаточный для организации взаимодействия сист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еки протоко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X/SP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BIOS/S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ответствие стеков протоколов модели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280" y="2235240"/>
          <a:ext cx="8839440" cy="40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35240"/>
                    <a:ext cx="883944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44792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ьютерная се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NetWork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et - сеть, и work - работа)  - это система обмена информацией между компьютер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7339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ая цель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беспечение пользователям потенциальной возможности доступа к локальным ресурсам всех компьютеров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9920" y="609480"/>
            <a:ext cx="50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б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8108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изводи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дежность и безопас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ширяемость и масштабируем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зрачность и управляем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вместимость (гетерогенност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пьютерные сети классифицируются по следующим признакам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епень географического распростра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сштаб производственного подраздел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особ управл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уктура (топология) связ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степени географического распростран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286000"/>
            <a:ext cx="88394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кальные се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Local Area Network, LA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бальные се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Area Networ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WA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ские сети (Metropolitan Area Network, M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масштабу производственного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драздел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отдел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кампус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поративные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572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способу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равл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«Клиент - сервер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иен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объект (компьютер или программа), запрашивающий некоторые услу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 объект (компьютер или программа), предоставляющий некоторые услу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норанговые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топологии связей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Общая шин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Звезд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Кольцо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древовидной тополог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о смешанной тополог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Общая шин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523880" y="3048120"/>
            <a:ext cx="6191280" cy="780840"/>
            <a:chOff x="1523880" y="3048120"/>
            <a:chExt cx="6191280" cy="780840"/>
          </a:xfrm>
        </p:grpSpPr>
        <p:sp>
          <p:nvSpPr>
            <p:cNvPr id="60" name=""/>
            <p:cNvSpPr/>
            <p:nvPr/>
          </p:nvSpPr>
          <p:spPr>
            <a:xfrm>
              <a:off x="1925640" y="3657600"/>
              <a:ext cx="540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38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8954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42670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56386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6934320" y="304812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support</cp:lastModifiedBy>
  <dcterms:modified xsi:type="dcterms:W3CDTF">2007-04-17T06:16:54Z</dcterms:modified>
  <cp:revision>5</cp:revision>
  <dc:subject/>
  <dc:title>Компьютерные сети</dc:title>
</cp:coreProperties>
</file>