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5E7E-44F2-4FEB-99D0-763A6DFC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E885-D760-4782-9282-28C6EF82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AA91-57A3-4200-A4B4-3FFA4AFD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349F-C8D9-48C7-9D65-10AE6AC4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5F9D-3ADB-4271-9C8B-5F9F9679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CCF1-4C9F-4E7E-A3F3-3126A4F8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ED99-C565-41CE-8F70-125A4810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2B46-4450-4760-BF7A-1045D822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AE15-D47C-47B3-AC39-6AA7C5AF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849A-ED1D-4307-A155-CEBB4A08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E723-2B67-4158-ADF0-1AE9DB2F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F416-4CB1-49E5-98D2-84CB1620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F881-9476-42A7-9711-9D19A2528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4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package" Target="../embeddings/oleObject1.xlsx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package" Target="../embeddings/oleObject1.xlsx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борудовани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мпьютерных сет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цент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0040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центратором называется повторитель, который имеет несколько портов и соединяет несколько физических линий связи. Концентратор всегда изменяет физическую топологию сети, но при этом оставляет без изменения ее логическую топологию. Если на какой-либо его порт поступает сообщение, он пересылает его на все остальн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2743200" cy="1876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00200" y="27432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croHub TP1008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концентратор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 тремя порт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1676520"/>
            <a:ext cx="6095880" cy="12189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28954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11360" y="289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28954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68760" y="289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674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28954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26160" y="289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4495680"/>
            <a:ext cx="1371600" cy="1067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65320" y="4114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17840" y="4114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4495680"/>
            <a:ext cx="1371600" cy="1067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2720" y="4114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75240" y="4114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4495680"/>
            <a:ext cx="1371600" cy="1067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02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674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80120" y="4114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32640" y="4114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6386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5812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6960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81280" y="2590920"/>
            <a:ext cx="0" cy="30456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2590920"/>
            <a:ext cx="350532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2590920"/>
            <a:ext cx="0" cy="30456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2590920"/>
            <a:ext cx="0" cy="30456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638680" y="2285640"/>
            <a:ext cx="0" cy="6094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2286000"/>
            <a:ext cx="41148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5200" y="2286000"/>
            <a:ext cx="0" cy="6094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2286000"/>
            <a:ext cx="0" cy="6094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696080" y="1981080"/>
            <a:ext cx="0" cy="91440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1981080"/>
            <a:ext cx="472428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1981080"/>
            <a:ext cx="0" cy="91440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1981080"/>
            <a:ext cx="0" cy="91440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9680" y="200484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центра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9680" y="487692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пьют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240" y="396252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тевая ка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200" y="6095880"/>
            <a:ext cx="57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значение: Т-передатчик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приемник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сети на концентратор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9760" y="5883120"/>
            <a:ext cx="429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thernet 1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ит/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а передачи: Витая п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81080" y="1428840"/>
            <a:ext cx="4724640" cy="4133880"/>
            <a:chOff x="1981080" y="1428840"/>
            <a:chExt cx="4724640" cy="4133880"/>
          </a:xfrm>
        </p:grpSpPr>
        <p:sp>
          <p:nvSpPr>
            <p:cNvPr id="144" name=""/>
            <p:cNvSpPr/>
            <p:nvPr/>
          </p:nvSpPr>
          <p:spPr>
            <a:xfrm>
              <a:off x="4343400" y="3638520"/>
              <a:ext cx="1246320" cy="15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343400" y="3079800"/>
              <a:ext cx="1959120" cy="55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4309560" y="1814400"/>
              <a:ext cx="39960" cy="18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2361960" y="3056040"/>
              <a:ext cx="1971720" cy="58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045960" y="3648240"/>
              <a:ext cx="1303560" cy="145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1981080" y="26478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2743200" y="47052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5181480" y="478152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4"/>
            <a:stretch/>
          </p:blipFill>
          <p:spPr>
            <a:xfrm>
              <a:off x="3962520" y="142884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5"/>
            <a:stretch/>
          </p:blipFill>
          <p:spPr>
            <a:xfrm>
              <a:off x="3809880" y="3486240"/>
              <a:ext cx="1143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6"/>
            <a:stretch/>
          </p:blipFill>
          <p:spPr>
            <a:xfrm>
              <a:off x="6111720" y="2400480"/>
              <a:ext cx="594000" cy="11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08760" y="33526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02400" y="40384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07120" y="44956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8680" y="342900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46640" y="25588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8718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ост делит физическую среду передачи сети на части, передавая информацию из одного сегмента в другой только в том случае, если адрес компьютера назначения принадлежит другой подсе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2876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ny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23148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использования мо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80880" y="2001960"/>
          <a:ext cx="1676520" cy="112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01960"/>
                    <a:ext cx="167652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7" name=""/>
          <p:cNvGrpSpPr/>
          <p:nvPr/>
        </p:nvGrpSpPr>
        <p:grpSpPr>
          <a:xfrm>
            <a:off x="2441160" y="1981080"/>
            <a:ext cx="6322320" cy="3448080"/>
            <a:chOff x="2441160" y="1981080"/>
            <a:chExt cx="6322320" cy="3448080"/>
          </a:xfrm>
        </p:grpSpPr>
        <p:sp>
          <p:nvSpPr>
            <p:cNvPr id="168" name=""/>
            <p:cNvSpPr/>
            <p:nvPr/>
          </p:nvSpPr>
          <p:spPr>
            <a:xfrm flipV="1">
              <a:off x="6934320" y="3722760"/>
              <a:ext cx="122220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8004240" y="25909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3"/>
            <a:stretch/>
          </p:blipFill>
          <p:spPr>
            <a:xfrm>
              <a:off x="7623000" y="46483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7623000" y="19810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5"/>
            <a:stretch/>
          </p:blipFill>
          <p:spPr>
            <a:xfrm>
              <a:off x="7394400" y="3581280"/>
              <a:ext cx="114300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8079840" y="3886200"/>
              <a:ext cx="68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ub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51600" y="2101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51600" y="4768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173400" y="3726000"/>
              <a:ext cx="109368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200400" y="25909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6"/>
            <a:stretch/>
          </p:blipFill>
          <p:spPr>
            <a:xfrm>
              <a:off x="2819520" y="464832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7"/>
            <a:stretch/>
          </p:blipFill>
          <p:spPr>
            <a:xfrm>
              <a:off x="2819520" y="19810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8"/>
            <a:stretch/>
          </p:blipFill>
          <p:spPr>
            <a:xfrm>
              <a:off x="2590920" y="3581280"/>
              <a:ext cx="114300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2441160" y="3886200"/>
              <a:ext cx="68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ub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48120" y="2101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48120" y="4768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191120" y="3656880"/>
              <a:ext cx="304560" cy="15228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629400" y="3656880"/>
              <a:ext cx="304920" cy="15228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13560" y="388620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ridg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24840" y="388620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ridg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06920" y="3733920"/>
              <a:ext cx="307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43400" y="3276720"/>
              <a:ext cx="0" cy="38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81680" y="3276720"/>
              <a:ext cx="0" cy="38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43400" y="3352680"/>
              <a:ext cx="2438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76440" y="301608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0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86200" y="34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95680" y="34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480" y="34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34320" y="34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мут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7672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мутатор по назначению не отличается от моста, но обладает более высокой производитель-ностью так, как мост в каждый момент времени может осуществлять передачу кадров только между одной парой портов, а коммутатор одновременно поддерживает потоки данных между всеми своими порта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2590920"/>
            <a:ext cx="35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EX SRX1216 Dual Speed Switch 16 port 10/100 MBit/S (16UTP) 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3924360" cy="17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спользования коммутато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520" y="5883120"/>
            <a:ext cx="51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thernet 10/1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ит/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а передачи: Коаксиал/Витая п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181320" y="1676520"/>
            <a:ext cx="4743360" cy="4400280"/>
            <a:chOff x="3181320" y="1676520"/>
            <a:chExt cx="4743360" cy="4400280"/>
          </a:xfrm>
        </p:grpSpPr>
        <p:sp>
          <p:nvSpPr>
            <p:cNvPr id="204" name=""/>
            <p:cNvSpPr/>
            <p:nvPr/>
          </p:nvSpPr>
          <p:spPr>
            <a:xfrm>
              <a:off x="5543640" y="3886200"/>
              <a:ext cx="1245960" cy="15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543640" y="3327480"/>
              <a:ext cx="1958760" cy="55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5543280" y="2286000"/>
              <a:ext cx="6120" cy="163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561840" y="3303720"/>
              <a:ext cx="1971720" cy="58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4246560" y="3895560"/>
              <a:ext cx="1303200" cy="145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3181320" y="28954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394344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7143840" y="29718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4"/>
            <a:stretch/>
          </p:blipFill>
          <p:spPr>
            <a:xfrm>
              <a:off x="5010120" y="3733920"/>
              <a:ext cx="1143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5"/>
            <a:stretch/>
          </p:blipFill>
          <p:spPr>
            <a:xfrm>
              <a:off x="6629400" y="4591080"/>
              <a:ext cx="79848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564520" y="25336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07200" y="365760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37080" y="5124600"/>
              <a:ext cx="116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35720" y="44830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64320" y="306720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72040" y="228600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6"/>
            <a:stretch/>
          </p:blipFill>
          <p:spPr>
            <a:xfrm>
              <a:off x="3790800" y="16765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7"/>
            <a:stretch/>
          </p:blipFill>
          <p:spPr>
            <a:xfrm>
              <a:off x="6534000" y="16765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65400" y="1797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62600" y="1797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09920" y="3016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72440" y="3092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72040" y="5073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84920" y="5562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89640" y="3276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22800" y="3397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24520" y="4114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61040" y="4114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81520" y="3733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3" name=""/>
          <p:cNvGraphicFramePr/>
          <p:nvPr/>
        </p:nvGraphicFramePr>
        <p:xfrm>
          <a:off x="523800" y="1752480"/>
          <a:ext cx="1838520" cy="171000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3800" y="1752480"/>
                    <a:ext cx="183852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89548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лит физическую среду передачи сети на части более эффективно, чем мост или коммутатор. О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пересылать пакеты на конкретный адрес, выбирать лучший путь для прохождения пакета и многое другое. Чем сложней и больше сеть, тем больше выгода от использования маршрутизатор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2647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sco 2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276720" y="1295280"/>
            <a:ext cx="401940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использования маршрутизато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76320" y="1828800"/>
            <a:ext cx="7638480" cy="4648680"/>
            <a:chOff x="76320" y="1828800"/>
            <a:chExt cx="7638480" cy="4648680"/>
          </a:xfrm>
        </p:grpSpPr>
        <p:sp>
          <p:nvSpPr>
            <p:cNvPr id="241" name=""/>
            <p:cNvSpPr/>
            <p:nvPr/>
          </p:nvSpPr>
          <p:spPr>
            <a:xfrm>
              <a:off x="1828800" y="2514600"/>
              <a:ext cx="213300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19360" y="4724280"/>
              <a:ext cx="114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61960" y="4724280"/>
              <a:ext cx="114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1828440" y="2514600"/>
              <a:ext cx="7560" cy="213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1820520" y="4800600"/>
              <a:ext cx="1548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1295280" y="4572000"/>
              <a:ext cx="11426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701640" y="6140160"/>
              <a:ext cx="44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885840" y="4800600"/>
              <a:ext cx="756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3352680" y="4572000"/>
              <a:ext cx="11426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3652560" y="6140160"/>
              <a:ext cx="44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943240" y="4800600"/>
              <a:ext cx="756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3"/>
            <a:stretch/>
          </p:blipFill>
          <p:spPr>
            <a:xfrm>
              <a:off x="5410080" y="4572000"/>
              <a:ext cx="11426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6472080" y="6140160"/>
              <a:ext cx="44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25720" y="2711160"/>
              <a:ext cx="44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61960" y="2438280"/>
              <a:ext cx="99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4"/>
            <a:stretch/>
          </p:blipFill>
          <p:spPr>
            <a:xfrm>
              <a:off x="1295280" y="2286000"/>
              <a:ext cx="11426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430440" y="2438280"/>
              <a:ext cx="135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5"/>
            <a:stretch/>
          </p:blipFill>
          <p:spPr>
            <a:xfrm>
              <a:off x="3028680" y="1828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6"/>
            <a:stretch/>
          </p:blipFill>
          <p:spPr>
            <a:xfrm>
              <a:off x="4400280" y="1828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477720" y="5867280"/>
              <a:ext cx="135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7"/>
            <a:stretch/>
          </p:blipFill>
          <p:spPr>
            <a:xfrm>
              <a:off x="7632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8"/>
            <a:stretch/>
          </p:blipFill>
          <p:spPr>
            <a:xfrm>
              <a:off x="14475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3220920" y="5867280"/>
              <a:ext cx="135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9"/>
            <a:stretch/>
          </p:blipFill>
          <p:spPr>
            <a:xfrm>
              <a:off x="28191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0"/>
            <a:stretch/>
          </p:blipFill>
          <p:spPr>
            <a:xfrm>
              <a:off x="41907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964120" y="5867280"/>
              <a:ext cx="135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11"/>
            <a:stretch/>
          </p:blipFill>
          <p:spPr>
            <a:xfrm>
              <a:off x="55623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12"/>
            <a:stretch/>
          </p:blipFill>
          <p:spPr>
            <a:xfrm>
              <a:off x="69339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25020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7580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68000" y="1949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93600" y="1949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7144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9704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5892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8452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69720" y="1904760"/>
              <a:ext cx="52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93760" y="4190760"/>
              <a:ext cx="52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22560" y="4190760"/>
              <a:ext cx="52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32240" y="4190760"/>
              <a:ext cx="52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83920" y="2101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45840" y="2514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57040" y="2514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0952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22000" y="4692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000" y="4692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85840" y="4800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28440" y="4800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5040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83920" y="4692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57440" y="4692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43240" y="4800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3" name=""/>
          <p:cNvGraphicFramePr/>
          <p:nvPr/>
        </p:nvGraphicFramePr>
        <p:xfrm>
          <a:off x="4952880" y="2712960"/>
          <a:ext cx="4114800" cy="13762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52880" y="2712960"/>
                    <a:ext cx="4114800" cy="13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7924680" y="228600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259092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924680" y="37465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7960" y="4813200"/>
            <a:ext cx="297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41600" y="481320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84400" y="374652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965680" y="3401640"/>
            <a:ext cx="323280" cy="689760"/>
            <a:chOff x="2965680" y="3401640"/>
            <a:chExt cx="323280" cy="689760"/>
          </a:xfrm>
        </p:grpSpPr>
        <p:sp>
          <p:nvSpPr>
            <p:cNvPr id="302" name=""/>
            <p:cNvSpPr/>
            <p:nvPr/>
          </p:nvSpPr>
          <p:spPr>
            <a:xfrm flipH="1">
              <a:off x="3049560" y="3401640"/>
              <a:ext cx="239400" cy="420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965680" y="3670920"/>
              <a:ext cx="239400" cy="420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049560" y="3670920"/>
              <a:ext cx="155520" cy="1512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727200" y="321300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894040" y="1409760"/>
            <a:ext cx="170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сходна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следователь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98600" y="4660920"/>
            <a:ext cx="1218960" cy="4064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724040" y="1962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0120" y="289548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2240" y="5880240"/>
            <a:ext cx="453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T - Заголовок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головок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Е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голово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thernet; S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головок радио-пак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 - Заголовок пакета РРР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Заголовок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3241800" y="2603520"/>
            <a:ext cx="1085760" cy="10285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4384800" y="4051440"/>
            <a:ext cx="914400" cy="10760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5"/>
          <a:stretch/>
        </p:blipFill>
        <p:spPr>
          <a:xfrm>
            <a:off x="2251080" y="4051440"/>
            <a:ext cx="914400" cy="10760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6"/>
          <a:stretch/>
        </p:blipFill>
        <p:spPr>
          <a:xfrm>
            <a:off x="5181480" y="4660920"/>
            <a:ext cx="1219320" cy="4064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7"/>
          <a:stretch/>
        </p:blipFill>
        <p:spPr>
          <a:xfrm>
            <a:off x="7315200" y="4660920"/>
            <a:ext cx="1219320" cy="40644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4261320" y="3477600"/>
            <a:ext cx="323280" cy="690120"/>
            <a:chOff x="4261320" y="3477600"/>
            <a:chExt cx="323280" cy="690120"/>
          </a:xfrm>
        </p:grpSpPr>
        <p:sp>
          <p:nvSpPr>
            <p:cNvPr id="317" name=""/>
            <p:cNvSpPr/>
            <p:nvPr/>
          </p:nvSpPr>
          <p:spPr>
            <a:xfrm>
              <a:off x="4261320" y="3477600"/>
              <a:ext cx="239040" cy="4208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44840" y="3746880"/>
              <a:ext cx="239760" cy="4208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4344840" y="3746880"/>
              <a:ext cx="155160" cy="1515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0" name="" descr=""/>
          <p:cNvPicPr/>
          <p:nvPr/>
        </p:nvPicPr>
        <p:blipFill>
          <a:blip r:embed="rId8"/>
          <a:stretch/>
        </p:blipFill>
        <p:spPr>
          <a:xfrm>
            <a:off x="7601040" y="318132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057400" y="168912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57400" y="16128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95480" y="16128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20700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0" y="20700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21463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20700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48120" y="20700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43200" y="21463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14600" y="19558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00200" y="229860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81080" y="2406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0" y="2406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1080" y="24829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2406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8120" y="2406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24829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90760" y="22924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267984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81080" y="2787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0" y="2787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81080" y="2863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43200" y="2787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2787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3200" y="2863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38480" y="267336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38280" y="19177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22226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25272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143760" y="199404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77120" y="172080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77120" y="1644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315200" y="1644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00800" y="21016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05720" y="21016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00800" y="21780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162920" y="21016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467480" y="21016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162920" y="217800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198756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19920" y="233028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00800" y="24382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05720" y="24382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00800" y="25146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162920" y="24382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467480" y="24382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162920" y="251460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10480" y="232416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867280" y="271152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400800" y="281952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5720" y="281952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400800" y="28954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62920" y="281952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67480" y="281952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162920" y="289548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57840" y="270504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858000" y="19490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6858000" y="225396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858000" y="2558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94400" y="1460520"/>
            <a:ext cx="170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сстановленн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следователь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115840" y="281952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403848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28800" y="4146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33720" y="4146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28800" y="4222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48520" y="537840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92920" y="54864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197840" y="54864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92920" y="55627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34320" y="403848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67480" y="4146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4146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467480" y="4222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94080" y="367020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27600" y="37782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32160" y="37782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27600" y="385452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" y="7632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цесс прохождения информационного паке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9"/>
          <a:stretch/>
        </p:blipFill>
        <p:spPr>
          <a:xfrm>
            <a:off x="762120" y="2057400"/>
            <a:ext cx="780840" cy="7812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10"/>
          <a:stretch/>
        </p:blipFill>
        <p:spPr>
          <a:xfrm>
            <a:off x="7601040" y="205740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49640" y="5029200"/>
            <a:ext cx="140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24880" y="5029200"/>
            <a:ext cx="140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77400" y="5029200"/>
            <a:ext cx="140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66600" y="2178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773480" y="2178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етевая техн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523880"/>
            <a:ext cx="8610480" cy="41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тевая технология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согласованный набор стандартных протоколов и реализующих их программно-аппаратных средств, достаточный для построения компьютерной се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тевые технолог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en 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Характеристики технологий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thernet и Token 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6320" y="1752480"/>
          <a:ext cx="8915400" cy="429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752480"/>
                    <a:ext cx="8915400" cy="42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инии связ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8720" y="1066680"/>
            <a:ext cx="43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бельные линии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0960" y="350532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еспроводные линии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772400" cy="1028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4200" y="30481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тая п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23760" y="304812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акси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86880" y="304812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товолок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447920" y="4040280"/>
            <a:ext cx="5257800" cy="205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терфей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7640" y="1066680"/>
            <a:ext cx="31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фей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J-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8720" y="2697120"/>
            <a:ext cx="303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фей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962520" y="1523880"/>
            <a:ext cx="4190760" cy="4803480"/>
            <a:chOff x="3962520" y="1523880"/>
            <a:chExt cx="4190760" cy="480348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3962520" y="1523880"/>
              <a:ext cx="4190760" cy="14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3962520" y="2930400"/>
              <a:ext cx="4190760" cy="3396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етевая кар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743040"/>
            <a:ext cx="4857480" cy="3448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320" y="4114800"/>
            <a:ext cx="899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евая карта воспринимает команды и данные от сетевой операционной системы, преобразует эту информацию в один из стандартных форматов и передает ее в сеть через подключенный к карте кабель. Каждая карта имеет уникальный номе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0040" y="348624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ex RE100TX PCI 10/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архитектуры сети на коаксиальном кабел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9760" y="5791320"/>
            <a:ext cx="429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thernet 1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ит/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а передачи: Коакси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73360" y="3562200"/>
            <a:ext cx="645624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71600" y="2952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743200" y="2952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114800" y="2952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486400" y="2952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7772400" y="2819520"/>
            <a:ext cx="593640" cy="1104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478920" y="320040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 Мбит/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ансив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3548160"/>
            <a:ext cx="899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нсивер устанавливается непосредственно на кабеле и питается от сетевой карты компьютера. С сетевой картой трансивер соединяется интерфейсным кабелем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I (Attachment Unit Interface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943600" y="1676520"/>
            <a:ext cx="2209680" cy="12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2438280" cy="1306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400560" y="1593720"/>
            <a:ext cx="2238120" cy="13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вторите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138480"/>
            <a:ext cx="8762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вторители соединяют сегменты, использую- щие одинаковые или разные типы носителя, восстанавливают сигнал, увеличивая дальность передачи, передают информацию в обоих направлениях. Использование повторителя позволяет расширить сеть, построенную с использованием коаксиального кабел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280044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-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3962520" cy="202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20:51:30Z</dcterms:created>
  <dc:creator>cde</dc:creator>
  <dc:description/>
  <dc:language>en-US</dc:language>
  <cp:lastModifiedBy>Owner</cp:lastModifiedBy>
  <dcterms:modified xsi:type="dcterms:W3CDTF">2009-03-15T15:31:30Z</dcterms:modified>
  <cp:revision>8</cp:revision>
  <dc:subject/>
  <dc:title>Компьютерные сети</dc:title>
</cp:coreProperties>
</file>