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5E97-E063-4D47-BBEC-1CADEFC51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93D8-36D4-4DBB-A7FC-2492B4A4A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23CE-2D8C-4DCD-8391-0668492F4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DDE9-FC6E-483A-AE45-684184F6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0EA48-D4C3-4140-AD91-112F154B8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8BB8-A23D-4EF1-928F-E94812223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599DB-6515-4A3E-A895-5A154DFE4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0C87-A2D2-4FF7-AEF4-E48714E35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D4F1-B411-468D-941D-CC1B1F0B7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82CD-1092-44FC-BA1F-EB262DCF3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4ED-5CB0-48D1-9E07-A1EC9EB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D93B-78BA-4508-99AA-2CD2F46C0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1A776-6F0A-43B8-9BA2-A5F478BBF1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Лямин Андрей Владимирови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ай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685800" y="1981080"/>
          <a:ext cx="7772400" cy="431028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441440"/>
                <a:gridCol w="1149480"/>
              </a:tblGrid>
              <a:tr h="6786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53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айт / К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байт / МБ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</a:t>
                      </a: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/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байт / ГБ 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айт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19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1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Ошибки неверного использования приставок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685800" y="1981080"/>
          <a:ext cx="7772400" cy="423720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аль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ожное 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шиб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40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8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3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8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9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Кодирование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это процесс формирования определенного представления информаци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более узком смысле под термином "кодирование" часто понимают переход от одной формы представления информации к другой, более удобной для хранения, передачи или обработки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Система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способ записи чисел с помощью заданного набора специальных знаков (цифр). Существуют позиционные и непозиционны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ание системы счис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Основание позиционной системы счисления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это количество различных знаков или символов, используемых для изображения цифр в данной систем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...+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соотнош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 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цел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аксимальное вещественно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–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инимальное значащее числ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+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кол-во различных чисел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сновные позиционные системы счисления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(используются цифры 0, 1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сьмеричная (используются цифры 0, 1, ..., 7)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84120" indent="-38412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шестнадцатеричная (для первых целых чисел от нуля до девяти используются цифры 0, 1, ..., 9, а для следующих чисел – от десяти до пятнадцати – в качестве цифр используются символы A, B, C, D, E, F)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еимущества двоичной систе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ля ее реализации нужны технические устройства с двумя устойчивыми состояниям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представление информации посредством только двух состояний надежно и помехоустойчиво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озможно применение аппарата булевой алгебры для выполнения логических преобразований информации;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двоичная арифметика намного проще десятичной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восьмеричных и шестнадцатеричных чисел в двоичную систему и обратно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725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=111 010 10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F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010 1111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2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0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=13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1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6091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Перевод целых десятичных чисел в систему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1447920" y="2133720"/>
          <a:ext cx="6095880" cy="3622680"/>
        </p:xfrm>
        <a:graphic>
          <a:graphicData uri="http://schemas.openxmlformats.org/drawingml/2006/table">
            <a:tbl>
              <a:tblPr/>
              <a:tblGrid>
                <a:gridCol w="1015920"/>
                <a:gridCol w="1015920"/>
                <a:gridCol w="1015920"/>
                <a:gridCol w="1016280"/>
                <a:gridCol w="1015920"/>
                <a:gridCol w="10159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1627920" y="5881680"/>
            <a:ext cx="2154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1100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Область исследований информатик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Термином информатика обозначают совокупность дисциплин, изучающих свойства информации, а также способы представления, накопления, обработки и передачи информации с помощью технических средств. В англоязычных странах применяют термин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compute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science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компьютерная наук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еревод правильной десятичной дроби в систему счисления с основанием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990720" y="2898720"/>
          <a:ext cx="2361960" cy="2587680"/>
        </p:xfrm>
        <a:graphic>
          <a:graphicData uri="http://schemas.openxmlformats.org/drawingml/2006/table">
            <a:tbl>
              <a:tblPr/>
              <a:tblGrid>
                <a:gridCol w="1181160"/>
                <a:gridCol w="11808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8" name=""/>
          <p:cNvSpPr/>
          <p:nvPr/>
        </p:nvSpPr>
        <p:spPr>
          <a:xfrm>
            <a:off x="5047560" y="2909880"/>
            <a:ext cx="214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0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полнительный код чисел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олнением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разрядного целого числа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ется разност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- основание системы счисления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-1] – положи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/2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отрицательные числа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[0,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ru-RU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1] – числа в дополнительном код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ычисление дополне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[[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i="1" lang="en-US" sz="32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1]-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]+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Алгорит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олучить инверсию заданного числа [заменить все цифры 0 на 1, а все цифры 1 заменить на 0]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Добавить 1 к инверсии заданного числ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10110101011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0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01001010100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ещественные чис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Любое число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 системе счисления с основанием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можно записать в ви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q</a:t>
            </a:r>
            <a:r>
              <a:rPr b="0" i="1" lang="ru-RU" sz="2800" spc="-1" strike="noStrike" baseline="30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где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называется мантиссой числа, а 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порядком. Такой способ записи чисел называется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редставлением с плавающей точкой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нтисса должна быть правильной дробью, первая цифра которой отлична от нуля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ru-RU" sz="2800" spc="-1" strike="noStrike">
                <a:solidFill>
                  <a:srgbClr val="000000"/>
                </a:solidFill>
                <a:latin typeface="Symbol"/>
                <a:ea typeface="Symbol"/>
              </a:rPr>
              <a:t>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[</a:t>
            </a:r>
            <a:r>
              <a:rPr b="0" i="1" lang="ru-RU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1,1)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101.101=0.1010110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·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1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онятие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Информация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- совокупность сведений об окружающем мире, являющихся объектом хранения, передачи и преобразова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Термин информация ведет свое происхождение от латинского слова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informatio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, означающего разъяснение, изложение, осведомленность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формация способствует увеличению знаний людей об окружающем мире. Окружающий мир познается в процессе получ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Формы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Непрерывные формы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содержат информацию, воплощенную в образах (зрительных, слуховых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дискретным формам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относятся те, в которых информация представляется с помощью конечного множества различных знаков, например, текст, математическая формула, блок-схема алгоритм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заимосвязь форм представл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32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57400" y="2948040"/>
            <a:ext cx="2057400" cy="2590920"/>
          </a:xfrm>
          <a:prstGeom prst="triangle">
            <a:avLst>
              <a:gd name="adj" fmla="val 50000"/>
            </a:avLst>
          </a:prstGeom>
          <a:solidFill>
            <a:srgbClr val="c0c0c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2495520" y="2666520"/>
            <a:ext cx="2971800" cy="2971800"/>
            <a:chOff x="2495520" y="2666520"/>
            <a:chExt cx="2971800" cy="2971800"/>
          </a:xfrm>
        </p:grpSpPr>
        <p:grpSp>
          <p:nvGrpSpPr>
            <p:cNvPr id="53" name=""/>
            <p:cNvGrpSpPr/>
            <p:nvPr/>
          </p:nvGrpSpPr>
          <p:grpSpPr>
            <a:xfrm>
              <a:off x="2495520" y="2785680"/>
              <a:ext cx="2971800" cy="2743200"/>
              <a:chOff x="2495520" y="2785680"/>
              <a:chExt cx="2971800" cy="2743200"/>
            </a:xfrm>
          </p:grpSpPr>
          <p:sp>
            <p:nvSpPr>
              <p:cNvPr id="54" name=""/>
              <p:cNvSpPr/>
              <p:nvPr/>
            </p:nvSpPr>
            <p:spPr>
              <a:xfrm>
                <a:off x="2495520" y="48430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2495520" y="55288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495520" y="41572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495520" y="34714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95520" y="2785680"/>
                <a:ext cx="297180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9" name=""/>
            <p:cNvGrpSpPr/>
            <p:nvPr/>
          </p:nvGrpSpPr>
          <p:grpSpPr>
            <a:xfrm>
              <a:off x="2614320" y="2666520"/>
              <a:ext cx="2743200" cy="2971800"/>
              <a:chOff x="2614320" y="2666520"/>
              <a:chExt cx="2743200" cy="2971800"/>
            </a:xfrm>
          </p:grpSpPr>
          <p:sp>
            <p:nvSpPr>
              <p:cNvPr id="60" name=""/>
              <p:cNvSpPr/>
              <p:nvPr/>
            </p:nvSpPr>
            <p:spPr>
              <a:xfrm flipV="1">
                <a:off x="46717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V="1">
                <a:off x="53575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flipV="1">
                <a:off x="39859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V="1">
                <a:off x="33001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V="1">
                <a:off x="2614320" y="2666520"/>
                <a:ext cx="0" cy="297180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5" name=""/>
          <p:cNvGrpSpPr/>
          <p:nvPr/>
        </p:nvGrpSpPr>
        <p:grpSpPr>
          <a:xfrm>
            <a:off x="2523960" y="2690640"/>
            <a:ext cx="2914560" cy="2914560"/>
            <a:chOff x="2523960" y="2690640"/>
            <a:chExt cx="2914560" cy="2914560"/>
          </a:xfrm>
        </p:grpSpPr>
        <p:sp>
          <p:nvSpPr>
            <p:cNvPr id="66" name=""/>
            <p:cNvSpPr/>
            <p:nvPr/>
          </p:nvSpPr>
          <p:spPr>
            <a:xfrm>
              <a:off x="3224160" y="3367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214440" y="406224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2241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33680" y="26906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9146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523960" y="338112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53368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533680" y="47577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53368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0044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60044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00440" y="40719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276880" y="27097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276880" y="33955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286240" y="40813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86240" y="476712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267160" y="54435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914640" y="33955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905280" y="40813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2288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914640" y="47577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81360" y="47768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22884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9052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591080" y="545292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000840" y="2700360"/>
            <a:ext cx="2914560" cy="2914560"/>
            <a:chOff x="6000840" y="2700360"/>
            <a:chExt cx="2914560" cy="2914560"/>
          </a:xfrm>
        </p:grpSpPr>
        <p:sp>
          <p:nvSpPr>
            <p:cNvPr id="92" name=""/>
            <p:cNvSpPr/>
            <p:nvPr/>
          </p:nvSpPr>
          <p:spPr>
            <a:xfrm>
              <a:off x="6701040" y="337680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691320" y="4071960"/>
              <a:ext cx="15264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01040" y="27100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10560" y="270036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915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000840" y="3390840"/>
              <a:ext cx="152280" cy="1526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01056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010560" y="47674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01056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7732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07732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77320" y="40816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753760" y="27194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753760" y="34052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763120" y="40910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763120" y="477684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744040" y="5453280"/>
              <a:ext cx="152280" cy="15228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391520" y="3405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382160" y="4091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057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1520" y="476748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58240" y="478656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70572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3821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067960" y="54626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личество информаци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личество информаци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характеризующей состояние, в котором пребывает объект, можно определить, используя формулу Шеннона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- (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+ . . . +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log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имер 1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опустим, что текст строится на основе 64 символов, и частота появления каждого из них одинакова, т.е. все символы равновероятны. Тогда количество информации в одном символе будет равно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= lo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(64) = 6 бит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Документ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8.417-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ЭК 60027-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Измерения в бита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685800" y="1981080"/>
          <a:ext cx="7772400" cy="4191120"/>
        </p:xfrm>
        <a:graphic>
          <a:graphicData uri="http://schemas.openxmlformats.org/drawingml/2006/table">
            <a:tbl>
              <a:tblPr/>
              <a:tblGrid>
                <a:gridCol w="1295280"/>
                <a:gridCol w="1295640"/>
                <a:gridCol w="1295280"/>
                <a:gridCol w="1295280"/>
                <a:gridCol w="1295640"/>
                <a:gridCol w="1295280"/>
              </a:tblGrid>
              <a:tr h="685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сят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воичная приставк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62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з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епен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ло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г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и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ра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ебиби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ib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r>
                        <a:rPr b="0" lang="en-US" sz="2000" spc="-1" strike="noStrike" baseline="30000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2T20:39:10Z</dcterms:created>
  <dc:creator>cde</dc:creator>
  <dc:description/>
  <dc:language>en-US</dc:language>
  <cp:lastModifiedBy>Owner</cp:lastModifiedBy>
  <dcterms:modified xsi:type="dcterms:W3CDTF">2007-09-11T21:25:32Z</dcterms:modified>
  <cp:revision>29</cp:revision>
  <dc:subject/>
  <dc:title>Презентация PowerPoint</dc:title>
</cp:coreProperties>
</file>