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06C-DB10-43A5-AE3F-066293E5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753-D3C0-4ACF-9360-F583794D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3992-7231-4BA2-B0C6-285E03EE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0C1-CC4E-4A67-8F68-D176CCD9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E4D-86DC-4450-8883-6BD17115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0A0-4221-48AA-8E77-4C52906E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310-A5AA-42B8-A73C-2DFDB8F5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461-DD6C-4D03-9B66-12A2A8A2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1C4-C03C-4684-AEAD-69724EB3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E904-1D1F-4B79-90EB-447299F9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8A9-8E32-46ED-862E-CCEA75BB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9F3-65E7-46BF-AE9B-AB105980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6BDD-FDF4-4D10-9DCB-9DE5BADDD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бинационные схемы и элементы памя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ция вычи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98320" y="1892160"/>
            <a:ext cx="7871040" cy="4508640"/>
            <a:chOff x="598320" y="1892160"/>
            <a:chExt cx="7871040" cy="4508640"/>
          </a:xfrm>
        </p:grpSpPr>
        <p:sp>
          <p:nvSpPr>
            <p:cNvPr id="203" name=""/>
            <p:cNvSpPr/>
            <p:nvPr/>
          </p:nvSpPr>
          <p:spPr>
            <a:xfrm>
              <a:off x="4784760" y="1892160"/>
              <a:ext cx="2214360" cy="450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07000" y="1981080"/>
              <a:ext cx="946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94240" y="1892160"/>
              <a:ext cx="0" cy="44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27800" y="1916280"/>
              <a:ext cx="0" cy="44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44880" y="1967040"/>
              <a:ext cx="870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280368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84760" y="2225520"/>
              <a:ext cx="5572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2200" y="2181240"/>
              <a:ext cx="35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6920" y="3263760"/>
              <a:ext cx="8697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23000" y="4202280"/>
              <a:ext cx="8683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2680" y="3625920"/>
              <a:ext cx="5572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3200" y="196848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23200" y="281952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43640" y="2201760"/>
              <a:ext cx="5572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07400" y="216540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7400" y="305424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5486400"/>
              <a:ext cx="838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19880" y="5549760"/>
              <a:ext cx="971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99120" y="5745240"/>
              <a:ext cx="6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03640" y="3235320"/>
              <a:ext cx="1800000" cy="22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00520" y="3276720"/>
              <a:ext cx="6807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51200" y="3243240"/>
              <a:ext cx="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32320" y="3259080"/>
              <a:ext cx="0" cy="22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32080" y="327672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95360" y="4186080"/>
              <a:ext cx="8686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25600" y="3608280"/>
              <a:ext cx="5572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9320" y="35164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9320" y="445140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08400" y="501660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30480" y="522756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81280" y="3263760"/>
              <a:ext cx="870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27360" y="4176720"/>
              <a:ext cx="8683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48160" y="3584520"/>
              <a:ext cx="5572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11560" y="3502080"/>
              <a:ext cx="66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11560" y="4437000"/>
              <a:ext cx="66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2200" y="3030480"/>
              <a:ext cx="35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60680" y="5234040"/>
              <a:ext cx="3116160" cy="492120"/>
            </a:xfrm>
            <a:custGeom>
              <a:avLst/>
              <a:gdLst/>
              <a:ahLst/>
              <a:rect l="l" t="t" r="r" b="b"/>
              <a:pathLst>
                <a:path w="2388" h="390">
                  <a:moveTo>
                    <a:pt x="2388" y="390"/>
                  </a:moveTo>
                  <a:lnTo>
                    <a:pt x="0" y="39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98760" y="5180040"/>
              <a:ext cx="11736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800" y="4952880"/>
              <a:ext cx="971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8320" y="2347920"/>
              <a:ext cx="696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8240" y="2006640"/>
              <a:ext cx="8305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9480" y="3733920"/>
              <a:ext cx="6969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8240" y="3371760"/>
              <a:ext cx="83052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43640" y="2022480"/>
              <a:ext cx="8305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2400" y="2347920"/>
              <a:ext cx="696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вер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24320" y="22906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59440" y="2097000"/>
            <a:ext cx="747720" cy="10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15080" y="259884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90520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46640" y="333072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59440" y="3137040"/>
            <a:ext cx="747720" cy="103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15080" y="363852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394344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95880" y="54021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65920" y="5208480"/>
            <a:ext cx="749160" cy="10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21560" y="571032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6640" y="60148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0760" y="2897280"/>
            <a:ext cx="0" cy="31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87920" y="3886200"/>
            <a:ext cx="1094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7920" y="5950080"/>
            <a:ext cx="1094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57640" y="182880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72040" y="287496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4120" y="4940280"/>
            <a:ext cx="704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49720" y="554364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24520" y="214164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38920" y="318780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1000" y="5253120"/>
            <a:ext cx="704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5880" y="4314960"/>
            <a:ext cx="517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65920" y="4168800"/>
            <a:ext cx="749160" cy="241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965920" y="4968720"/>
            <a:ext cx="749160" cy="2397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0400" y="2762280"/>
            <a:ext cx="1668600" cy="21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17600" y="2717640"/>
            <a:ext cx="63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68360" y="2768760"/>
            <a:ext cx="0" cy="21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8720" y="2782800"/>
            <a:ext cx="0" cy="21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4040" y="272556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367020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81280" y="3117960"/>
            <a:ext cx="5173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30520" y="4361040"/>
            <a:ext cx="8064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55880" y="270360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84320" y="3648240"/>
            <a:ext cx="8067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13120" y="3095640"/>
            <a:ext cx="5173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300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392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1760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300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392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141800" y="2509920"/>
            <a:ext cx="4163760" cy="2595600"/>
            <a:chOff x="4141800" y="2509920"/>
            <a:chExt cx="4163760" cy="2595600"/>
          </a:xfrm>
        </p:grpSpPr>
        <p:grpSp>
          <p:nvGrpSpPr>
            <p:cNvPr id="292" name=""/>
            <p:cNvGrpSpPr/>
            <p:nvPr/>
          </p:nvGrpSpPr>
          <p:grpSpPr>
            <a:xfrm>
              <a:off x="4149000" y="2513520"/>
              <a:ext cx="4148280" cy="2587680"/>
              <a:chOff x="4149000" y="2513520"/>
              <a:chExt cx="4148280" cy="258768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4149000" y="2513520"/>
                <a:ext cx="1243080" cy="517320"/>
                <a:chOff x="4149000" y="2513520"/>
                <a:chExt cx="1243080" cy="5173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254840" y="251352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149000" y="251352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392440" y="2513520"/>
                <a:ext cx="1130400" cy="517320"/>
                <a:chOff x="5392440" y="2513520"/>
                <a:chExt cx="1130400" cy="517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498280" y="251352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392440" y="251352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523200" y="2513520"/>
                <a:ext cx="1774080" cy="517320"/>
                <a:chOff x="6523200" y="2513520"/>
                <a:chExt cx="1774080" cy="5173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628320" y="251352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523200" y="251352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149000" y="3030840"/>
                <a:ext cx="1243080" cy="517320"/>
                <a:chOff x="4149000" y="3030840"/>
                <a:chExt cx="1243080" cy="5173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254840" y="303084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149000" y="303084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392440" y="3030840"/>
                <a:ext cx="1130400" cy="517320"/>
                <a:chOff x="5392440" y="3030840"/>
                <a:chExt cx="1130400" cy="5173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498280" y="303084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392440" y="303084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6523200" y="3030840"/>
                <a:ext cx="1774080" cy="517320"/>
                <a:chOff x="6523200" y="3030840"/>
                <a:chExt cx="1774080" cy="5173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628320" y="303084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523200" y="303084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149000" y="3548520"/>
                <a:ext cx="1243080" cy="517320"/>
                <a:chOff x="4149000" y="3548520"/>
                <a:chExt cx="1243080" cy="517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254840" y="354852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149000" y="354852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392440" y="3548520"/>
                <a:ext cx="1130400" cy="517320"/>
                <a:chOff x="5392440" y="3548520"/>
                <a:chExt cx="1130400" cy="5173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98280" y="354852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392440" y="354852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6523200" y="3548520"/>
                <a:ext cx="1774080" cy="517320"/>
                <a:chOff x="6523200" y="3548520"/>
                <a:chExt cx="1774080" cy="5173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628320" y="354852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523200" y="354852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4149000" y="4066200"/>
                <a:ext cx="1243080" cy="517320"/>
                <a:chOff x="4149000" y="4066200"/>
                <a:chExt cx="1243080" cy="517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254840" y="406620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149000" y="406620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392440" y="4066200"/>
                <a:ext cx="1130400" cy="517320"/>
                <a:chOff x="5392440" y="4066200"/>
                <a:chExt cx="1130400" cy="5173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498280" y="406620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392440" y="406620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523200" y="4066200"/>
                <a:ext cx="1774080" cy="517320"/>
                <a:chOff x="6523200" y="4066200"/>
                <a:chExt cx="1774080" cy="5173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628320" y="406620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ранени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23200" y="406620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149000" y="4583520"/>
                <a:ext cx="1243080" cy="517680"/>
                <a:chOff x="4149000" y="4583520"/>
                <a:chExt cx="1243080" cy="517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254840" y="4583520"/>
                  <a:ext cx="10317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149000" y="4583520"/>
                  <a:ext cx="124308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392440" y="4583520"/>
                <a:ext cx="1130400" cy="517680"/>
                <a:chOff x="5392440" y="4583520"/>
                <a:chExt cx="1130400" cy="5176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498280" y="4583520"/>
                  <a:ext cx="91872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392440" y="4583520"/>
                  <a:ext cx="113040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6523200" y="4583520"/>
                <a:ext cx="1774080" cy="517680"/>
                <a:chOff x="6523200" y="4583520"/>
                <a:chExt cx="1774080" cy="5176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628320" y="4583520"/>
                  <a:ext cx="15627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Запрещен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523200" y="4583520"/>
                  <a:ext cx="177408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8" name=""/>
            <p:cNvSpPr/>
            <p:nvPr/>
          </p:nvSpPr>
          <p:spPr>
            <a:xfrm>
              <a:off x="4141800" y="2509920"/>
              <a:ext cx="4163760" cy="2595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441440" y="2800440"/>
            <a:ext cx="1317600" cy="18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9800" y="2800440"/>
            <a:ext cx="0" cy="18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00240" y="2884320"/>
            <a:ext cx="531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1440" y="2892600"/>
            <a:ext cx="531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27040" y="4103640"/>
            <a:ext cx="532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66880" y="30970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60400" y="43228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2560" y="310500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52560" y="43369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253040"/>
            <a:ext cx="169920" cy="169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666880"/>
            <a:ext cx="69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92400" y="3925800"/>
            <a:ext cx="6699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971800" y="38862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8862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2128680"/>
            <a:ext cx="110196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85880" y="23893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97600" y="2708280"/>
            <a:ext cx="18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05440" y="2631960"/>
            <a:ext cx="20484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38760" y="4371840"/>
            <a:ext cx="1101600" cy="119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29000" y="534024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40360" y="4952880"/>
            <a:ext cx="18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48200" y="4876920"/>
            <a:ext cx="204840" cy="17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0" y="1830240"/>
            <a:ext cx="82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5320" y="4788000"/>
            <a:ext cx="819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10360" y="4302000"/>
            <a:ext cx="8985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91360" y="2114640"/>
            <a:ext cx="836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35480" y="2708280"/>
            <a:ext cx="2120760" cy="188748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502080" y="3067200"/>
            <a:ext cx="2122560" cy="188568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3160" y="26668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40400" y="48546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40480" y="2195640"/>
            <a:ext cx="69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553080" y="4419720"/>
          <a:ext cx="31428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4419720"/>
                    <a:ext cx="314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64080" y="2209680"/>
            <a:ext cx="2689200" cy="3208320"/>
            <a:chOff x="5464080" y="2209680"/>
            <a:chExt cx="2689200" cy="3208320"/>
          </a:xfrm>
        </p:grpSpPr>
        <p:grpSp>
          <p:nvGrpSpPr>
            <p:cNvPr id="375" name=""/>
            <p:cNvGrpSpPr/>
            <p:nvPr/>
          </p:nvGrpSpPr>
          <p:grpSpPr>
            <a:xfrm>
              <a:off x="5468760" y="2214360"/>
              <a:ext cx="2679840" cy="3198960"/>
              <a:chOff x="5468760" y="2214360"/>
              <a:chExt cx="2679840" cy="31989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5468760" y="2214360"/>
                <a:ext cx="803160" cy="639720"/>
                <a:chOff x="5468760" y="2214360"/>
                <a:chExt cx="803160" cy="639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537160" y="221436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468760" y="221436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271920" y="2214360"/>
                <a:ext cx="730440" cy="639720"/>
                <a:chOff x="6271920" y="2214360"/>
                <a:chExt cx="730440" cy="639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340320" y="221436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271920" y="221436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002360" y="2214360"/>
                <a:ext cx="1146240" cy="639720"/>
                <a:chOff x="7002360" y="2214360"/>
                <a:chExt cx="1146240" cy="639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070400" y="221436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002360" y="221436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468760" y="2854080"/>
                <a:ext cx="803160" cy="639720"/>
                <a:chOff x="5468760" y="2854080"/>
                <a:chExt cx="803160" cy="639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537160" y="285408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468760" y="285408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271920" y="2854080"/>
                <a:ext cx="730440" cy="639720"/>
                <a:chOff x="6271920" y="2854080"/>
                <a:chExt cx="730440" cy="639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6340320" y="285408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271920" y="285408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7002360" y="2854080"/>
                <a:ext cx="1146240" cy="639720"/>
                <a:chOff x="7002360" y="2854080"/>
                <a:chExt cx="1146240" cy="639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7070400" y="285408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002360" y="285408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5468760" y="3493800"/>
                <a:ext cx="803160" cy="639720"/>
                <a:chOff x="5468760" y="3493800"/>
                <a:chExt cx="803160" cy="639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5537160" y="349380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468760" y="349380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271920" y="3493800"/>
                <a:ext cx="730440" cy="639720"/>
                <a:chOff x="6271920" y="3493800"/>
                <a:chExt cx="730440" cy="639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340320" y="349380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271920" y="349380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7002360" y="3493800"/>
                <a:ext cx="1146240" cy="639720"/>
                <a:chOff x="7002360" y="3493800"/>
                <a:chExt cx="1146240" cy="639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7070400" y="349380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002360" y="349380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5468760" y="4133520"/>
                <a:ext cx="803160" cy="639720"/>
                <a:chOff x="5468760" y="4133520"/>
                <a:chExt cx="803160" cy="63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537160" y="413352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468760" y="413352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271920" y="4133520"/>
                <a:ext cx="730440" cy="639720"/>
                <a:chOff x="6271920" y="4133520"/>
                <a:chExt cx="730440" cy="63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340320" y="413352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271920" y="413352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7002360" y="4133520"/>
                <a:ext cx="1146240" cy="639720"/>
                <a:chOff x="7002360" y="4133520"/>
                <a:chExt cx="1146240" cy="639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070400" y="413352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002360" y="413352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468760" y="4773240"/>
                <a:ext cx="803160" cy="640080"/>
                <a:chOff x="5468760" y="4773240"/>
                <a:chExt cx="803160" cy="6400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537160" y="4773240"/>
                  <a:ext cx="666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468760" y="4773240"/>
                  <a:ext cx="803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271920" y="4773240"/>
                <a:ext cx="730440" cy="640080"/>
                <a:chOff x="6271920" y="4773240"/>
                <a:chExt cx="730440" cy="6400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340320" y="4773240"/>
                  <a:ext cx="593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271920" y="4773240"/>
                  <a:ext cx="7304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002360" y="4773240"/>
                <a:ext cx="1146240" cy="640080"/>
                <a:chOff x="7002360" y="4773240"/>
                <a:chExt cx="1146240" cy="6400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070400" y="4773240"/>
                  <a:ext cx="10098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002360" y="4773240"/>
                  <a:ext cx="11462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1" name=""/>
            <p:cNvSpPr/>
            <p:nvPr/>
          </p:nvSpPr>
          <p:spPr>
            <a:xfrm>
              <a:off x="5464080" y="2209680"/>
              <a:ext cx="2689200" cy="3208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06560" y="2733840"/>
            <a:ext cx="1560600" cy="21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60600" y="2733840"/>
            <a:ext cx="0" cy="21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87760" y="283536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6560" y="284328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90720" y="427680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27240" y="30862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45370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59240" y="309420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59240" y="455292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57720" y="4452840"/>
            <a:ext cx="201600" cy="20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2646360"/>
            <a:ext cx="825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0640" y="4067280"/>
            <a:ext cx="7938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3962520" y="41148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41148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41840" y="2422440"/>
            <a:ext cx="9381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80000" y="3008160"/>
            <a:ext cx="15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02240" y="2930400"/>
            <a:ext cx="17640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92880" y="4689360"/>
            <a:ext cx="938160" cy="12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31040" y="527544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53280" y="5195880"/>
            <a:ext cx="17604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00800" y="4594320"/>
            <a:ext cx="892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69200" y="2384280"/>
            <a:ext cx="860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64120" y="3008160"/>
            <a:ext cx="1806480" cy="190512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122800" y="3370320"/>
            <a:ext cx="1806480" cy="190512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92600" y="2081160"/>
            <a:ext cx="9381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234468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0760" y="266688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3760" y="5059440"/>
            <a:ext cx="9363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82640" y="6037200"/>
            <a:ext cx="21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30760" y="5645160"/>
            <a:ext cx="77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70040" y="1886040"/>
            <a:ext cx="685800" cy="87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78080" y="2266920"/>
            <a:ext cx="17460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7760" y="3067200"/>
            <a:ext cx="225360" cy="221760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71880" y="2335320"/>
            <a:ext cx="390240" cy="3711600"/>
          </a:xfrm>
          <a:custGeom>
            <a:avLst/>
            <a:gdLst/>
            <a:ahLst/>
            <a:rect l="l" t="t" r="r" b="b"/>
            <a:pathLst>
              <a:path w="240" h="2280">
                <a:moveTo>
                  <a:pt x="0" y="228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11440" y="4141800"/>
            <a:ext cx="18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3480" y="2940120"/>
            <a:ext cx="1458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61240" y="5186520"/>
            <a:ext cx="1476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29080" y="404496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092320" y="5948280"/>
            <a:ext cx="14760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57280" y="3537000"/>
            <a:ext cx="870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47920" y="5421240"/>
            <a:ext cx="86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09040" y="2514600"/>
            <a:ext cx="825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7785000" y="47862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5000" y="47862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 с тремя входам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52280" y="1828800"/>
            <a:ext cx="5132520" cy="3733920"/>
            <a:chOff x="152280" y="1828800"/>
            <a:chExt cx="5132520" cy="3733920"/>
          </a:xfrm>
        </p:grpSpPr>
        <p:sp>
          <p:nvSpPr>
            <p:cNvPr id="469" name=""/>
            <p:cNvSpPr/>
            <p:nvPr/>
          </p:nvSpPr>
          <p:spPr>
            <a:xfrm>
              <a:off x="3228840" y="2679840"/>
              <a:ext cx="704880" cy="90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33720" y="311940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5040" y="30607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92480" y="4381560"/>
              <a:ext cx="704880" cy="9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97360" y="482112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38680" y="4762440"/>
              <a:ext cx="1317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68480" y="3119400"/>
              <a:ext cx="1359000" cy="1430280"/>
            </a:xfrm>
            <a:custGeom>
              <a:avLst/>
              <a:gdLst/>
              <a:ahLst/>
              <a:rect l="l" t="t" r="r" b="b"/>
              <a:pathLst>
                <a:path w="1110" h="1170">
                  <a:moveTo>
                    <a:pt x="1110" y="0"/>
                  </a:moveTo>
                  <a:lnTo>
                    <a:pt x="1110" y="360"/>
                  </a:lnTo>
                  <a:lnTo>
                    <a:pt x="0" y="1032"/>
                  </a:lnTo>
                  <a:lnTo>
                    <a:pt x="0" y="1170"/>
                  </a:lnTo>
                  <a:lnTo>
                    <a:pt x="258" y="1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913120" y="3390120"/>
              <a:ext cx="1359000" cy="1430280"/>
            </a:xfrm>
            <a:custGeom>
              <a:avLst/>
              <a:gdLst/>
              <a:ahLst/>
              <a:rect l="l" t="t" r="r" b="b"/>
              <a:pathLst>
                <a:path w="1110" h="1170">
                  <a:moveTo>
                    <a:pt x="1110" y="0"/>
                  </a:moveTo>
                  <a:lnTo>
                    <a:pt x="1110" y="360"/>
                  </a:lnTo>
                  <a:lnTo>
                    <a:pt x="0" y="1032"/>
                  </a:lnTo>
                  <a:lnTo>
                    <a:pt x="0" y="1170"/>
                  </a:lnTo>
                  <a:lnTo>
                    <a:pt x="258" y="1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14480" y="2422440"/>
              <a:ext cx="704880" cy="90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3880" y="26208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19360" y="2863800"/>
              <a:ext cx="61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22400" y="4660920"/>
              <a:ext cx="704880" cy="9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8680" y="5394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19360" y="5100480"/>
              <a:ext cx="57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5400" y="2276640"/>
              <a:ext cx="515880" cy="66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52600" y="25621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60400" y="3164040"/>
              <a:ext cx="168480" cy="1665000"/>
            </a:xfrm>
            <a:custGeom>
              <a:avLst/>
              <a:gdLst/>
              <a:ahLst/>
              <a:rect l="l" t="t" r="r" b="b"/>
              <a:pathLst>
                <a:path w="138" h="1362">
                  <a:moveTo>
                    <a:pt x="120" y="0"/>
                  </a:moveTo>
                  <a:lnTo>
                    <a:pt x="0" y="0"/>
                  </a:lnTo>
                  <a:lnTo>
                    <a:pt x="0" y="1362"/>
                  </a:lnTo>
                  <a:lnTo>
                    <a:pt x="138" y="13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5160" y="2612880"/>
              <a:ext cx="293760" cy="2787840"/>
            </a:xfrm>
            <a:custGeom>
              <a:avLst/>
              <a:gdLst/>
              <a:ahLst/>
              <a:rect l="l" t="t" r="r" b="b"/>
              <a:pathLst>
                <a:path w="240" h="2280">
                  <a:moveTo>
                    <a:pt x="0" y="2280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1000" y="3970440"/>
              <a:ext cx="140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60880" y="30686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19560" y="4756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16120" y="38973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6480" y="53276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0200" y="3516480"/>
              <a:ext cx="652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2280" y="4932360"/>
              <a:ext cx="6541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21040" y="1990800"/>
              <a:ext cx="307800" cy="1136520"/>
            </a:xfrm>
            <a:custGeom>
              <a:avLst/>
              <a:gdLst/>
              <a:ahLst/>
              <a:rect l="l" t="t" r="r" b="b"/>
              <a:pathLst>
                <a:path w="252" h="930">
                  <a:moveTo>
                    <a:pt x="0" y="0"/>
                  </a:moveTo>
                  <a:lnTo>
                    <a:pt x="0" y="930"/>
                  </a:lnTo>
                  <a:lnTo>
                    <a:pt x="252" y="9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27520" y="1828800"/>
              <a:ext cx="65376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87840" y="4346640"/>
              <a:ext cx="66996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38600" y="2687760"/>
              <a:ext cx="646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410080" y="2895480"/>
            <a:ext cx="3194280" cy="2133720"/>
            <a:chOff x="5410080" y="2895480"/>
            <a:chExt cx="3194280" cy="2133720"/>
          </a:xfrm>
        </p:grpSpPr>
        <p:sp>
          <p:nvSpPr>
            <p:cNvPr id="499" name=""/>
            <p:cNvSpPr/>
            <p:nvPr/>
          </p:nvSpPr>
          <p:spPr>
            <a:xfrm>
              <a:off x="6039000" y="3019320"/>
              <a:ext cx="1427040" cy="19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45160" y="301932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53240" y="3111480"/>
              <a:ext cx="5745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9000" y="3119400"/>
              <a:ext cx="5760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24600" y="4430520"/>
              <a:ext cx="57456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18000" y="33415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10080" y="4668840"/>
              <a:ext cx="6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59560" y="3349440"/>
              <a:ext cx="6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59560" y="4684680"/>
              <a:ext cx="6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67760" y="459252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848720" y="2895480"/>
              <a:ext cx="7556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27840" y="4238640"/>
              <a:ext cx="7239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24600" y="3724200"/>
              <a:ext cx="5745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33840" y="40003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3" name=""/>
            <p:cNvGraphicFramePr/>
            <p:nvPr/>
          </p:nvGraphicFramePr>
          <p:xfrm>
            <a:off x="7915320" y="4190760"/>
            <a:ext cx="314280" cy="4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15320" y="4190760"/>
                      <a:ext cx="3142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 с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батыванием по фронт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540400" y="2590920"/>
            <a:ext cx="2689200" cy="3208320"/>
            <a:chOff x="5540400" y="2590920"/>
            <a:chExt cx="2689200" cy="3208320"/>
          </a:xfrm>
        </p:grpSpPr>
        <p:grpSp>
          <p:nvGrpSpPr>
            <p:cNvPr id="517" name=""/>
            <p:cNvGrpSpPr/>
            <p:nvPr/>
          </p:nvGrpSpPr>
          <p:grpSpPr>
            <a:xfrm>
              <a:off x="5545080" y="2595600"/>
              <a:ext cx="2679840" cy="3198960"/>
              <a:chOff x="5545080" y="2595600"/>
              <a:chExt cx="2679840" cy="31989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5545080" y="2595600"/>
                <a:ext cx="803160" cy="639720"/>
                <a:chOff x="5545080" y="2595600"/>
                <a:chExt cx="803160" cy="6397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613480" y="259560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545080" y="259560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6348240" y="2595600"/>
                <a:ext cx="730440" cy="639720"/>
                <a:chOff x="6348240" y="2595600"/>
                <a:chExt cx="730440" cy="6397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6416640" y="259560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348240" y="259560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078680" y="2595600"/>
                <a:ext cx="1146240" cy="639720"/>
                <a:chOff x="7078680" y="2595600"/>
                <a:chExt cx="1146240" cy="6397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146720" y="259560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078680" y="259560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545080" y="3235320"/>
                <a:ext cx="803160" cy="639720"/>
                <a:chOff x="5545080" y="3235320"/>
                <a:chExt cx="803160" cy="6397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613480" y="323532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545080" y="323532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6348240" y="3235320"/>
                <a:ext cx="730440" cy="639720"/>
                <a:chOff x="6348240" y="3235320"/>
                <a:chExt cx="730440" cy="6397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6416640" y="323532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348240" y="323532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078680" y="3235320"/>
                <a:ext cx="1146240" cy="639720"/>
                <a:chOff x="7078680" y="3235320"/>
                <a:chExt cx="1146240" cy="6397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146720" y="323532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78680" y="323532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545080" y="3875040"/>
                <a:ext cx="803160" cy="639720"/>
                <a:chOff x="5545080" y="3875040"/>
                <a:chExt cx="803160" cy="6397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613480" y="387504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545080" y="387504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6348240" y="3875040"/>
                <a:ext cx="730440" cy="639720"/>
                <a:chOff x="6348240" y="3875040"/>
                <a:chExt cx="730440" cy="6397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6416640" y="387504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348240" y="387504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078680" y="3875040"/>
                <a:ext cx="1146240" cy="639720"/>
                <a:chOff x="7078680" y="3875040"/>
                <a:chExt cx="1146240" cy="639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146720" y="387504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078680" y="38750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5545080" y="4514760"/>
                <a:ext cx="803160" cy="639720"/>
                <a:chOff x="5545080" y="4514760"/>
                <a:chExt cx="803160" cy="6397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613480" y="451476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545080" y="451476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348240" y="4514760"/>
                <a:ext cx="730440" cy="639720"/>
                <a:chOff x="6348240" y="4514760"/>
                <a:chExt cx="730440" cy="6397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416640" y="451476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348240" y="451476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078680" y="4514760"/>
                <a:ext cx="1146240" cy="639720"/>
                <a:chOff x="7078680" y="4514760"/>
                <a:chExt cx="1146240" cy="6397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146720" y="451476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078680" y="451476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545080" y="5154480"/>
                <a:ext cx="803160" cy="640080"/>
                <a:chOff x="5545080" y="5154480"/>
                <a:chExt cx="803160" cy="6400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613480" y="5154480"/>
                  <a:ext cx="666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545080" y="5154480"/>
                  <a:ext cx="803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348240" y="5154480"/>
                <a:ext cx="730440" cy="640080"/>
                <a:chOff x="6348240" y="5154480"/>
                <a:chExt cx="730440" cy="6400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6416640" y="5154480"/>
                  <a:ext cx="593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348240" y="5154480"/>
                  <a:ext cx="7304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078680" y="5154480"/>
                <a:ext cx="1146240" cy="640080"/>
                <a:chOff x="7078680" y="5154480"/>
                <a:chExt cx="1146240" cy="6400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46720" y="5154480"/>
                  <a:ext cx="10098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078680" y="5154480"/>
                  <a:ext cx="11462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3" name=""/>
            <p:cNvSpPr/>
            <p:nvPr/>
          </p:nvSpPr>
          <p:spPr>
            <a:xfrm>
              <a:off x="5540400" y="2590920"/>
              <a:ext cx="2689200" cy="3208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1986120" y="3002040"/>
            <a:ext cx="1763640" cy="24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11440" y="3002040"/>
            <a:ext cx="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3114720"/>
            <a:ext cx="9684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138400" y="3124080"/>
            <a:ext cx="711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19320" y="4746600"/>
            <a:ext cx="711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17520" y="340056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08160" y="504036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40040" y="340992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740040" y="505944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25920" y="49449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2925720"/>
            <a:ext cx="933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95800" y="4510080"/>
            <a:ext cx="8953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1903680" y="4974480"/>
            <a:ext cx="219240" cy="18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4267080" y="45720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5720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батыванием по фронт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32720" y="2943360"/>
            <a:ext cx="63792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70640" y="334152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16640" y="328932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99240" y="4483080"/>
            <a:ext cx="6382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337520" y="488160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83520" y="482904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08720" y="3341520"/>
            <a:ext cx="1227240" cy="129564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448320" y="3587760"/>
            <a:ext cx="1227240" cy="129384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45080" y="2711520"/>
            <a:ext cx="63648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81560" y="311004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551560" y="4735440"/>
            <a:ext cx="6382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181560" y="513396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05400" y="3381480"/>
            <a:ext cx="154080" cy="150804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75480" y="3295800"/>
            <a:ext cx="1000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28040" y="4822920"/>
            <a:ext cx="10008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59320" y="484812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78160" y="2446200"/>
            <a:ext cx="63828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16440" y="2844720"/>
            <a:ext cx="7491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62440" y="279072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45040" y="5014800"/>
            <a:ext cx="637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768920" y="542592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29320" y="5359320"/>
            <a:ext cx="118800" cy="12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54520" y="2844720"/>
            <a:ext cx="1227240" cy="233676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894120" y="3088440"/>
            <a:ext cx="1239840" cy="233676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90880" y="2212920"/>
            <a:ext cx="6364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27360" y="26114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997360" y="5267160"/>
            <a:ext cx="637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27360" y="566568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98640" y="2884320"/>
            <a:ext cx="206640" cy="253548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1280" y="27972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075280" y="5353200"/>
            <a:ext cx="982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19440" y="586440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14720" y="5553000"/>
            <a:ext cx="46656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25840" y="5811840"/>
            <a:ext cx="12060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2392200"/>
            <a:ext cx="22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62080" y="2367000"/>
            <a:ext cx="146160" cy="3470400"/>
          </a:xfrm>
          <a:custGeom>
            <a:avLst/>
            <a:gdLst/>
            <a:ahLst/>
            <a:rect l="l" t="t" r="r" b="b"/>
            <a:pathLst>
              <a:path w="132" h="3138">
                <a:moveTo>
                  <a:pt x="132" y="3138"/>
                </a:moveTo>
                <a:lnTo>
                  <a:pt x="0" y="313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16000" y="23400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70200" y="4138560"/>
            <a:ext cx="9349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52520" y="3825720"/>
            <a:ext cx="46512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763640" y="4086360"/>
            <a:ext cx="119160" cy="11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2120" y="4143240"/>
            <a:ext cx="5839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00240" y="4145040"/>
            <a:ext cx="4205160" cy="2224080"/>
          </a:xfrm>
          <a:custGeom>
            <a:avLst/>
            <a:gdLst/>
            <a:ahLst/>
            <a:rect l="l" t="t" r="r" b="b"/>
            <a:pathLst>
              <a:path w="3852" h="2010">
                <a:moveTo>
                  <a:pt x="0" y="0"/>
                </a:moveTo>
                <a:lnTo>
                  <a:pt x="0" y="2010"/>
                </a:lnTo>
                <a:lnTo>
                  <a:pt x="3852" y="2010"/>
                </a:lnTo>
                <a:lnTo>
                  <a:pt x="3852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54160" y="4098960"/>
            <a:ext cx="982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5960" y="1981080"/>
            <a:ext cx="5904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3740040"/>
            <a:ext cx="5907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077320" y="2895480"/>
            <a:ext cx="933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8153280" y="4419720"/>
          <a:ext cx="26352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4419720"/>
                    <a:ext cx="263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гист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01600" y="2576520"/>
            <a:ext cx="1766880" cy="22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76520" y="2514600"/>
            <a:ext cx="820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39800" y="258444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308320" y="2598840"/>
            <a:ext cx="0" cy="229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98720" y="253836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128600" y="3537000"/>
            <a:ext cx="852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123920" y="2952720"/>
            <a:ext cx="54756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27160" y="4268880"/>
            <a:ext cx="853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317680" y="251460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47920" y="351468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22360" y="2928960"/>
            <a:ext cx="54792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82888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381312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3240" y="45734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868480" y="282888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68480" y="381312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10360" y="2009880"/>
            <a:ext cx="1217520" cy="16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42000" y="2009880"/>
            <a:ext cx="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19840" y="2089080"/>
            <a:ext cx="490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10360" y="2095560"/>
            <a:ext cx="490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97400" y="3214800"/>
            <a:ext cx="490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34000" y="229068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521400" y="343044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43640" y="3352680"/>
            <a:ext cx="157320" cy="15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781680" y="1846440"/>
            <a:ext cx="64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35680" y="3051000"/>
            <a:ext cx="619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10360" y="4761000"/>
            <a:ext cx="1217520" cy="16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42000" y="4761000"/>
            <a:ext cx="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19840" y="4838760"/>
            <a:ext cx="490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10360" y="4846680"/>
            <a:ext cx="490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97400" y="5965920"/>
            <a:ext cx="490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83160" y="503568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773600" y="616896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21400" y="504180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521400" y="618156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43640" y="6103800"/>
            <a:ext cx="157320" cy="15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781680" y="4597560"/>
            <a:ext cx="64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35680" y="5802480"/>
            <a:ext cx="61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54600" y="3922560"/>
            <a:ext cx="466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76640" y="3417840"/>
            <a:ext cx="327240" cy="2751120"/>
          </a:xfrm>
          <a:custGeom>
            <a:avLst/>
            <a:gdLst/>
            <a:ahLst/>
            <a:rect l="l" t="t" r="r" b="b"/>
            <a:pathLst>
              <a:path w="300" h="2520">
                <a:moveTo>
                  <a:pt x="300" y="0"/>
                </a:moveTo>
                <a:lnTo>
                  <a:pt x="0" y="0"/>
                </a:lnTo>
                <a:lnTo>
                  <a:pt x="0" y="25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37040" y="6129360"/>
            <a:ext cx="9864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44920" y="1905120"/>
            <a:ext cx="63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19720" y="4622760"/>
            <a:ext cx="635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76680" y="230508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6832440" y="3048120"/>
          <a:ext cx="330480" cy="41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2440" y="3048120"/>
                    <a:ext cx="33048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6832440" y="5791320"/>
          <a:ext cx="33048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32440" y="5791320"/>
                    <a:ext cx="33048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эле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огическим элемент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устройство с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входами и одним выходом. На каждый вход может подаваться только два сигнала "0" или "1" и при каждом наборе сигналов на входах на выходе возникает один из сигналов "0" или "1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гнал на выходе логического элемента однозначно определяется набором сигналов на его вх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не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438280" y="1828800"/>
            <a:ext cx="4647960" cy="3338640"/>
            <a:chOff x="2438280" y="1828800"/>
            <a:chExt cx="4647960" cy="3338640"/>
          </a:xfrm>
        </p:grpSpPr>
        <p:sp>
          <p:nvSpPr>
            <p:cNvPr id="679" name=""/>
            <p:cNvSpPr/>
            <p:nvPr/>
          </p:nvSpPr>
          <p:spPr>
            <a:xfrm>
              <a:off x="4093560" y="3409920"/>
              <a:ext cx="972720" cy="1273320"/>
            </a:xfrm>
            <a:custGeom>
              <a:avLst/>
              <a:gdLst/>
              <a:ahLst/>
              <a:rect l="l" t="t" r="r" b="b"/>
              <a:pathLst>
                <a:path w="1122" h="1470">
                  <a:moveTo>
                    <a:pt x="0" y="0"/>
                  </a:moveTo>
                  <a:cubicBezTo>
                    <a:pt x="561" y="59"/>
                    <a:pt x="1122" y="118"/>
                    <a:pt x="1122" y="180"/>
                  </a:cubicBezTo>
                  <a:cubicBezTo>
                    <a:pt x="1122" y="242"/>
                    <a:pt x="0" y="310"/>
                    <a:pt x="0" y="372"/>
                  </a:cubicBezTo>
                  <a:cubicBezTo>
                    <a:pt x="0" y="434"/>
                    <a:pt x="1122" y="492"/>
                    <a:pt x="1122" y="552"/>
                  </a:cubicBezTo>
                  <a:cubicBezTo>
                    <a:pt x="1122" y="612"/>
                    <a:pt x="0" y="669"/>
                    <a:pt x="0" y="732"/>
                  </a:cubicBezTo>
                  <a:cubicBezTo>
                    <a:pt x="0" y="795"/>
                    <a:pt x="1122" y="867"/>
                    <a:pt x="1122" y="930"/>
                  </a:cubicBezTo>
                  <a:cubicBezTo>
                    <a:pt x="1122" y="993"/>
                    <a:pt x="0" y="1048"/>
                    <a:pt x="0" y="1110"/>
                  </a:cubicBezTo>
                  <a:cubicBezTo>
                    <a:pt x="0" y="1172"/>
                    <a:pt x="1122" y="1242"/>
                    <a:pt x="1122" y="1302"/>
                  </a:cubicBezTo>
                  <a:cubicBezTo>
                    <a:pt x="1122" y="1362"/>
                    <a:pt x="561" y="1416"/>
                    <a:pt x="0" y="14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088160" y="3258000"/>
              <a:ext cx="978480" cy="158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24560" y="4683240"/>
              <a:ext cx="363240" cy="483840"/>
            </a:xfrm>
            <a:custGeom>
              <a:avLst/>
              <a:gdLst/>
              <a:ahLst/>
              <a:rect l="l" t="t" r="r" b="b"/>
              <a:pathLst>
                <a:path w="420" h="558">
                  <a:moveTo>
                    <a:pt x="420" y="0"/>
                  </a:moveTo>
                  <a:lnTo>
                    <a:pt x="0" y="0"/>
                  </a:lnTo>
                  <a:lnTo>
                    <a:pt x="0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67240" y="516168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38280" y="2421000"/>
              <a:ext cx="4147920" cy="988560"/>
            </a:xfrm>
            <a:custGeom>
              <a:avLst/>
              <a:gdLst/>
              <a:ahLst/>
              <a:rect l="l" t="t" r="r" b="b"/>
              <a:pathLst>
                <a:path w="4782" h="1140">
                  <a:moveTo>
                    <a:pt x="1902" y="1140"/>
                  </a:moveTo>
                  <a:lnTo>
                    <a:pt x="0" y="1140"/>
                  </a:lnTo>
                  <a:lnTo>
                    <a:pt x="0" y="0"/>
                  </a:lnTo>
                  <a:lnTo>
                    <a:pt x="4782" y="0"/>
                  </a:lnTo>
                  <a:lnTo>
                    <a:pt x="4782" y="11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895640" y="2874240"/>
              <a:ext cx="16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98280" y="1964160"/>
              <a:ext cx="624240" cy="899640"/>
            </a:xfrm>
            <a:custGeom>
              <a:avLst/>
              <a:gdLst/>
              <a:ahLst/>
              <a:rect l="l" t="t" r="r" b="b"/>
              <a:pathLst>
                <a:path w="720" h="1038">
                  <a:moveTo>
                    <a:pt x="720" y="1038"/>
                  </a:moveTo>
                  <a:lnTo>
                    <a:pt x="0" y="103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69960" y="263988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4223160" y="2691720"/>
              <a:ext cx="67212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545160" y="2832120"/>
              <a:ext cx="7740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545160" y="3316320"/>
              <a:ext cx="7740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86200" y="4714920"/>
              <a:ext cx="0" cy="4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25640" y="516744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49840" y="4678560"/>
              <a:ext cx="7848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19880" y="3867480"/>
              <a:ext cx="666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вы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56160" y="1948320"/>
              <a:ext cx="7848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40400" y="1828800"/>
              <a:ext cx="666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828800" y="5570640"/>
            <a:ext cx="5943600" cy="906480"/>
            <a:chOff x="1828800" y="5570640"/>
            <a:chExt cx="5943600" cy="906480"/>
          </a:xfrm>
        </p:grpSpPr>
        <p:sp>
          <p:nvSpPr>
            <p:cNvPr id="697" name=""/>
            <p:cNvSpPr/>
            <p:nvPr/>
          </p:nvSpPr>
          <p:spPr>
            <a:xfrm>
              <a:off x="2272680" y="5820120"/>
              <a:ext cx="5189040" cy="353880"/>
            </a:xfrm>
            <a:custGeom>
              <a:avLst/>
              <a:gdLst/>
              <a:ahLst/>
              <a:rect l="l" t="t" r="r" b="b"/>
              <a:pathLst>
                <a:path w="8172" h="558">
                  <a:moveTo>
                    <a:pt x="0" y="558"/>
                  </a:moveTo>
                  <a:lnTo>
                    <a:pt x="552" y="558"/>
                  </a:lnTo>
                  <a:lnTo>
                    <a:pt x="552" y="0"/>
                  </a:lnTo>
                  <a:lnTo>
                    <a:pt x="1110" y="0"/>
                  </a:lnTo>
                  <a:lnTo>
                    <a:pt x="1110" y="558"/>
                  </a:lnTo>
                  <a:lnTo>
                    <a:pt x="1680" y="558"/>
                  </a:lnTo>
                  <a:lnTo>
                    <a:pt x="1680" y="0"/>
                  </a:lnTo>
                  <a:lnTo>
                    <a:pt x="2232" y="0"/>
                  </a:lnTo>
                  <a:lnTo>
                    <a:pt x="2232" y="558"/>
                  </a:lnTo>
                  <a:lnTo>
                    <a:pt x="2802" y="558"/>
                  </a:lnTo>
                  <a:lnTo>
                    <a:pt x="2802" y="0"/>
                  </a:lnTo>
                  <a:lnTo>
                    <a:pt x="3360" y="0"/>
                  </a:lnTo>
                  <a:lnTo>
                    <a:pt x="3360" y="558"/>
                  </a:lnTo>
                  <a:lnTo>
                    <a:pt x="3930" y="558"/>
                  </a:lnTo>
                  <a:lnTo>
                    <a:pt x="3930" y="0"/>
                  </a:lnTo>
                  <a:lnTo>
                    <a:pt x="4500" y="0"/>
                  </a:lnTo>
                  <a:lnTo>
                    <a:pt x="4500" y="558"/>
                  </a:lnTo>
                  <a:lnTo>
                    <a:pt x="5052" y="558"/>
                  </a:lnTo>
                  <a:lnTo>
                    <a:pt x="5052" y="0"/>
                  </a:lnTo>
                  <a:lnTo>
                    <a:pt x="5622" y="0"/>
                  </a:lnTo>
                  <a:lnTo>
                    <a:pt x="5622" y="558"/>
                  </a:lnTo>
                  <a:lnTo>
                    <a:pt x="6192" y="558"/>
                  </a:lnTo>
                  <a:lnTo>
                    <a:pt x="6192" y="0"/>
                  </a:lnTo>
                  <a:lnTo>
                    <a:pt x="6762" y="0"/>
                  </a:lnTo>
                  <a:lnTo>
                    <a:pt x="6762" y="558"/>
                  </a:lnTo>
                  <a:lnTo>
                    <a:pt x="7320" y="558"/>
                  </a:lnTo>
                  <a:lnTo>
                    <a:pt x="7320" y="0"/>
                  </a:lnTo>
                  <a:lnTo>
                    <a:pt x="7890" y="0"/>
                  </a:lnTo>
                  <a:lnTo>
                    <a:pt x="7890" y="558"/>
                  </a:lnTo>
                  <a:lnTo>
                    <a:pt x="8172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2121480" y="570168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38320" y="6233400"/>
              <a:ext cx="57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03120" y="616464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03120" y="582948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44800" y="6180120"/>
              <a:ext cx="297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28800" y="5570640"/>
              <a:ext cx="297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не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914400" y="2362320"/>
            <a:ext cx="3803400" cy="2449440"/>
            <a:chOff x="914400" y="2362320"/>
            <a:chExt cx="3803400" cy="2449440"/>
          </a:xfrm>
        </p:grpSpPr>
        <p:sp>
          <p:nvSpPr>
            <p:cNvPr id="706" name=""/>
            <p:cNvSpPr/>
            <p:nvPr/>
          </p:nvSpPr>
          <p:spPr>
            <a:xfrm>
              <a:off x="2526480" y="3520440"/>
              <a:ext cx="712800" cy="933120"/>
            </a:xfrm>
            <a:custGeom>
              <a:avLst/>
              <a:gdLst/>
              <a:ahLst/>
              <a:rect l="l" t="t" r="r" b="b"/>
              <a:pathLst>
                <a:path w="1122" h="1470">
                  <a:moveTo>
                    <a:pt x="0" y="0"/>
                  </a:moveTo>
                  <a:cubicBezTo>
                    <a:pt x="561" y="59"/>
                    <a:pt x="1122" y="118"/>
                    <a:pt x="1122" y="180"/>
                  </a:cubicBezTo>
                  <a:cubicBezTo>
                    <a:pt x="1122" y="242"/>
                    <a:pt x="0" y="310"/>
                    <a:pt x="0" y="372"/>
                  </a:cubicBezTo>
                  <a:cubicBezTo>
                    <a:pt x="0" y="434"/>
                    <a:pt x="1122" y="492"/>
                    <a:pt x="1122" y="552"/>
                  </a:cubicBezTo>
                  <a:cubicBezTo>
                    <a:pt x="1122" y="612"/>
                    <a:pt x="0" y="669"/>
                    <a:pt x="0" y="732"/>
                  </a:cubicBezTo>
                  <a:cubicBezTo>
                    <a:pt x="0" y="795"/>
                    <a:pt x="1122" y="867"/>
                    <a:pt x="1122" y="930"/>
                  </a:cubicBezTo>
                  <a:cubicBezTo>
                    <a:pt x="1122" y="993"/>
                    <a:pt x="0" y="1048"/>
                    <a:pt x="0" y="1110"/>
                  </a:cubicBezTo>
                  <a:cubicBezTo>
                    <a:pt x="0" y="1172"/>
                    <a:pt x="1122" y="1242"/>
                    <a:pt x="1122" y="1302"/>
                  </a:cubicBezTo>
                  <a:cubicBezTo>
                    <a:pt x="1122" y="1362"/>
                    <a:pt x="561" y="1416"/>
                    <a:pt x="0" y="14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22520" y="3409920"/>
              <a:ext cx="716400" cy="115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55760" y="4453560"/>
              <a:ext cx="266760" cy="354240"/>
            </a:xfrm>
            <a:custGeom>
              <a:avLst/>
              <a:gdLst/>
              <a:ahLst/>
              <a:rect l="l" t="t" r="r" b="b"/>
              <a:pathLst>
                <a:path w="420" h="558">
                  <a:moveTo>
                    <a:pt x="420" y="0"/>
                  </a:moveTo>
                  <a:lnTo>
                    <a:pt x="0" y="0"/>
                  </a:lnTo>
                  <a:lnTo>
                    <a:pt x="0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1640" y="4804200"/>
              <a:ext cx="24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113280" y="3128040"/>
              <a:ext cx="123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36680" y="2461320"/>
              <a:ext cx="457200" cy="658800"/>
            </a:xfrm>
            <a:custGeom>
              <a:avLst/>
              <a:gdLst/>
              <a:ahLst/>
              <a:rect l="l" t="t" r="r" b="b"/>
              <a:pathLst>
                <a:path w="720" h="1038">
                  <a:moveTo>
                    <a:pt x="720" y="1038"/>
                  </a:moveTo>
                  <a:lnTo>
                    <a:pt x="0" y="103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656080" y="2956320"/>
              <a:ext cx="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2621520" y="2994480"/>
              <a:ext cx="4914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52400" y="44766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34320" y="48081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25760" y="44499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30360" y="3855600"/>
              <a:ext cx="487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вы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06440" y="244980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98520" y="2362320"/>
              <a:ext cx="4878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06080" y="3131640"/>
              <a:ext cx="1245960" cy="350280"/>
            </a:xfrm>
            <a:custGeom>
              <a:avLst/>
              <a:gdLst/>
              <a:ahLst/>
              <a:rect l="l" t="t" r="r" b="b"/>
              <a:pathLst>
                <a:path w="1962" h="552">
                  <a:moveTo>
                    <a:pt x="0" y="0"/>
                  </a:moveTo>
                  <a:lnTo>
                    <a:pt x="1962" y="0"/>
                  </a:lnTo>
                  <a:lnTo>
                    <a:pt x="1962" y="5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21800" y="345168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1055160" y="3520440"/>
              <a:ext cx="146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36080" y="44805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18000" y="48117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09440" y="44535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14400" y="3901320"/>
              <a:ext cx="4878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в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05840" y="349740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5791320" y="2819520"/>
            <a:ext cx="2057400" cy="1752480"/>
            <a:chOff x="5791320" y="2819520"/>
            <a:chExt cx="2057400" cy="1752480"/>
          </a:xfrm>
        </p:grpSpPr>
        <p:sp>
          <p:nvSpPr>
            <p:cNvPr id="729" name=""/>
            <p:cNvSpPr/>
            <p:nvPr/>
          </p:nvSpPr>
          <p:spPr>
            <a:xfrm>
              <a:off x="6364440" y="2819520"/>
              <a:ext cx="788760" cy="11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91320" y="3403800"/>
              <a:ext cx="2057400" cy="1168200"/>
            </a:xfrm>
            <a:custGeom>
              <a:avLst/>
              <a:gdLst/>
              <a:ahLst/>
              <a:rect l="l" t="t" r="r" b="b"/>
              <a:pathLst>
                <a:path w="1830" h="960">
                  <a:moveTo>
                    <a:pt x="1218" y="0"/>
                  </a:moveTo>
                  <a:lnTo>
                    <a:pt x="1830" y="0"/>
                  </a:lnTo>
                  <a:lnTo>
                    <a:pt x="1830" y="960"/>
                  </a:lnTo>
                  <a:lnTo>
                    <a:pt x="0" y="960"/>
                  </a:lnTo>
                  <a:lnTo>
                    <a:pt x="0" y="12"/>
                  </a:lnTo>
                  <a:lnTo>
                    <a:pt x="510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79400" y="3330360"/>
              <a:ext cx="141480" cy="15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23880" y="1973160"/>
            <a:ext cx="5846760" cy="1455840"/>
            <a:chOff x="1523880" y="1973160"/>
            <a:chExt cx="5846760" cy="1455840"/>
          </a:xfrm>
        </p:grpSpPr>
        <p:sp>
          <p:nvSpPr>
            <p:cNvPr id="734" name=""/>
            <p:cNvSpPr/>
            <p:nvPr/>
          </p:nvSpPr>
          <p:spPr>
            <a:xfrm>
              <a:off x="1923840" y="2411280"/>
              <a:ext cx="708480" cy="98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175120" y="241128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75120" y="245700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23840" y="24609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16280" y="31125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1360" y="3231000"/>
              <a:ext cx="3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28720" y="3238560"/>
              <a:ext cx="7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83000" y="319284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46800" y="1973160"/>
              <a:ext cx="3751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5400000">
              <a:off x="1918080" y="319104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32320" y="210276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06760" y="221688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52680" y="2418840"/>
              <a:ext cx="708480" cy="98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03960" y="241884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03960" y="246456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52680" y="246852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5120" y="31204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57560" y="3246120"/>
              <a:ext cx="6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11840" y="320040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75640" y="198072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5400000">
              <a:off x="3347280" y="319464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61520" y="211032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35600" y="222480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37240" y="32004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366080" y="32155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43360" y="2422800"/>
              <a:ext cx="708480" cy="98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995000" y="242280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95000" y="246852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43360" y="247248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735800" y="312408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48240" y="3250080"/>
              <a:ext cx="7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02520" y="320400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66320" y="198468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5400000">
              <a:off x="4737600" y="3202560"/>
              <a:ext cx="87480" cy="7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52200" y="211392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26280" y="222840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72200" y="2430360"/>
              <a:ext cx="708480" cy="98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23840" y="243036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423840" y="24760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172200" y="24800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64640" y="313200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77440" y="3257640"/>
              <a:ext cx="3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31360" y="321192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95520" y="199224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5400000">
              <a:off x="6166800" y="320616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81040" y="212148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55120" y="2235960"/>
              <a:ext cx="126864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57120" y="32119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23880" y="30135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295280" y="3970440"/>
            <a:ext cx="6349680" cy="1668240"/>
            <a:chOff x="1295280" y="3970440"/>
            <a:chExt cx="6349680" cy="1668240"/>
          </a:xfrm>
        </p:grpSpPr>
        <p:sp>
          <p:nvSpPr>
            <p:cNvPr id="784" name=""/>
            <p:cNvSpPr/>
            <p:nvPr/>
          </p:nvSpPr>
          <p:spPr>
            <a:xfrm flipH="1">
              <a:off x="159048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1977480" y="408096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368440" y="408600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5976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15072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53736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92868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432396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70880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101920" y="408096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5492880" y="408600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588420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27912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66216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05744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78400" y="4431240"/>
              <a:ext cx="76932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560680" y="4434840"/>
              <a:ext cx="76932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338640" y="443484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24880" y="44319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0716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8512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46740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74640" y="454860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78600" y="5158800"/>
              <a:ext cx="6061680" cy="114120"/>
            </a:xfrm>
            <a:custGeom>
              <a:avLst/>
              <a:gdLst/>
              <a:ahLst/>
              <a:rect l="l" t="t" r="r" b="b"/>
              <a:pathLst>
                <a:path w="8742" h="180">
                  <a:moveTo>
                    <a:pt x="0" y="180"/>
                  </a:moveTo>
                  <a:lnTo>
                    <a:pt x="1980" y="180"/>
                  </a:lnTo>
                  <a:lnTo>
                    <a:pt x="1980" y="0"/>
                  </a:lnTo>
                  <a:lnTo>
                    <a:pt x="4230" y="0"/>
                  </a:lnTo>
                  <a:lnTo>
                    <a:pt x="4230" y="180"/>
                  </a:lnTo>
                  <a:lnTo>
                    <a:pt x="6480" y="180"/>
                  </a:lnTo>
                  <a:lnTo>
                    <a:pt x="6480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78600" y="5509440"/>
              <a:ext cx="6061680" cy="114120"/>
            </a:xfrm>
            <a:custGeom>
              <a:avLst/>
              <a:gdLst/>
              <a:ahLst/>
              <a:rect l="l" t="t" r="r" b="b"/>
              <a:pathLst>
                <a:path w="8742" h="180">
                  <a:moveTo>
                    <a:pt x="0" y="180"/>
                  </a:moveTo>
                  <a:lnTo>
                    <a:pt x="4230" y="180"/>
                  </a:lnTo>
                  <a:lnTo>
                    <a:pt x="4230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78600" y="4785480"/>
              <a:ext cx="6061680" cy="125640"/>
            </a:xfrm>
            <a:custGeom>
              <a:avLst/>
              <a:gdLst/>
              <a:ahLst/>
              <a:rect l="l" t="t" r="r" b="b"/>
              <a:pathLst>
                <a:path w="8742" h="198">
                  <a:moveTo>
                    <a:pt x="0" y="180"/>
                  </a:moveTo>
                  <a:lnTo>
                    <a:pt x="852" y="180"/>
                  </a:lnTo>
                  <a:lnTo>
                    <a:pt x="852" y="0"/>
                  </a:lnTo>
                  <a:lnTo>
                    <a:pt x="1980" y="0"/>
                  </a:lnTo>
                  <a:lnTo>
                    <a:pt x="1980" y="180"/>
                  </a:lnTo>
                  <a:lnTo>
                    <a:pt x="3102" y="180"/>
                  </a:lnTo>
                  <a:lnTo>
                    <a:pt x="3102" y="0"/>
                  </a:lnTo>
                  <a:lnTo>
                    <a:pt x="4230" y="0"/>
                  </a:lnTo>
                  <a:lnTo>
                    <a:pt x="4230" y="180"/>
                  </a:lnTo>
                  <a:lnTo>
                    <a:pt x="5352" y="180"/>
                  </a:lnTo>
                  <a:lnTo>
                    <a:pt x="5352" y="0"/>
                  </a:lnTo>
                  <a:lnTo>
                    <a:pt x="6480" y="0"/>
                  </a:lnTo>
                  <a:lnTo>
                    <a:pt x="6480" y="198"/>
                  </a:lnTo>
                  <a:lnTo>
                    <a:pt x="7602" y="198"/>
                  </a:lnTo>
                  <a:lnTo>
                    <a:pt x="7602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45360" y="4434840"/>
              <a:ext cx="394920" cy="114120"/>
            </a:xfrm>
            <a:custGeom>
              <a:avLst/>
              <a:gdLst/>
              <a:ahLst/>
              <a:rect l="l" t="t" r="r" b="b"/>
              <a:pathLst>
                <a:path w="570" h="180">
                  <a:moveTo>
                    <a:pt x="0" y="180"/>
                  </a:moveTo>
                  <a:lnTo>
                    <a:pt x="0" y="0"/>
                  </a:lnTo>
                  <a:lnTo>
                    <a:pt x="5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49840" y="421020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22280" y="3970440"/>
              <a:ext cx="3117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297080" y="43092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95280" y="46674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09680" y="503316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95280" y="53874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24400" y="2289240"/>
            <a:ext cx="2257200" cy="29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233960" y="2390760"/>
            <a:ext cx="1217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11640" y="2298600"/>
            <a:ext cx="0" cy="294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65560" y="2317680"/>
            <a:ext cx="0" cy="294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664080" y="2411280"/>
            <a:ext cx="108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673440" y="4626000"/>
            <a:ext cx="1090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195880" y="2381400"/>
            <a:ext cx="108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234040" y="3660840"/>
            <a:ext cx="1090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084640" y="2739960"/>
            <a:ext cx="698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95480" y="261288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925720" y="484488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781600" y="261288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81600" y="387180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ек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18040" y="2476440"/>
            <a:ext cx="9507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441440" y="274644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0120" y="4268880"/>
            <a:ext cx="9507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52434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62160" y="4056120"/>
            <a:ext cx="846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54240" y="2257560"/>
            <a:ext cx="846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516720" y="3355920"/>
            <a:ext cx="9525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477200" y="398448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060880" y="3111480"/>
            <a:ext cx="1447920" cy="512640"/>
          </a:xfrm>
          <a:custGeom>
            <a:avLst/>
            <a:gdLst/>
            <a:ahLst/>
            <a:rect l="l" t="t" r="r" b="b"/>
            <a:pathLst>
              <a:path w="1068" h="330">
                <a:moveTo>
                  <a:pt x="0" y="0"/>
                </a:moveTo>
                <a:lnTo>
                  <a:pt x="498" y="0"/>
                </a:lnTo>
                <a:lnTo>
                  <a:pt x="498" y="330"/>
                </a:lnTo>
                <a:lnTo>
                  <a:pt x="1068" y="3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5060880" y="4430880"/>
            <a:ext cx="1447920" cy="512640"/>
          </a:xfrm>
          <a:custGeom>
            <a:avLst/>
            <a:gdLst/>
            <a:ahLst/>
            <a:rect l="l" t="t" r="r" b="b"/>
            <a:pathLst>
              <a:path w="1068" h="330">
                <a:moveTo>
                  <a:pt x="0" y="0"/>
                </a:moveTo>
                <a:lnTo>
                  <a:pt x="498" y="0"/>
                </a:lnTo>
                <a:lnTo>
                  <a:pt x="498" y="330"/>
                </a:lnTo>
                <a:lnTo>
                  <a:pt x="1068" y="3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88160" y="3462480"/>
            <a:ext cx="84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40040" y="2892600"/>
            <a:ext cx="952560" cy="12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0520" y="351936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727440" y="346248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41440" y="452772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457280" y="530064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22520" y="3519360"/>
            <a:ext cx="325440" cy="1789200"/>
          </a:xfrm>
          <a:custGeom>
            <a:avLst/>
            <a:gdLst/>
            <a:ahLst/>
            <a:rect l="l" t="t" r="r" b="b"/>
            <a:pathLst>
              <a:path w="240" h="1290">
                <a:moveTo>
                  <a:pt x="0" y="129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85920" y="4829040"/>
            <a:ext cx="846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ек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033720" y="1909800"/>
            <a:ext cx="287640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8560" y="1944720"/>
            <a:ext cx="13701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140440" y="1941480"/>
            <a:ext cx="0" cy="445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795840" y="1917720"/>
            <a:ext cx="0" cy="44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068640" y="1952640"/>
            <a:ext cx="89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073320" y="2290680"/>
            <a:ext cx="577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141720" y="5664240"/>
            <a:ext cx="898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240160" y="1903320"/>
            <a:ext cx="900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272200" y="2959200"/>
            <a:ext cx="900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187960" y="2278080"/>
            <a:ext cx="5763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530440" y="21607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514600" y="319896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22520" y="59119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910120" y="21607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10120" y="319896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84480" y="2997360"/>
            <a:ext cx="900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68640" y="3532320"/>
            <a:ext cx="898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73320" y="3871800"/>
            <a:ext cx="577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22520" y="374184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14600" y="478008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084480" y="4578480"/>
            <a:ext cx="900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ультиплекс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42000" y="2300400"/>
            <a:ext cx="10508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882800" y="2598840"/>
            <a:ext cx="295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832280" y="4280040"/>
            <a:ext cx="10526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016080" y="53578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76520" y="2057400"/>
            <a:ext cx="93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37480" y="2398680"/>
            <a:ext cx="93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429000" y="2759040"/>
            <a:ext cx="10526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491000" y="345276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410000" y="3387600"/>
            <a:ext cx="135000" cy="13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901880" y="54212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079800" y="3451320"/>
            <a:ext cx="358560" cy="1977840"/>
          </a:xfrm>
          <a:custGeom>
            <a:avLst/>
            <a:gdLst/>
            <a:ahLst/>
            <a:rect l="l" t="t" r="r" b="b"/>
            <a:pathLst>
              <a:path w="240" h="1290">
                <a:moveTo>
                  <a:pt x="0" y="129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12880" y="4898880"/>
            <a:ext cx="9349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884920" y="297504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84920" y="497196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00760" y="4405320"/>
            <a:ext cx="935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674800" y="2597040"/>
            <a:ext cx="2157480" cy="1978200"/>
          </a:xfrm>
          <a:custGeom>
            <a:avLst/>
            <a:gdLst/>
            <a:ahLst/>
            <a:rect l="l" t="t" r="r" b="b"/>
            <a:pathLst>
              <a:path w="1440" h="1320">
                <a:moveTo>
                  <a:pt x="0" y="0"/>
                </a:moveTo>
                <a:lnTo>
                  <a:pt x="0" y="1320"/>
                </a:lnTo>
                <a:lnTo>
                  <a:pt x="1440" y="13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611440" y="25336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ультиплекс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059280" y="1838160"/>
            <a:ext cx="3020760" cy="470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213080" y="1881360"/>
            <a:ext cx="14385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272200" y="187164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859200" y="1846440"/>
            <a:ext cx="0" cy="46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8120" y="188928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02120" y="2238480"/>
            <a:ext cx="60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124080" y="5788080"/>
            <a:ext cx="946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364000" y="182880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72280" y="293688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321160" y="2224080"/>
            <a:ext cx="60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514600" y="210168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14600" y="319104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522520" y="604044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80040" y="210168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080040" y="319104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065400" y="298764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364000" y="352260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322960" y="3879720"/>
            <a:ext cx="606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97680" y="376092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89760" y="485136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80200" y="462132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Шиф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017960" y="2363760"/>
            <a:ext cx="8589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838080" y="2057400"/>
            <a:ext cx="4023000" cy="3346560"/>
            <a:chOff x="838080" y="2057400"/>
            <a:chExt cx="4023000" cy="3346560"/>
          </a:xfrm>
        </p:grpSpPr>
        <p:sp>
          <p:nvSpPr>
            <p:cNvPr id="915" name=""/>
            <p:cNvSpPr/>
            <p:nvPr/>
          </p:nvSpPr>
          <p:spPr>
            <a:xfrm>
              <a:off x="846000" y="3849840"/>
              <a:ext cx="8589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40160" y="2271600"/>
              <a:ext cx="965160" cy="13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85760" y="2546280"/>
              <a:ext cx="145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532240" y="4091040"/>
              <a:ext cx="965160" cy="131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63640" y="50799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8080" y="205740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85760" y="4352760"/>
              <a:ext cx="145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77840" y="5138640"/>
              <a:ext cx="147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28800" y="3328920"/>
              <a:ext cx="685800" cy="1792440"/>
            </a:xfrm>
            <a:custGeom>
              <a:avLst/>
              <a:gdLst/>
              <a:ahLst/>
              <a:rect l="l" t="t" r="r" b="b"/>
              <a:pathLst>
                <a:path w="240" h="1290">
                  <a:moveTo>
                    <a:pt x="0" y="1290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71560" y="463392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97400" y="467532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97400" y="292428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002120" y="413856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4952880" y="2444760"/>
            <a:ext cx="3657600" cy="3092400"/>
            <a:chOff x="4952880" y="2444760"/>
            <a:chExt cx="3657600" cy="3092400"/>
          </a:xfrm>
        </p:grpSpPr>
        <p:sp>
          <p:nvSpPr>
            <p:cNvPr id="929" name=""/>
            <p:cNvSpPr/>
            <p:nvPr/>
          </p:nvSpPr>
          <p:spPr>
            <a:xfrm>
              <a:off x="5608800" y="2444760"/>
              <a:ext cx="2355840" cy="305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51560" y="2523960"/>
              <a:ext cx="10969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326280" y="2454120"/>
              <a:ext cx="0" cy="30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16920" y="2475000"/>
              <a:ext cx="0" cy="30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715000" y="2544840"/>
              <a:ext cx="11365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724360" y="3906720"/>
              <a:ext cx="11383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38680" y="2946240"/>
              <a:ext cx="7304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05560" y="2514600"/>
              <a:ext cx="113688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445520" y="3848040"/>
              <a:ext cx="11379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37440" y="2914560"/>
              <a:ext cx="72864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952880" y="278280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52880" y="40924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64640" y="2782800"/>
              <a:ext cx="64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64640" y="4092480"/>
              <a:ext cx="64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шиф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990720" y="2660760"/>
            <a:ext cx="3333600" cy="2673360"/>
            <a:chOff x="990720" y="2660760"/>
            <a:chExt cx="3333600" cy="2673360"/>
          </a:xfrm>
        </p:grpSpPr>
        <p:sp>
          <p:nvSpPr>
            <p:cNvPr id="945" name=""/>
            <p:cNvSpPr/>
            <p:nvPr/>
          </p:nvSpPr>
          <p:spPr>
            <a:xfrm>
              <a:off x="2335680" y="3470400"/>
              <a:ext cx="914400" cy="335160"/>
            </a:xfrm>
            <a:custGeom>
              <a:avLst/>
              <a:gdLst/>
              <a:ahLst/>
              <a:rect l="l" t="t" r="r" b="b"/>
              <a:pathLst>
                <a:path w="1440" h="528">
                  <a:moveTo>
                    <a:pt x="0" y="0"/>
                  </a:moveTo>
                  <a:lnTo>
                    <a:pt x="558" y="0"/>
                  </a:lnTo>
                  <a:lnTo>
                    <a:pt x="558" y="528"/>
                  </a:lnTo>
                  <a:lnTo>
                    <a:pt x="1440" y="5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46840" y="3165480"/>
              <a:ext cx="914400" cy="1345320"/>
            </a:xfrm>
            <a:custGeom>
              <a:avLst/>
              <a:gdLst/>
              <a:ahLst/>
              <a:rect l="l" t="t" r="r" b="b"/>
              <a:pathLst>
                <a:path w="1440" h="2118">
                  <a:moveTo>
                    <a:pt x="0" y="2118"/>
                  </a:moveTo>
                  <a:lnTo>
                    <a:pt x="900" y="2118"/>
                  </a:lnTo>
                  <a:lnTo>
                    <a:pt x="900" y="0"/>
                  </a:ln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90720" y="270432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28320" y="26892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88200" y="398124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699360" y="294840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20400" y="373356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61240" y="266076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57640" y="369144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03320" y="501768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65200" y="472824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20400" y="477396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93600" y="421380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09040" y="44805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93600" y="317340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09040" y="34401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89720" y="2948400"/>
              <a:ext cx="14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75440" y="2776680"/>
              <a:ext cx="685440" cy="2057760"/>
            </a:xfrm>
            <a:custGeom>
              <a:avLst/>
              <a:gdLst/>
              <a:ahLst/>
              <a:rect l="l" t="t" r="r" b="b"/>
              <a:pathLst>
                <a:path w="1080" h="3240">
                  <a:moveTo>
                    <a:pt x="1080" y="0"/>
                  </a:moveTo>
                  <a:lnTo>
                    <a:pt x="0" y="0"/>
                  </a:lnTo>
                  <a:lnTo>
                    <a:pt x="0" y="3240"/>
                  </a:lnTo>
                  <a:lnTo>
                    <a:pt x="1080" y="3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45200" y="29217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661040" y="2948400"/>
              <a:ext cx="228240" cy="514440"/>
            </a:xfrm>
            <a:custGeom>
              <a:avLst/>
              <a:gdLst/>
              <a:ahLst/>
              <a:rect l="l" t="t" r="r" b="b"/>
              <a:pathLst>
                <a:path w="360" h="810">
                  <a:moveTo>
                    <a:pt x="0" y="0"/>
                  </a:moveTo>
                  <a:lnTo>
                    <a:pt x="0" y="810"/>
                  </a:lnTo>
                  <a:lnTo>
                    <a:pt x="360" y="8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630800" y="29293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661040" y="3977280"/>
              <a:ext cx="228240" cy="514440"/>
            </a:xfrm>
            <a:custGeom>
              <a:avLst/>
              <a:gdLst/>
              <a:ahLst/>
              <a:rect l="l" t="t" r="r" b="b"/>
              <a:pathLst>
                <a:path w="360" h="810">
                  <a:moveTo>
                    <a:pt x="0" y="0"/>
                  </a:moveTo>
                  <a:lnTo>
                    <a:pt x="0" y="810"/>
                  </a:lnTo>
                  <a:lnTo>
                    <a:pt x="360" y="8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30800" y="39582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89720" y="3988800"/>
              <a:ext cx="2171520" cy="1238400"/>
            </a:xfrm>
            <a:custGeom>
              <a:avLst/>
              <a:gdLst/>
              <a:ahLst/>
              <a:rect l="l" t="t" r="r" b="b"/>
              <a:pathLst>
                <a:path w="3420" h="1950">
                  <a:moveTo>
                    <a:pt x="0" y="0"/>
                  </a:moveTo>
                  <a:lnTo>
                    <a:pt x="2700" y="0"/>
                  </a:lnTo>
                  <a:lnTo>
                    <a:pt x="2700" y="1950"/>
                  </a:lnTo>
                  <a:lnTo>
                    <a:pt x="3420" y="19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815560" y="4198320"/>
              <a:ext cx="44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773800" y="41601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05840" y="37296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5310360" y="2587680"/>
            <a:ext cx="2103120" cy="27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992920" y="2603520"/>
            <a:ext cx="9777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950080" y="259704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745320" y="2614680"/>
            <a:ext cx="0" cy="27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334120" y="2620800"/>
            <a:ext cx="1015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343480" y="3838680"/>
            <a:ext cx="1014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7000" y="3035160"/>
            <a:ext cx="65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97520" y="2593800"/>
            <a:ext cx="101628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7240" y="3784680"/>
            <a:ext cx="10144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16680" y="3087720"/>
            <a:ext cx="65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24280" y="28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724280" y="40608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413480" y="28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413480" y="40608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935840" y="273528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рафические обозна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98640" y="270828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79280" y="220356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334476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8080" y="16686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080" y="28116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29600" y="2117880"/>
            <a:ext cx="90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1440" y="1973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6800" y="1973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800" y="2735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30920" y="2133720"/>
            <a:ext cx="99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14560" y="1973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92840" y="1973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38080" y="21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058240" y="2171880"/>
          <a:ext cx="4064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58240" y="217188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842240" y="26370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182760" y="221472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82760" y="33559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1560" y="16794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1560" y="28224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57880" y="273204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5880" y="4205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28880" y="4967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3640" y="4205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081160" y="4289400"/>
          <a:ext cx="74628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1160" y="4289400"/>
                    <a:ext cx="7462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852560" y="4890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4480" y="19591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7928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160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40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40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86040" y="423864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29040" y="5000760"/>
            <a:ext cx="8953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63800" y="423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905360" y="4335480"/>
          <a:ext cx="11541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5360" y="4335480"/>
                    <a:ext cx="11541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753080" y="49244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15432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5432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9312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9312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423864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08840" y="50007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0" y="4238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956720" y="4403880"/>
          <a:ext cx="118728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56720" y="4403880"/>
                    <a:ext cx="1187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 flipV="1">
            <a:off x="622764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6644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644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дноразрядный полу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8954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7640" y="2590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7640" y="373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8360" y="28954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1468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6640" y="37479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1337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505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4480" y="1828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4480" y="2971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5720" y="2133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4941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312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4720" y="441972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362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1911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6080" y="41911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362320"/>
            <a:ext cx="990720" cy="2057400"/>
          </a:xfrm>
          <a:custGeom>
            <a:avLst/>
            <a:gdLst/>
            <a:ahLst/>
            <a:rect l="l" t="t" r="r" b="b"/>
            <a:pathLst>
              <a:path w="624" h="1344">
                <a:moveTo>
                  <a:pt x="0" y="0"/>
                </a:moveTo>
                <a:lnTo>
                  <a:pt x="0" y="1344"/>
                </a:lnTo>
                <a:lnTo>
                  <a:pt x="624" y="13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500280"/>
            <a:ext cx="1218960" cy="2057400"/>
          </a:xfrm>
          <a:custGeom>
            <a:avLst/>
            <a:gdLst/>
            <a:ahLst/>
            <a:rect l="l" t="t" r="r" b="b"/>
            <a:pathLst>
              <a:path w="624" h="1344">
                <a:moveTo>
                  <a:pt x="0" y="0"/>
                </a:moveTo>
                <a:lnTo>
                  <a:pt x="0" y="1344"/>
                </a:lnTo>
                <a:lnTo>
                  <a:pt x="624" y="13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286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дноразрядный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лны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8954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7640" y="3124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7640" y="373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8000" y="28954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1468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6640" y="37479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7640" y="2590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3809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5160" y="3505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5160" y="4648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6240" y="380988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2666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2200" y="23623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3640" y="266688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1960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4240" y="41148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996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3809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464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воичный 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819520" y="1905120"/>
            <a:ext cx="3382920" cy="4190040"/>
            <a:chOff x="2819520" y="1905120"/>
            <a:chExt cx="3382920" cy="4190040"/>
          </a:xfrm>
        </p:grpSpPr>
        <p:grpSp>
          <p:nvGrpSpPr>
            <p:cNvPr id="161" name=""/>
            <p:cNvGrpSpPr/>
            <p:nvPr/>
          </p:nvGrpSpPr>
          <p:grpSpPr>
            <a:xfrm>
              <a:off x="3505320" y="1905120"/>
              <a:ext cx="1995120" cy="4190040"/>
              <a:chOff x="3505320" y="1905120"/>
              <a:chExt cx="1995120" cy="4190040"/>
            </a:xfrm>
          </p:grpSpPr>
          <p:sp>
            <p:nvSpPr>
              <p:cNvPr id="162" name=""/>
              <p:cNvSpPr/>
              <p:nvPr/>
            </p:nvSpPr>
            <p:spPr>
              <a:xfrm>
                <a:off x="3505320" y="1905120"/>
                <a:ext cx="1995120" cy="418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54680" y="1905120"/>
                <a:ext cx="2520" cy="416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86000" y="1925640"/>
                <a:ext cx="2520" cy="416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581280" y="19810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19810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35812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1952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1952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19520" y="3733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520" y="4800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1664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1664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81280" y="54100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9520" y="5562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292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0800" y="5562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1981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124080" y="1981080"/>
            <a:ext cx="2488680" cy="4267080"/>
            <a:chOff x="3124080" y="1981080"/>
            <a:chExt cx="2488680" cy="4267080"/>
          </a:xfrm>
        </p:grpSpPr>
        <p:sp>
          <p:nvSpPr>
            <p:cNvPr id="181" name=""/>
            <p:cNvSpPr/>
            <p:nvPr/>
          </p:nvSpPr>
          <p:spPr>
            <a:xfrm>
              <a:off x="3718800" y="1981080"/>
              <a:ext cx="129384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4080" y="232452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9840" y="340848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13000" y="23306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9840" y="286380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4560" y="4239360"/>
              <a:ext cx="1293840" cy="181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38480" y="56678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18760" y="45889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38480" y="51224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04160" y="3414600"/>
              <a:ext cx="1902600" cy="1174320"/>
            </a:xfrm>
            <a:custGeom>
              <a:avLst/>
              <a:gdLst/>
              <a:ahLst/>
              <a:rect l="l" t="t" r="r" b="b"/>
              <a:pathLst>
                <a:path w="1632" h="1098">
                  <a:moveTo>
                    <a:pt x="1380" y="0"/>
                  </a:moveTo>
                  <a:lnTo>
                    <a:pt x="1632" y="0"/>
                  </a:lnTo>
                  <a:lnTo>
                    <a:pt x="1632" y="558"/>
                  </a:lnTo>
                  <a:lnTo>
                    <a:pt x="0" y="558"/>
                  </a:lnTo>
                  <a:lnTo>
                    <a:pt x="0" y="1098"/>
                  </a:lnTo>
                  <a:lnTo>
                    <a:pt x="270" y="10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13000" y="5667840"/>
              <a:ext cx="299880" cy="580320"/>
            </a:xfrm>
            <a:custGeom>
              <a:avLst/>
              <a:gdLst/>
              <a:ahLst/>
              <a:rect l="l" t="t" r="r" b="b"/>
              <a:pathLst>
                <a:path w="258" h="498">
                  <a:moveTo>
                    <a:pt x="0" y="0"/>
                  </a:moveTo>
                  <a:lnTo>
                    <a:pt x="258" y="0"/>
                  </a:lnTo>
                  <a:lnTo>
                    <a:pt x="258" y="4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675160" y="2590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75160" y="3124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90080" y="2057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52480" y="202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75160" y="4876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75160" y="5410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0080" y="4343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5720" y="19810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5720" y="4191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56:50Z</dcterms:created>
  <dc:creator>lav</dc:creator>
  <dc:description/>
  <dc:language>en-US</dc:language>
  <cp:lastModifiedBy>Owner</cp:lastModifiedBy>
  <dcterms:modified xsi:type="dcterms:W3CDTF">2008-10-17T06:13:58Z</dcterms:modified>
  <cp:revision>26</cp:revision>
  <dc:subject/>
  <dc:title>Логические схемы</dc:title>
</cp:coreProperties>
</file>