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E51A-E8FA-454A-9AB5-3C1E21DD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225F-D0A6-4790-BA60-D06741A6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07DB-8D9E-42BC-B1F8-8B5F32C1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2DA8-202B-4357-B6DB-0D8099DD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C65-0E02-43C4-86AF-9B618788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9C9-FAB1-4FF9-B783-1359E379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21F3-B506-4786-9259-D6AE3FB9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B1D-357A-4512-BBCA-939E9873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7BA-F1D4-4BD4-8643-41FBCDBE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B17-C54E-41B6-B54E-DA2A049A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563-0BEB-4155-9015-6D43A66D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B4EA-C45F-4C22-AFE2-A81599E5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AEF6-C7EE-4B86-AB0C-BD363631B9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'Ok'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1001111 0110101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, 3, 5, 10, 22, 42, 90, 185, 375, 774, 1605, 3235, 6524, 13936, 28725, 6189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35757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7515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7515, 6788, 101818, 67879, 95031, 95032, 67883, 101827, 33958, 122220, 101898, 34101, 54629, 82151, 103254, 3024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68052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пьютерные виру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мпьютерные вирус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разновидность вредоносных программ, отличительной особенностью которых является способность к размножению (саморепликации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ассификация вирусо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поражаемым объект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айлов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рузочн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риптов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тевые черв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поражаемым операционным системам и платформ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D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Microsoft Window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Unix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технологиям используемым вирусо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иморфн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елс-вирус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языку, на котором написан вирус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семблер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окоуровневый язык программировани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зык сценарие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ы защи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здать абсолютно надежный канал связ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пользовать общедоступный канал связи, но скрыть факт передачи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еганограф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пользовать общедоступный канал связи, но передавать информацию в таком виде, чтобы восстановить ее мог только адресат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иптограф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щищаемая информ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сударственн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оенн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мерческ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Юридическ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рачебная тай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изнаки защищаемой информа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еется какой-то определенный круг законных пользователей, которые имеют право владеть этой информаци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еются незаконные пользователи, которые стремятся овладеть этой информацией с тем, чтобы обратить ее себе во благо, а законным пользователям во вре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угро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рехват и вскрытие шиф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гентурный способ доступа к информ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ничтожение или модификация информ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бор средств защи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вляется ли она для противника более ценной, чем стоимость атак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вляется ли она для вас более ценной, чем стоимость защиты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ульная арифмет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mod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тное число к числу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mod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риптография с использованием открытых ключ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... , b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708360" y="1773360"/>
          <a:ext cx="3311640" cy="106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773360"/>
                    <a:ext cx="331164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87280" y="2884320"/>
          <a:ext cx="1584360" cy="104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2884320"/>
                    <a:ext cx="158436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70200" y="4869000"/>
          <a:ext cx="4540320" cy="69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70200" y="4869000"/>
                    <a:ext cx="454032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риптография с использованием открытых ключ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одная информация тем или иным способом представляется в двоичной форме и разбивается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азрядные двоичные числ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ждому двоичному числ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...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тавится в соответствие десятичное числ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ое рассчитывается по формуле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+ 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+ ... + с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ередается получателю сообщения, который определяет числа из последова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уммой которых является результат умножения переданного числа 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модулю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дексы найденных чисел из последова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казывают на положение единиц в двоичном числ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тем самым позволяют его восстановит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24:45Z</dcterms:created>
  <dc:creator>lav</dc:creator>
  <dc:description/>
  <dc:language>en-US</dc:language>
  <cp:lastModifiedBy>support</cp:lastModifiedBy>
  <dcterms:modified xsi:type="dcterms:W3CDTF">2009-06-02T10:55:15Z</dcterms:modified>
  <cp:revision>101</cp:revision>
  <dc:subject/>
  <dc:title>Язык структурированных запросов</dc:title>
</cp:coreProperties>
</file>