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8F5D-3CA4-4187-82C5-CBC1AF2EE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AF26-6386-4E00-B30C-CA57B1D4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8D50-F7A3-4094-B20C-E6E6C53A4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520D-AC62-4875-A67F-CE6CD719D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FF83-9AC6-4432-B8B4-602EE31D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D4F9-DCE2-46B0-85EE-D9AFEB6C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797E-2B52-4AA2-8228-59CF3AFA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5432-AEF2-4956-A8ED-D442AC35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38FE-C7C5-409F-8E17-F7415A17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7172-370E-4D76-97AE-F7199BEF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ECC9-66B6-4A0F-8751-26248D0A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0ED9-537B-41CE-9AFC-D4CA5956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F10F-1886-47DD-9C91-D33F82418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истемы счис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змерения в байта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85800" y="1981080"/>
          <a:ext cx="7772400" cy="431028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441440"/>
                <a:gridCol w="1149480"/>
              </a:tblGrid>
              <a:tr h="678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сятичная приста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воичная приста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еп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еп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лобай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B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бибай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B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/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йт / КБ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габай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B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бибай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B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/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байт / МБ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габай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B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бибай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B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/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байт / ГБ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рабай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бибай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B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Ошибки неверного использования приставо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85800" y="1981080"/>
          <a:ext cx="7772400" cy="42372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ьное зна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ожное зна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шиб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4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8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3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9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дирование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дирование информа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это процесс формирования определенного представления информац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более узком смысле под термином "кодирование" часто понимают переход от одной формы представления информации к другой, более удобной для хранения, передачи или обработк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истемы счис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истема счислени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это способ записи чисел с помощью заданного набора специальных знаков (цифр). Существуют позиционные и непозиционные системы счислен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ание системы счис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нование позиционной системы счислени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это количество различных знаков или символов, используемых для изображения цифр в данной систем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...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...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соотнош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ксимальное целое чис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ксимальное вещественное чис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инимальное значащее чис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кол-во различных чисел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позиционные системы счисления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воичная (используются цифры 0, 1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сьмеричная (используются цифры 0, 1, ..., 7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шестнадцатеричная (для первых целых чисел от нуля до девяти используются цифры 0, 1, ..., 9, а для следующих чисел – от десяти до пятнадцати – в качестве цифр используются символы A, B, C, D, E, F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имущества двоичной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ля ее реализации нужны технические устройства с двумя устойчивыми состояниями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едставление информации посредством только двух состояний надежно и помехоустойчиво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зможно применение аппарата булевой алгебры для выполнения логических преобразований информации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воичная арифметика намного проще десятично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евод восьмеричных и шестнадцатеричных чисел в двоичную систему и обратно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725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Verdana"/>
              </a:rPr>
              <a:t>8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=111 010 101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6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1010 1111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2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1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еревод целых десятичных чисел в систему с основанием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447920" y="2133720"/>
          <a:ext cx="6095880" cy="362268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5920"/>
                <a:gridCol w="1016280"/>
                <a:gridCol w="1015920"/>
                <a:gridCol w="1015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1627920" y="5881680"/>
            <a:ext cx="2154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1100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ласть исследований информат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рмином информатика обозначают совокупность дисциплин, изучающих свойства информации, а также способы представления, накопления, обработки и передачи информации с помощью технических средств. В англоязычных странах применяют термин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compute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компьютерная нау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евод правильной десятичной дроби в систему счисления с основанием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90720" y="2898720"/>
          <a:ext cx="2361960" cy="2587680"/>
        </p:xfrm>
        <a:graphic>
          <a:graphicData uri="http://schemas.openxmlformats.org/drawingml/2006/table">
            <a:tbl>
              <a:tblPr/>
              <a:tblGrid>
                <a:gridCol w="1181160"/>
                <a:gridCol w="1180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5047560" y="2909880"/>
            <a:ext cx="2140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0.7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0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ополнительный код чисе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полнением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разрядного целого числ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 раз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основание системы счислен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[0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/2-1] – положительные числ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/2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] – отрицательные числ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[0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] – числа в дополнительном код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ычисление дополне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[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]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+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лгоритм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лучить инверсию заданного числа [заменить все цифры 0 на 1, а все цифры 1 заменить на 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обавить 1 к инверсии заданного чис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011010101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01001010100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0100101010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ещественные чис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юбое число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 системе счисления с основанием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можно записать в виде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Mq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зывается мантиссой числа, 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порядком. Такой способ записи чисел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дставлением с плавающей точк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нтисса должна быть правильной дробью, первая цифра которой отлична от нуля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1,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1.101=0.1010110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нятие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форма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совокупность сведений об окружающем мире, являющихся объектом хранения, передачи и преобразов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рмин информация ведет свое происхождение от латинского слов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informatio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означающего разъяснение, изложение, осведомленност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формация способствует увеличению знаний людей об окружающем мире. Окружающий мир познается в процессе получения информ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ормы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епрерывные форм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содержат информацию, воплощенную в образах (зрительных, слуховых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искретным форма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относятся те, в которых информация представляется с помощью конечного множества различных знаков, например, текст, математическая формула, блок-схема алгорит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заимосвязь форм представ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3200" y="2948040"/>
            <a:ext cx="2057400" cy="259092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57400" y="2948040"/>
            <a:ext cx="2057400" cy="259092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495520" y="2666520"/>
            <a:ext cx="2971800" cy="2971800"/>
            <a:chOff x="2495520" y="2666520"/>
            <a:chExt cx="2971800" cy="2971800"/>
          </a:xfrm>
        </p:grpSpPr>
        <p:grpSp>
          <p:nvGrpSpPr>
            <p:cNvPr id="53" name=""/>
            <p:cNvGrpSpPr/>
            <p:nvPr/>
          </p:nvGrpSpPr>
          <p:grpSpPr>
            <a:xfrm>
              <a:off x="2495520" y="2785680"/>
              <a:ext cx="2971800" cy="2743200"/>
              <a:chOff x="2495520" y="2785680"/>
              <a:chExt cx="2971800" cy="2743200"/>
            </a:xfrm>
          </p:grpSpPr>
          <p:sp>
            <p:nvSpPr>
              <p:cNvPr id="54" name=""/>
              <p:cNvSpPr/>
              <p:nvPr/>
            </p:nvSpPr>
            <p:spPr>
              <a:xfrm>
                <a:off x="2495520" y="4843080"/>
                <a:ext cx="2971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95520" y="5528880"/>
                <a:ext cx="2971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495520" y="4157280"/>
                <a:ext cx="2971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5520" y="3471480"/>
                <a:ext cx="2971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5520" y="2785680"/>
                <a:ext cx="2971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2614320" y="2666520"/>
              <a:ext cx="2743200" cy="2971800"/>
              <a:chOff x="2614320" y="2666520"/>
              <a:chExt cx="2743200" cy="2971800"/>
            </a:xfrm>
          </p:grpSpPr>
          <p:sp>
            <p:nvSpPr>
              <p:cNvPr id="60" name=""/>
              <p:cNvSpPr/>
              <p:nvPr/>
            </p:nvSpPr>
            <p:spPr>
              <a:xfrm flipV="1">
                <a:off x="4671720" y="2666520"/>
                <a:ext cx="0" cy="297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V="1">
                <a:off x="5357520" y="2666520"/>
                <a:ext cx="0" cy="297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3985920" y="2666520"/>
                <a:ext cx="0" cy="297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3300120" y="2666520"/>
                <a:ext cx="0" cy="297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2614320" y="2666520"/>
                <a:ext cx="0" cy="297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" name=""/>
          <p:cNvGrpSpPr/>
          <p:nvPr/>
        </p:nvGrpSpPr>
        <p:grpSpPr>
          <a:xfrm>
            <a:off x="2523960" y="2690640"/>
            <a:ext cx="2914560" cy="2914560"/>
            <a:chOff x="2523960" y="2690640"/>
            <a:chExt cx="2914560" cy="2914560"/>
          </a:xfrm>
        </p:grpSpPr>
        <p:sp>
          <p:nvSpPr>
            <p:cNvPr id="66" name=""/>
            <p:cNvSpPr/>
            <p:nvPr/>
          </p:nvSpPr>
          <p:spPr>
            <a:xfrm>
              <a:off x="3224160" y="3367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14440" y="40622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24160" y="27003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33680" y="2690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914640" y="2709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23960" y="33811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533680" y="40719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33680" y="4757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33680" y="5443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600440" y="2709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600440" y="3395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00440" y="40719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276880" y="2709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76880" y="3395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286240" y="408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86240" y="47671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67160" y="5443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914640" y="33955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05280" y="4081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228840" y="4757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14640" y="4757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81360" y="47768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28840" y="54529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5280" y="54529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91080" y="54529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6000840" y="2700360"/>
            <a:ext cx="2914560" cy="2914560"/>
            <a:chOff x="6000840" y="2700360"/>
            <a:chExt cx="2914560" cy="2914560"/>
          </a:xfrm>
        </p:grpSpPr>
        <p:sp>
          <p:nvSpPr>
            <p:cNvPr id="92" name=""/>
            <p:cNvSpPr/>
            <p:nvPr/>
          </p:nvSpPr>
          <p:spPr>
            <a:xfrm>
              <a:off x="6701040" y="3376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91320" y="4071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01040" y="2710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10560" y="27003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91520" y="2719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00840" y="3390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10560" y="4081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10560" y="47674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10560" y="5453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77320" y="2719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77320" y="34052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77320" y="4081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753760" y="2719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753760" y="34052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763120" y="40910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763120" y="4776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744040" y="5453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91520" y="3405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82160" y="4091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05720" y="47674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520" y="47674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58240" y="47865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705720" y="54626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82160" y="54626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67960" y="54626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личество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ичество информаци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характеризующей состояние, в котором пребывает объект, можно определить, используя формулу Шеннон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- 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+ . . . +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пустим, что текст строится на основе 64 символов, и частота появления каждого из них одинакова, т.е. все символы равновероятны. Тогда количество информации в одном символе будет равн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lo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64) = 6 би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окумен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Т 8.417-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ЭК 60027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змерения в бита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981080"/>
          <a:ext cx="7772400" cy="419112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295640"/>
                <a:gridCol w="1295280"/>
              </a:tblGrid>
              <a:tr h="685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сятичная приста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воичная приста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еп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еп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ло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би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га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би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га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би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ра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би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20:39:10Z</dcterms:created>
  <dc:creator>cde</dc:creator>
  <dc:description/>
  <dc:language>en-US</dc:language>
  <cp:lastModifiedBy>Owner</cp:lastModifiedBy>
  <dcterms:modified xsi:type="dcterms:W3CDTF">2007-09-11T21:25:32Z</dcterms:modified>
  <cp:revision>29</cp:revision>
  <dc:subject/>
  <dc:title>Презентация PowerPoint</dc:title>
</cp:coreProperties>
</file>