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5D24-D660-43B3-800C-95670188D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A4CF-72C3-43CC-9A3C-747F87E69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A2E1C-91F3-4339-8671-69B7CD53B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7905-FB5D-4DF1-ABA4-43EE735E8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6C8D-EE00-4B9A-B1A1-1D4257C56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2DBC-5C37-40DD-BB21-4036350F9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03D6-010B-4F7F-8610-56B96530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4C0FD-E46E-4971-BFEA-C7F9BDCE4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646F-E5EB-4B3B-B348-B81125243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9BCA-E8C9-4656-822B-984D5094D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A913-82A3-4953-8060-6181A838C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DE00A-C6C5-4AF2-AE7C-11FA7AA6C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65689-3D71-4F65-B910-449D85B6B7F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Язык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дексируем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 = array(45,12,34,56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3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] = 56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John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12,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Kat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&gt; 3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"John"]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мерные 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0] = 4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1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2] = 3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equence[0][3] = 56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John"]["Salary"] = 1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["Kate"]["Salary"] = 34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0]="01.02.2004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1]="10.05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person["John"][2]="06.10.2005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2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Оператор преобразова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Новый ти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л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ger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Цел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real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,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doubl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 и 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float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Вещественное числ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tring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трок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(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rray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Масси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образование тип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real = 4.8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real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15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ing = "$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nt = (int) $string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int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сваивание по ссылк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1 = 4.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3 = 8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&amp;$number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2 = 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1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2&lt;br/&gt;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"$number3"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в переме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art = "stop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$start = "NY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op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ar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($start)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строку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тема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+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- $b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*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/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$a % $b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присваи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 5; // a=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+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*= 5; // a=5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/= 5; // a=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.= 5; // a=10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инкремента и декремен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=5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b = $a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c = ++$a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a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b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c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 echo "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; 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торы срав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l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gt;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!=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== 12 ? 5 :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&amp;&amp; $b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AND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||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 XOR $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if 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: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ndif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witch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ase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нач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efault: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рганизация цик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ile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 while(condition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ыражение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;$j++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анд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=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($i=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&lt;10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++)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 ($i==5) continue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j++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икл для обхода масс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array as [$key =&gt;]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бл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employer = array("John" =&gt; 12, "Kate" =&gt; 74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oreach ($employer as $key =&gt; $val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employer[$key]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value."&lt;br/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i=1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unction first($k)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GLOBAL $i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$j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++$j;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$k+$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1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2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l = first(3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текстовыми по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0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ое число: &lt;input type="text" name="num1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е число: &lt;input type="text" name="num2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Результат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1) &amp;&amp; isset($num2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1+$num2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переключателя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1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radio" name="num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ыбран переключатель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f (isset($num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num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клю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TM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html =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"&lt;html&gt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title&gt;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ключение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HTML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PHP-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код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titl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ОК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/html&gt;"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htm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форм с флажк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form method="get" action="ex_02_00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1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Пер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ый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checkbox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 name="num[]" value="2"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Втор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й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input type="submit" name="btn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ыбраны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флажки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foreach ($num as $value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echo $value." 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вторизация пользоват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Авторизация пользователя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tl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form method="post" action="authorize.php"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Имя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text" name="user_name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ароль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:&lt;input type="password" name="user_pass"&gt;&lt;br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input type="submit" name=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bt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 value="OK"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form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uthoriz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isse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$user_name) &amp;&amp; isset($user_pass))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($user_name=="admin")&amp;&amp;($user_pass=="kpss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logged_user = $user_nam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register("logged_user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secretplace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Вы ввели неверный пароль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body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&lt;/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tml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ru-RU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айл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retplace.ph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85800" y="1981080"/>
            <a:ext cx="777240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star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ession_is_registered(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logged_user")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header("Location: index.php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xi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Приветствуем Вас &lt;?php echo $logged_user; ?&gt;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 на секретной странице !!!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ы работы с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ra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крытие сетевого соединения с СУБ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крытие сетевого 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Созд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9360" indent="-2286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conn = OCILogon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scot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tiger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dbnam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зда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ыбрать все из таблицы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per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 "select * from person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Выполн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Q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едлож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@OCIExecute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Обрабатываем исключительные ситуации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if(!$mess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error = OCIError($stmt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</a:rPr>
              <a:t>О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шибка при выборке данных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.$error[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message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].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"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60948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работка выбранных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 (OCIFetch($stmt))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id = OCIResult($stmt,"ID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a = OCIResult($stmt,"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FIRSTNAME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echo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"$id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-&gt;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$a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br/&gt;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"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-285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04920" y="60948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крытие сетевого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я с СУБ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?ph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// 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Разрываем соединение с БД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Logoff($conn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?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мментарии в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Задаем значения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1 = 3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2 = 5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одим значение суммы переменных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1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и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2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 на экран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num1 + $num2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ункция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CI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_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rro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85800" y="1981080"/>
            <a:ext cx="77724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CIError()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озвращает ошибку в виде ассоциативного массива из четырех элементов.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cod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содержит код ошибки Oracle;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у с текстом ошибки;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sqltex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трока, содержащая выражение SQL, которое вызвало ошибку, а элемен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offse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указатель на место в выражении, которое вызвало ошибку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вращение значение после добавления 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889280"/>
            <a:ext cx="8076960" cy="269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ql="INSERT INTO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person,beginDate,endDate,requestDate,allow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('$userID','$beginDate','$endDate','$sysDate',NUL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ing id into :retid"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stmt = OCIParse($conn,$sql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OCIBindByName($stmt, ':retid', $retid, 32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$mess = OCIExecute($stm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глашение об идентификатора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состоит из одного или нескольких символов и начинается с буквы или символа подчеркива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идентификаторах учитывается регистр символов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ина идентификаторов не ограничиваетс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дентификатор не может совпадать с ключевым словом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Целое число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number = 3; $count = 0xFF; $total = 077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ещественные числа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weight  = 5.67; $distance  = 5.67e4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Строк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1 = "number = $number"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$str2 = 'number = $number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1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cho $str2; // 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Выведет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number = $numb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762120" y="2286000"/>
          <a:ext cx="7238880" cy="289548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GLOB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Содержит ссылку на каждую переменную, доступную в данный момент в глобальной области видимости сценария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SERV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 либо установленные web-сервером, либо напрямую связанные с окружением выполнения текущего скрипта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762120" y="2286000"/>
          <a:ext cx="7238880" cy="3351240"/>
        </p:xfrm>
        <a:graphic>
          <a:graphicData uri="http://schemas.openxmlformats.org/drawingml/2006/table">
            <a:tbl>
              <a:tblPr/>
              <a:tblGrid>
                <a:gridCol w="2590560"/>
                <a:gridCol w="46483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еременная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G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GE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P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COOK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cookies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$_FI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Переменные, передаваемые сценарию через HTTP post-загрузку файло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определенные переменны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?ph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ADD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HOS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cho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$_SERVE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["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REMOTE_POR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"]."&lt;br/&gt;"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?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support</cp:lastModifiedBy>
  <dcterms:modified xsi:type="dcterms:W3CDTF">2007-04-17T07:45:43Z</dcterms:modified>
  <cp:revision>110</cp:revision>
  <dc:subject/>
  <dc:title>Язык структурированных запросов</dc:title>
</cp:coreProperties>
</file>