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27EE3-46B4-4CC2-AB02-CE86A8A0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3D1A-8B53-4A3B-B2FC-0E56C21B7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E8757-56BB-4392-A9FE-42EEB4B93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63C7-9B4B-4B00-8677-D4ACBB325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E72B-13CE-4FD3-BEE0-BBB6229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FEB-0D98-4D6E-8C98-1634B25F9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F5D-4551-4DC4-B9A5-392044C34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02CB-AB81-4928-8D85-ABA2FB0DA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6C97-28FF-4DD1-BFB9-BA1ACDA1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03B19-29D3-4972-8200-08029FA7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AEAD9-65FB-40E6-9F2A-82EDFF147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8C1A-7701-4451-88AE-9D22B5C2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D41A-04BD-41A2-A1B7-1E6E3C90CAB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сновы теории алгоритм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остусловием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51080" y="3691080"/>
            <a:ext cx="2811600" cy="128880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25840" y="2549520"/>
            <a:ext cx="2144880" cy="71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95760" y="2232000"/>
            <a:ext cx="0" cy="211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572000" y="1781280"/>
            <a:ext cx="0" cy="763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805120" y="4338720"/>
            <a:ext cx="36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0" y="3276720"/>
            <a:ext cx="0" cy="41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0" y="4967280"/>
            <a:ext cx="0" cy="71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95760" y="2216160"/>
            <a:ext cx="177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е и рекурсивные алгорит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, в состав которого входит цикл,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итерацион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iteratio - повторение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лгоритм называе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екурсивны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(от лат. recursio - возвращение), если обращение к этому алгоритму может производится из него самого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3745080" y="1828800"/>
            <a:ext cx="130788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03680" y="3098880"/>
            <a:ext cx="1387440" cy="7254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47960" y="5407200"/>
            <a:ext cx="1227240" cy="43488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738600" y="6035760"/>
            <a:ext cx="1306440" cy="4413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87680" y="226548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397400" y="2894040"/>
            <a:ext cx="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397400" y="3830760"/>
            <a:ext cx="0" cy="1936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075280" y="3459240"/>
            <a:ext cx="614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672160" y="3459240"/>
            <a:ext cx="0" cy="167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4381200" y="5148360"/>
            <a:ext cx="129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98840" y="5153040"/>
            <a:ext cx="0" cy="25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98840" y="5848200"/>
            <a:ext cx="0" cy="20988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87680" y="4765680"/>
            <a:ext cx="0" cy="130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3311280" y="4896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300480" y="2943360"/>
            <a:ext cx="0" cy="19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00480" y="2968560"/>
            <a:ext cx="1112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19720" y="3684600"/>
            <a:ext cx="54432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102280" y="3141720"/>
            <a:ext cx="689040" cy="3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768840" y="2441520"/>
            <a:ext cx="1242720" cy="43668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714840" y="4017960"/>
            <a:ext cx="1355760" cy="74304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055400" y="2438280"/>
            <a:ext cx="6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063680" y="3200400"/>
            <a:ext cx="70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909960" y="3978360"/>
            <a:ext cx="1066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=N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062240" y="539604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909960" y="60199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терационны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курсивный алгорит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51120" y="1905120"/>
            <a:ext cx="17240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909960" y="2933640"/>
            <a:ext cx="10969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537000" y="2735280"/>
            <a:ext cx="1832040" cy="95868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82880" y="3849840"/>
            <a:ext cx="2151000" cy="6379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595680" y="4984920"/>
            <a:ext cx="1619280" cy="574560"/>
          </a:xfrm>
          <a:prstGeom prst="flowChartInputOutpu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581280" y="5815080"/>
            <a:ext cx="1725840" cy="58248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452840" y="2502000"/>
            <a:ext cx="0" cy="25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54640" y="4651200"/>
            <a:ext cx="0" cy="34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454640" y="556740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3048120" y="32036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46720" y="3203640"/>
            <a:ext cx="554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904000" y="3203640"/>
            <a:ext cx="0" cy="63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04812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00760" y="4481640"/>
            <a:ext cx="0" cy="169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8120" y="4630680"/>
            <a:ext cx="28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852640" y="2732040"/>
            <a:ext cx="71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450040" y="2784600"/>
            <a:ext cx="909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935600" y="3855960"/>
            <a:ext cx="2151000" cy="639720"/>
          </a:xfrm>
          <a:prstGeom prst="flowChart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09880" y="1981080"/>
            <a:ext cx="1371600" cy="441360"/>
          </a:xfrm>
          <a:prstGeom prst="flowChartAlternate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67360" y="2971800"/>
            <a:ext cx="70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7680" y="4156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1981080" y="3981600"/>
          <a:ext cx="213372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3981600"/>
                    <a:ext cx="213372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5562720" y="3992400"/>
          <a:ext cx="761760" cy="351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562720" y="3992400"/>
                    <a:ext cx="761760" cy="35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267080" y="5105520"/>
          <a:ext cx="327240" cy="3506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267080" y="5105520"/>
                    <a:ext cx="327240" cy="35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"/>
          <p:cNvSpPr/>
          <p:nvPr/>
        </p:nvSpPr>
        <p:spPr>
          <a:xfrm>
            <a:off x="3962520" y="58672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севдокод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это система обозначений, предназначенная для неформального представления идей в процессе разработки алгоритмов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ы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n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129240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{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il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е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менные и функ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:=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Вы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nc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Имя_функции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 {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Фрагмент_псевдокод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Набор_выходных_данных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ип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ип данных определяет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претацию конкретных данных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перации, которые можно с ними выполня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 типам данных относятся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Integ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цел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Real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действительный],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Charac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символьный] и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Boolea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[логический]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ассив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Массив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это структура, содержащая в себе несколько однотипных элементов. Для упорядочивания элементов массива используются индексы. Индексы записываются в скобках после имени массива. Массив с одним индексом называется одномерным, с двумя - двумерным и т.д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()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0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1]:=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:=2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while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&lt; 10) do {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M[N]:=M[N-1]+M[N-2]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      N:=N+1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}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[]);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Запис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пис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, состоящая из элементов не обязательно одного типа. Отдельные элементы записи называют полями. Поле в свою очередь тоже может быть запись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Studen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(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ir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LastName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      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Grou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пис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писо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множество записей, каждая из которых содержит специальное поле - указатель (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Poin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иды списков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дно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вухсвязные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ьцевы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Алгоритм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 это совокупность четко определенных правил для решения задачи за конечное число шагов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описания алгоритма наиболее часто используют следующие способ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словесный (на естественном языке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программный (на языке программирования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графический (с помощью геометрических фигур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ревь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ерев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разветвленный список, каждая запись которого может содержать несколько указателей. Записи, входящие в дерево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узла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Узлы, у которых все указатели пустые, называются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истьями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Верхний, начальный узел дерева называется корневым узло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е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это структура данных, организованная по принципу "последним пришел - первым ушел" (Last In - First Out, LIFO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621240" y="3933720"/>
            <a:ext cx="1742400" cy="2178000"/>
            <a:chOff x="3621240" y="3933720"/>
            <a:chExt cx="1742400" cy="2178000"/>
          </a:xfrm>
        </p:grpSpPr>
        <p:sp>
          <p:nvSpPr>
            <p:cNvPr id="187" name=""/>
            <p:cNvSpPr/>
            <p:nvPr/>
          </p:nvSpPr>
          <p:spPr>
            <a:xfrm>
              <a:off x="4056840" y="4151520"/>
              <a:ext cx="871200" cy="1960200"/>
            </a:xfrm>
            <a:custGeom>
              <a:avLst/>
              <a:gdLst/>
              <a:ahLst/>
              <a:rect l="l" t="t" r="r" b="b"/>
              <a:pathLst>
                <a:path w="720" h="1620">
                  <a:moveTo>
                    <a:pt x="0" y="0"/>
                  </a:moveTo>
                  <a:lnTo>
                    <a:pt x="0" y="1620"/>
                  </a:lnTo>
                  <a:lnTo>
                    <a:pt x="720" y="1620"/>
                  </a:lnTo>
                  <a:lnTo>
                    <a:pt x="720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056840" y="5022720"/>
              <a:ext cx="871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56840" y="48045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056840" y="458676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056840" y="4369320"/>
              <a:ext cx="87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267440" y="5022720"/>
              <a:ext cx="435600" cy="1089000"/>
            </a:xfrm>
            <a:custGeom>
              <a:avLst/>
              <a:gdLst/>
              <a:ahLst/>
              <a:rect l="l" t="t" r="r" b="b"/>
              <a:pathLst>
                <a:path w="360" h="900">
                  <a:moveTo>
                    <a:pt x="180" y="900"/>
                  </a:moveTo>
                  <a:lnTo>
                    <a:pt x="180" y="720"/>
                  </a:lnTo>
                  <a:lnTo>
                    <a:pt x="0" y="630"/>
                  </a:lnTo>
                  <a:lnTo>
                    <a:pt x="360" y="468"/>
                  </a:lnTo>
                  <a:lnTo>
                    <a:pt x="0" y="270"/>
                  </a:lnTo>
                  <a:lnTo>
                    <a:pt x="180" y="180"/>
                  </a:lnTo>
                  <a:lnTo>
                    <a:pt x="192" y="0"/>
                  </a:lnTo>
                </a:path>
              </a:pathLst>
            </a:cu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10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0"/>
                  </a:moveTo>
                  <a:lnTo>
                    <a:pt x="0" y="0"/>
                  </a:lnTo>
                  <a:lnTo>
                    <a:pt x="0" y="36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621240" y="3933720"/>
              <a:ext cx="653400" cy="435600"/>
            </a:xfrm>
            <a:custGeom>
              <a:avLst/>
              <a:gdLst/>
              <a:ahLst/>
              <a:rect l="l" t="t" r="r" b="b"/>
              <a:pathLst>
                <a:path w="540" h="360">
                  <a:moveTo>
                    <a:pt x="540" y="360"/>
                  </a:moveTo>
                  <a:lnTo>
                    <a:pt x="540" y="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66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Очеред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это структура данных, организованная по принципу "первым пришел – первым ушел" (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I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Out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2340000" y="4068720"/>
            <a:ext cx="3744720" cy="1274760"/>
            <a:chOff x="2340000" y="4068720"/>
            <a:chExt cx="3744720" cy="1274760"/>
          </a:xfrm>
        </p:grpSpPr>
        <p:sp>
          <p:nvSpPr>
            <p:cNvPr id="198" name=""/>
            <p:cNvSpPr/>
            <p:nvPr/>
          </p:nvSpPr>
          <p:spPr>
            <a:xfrm>
              <a:off x="3245760" y="4578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277440" y="5343480"/>
              <a:ext cx="193284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36475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390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3020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2217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41324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60476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795920" y="4578480"/>
              <a:ext cx="0" cy="764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340000" y="408780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Хвос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68360" y="4068720"/>
              <a:ext cx="1116360" cy="54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Голова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69064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802400" y="4961160"/>
              <a:ext cx="956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Хэш-таблиц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3840" cy="13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Хешировани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это метод, обеспечивающий прямой доступ к записям без использования каких-либо дополнительных структу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3" name=""/>
          <p:cNvGraphicFramePr/>
          <p:nvPr/>
        </p:nvGraphicFramePr>
        <p:xfrm>
          <a:off x="755640" y="3500280"/>
          <a:ext cx="7631280" cy="2587680"/>
        </p:xfrm>
        <a:graphic>
          <a:graphicData uri="http://schemas.openxmlformats.org/drawingml/2006/table">
            <a:tbl>
              <a:tblPr/>
              <a:tblGrid>
                <a:gridCol w="1544760"/>
                <a:gridCol w="1979640"/>
                <a:gridCol w="1539720"/>
                <a:gridCol w="25671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SCII-ко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лемент массив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0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[1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0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…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10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[26]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ивность алгоритма принято оценивать количеством элементарных операций, например сравнений, которые необходимо выполнить для решения задачи, а также количеством памяти, которая требуется для выполнения алгоритм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лиз включает изучение ситуаций, в которых алгоритм демонстрирует свои наилучшие свойства, ситуаций, когда его эффективность минимальна, а также оценку его средней производительности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Эффективность алгоритмо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80880" y="1981080"/>
            <a:ext cx="8534160" cy="4724280"/>
            <a:chOff x="380880" y="1981080"/>
            <a:chExt cx="8534160" cy="4724280"/>
          </a:xfrm>
        </p:grpSpPr>
        <p:grpSp>
          <p:nvGrpSpPr>
            <p:cNvPr id="218" name=""/>
            <p:cNvGrpSpPr/>
            <p:nvPr/>
          </p:nvGrpSpPr>
          <p:grpSpPr>
            <a:xfrm>
              <a:off x="387000" y="1986480"/>
              <a:ext cx="8521200" cy="4712400"/>
              <a:chOff x="387000" y="1986480"/>
              <a:chExt cx="8521200" cy="4712400"/>
            </a:xfrm>
          </p:grpSpPr>
          <p:grpSp>
            <p:nvGrpSpPr>
              <p:cNvPr id="219" name=""/>
              <p:cNvGrpSpPr/>
              <p:nvPr/>
            </p:nvGrpSpPr>
            <p:grpSpPr>
              <a:xfrm>
                <a:off x="387000" y="1986480"/>
                <a:ext cx="2611440" cy="963360"/>
                <a:chOff x="387000" y="1986480"/>
                <a:chExt cx="2611440" cy="96336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477000" y="1986480"/>
                  <a:ext cx="243144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Название алгоритм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87000" y="1986480"/>
                  <a:ext cx="261144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2998800" y="1986480"/>
                <a:ext cx="1969560" cy="963360"/>
                <a:chOff x="2998800" y="1986480"/>
                <a:chExt cx="1969560" cy="96336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308808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ин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с</a:t>
                  </a: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299880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968720" y="1986480"/>
                <a:ext cx="1969560" cy="963360"/>
                <a:chOff x="4968720" y="1986480"/>
                <a:chExt cx="1969560" cy="9633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05800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редне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96872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6938640" y="1986480"/>
                <a:ext cx="1969560" cy="963360"/>
                <a:chOff x="6938640" y="1986480"/>
                <a:chExt cx="1969560" cy="9633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7027920" y="1986480"/>
                  <a:ext cx="1789920" cy="963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Максимальное 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число сравнений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6938640" y="1986480"/>
                  <a:ext cx="1969560" cy="9633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87000" y="2950200"/>
                <a:ext cx="2611440" cy="749160"/>
                <a:chOff x="387000" y="2950200"/>
                <a:chExt cx="2611440" cy="7491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477000" y="295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ключение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87000" y="295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2998800" y="2950200"/>
                <a:ext cx="1969560" cy="749160"/>
                <a:chOff x="2998800" y="2950200"/>
                <a:chExt cx="1969560" cy="7491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308808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-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299880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968720" y="2950200"/>
                <a:ext cx="1969560" cy="749160"/>
                <a:chOff x="4968720" y="2950200"/>
                <a:chExt cx="1969560" cy="7491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05800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+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2)/4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96872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938640" y="2950200"/>
                <a:ext cx="1969560" cy="749160"/>
                <a:chOff x="6938640" y="2950200"/>
                <a:chExt cx="1969560" cy="7491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7027920" y="295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938640" y="295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87000" y="3700080"/>
                <a:ext cx="2611440" cy="749160"/>
                <a:chOff x="387000" y="3700080"/>
                <a:chExt cx="2611440" cy="749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477000" y="370008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Сортировка выбором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87000" y="370008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2998800" y="3700080"/>
                <a:ext cx="1969560" cy="749160"/>
                <a:chOff x="2998800" y="3700080"/>
                <a:chExt cx="1969560" cy="7491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08808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299880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968720" y="3700080"/>
                <a:ext cx="1969560" cy="749160"/>
                <a:chOff x="4968720" y="3700080"/>
                <a:chExt cx="1969560" cy="74916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05800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96872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6938640" y="3700080"/>
                <a:ext cx="1969560" cy="749160"/>
                <a:chOff x="6938640" y="3700080"/>
                <a:chExt cx="1969560" cy="74916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7027920" y="370008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6938640" y="370008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87000" y="4449600"/>
                <a:ext cx="2611440" cy="749880"/>
                <a:chOff x="387000" y="4449600"/>
                <a:chExt cx="2611440" cy="7498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477000" y="4449600"/>
                  <a:ext cx="243144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Обменная сортировка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87000" y="4449600"/>
                  <a:ext cx="261144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2998800" y="4449600"/>
                <a:ext cx="1969560" cy="749880"/>
                <a:chOff x="2998800" y="4449600"/>
                <a:chExt cx="1969560" cy="7498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308808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99880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968720" y="4449600"/>
                <a:ext cx="1969560" cy="749880"/>
                <a:chOff x="4968720" y="4449600"/>
                <a:chExt cx="1969560" cy="7498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05800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96872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6938640" y="4449600"/>
                <a:ext cx="1969560" cy="749880"/>
                <a:chOff x="6938640" y="4449600"/>
                <a:chExt cx="1969560" cy="7498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7027920" y="4449600"/>
                  <a:ext cx="1789920" cy="749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 baseline="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 - 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6938640" y="4449600"/>
                  <a:ext cx="1969560" cy="749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87000" y="5200200"/>
                <a:ext cx="2611440" cy="749160"/>
                <a:chOff x="387000" y="5200200"/>
                <a:chExt cx="2611440" cy="74916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77000" y="520020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Последователь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87000" y="520020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2998800" y="5200200"/>
                <a:ext cx="1969560" cy="749160"/>
                <a:chOff x="2998800" y="5200200"/>
                <a:chExt cx="1969560" cy="74916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308808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299880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968720" y="5200200"/>
                <a:ext cx="1969560" cy="749160"/>
                <a:chOff x="4968720" y="5200200"/>
                <a:chExt cx="1969560" cy="7491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05800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ru-RU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96872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6938640" y="5200200"/>
                <a:ext cx="1969560" cy="749160"/>
                <a:chOff x="6938640" y="5200200"/>
                <a:chExt cx="1969560" cy="7491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7027920" y="520020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6938640" y="520020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87000" y="5949720"/>
                <a:ext cx="2611440" cy="749160"/>
                <a:chOff x="387000" y="5949720"/>
                <a:chExt cx="2611440" cy="7491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477000" y="5949720"/>
                  <a:ext cx="243144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Двоичный поиск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87000" y="5949720"/>
                  <a:ext cx="261144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2998800" y="5949720"/>
                <a:ext cx="1969560" cy="749160"/>
                <a:chOff x="2998800" y="5949720"/>
                <a:chExt cx="1969560" cy="7491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308808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1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299880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968720" y="5949720"/>
                <a:ext cx="1969560" cy="749160"/>
                <a:chOff x="4968720" y="5949720"/>
                <a:chExt cx="1969560" cy="74916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05800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+1)/2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6872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6938640" y="5949720"/>
                <a:ext cx="1969560" cy="749160"/>
                <a:chOff x="6938640" y="5949720"/>
                <a:chExt cx="1969560" cy="74916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7027920" y="5949720"/>
                  <a:ext cx="1789920" cy="749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log</a:t>
                  </a:r>
                  <a:r>
                    <a:rPr b="0" lang="en-US" sz="1800" spc="-1" strike="noStrike" baseline="-30000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2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(</a:t>
                  </a:r>
                  <a:r>
                    <a:rPr b="0" i="1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n</a:t>
                  </a:r>
                  <a:r>
                    <a:rPr b="0" lang="en-US" sz="1800" spc="-1" strike="noStrike">
                      <a:solidFill>
                        <a:srgbClr val="000000"/>
                      </a:solidFill>
                      <a:latin typeface="Arial Unicode MS"/>
                      <a:ea typeface="Times New Roman"/>
                    </a:rPr>
                    <a:t>)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938640" y="5949720"/>
                  <a:ext cx="1969560" cy="7491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91" name=""/>
            <p:cNvSpPr/>
            <p:nvPr/>
          </p:nvSpPr>
          <p:spPr>
            <a:xfrm>
              <a:off x="380880" y="1981080"/>
              <a:ext cx="8534160" cy="47242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уск-останов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828800" y="3595680"/>
            <a:ext cx="2060640" cy="59832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81440" y="31496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29080" y="3573360"/>
            <a:ext cx="2060640" cy="5986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348240" y="41911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ок ввода-вывода информации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743200" y="3352680"/>
            <a:ext cx="3581280" cy="1295640"/>
          </a:xfrm>
          <a:prstGeom prst="parallelogram">
            <a:avLst>
              <a:gd name="adj" fmla="val 69103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962520" y="3657600"/>
            <a:ext cx="1334880" cy="68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24382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95680" y="46483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66880" y="3048120"/>
            <a:ext cx="3429000" cy="207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4197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9720" y="49528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2209680" y="2895480"/>
            <a:ext cx="5257800" cy="1706400"/>
            <a:chOff x="2209680" y="2895480"/>
            <a:chExt cx="5257800" cy="1706400"/>
          </a:xfrm>
        </p:grpSpPr>
        <p:sp>
          <p:nvSpPr>
            <p:cNvPr id="61" name=""/>
            <p:cNvSpPr/>
            <p:nvPr/>
          </p:nvSpPr>
          <p:spPr>
            <a:xfrm>
              <a:off x="3119400" y="2895480"/>
              <a:ext cx="2892600" cy="1706400"/>
            </a:xfrm>
            <a:prstGeom prst="flowChartDecision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012000" y="3749400"/>
              <a:ext cx="82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373480" y="3749400"/>
              <a:ext cx="74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85800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374920" y="3752640"/>
              <a:ext cx="0" cy="59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209680" y="3092040"/>
              <a:ext cx="1381320" cy="78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Times New Roman"/>
                </a:rPr>
                <a:t>Да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086520" y="3070080"/>
              <a:ext cx="138096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Нет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906360" y="3458880"/>
              <a:ext cx="135000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1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&gt; </a:t>
              </a:r>
              <a:r>
                <a:rPr b="0" i="1" lang="en-US" sz="32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en-US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4572000" y="198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17920" y="1752480"/>
            <a:ext cx="2117160" cy="3917520"/>
            <a:chOff x="3517920" y="1752480"/>
            <a:chExt cx="2117160" cy="3917520"/>
          </a:xfrm>
        </p:grpSpPr>
        <p:sp>
          <p:nvSpPr>
            <p:cNvPr id="72" name=""/>
            <p:cNvSpPr/>
            <p:nvPr/>
          </p:nvSpPr>
          <p:spPr>
            <a:xfrm>
              <a:off x="3517920" y="221868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517920" y="3369240"/>
              <a:ext cx="2102040" cy="699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533040" y="4503960"/>
              <a:ext cx="2102040" cy="69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545360" y="175248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545360" y="291816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545360" y="4084560"/>
              <a:ext cx="0" cy="41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45360" y="5203800"/>
              <a:ext cx="0" cy="46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твление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2579760" y="1874880"/>
            <a:ext cx="3972600" cy="3687480"/>
            <a:chOff x="2579760" y="1874880"/>
            <a:chExt cx="3972600" cy="3687480"/>
          </a:xfrm>
        </p:grpSpPr>
        <p:sp>
          <p:nvSpPr>
            <p:cNvPr id="81" name=""/>
            <p:cNvSpPr/>
            <p:nvPr/>
          </p:nvSpPr>
          <p:spPr>
            <a:xfrm>
              <a:off x="3444120" y="2455200"/>
              <a:ext cx="2283120" cy="1044360"/>
            </a:xfrm>
            <a:prstGeom prst="flowChartDecision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11040" y="3744000"/>
              <a:ext cx="1741320" cy="580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579760" y="3692880"/>
              <a:ext cx="17413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01320" y="2957400"/>
              <a:ext cx="0" cy="77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82640" y="2957400"/>
              <a:ext cx="0" cy="735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66600" y="187488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482640" y="4272840"/>
              <a:ext cx="0" cy="65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688720" y="43117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482640" y="4930920"/>
              <a:ext cx="2206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2160" y="4943520"/>
              <a:ext cx="0" cy="61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 с предусловием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494160" y="2803680"/>
            <a:ext cx="2033640" cy="93024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724200" y="4008600"/>
            <a:ext cx="1551240" cy="51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505480" y="3262320"/>
            <a:ext cx="0" cy="168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230640" y="2665440"/>
            <a:ext cx="0" cy="213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94240" y="2268360"/>
            <a:ext cx="0" cy="551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562640" y="4973760"/>
            <a:ext cx="928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497376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16560" y="3701880"/>
            <a:ext cx="0" cy="295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551480" y="4525920"/>
            <a:ext cx="0" cy="276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20920" y="4800600"/>
            <a:ext cx="135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230640" y="2641680"/>
            <a:ext cx="127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20:39:37Z</dcterms:created>
  <dc:creator>cde</dc:creator>
  <dc:description/>
  <dc:language>en-US</dc:language>
  <cp:lastModifiedBy>Owner</cp:lastModifiedBy>
  <dcterms:modified xsi:type="dcterms:W3CDTF">2009-03-15T15:05:12Z</dcterms:modified>
  <cp:revision>35</cp:revision>
  <dc:subject/>
  <dc:title>Алгоритмы</dc:title>
</cp:coreProperties>
</file>